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20E-B072-4872-8A54-00A098A7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A38-5A91-48BD-86C6-E1B21C1B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F29-EA1A-4F04-AB6D-3086CC9A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F4B-2C5C-4D74-9180-FA7D51AC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603C-0C74-4507-9A47-36D8ADCB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D63E-1CD8-4BF6-A986-9CBD96FC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4A06-45C6-4C33-84B4-7873B4BD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1401-4CA9-4547-ABD5-FAB0936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91EF-919B-421A-84E4-C34DAC96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3570-01FD-4304-B90C-76283F74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6D58-4E21-4169-A6EB-73FAFBBB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4F8-A17C-4215-83BC-59B50E8B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6314-1A2D-4206-B413-16AB20ED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CCB0-8E50-4F61-A717-ED9C77D4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F3A5-8DB1-4F08-AA8D-3726F640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D909-7763-4F44-BE2F-16985499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F712-A0C7-4ADB-ACAA-27A0742F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3B7-32CC-45A9-B692-63E0E7C0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65F-A140-41B4-990C-02E7BC97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B21-18DA-426C-B0B1-B061980B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590-074E-42A9-B591-AB89810B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4B9-91BB-4CD3-ACF7-28A13DB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8CA-F0DB-43F8-BCD9-7F16E75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AE8-E639-464A-B489-B9287546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3C43-D066-4DA4-B4A9-A78F4128F7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2010-A626-4B24-A321-7F8128E4ED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044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0185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и одна пора года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не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ожет сравни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тьс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о красоте и вел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лепию с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бело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жной нарядной зимой: ни яркая, жизнерадо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ст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я, л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ующая  весна, ни лето,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оропливое и пыльное, ни ч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ующая осень в прощальных уборах. Зима не просто замета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  осе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н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юю слякоть. Она создаёт живопи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с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ые уголки зимнего пейзажа и так же, как и нашему  парку, всему пр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аёт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ычный облик. В зимнем нарядном одеянии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н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знать ничего. Но зима, кроме снежинок, пр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асла ещё и драгоце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н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ые жемчужины ин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700280"/>
            <a:ext cx="9144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Так держать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Морфологический разбор глагол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71192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Часть речи. Общее знач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Начальная ( неопределённая ) форм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Постоянные призна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ря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ереходнос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зврат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Непостоянные призна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кло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ремя ( если е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лицо ( если е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од ( если е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Синтаксическая ро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1628640"/>
            <a:ext cx="856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колько пленительной красоты, поэзии открывается  зимой в приглядевшихся улицах, скверах и парках. Хочется бесконечно любоваться  молочно -  белым куполом неба, сыплющимися с выси игривыми снежинками, ожившими сказочными деревьями и кустар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03280" y="1628640"/>
            <a:ext cx="741672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Причаст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блестевш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вдали 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думающ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озаряем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лу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достроен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1844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Всем спасибо за работу!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17002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Домашнее зад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03280" y="1773360"/>
            <a:ext cx="705636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лшебница – 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гожданная 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уденая 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жная з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гучая зим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87280" y="150768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смену золотой осени тихими шагами пр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шла белоснежная зима. Она пр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сла с собой в хрустальной корзине  множество кружевных снежинок. Не обошла красавица – зима и наш парк. Теперь он казался  садом Снежной королевы. Вход в этот сад  - пр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расен. Он представляет собой  арку из ветвей деревьев, которые пр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нулись под тяжестью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76360" y="170028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Что мы знаем о глаголе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03280" y="170028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 аркой начинается аллея. Заснеженные берёзы и  рябины  покрылись инеем, словно серебром. Едва дотронешься до ствола, как вдруг качнётся каждая веточка, и с неё  посыплются снежинки, кружась в вальсе. Каждому захотелось бы пройти по такой аллее, вдохнуть свежего воздуха, полюбоваться природой, услышать скрип снега под ногами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03280" y="1844640"/>
            <a:ext cx="69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равописание НЕ с глагол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ТСЯ  и –ТЬСЯ в глаго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езударные личные окончания глаг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35280" y="191628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692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к определить переходность глаго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773360"/>
            <a:ext cx="7129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ех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четаются с существительными в Винительном падеже без пред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 глагол    сущест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299736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го? Чт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4005360"/>
            <a:ext cx="712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четаются с существительными в Родительном падеже, при наличии отриц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НЕ глагол    сущест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4724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го? Чег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340000" y="306828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340000" y="306828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306864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84360" y="4797360"/>
            <a:ext cx="574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484360" y="4797360"/>
            <a:ext cx="574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47973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9:32:47Z</dcterms:created>
  <dc:creator>Ксения</dc:creator>
  <dc:description/>
  <dc:language>en-US</dc:language>
  <cp:lastModifiedBy>Ксения</cp:lastModifiedBy>
  <dcterms:modified xsi:type="dcterms:W3CDTF">2012-02-14T15:37:48Z</dcterms:modified>
  <cp:revision>7</cp:revision>
  <dc:subject/>
  <dc:title>Слайд 1</dc:title>
</cp:coreProperties>
</file>