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618-9983-4777-9E50-6E01D1DA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E5AE-E835-494D-A8A5-38BBEDB2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3652D-7779-4A84-8D2C-79C31594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33A16-F793-46CB-9E80-FA265F94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1F199-EA03-41B5-9FE2-2A33DE67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FE6F6-0526-49CC-A243-BDF942F8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038E6-9E64-4E03-B5D8-118F801A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652D5-1A7F-4233-81FB-A14B8699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55C4A-179A-4348-BAF2-CBD2CBF3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45ED6-2E5E-46BD-B8F8-780C0B06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61387-C42C-42CF-9E23-2F81DE0F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6D30A-E7D8-477D-9415-F094A1CF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ED4-630B-419B-9BDE-1EF25900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99EC6-0B0B-4511-A8F6-AC3A4E7D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4A485-9120-42E8-8A6C-715160EA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02456-F5D0-4043-BD8F-84DB2C4F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A9D1A-44AC-4C83-A095-A26212D6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C798A-E08A-40F1-B661-123CDEDC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48586-4AD6-4F59-9510-8ECF3CAF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7E5A3-23D2-44CC-9DA0-7B1AEA55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F552E-964E-4FFE-BFA2-7615A51B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0C777-B34A-4F95-A86D-F85A4E77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B21E1-6EFB-4077-A291-2C6239F4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0DC-4133-46BF-851D-28E23E22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9F126-E233-4D65-A9BA-03EA4D84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DC0D7-7B6E-4D23-84E6-635EA907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92ECA-2756-424C-8FBA-0B35AFBE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E27F4-37C7-4316-A9FB-C49FE7B0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317AA-8D6E-4A2A-82EE-5663887C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FB07B-503B-4A0F-816F-12BA8693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78962-3D05-45E1-AC32-4A1851E9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1B2B2-26A3-4EC5-866B-4F1C42ED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EA94F-772A-4137-8BB0-7ED44B16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A6EC1-39D6-4D6C-938B-67D36F47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D62D-FB63-45A3-B0C0-24A43AD4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A31C8-7F74-4E8A-89F8-825A59DE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E269A-1F28-447D-AC9B-1BB43A5E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2751A-788B-42B6-A9A4-C6C7A91E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BFACB-6BCE-461D-AA25-AE90EEB2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254B5-258A-4923-A3CD-154E079F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99CB3-9107-494D-84FF-C226AF88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A6CFA-2064-4AE3-B471-A7E53ADC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DDFC8-7DE4-4C13-8855-962E3485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40878-DABF-4C29-BC2C-E3A90610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03C18-8B94-4255-B475-FFAFE099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512E-AA21-435E-9294-E4B8DB93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272E1-1FBD-41B1-BFC0-D3D91CDC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A05D7-92C3-49BB-B716-47440C93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E3767-F4B3-4468-9345-2286D932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E43BC-4892-4D62-BA76-04F29140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A8101-8CD4-4766-8BB0-AD700A88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14992-01E8-4C1F-8B5E-099EA6D3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4D63A-CF3B-409E-80F1-ECFDDD43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EC34A-C2B4-49DB-8040-37E904D2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6D049-881B-4C8F-9D69-EF741567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DF1AF-9762-4B38-9DEA-F8FCDEE4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E930-ACB4-427F-B6B7-DEC98377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60940-34F6-4EB7-962D-5116F92A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046FB-F4C4-492B-80CE-8CEB7605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4E600-3BF9-470B-9D7A-3F2EAD14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5E930-C905-453E-8D13-FB75AC7C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B7892-C217-4E1F-97DF-D357B154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41EE7-8542-4C12-AC99-8888B532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CB154-40BB-4F54-BB96-E7304A18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92B2-408A-4E79-8B41-ED0AD316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67A9-EFBD-4C03-B726-445DAD8A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4E0A-44E9-453D-A5EB-53D4E235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1E1F-DB58-4AB3-B64D-957E6481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3C6-B6A4-411B-B34B-A1E31A67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B2A8-39BA-4942-9E59-455CC05C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54F8-34DB-44AE-8B67-A68C9528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BC3B-3739-47B9-B0E4-AE8B5E1F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03CB-8DE7-421F-B50A-1ED8F37B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C9FC-CEA9-4FF7-A6F2-6B69FCAE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BB25C-6762-4F69-A077-85A14A1A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AF09E-8B8A-4746-AFAA-2C78DCDE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794D-E17C-40D2-A12B-8D24FB1D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96EE2-5BB1-45E8-96A8-23624A39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09D51-BB8F-4FFA-BF16-0A04EFD1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3CE-8EDB-414F-A15D-E1782C3B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9EC6F-A449-4B9B-8D46-3B99E542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EAB8-8049-4D47-8D5F-302F907F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A1A75-7265-431E-9D34-1EBBAE56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CEF8-FFAD-4828-B19D-1F8F5939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6F7F2-CD75-4E43-8DDD-998C0A3D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C2D60-B17D-4D00-8DDB-61FE8847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0E854-AFE6-4529-857D-26CDBC6E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A47A12-3A2C-49C7-A3ED-739A69ED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AB70D5-4694-4195-B10C-4299A791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8909C-0FED-4887-909A-D26623BC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06E-03DB-4CF3-97F6-DA705E6A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7CFAD-40F3-47F4-955A-A6ACD5EC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9D126-9343-4E90-AB3F-C6EF0C84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ADBC3A-803F-404A-8DFA-353BD5FB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4A371-D885-494F-91F7-BD9C254B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69D85A-BDF6-4C74-8787-A0A778A1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17C38E-CAE3-42FF-8C09-C869A196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2A60E3-D3C3-46C3-889E-A4F2EB5D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AD02A-F833-4F9D-8445-27CC58F5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33D9BE-5410-4F58-B9B8-B4770A4D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A4A5A-3CEC-42AA-9F8E-5E71D628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C9D-C835-4128-A940-E2752B6B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9496A-AA66-4E4A-B383-66D8C94B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B62CE-EC6E-43D7-A05B-E0DB484C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85F28-8FF8-47C7-9A8E-0ADC9591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34905-7D55-4552-A390-FB32BA96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43481-EA74-4CA9-B3E5-1DEDACBF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ADE4-D7D3-4F6E-B1C3-CDF6DEC6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EAF03-8B3F-46DE-841D-14C963BD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0C598-D669-4324-9F9C-93B57215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DF3D6-D959-4DC5-A1B9-090E974B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05FA1-15E1-4AEE-BC2C-ACF130CC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CBC-3FFB-4FE7-9ABC-EE327633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FACA9-52DE-4746-8A14-B918BF94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40F1E-420E-4DE4-B963-04155A41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8715A-AF5B-4DDF-BFF9-506BC9C7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C1DDB-53BB-4970-8550-76F5691D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1E3ED-7BE4-460B-AB64-DDC06650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77D85-C565-4CE0-8A93-01232685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65AFB-4666-473E-B9DA-16E07821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29111-607D-4E8B-BFD3-567BA78E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E96F3-F1C5-4804-BB04-D7BFD684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2DF6E-C9D6-4666-ACCB-4A77CFBA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462E-FB47-4672-8822-CDCEE814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1AC78-4DFA-46FB-BFD1-231DD3C2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1C426-E1E0-4870-9053-0763FDC5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42047-BCEA-45DF-8885-CFB0D618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4BDB5-1F3E-46B9-9ED9-9566D108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4F6B5-4A0C-4081-9F76-AB120F74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D74A2-C93C-42D7-AF6A-0E652A59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45717-BB5C-4902-B331-C7151AC8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90C47-9E27-4EB4-9BFE-E9691F8C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D145F-1CD2-4FA4-A74B-BA9F117D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B2057-9A4C-4854-939E-122274EC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66C0-B254-4C1A-9929-57C29355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E5B83-362B-4128-A783-DD8307DE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B26C4-0CF8-4A0C-AA5F-58057AB9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489E7-3F9A-4BF1-8845-96F92C52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83BE1-CF95-40F2-8B90-2BF77B26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51CFB-88B5-4F40-A22D-3B15104F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8325D9-9B50-4EA2-B86A-4EBD3C3C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2B055D-529B-4534-9468-37A5CAD5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56A0D0-6D00-4344-9044-978B13E3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FDE86F-D1F5-4ED5-8796-B22A39DE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F5160E-D822-42D6-B7DD-1AE985F1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4B5-5F2D-412A-A94F-DFA6B0C5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B7435E-030B-4B0E-AB5F-691D1CD9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C31E25-F318-42AE-8430-2C757597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B1FD64-9C05-49CE-9A5A-614DE120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A7FCF4-79CF-44FD-BE57-46F8C8EB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85D7FD-F2DD-4317-9283-F26B0A2F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97962B-E1B6-4D99-92EB-0064B8B6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F8DFFA-AE30-4BEC-99E4-CECC0D92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1BDB0-BB72-40F5-B911-49508880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EAE35-D7E9-47B3-9CC5-192AD6EC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47AA1-6555-462D-A6F2-14C73794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9610-0E2F-4BF7-9033-525950F61F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4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AA54-BE31-4954-925C-B4C64C202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8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8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9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3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C56D-FADA-426F-8E99-A2728208E3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3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030D-73DF-47D3-8185-534E2015CD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782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83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85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786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87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88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91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92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93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94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95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96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97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98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99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00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01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02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03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04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05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06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07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08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09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10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11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12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13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14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15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16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17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18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19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20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21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22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23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24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25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26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27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28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29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30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31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32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33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34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35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36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37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38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39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40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41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42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43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44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45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46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47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48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49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50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51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52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53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854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5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856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57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58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59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60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61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62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63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64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65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66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67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68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69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70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71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72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73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74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75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76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77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78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79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80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81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82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83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84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85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86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87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88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889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890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891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2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3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4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5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6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7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98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99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900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1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2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3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4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5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6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7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8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9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0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1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2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3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6C7A-44FA-4D24-87D6-392DA0A77141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9941-AD2D-4F4E-811C-CB94924CCB1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0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AEE3-E7F2-4F1D-8E4B-C85305DC3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7366-566C-44D1-8C76-D46DCB216A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9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4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27AD-9D45-4E78-B302-E1E393BB5F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8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8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8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8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9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3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9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9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6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7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98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99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0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1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02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3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4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05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6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7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08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9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0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11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2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3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4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5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6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17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8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9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20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1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2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23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4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5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26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7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8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29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0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1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32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3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4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35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6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7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38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9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0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41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2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3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44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5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6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47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8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9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50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1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52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53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4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55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56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7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58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59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0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6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2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63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64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5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6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67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8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9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70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1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72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73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4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75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76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7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78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79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0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81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82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3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84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85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6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87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88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9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0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91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2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3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94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5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396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E8C4-EEE4-4E23-A481-6C84211CD4FE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A444-1A14-4B46-BF8B-CBAAABAC6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0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0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0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0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9E22-7F3F-4DD1-92EA-110A078656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6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6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6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9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9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7343-5F12-41D0-B1B2-54F508C7E39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Kazan-collage.jpg?uselang=ru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4;&#1080;&#1072;&#1089;&#1090;&#1088;&#1086;&#1080;&#1090;&#1077;&#1083;&#1100;&#1085;&#1099;&#1081;_&#1088;&#1072;&#1081;&#1086;&#1085;_(&#1050;&#1072;&#1079;&#1072;&#1085;&#1100;)" TargetMode="External"/><Relationship Id="rId2" Type="http://schemas.openxmlformats.org/officeDocument/2006/relationships/hyperlink" Target="http://ru.wikipedia.org/wiki/&#1042;&#1072;&#1093;&#1080;&#1090;&#1086;&#1074;&#1089;&#1082;&#1080;&#1081;_&#1088;&#1072;&#1081;&#1086;&#1085;_(&#1050;&#1072;&#1079;&#1072;&#1085;&#1100;)" TargetMode="External"/><Relationship Id="rId3" Type="http://schemas.openxmlformats.org/officeDocument/2006/relationships/hyperlink" Target="http://ru.wikipedia.org/wiki/&#1050;&#1080;&#1088;&#1086;&#1074;&#1089;&#1082;&#1080;&#1081;_&#1088;&#1072;&#1081;&#1086;&#1085;_(&#1050;&#1072;&#1079;&#1072;&#1085;&#1100;)" TargetMode="External"/><Relationship Id="rId4" Type="http://schemas.openxmlformats.org/officeDocument/2006/relationships/hyperlink" Target="http://ru.wikipedia.org/wiki/&#1052;&#1086;&#1089;&#1082;&#1086;&#1074;&#1089;&#1082;&#1080;&#1081;_&#1088;&#1072;&#1081;&#1086;&#1085;_(&#1050;&#1072;&#1079;&#1072;&#1085;&#1100;)" TargetMode="External"/><Relationship Id="rId5" Type="http://schemas.openxmlformats.org/officeDocument/2006/relationships/hyperlink" Target="http://ru.wikipedia.org/wiki/&#1053;&#1086;&#1074;&#1086;-&#1057;&#1072;&#1074;&#1080;&#1085;&#1086;&#1074;&#1089;&#1082;&#1080;&#1081;_&#1088;&#1072;&#1081;&#1086;&#1085;_(&#1050;&#1072;&#1079;&#1072;&#1085;&#1100;)" TargetMode="External"/><Relationship Id="rId6" Type="http://schemas.openxmlformats.org/officeDocument/2006/relationships/hyperlink" Target="http://ru.wikipedia.org/wiki/&#1055;&#1088;&#1080;&#1074;&#1086;&#1083;&#1078;&#1089;&#1082;&#1080;&#1081;_&#1088;&#1072;&#1081;&#1086;&#1085;_(&#1050;&#1072;&#1079;&#1072;&#1085;&#1100;)" TargetMode="External"/><Relationship Id="rId7" Type="http://schemas.openxmlformats.org/officeDocument/2006/relationships/hyperlink" Target="http://ru.wikipedia.org/wiki/&#1057;&#1086;&#1074;&#1077;&#1090;&#1089;&#1082;&#1080;&#1081;_&#1088;&#1072;&#1081;&#1086;&#1085;_(&#1050;&#1072;&#1079;&#1072;&#1085;&#1100;)" TargetMode="External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Kazan_town_hall.jpg?uselang=ru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commons.wikimedia.org/wiki/File:Kazan_city_administration.JPG?uselang=ru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commons.wikimedia.org/wiki/File:Tatarstan_Cabinet_of_Ministers.jpg?uselang=ru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Kazan_building_in_kremlin.jpg?uselang=ru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&#1048;&#1058;-&#1087;&#1072;&#1088;&#1082;_&#1050;&#1072;&#1079;&#1072;&#1085;&#1100;-2.jpg?uselang=ru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ru.wikipedia.org/wiki/&#1058;&#1077;&#1093;&#1085;&#1086;&#1087;&#1072;&#1088;&#1082;_&#1074;_&#1089;&#1092;&#1077;&#1088;&#1077;_&#1074;&#1099;&#1089;&#1086;&#1082;&#1080;&#1093;_&#1090;&#1077;&#1093;&#1085;&#1086;&#1083;&#1086;&#1075;&#1080;&#1081;_%22&#1048;&#1058;-&#1087;&#1072;&#1088;&#1082;%22" TargetMode="External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Kazan_vokzal.jpg?uselang=ru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Rachport.jpg?uselang=ru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ru.wikipedia.org/wiki/&#1050;&#1072;&#1079;&#1072;&#1085;&#1089;&#1082;&#1080;&#1081;_&#1088;&#1077;&#1095;&#1085;&#1086;&#1081;_&#1087;&#1086;&#1088;&#1090;" TargetMode="Externa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Nefaz_5299.jpg?uselang=ru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Kgtu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Paedagogische_Uni.Kasan.jpg?uselang=ru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Kazan_state_university.jpg?uselang=ru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&#1043;&#1083;_&#1079;&#1076;&#1072;&#1085;&#1080;&#1077;_&#1043;&#1052;&#1048;&#1048;_&#1056;&#1058;.JPG?uselang=ru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ru.wikipedia.org/wiki/&#1043;&#1086;&#1089;&#1091;&#1076;&#1072;&#1088;&#1089;&#1090;&#1074;&#1077;&#1085;&#1085;&#1099;&#1081;_&#1084;&#1091;&#1079;&#1077;&#1081;_&#1080;&#1079;&#1086;&#1073;&#1088;&#1072;&#1079;&#1080;&#1090;&#1077;&#1083;&#1100;&#1085;&#1099;&#1093;_&#1080;&#1089;&#1082;&#1091;&#1089;&#1089;&#1090;&#1074;_&#1056;&#1077;&#1089;&#1087;&#1091;&#1073;&#1083;&#1080;&#1082;&#1080;_&#1058;&#1072;&#1090;&#1072;&#1088;&#1089;&#1090;&#1072;&#1085;" TargetMode="External"/><Relationship Id="rId4" Type="http://schemas.openxmlformats.org/officeDocument/2006/relationships/hyperlink" Target="http://ru.wikipedia.org/wiki/&#1043;&#1086;&#1089;&#1091;&#1076;&#1072;&#1088;&#1089;&#1090;&#1074;&#1077;&#1085;&#1085;&#1099;&#1081;_&#1084;&#1091;&#1079;&#1077;&#1081;_&#1080;&#1079;&#1086;&#1073;&#1088;&#1072;&#1079;&#1080;&#1090;&#1077;&#1083;&#1100;&#1085;&#1099;&#1093;_&#1080;&#1089;&#1082;&#1091;&#1089;&#1089;&#1090;&#1074;_&#1056;&#1077;&#1089;&#1087;&#1091;&#1073;&#1083;&#1080;&#1082;&#1080;_&#1058;&#1072;&#1090;&#1072;&#1088;&#1089;&#1090;&#1072;&#1085;" TargetMode="External"/><Relationship Id="rId5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eatr_kach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ru.wikipedia.org/wiki/&#1050;&#1072;&#1079;&#1072;&#1085;&#1089;&#1082;&#1080;&#1081;_&#1075;&#1086;&#1089;&#1091;&#1076;&#1072;&#1088;&#1089;&#1090;&#1074;&#1077;&#1085;&#1085;&#1099;&#1081;_&#1072;&#1082;&#1072;&#1076;&#1077;&#1084;&#1080;&#1095;&#1077;&#1089;&#1082;&#1080;&#1081;_&#1088;&#1091;&#1089;&#1089;&#1082;&#1080;&#1081;_&#1041;&#1086;&#1083;&#1100;&#1096;&#1086;&#1081;_&#1076;&#1088;&#1072;&#1084;&#1072;&#1090;&#1080;&#1095;&#1077;&#1089;&#1082;&#1080;&#1081;_&#1090;&#1077;&#1072;&#1090;&#1088;_&#1080;&#1084;&#1077;&#1085;&#1080;_&#1042;._&#1048;._&#1050;&#1072;&#1095;&#1072;&#1083;&#1086;&#1074;&#1072;" TargetMode="External"/><Relationship Id="rId4" Type="http://schemas.openxmlformats.org/officeDocument/2006/relationships/hyperlink" Target="http://ru.wikipedia.org/wiki/&#1050;&#1072;&#1079;&#1072;&#1085;&#1089;&#1082;&#1080;&#1081;_&#1075;&#1086;&#1089;&#1091;&#1076;&#1072;&#1088;&#1089;&#1090;&#1074;&#1077;&#1085;&#1085;&#1099;&#1081;_&#1072;&#1082;&#1072;&#1076;&#1077;&#1084;&#1080;&#1095;&#1077;&#1089;&#1082;&#1080;&#1081;_&#1088;&#1091;&#1089;&#1089;&#1082;&#1080;&#1081;_&#1041;&#1086;&#1083;&#1100;&#1096;&#1086;&#1081;_&#1076;&#1088;&#1072;&#1084;&#1072;&#1090;&#1080;&#1095;&#1077;&#1089;&#1082;&#1080;&#1081;_&#1090;&#1077;&#1072;&#1090;&#1088;_&#1080;&#1084;&#1077;&#1085;&#1080;_&#1042;._&#1048;._&#1050;&#1072;&#1095;&#1072;&#1083;&#1086;&#1074;&#1072;" TargetMode="External"/><Relationship Id="rId5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Area_of_First_may_(Kazan).jpg?uselang=ru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ru.wikipedia.org/wiki/&#1053;&#1072;&#1094;&#1080;&#1086;&#1085;&#1072;&#1083;&#1100;&#1085;&#1099;&#1081;_&#1084;&#1091;&#1079;&#1077;&#1081;_&#1056;&#1077;&#1089;&#1087;&#1091;&#1073;&#1083;&#1080;&#1082;&#1080;_&#1058;&#1072;&#1090;&#1072;&#1088;&#1089;&#1090;&#1072;&#1085;" TargetMode="External"/><Relationship Id="rId4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Казань-столица Татарстан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56" name="Picture 4" descr="Казан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557360"/>
            <a:ext cx="4608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9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4"/>
          <p:cNvSpPr/>
          <p:nvPr/>
        </p:nvSpPr>
        <p:spPr>
          <a:xfrm>
            <a:off x="2268360" y="731520"/>
            <a:ext cx="4057920" cy="53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sto MT"/>
              </a:rPr>
              <a:t>1 — </a:t>
            </a:r>
            <a:r>
              <a:rPr b="0" lang="ru-RU" sz="2500" spc="-1" strike="noStrike" u="sng">
                <a:solidFill>
                  <a:srgbClr val="ffffcc"/>
                </a:solidFill>
                <a:uFillTx/>
                <a:latin typeface="Calisto MT"/>
                <a:hlinkClick r:id="rId1"/>
              </a:rPr>
              <a:t>Авиастроительный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sto MT"/>
              </a:rPr>
              <a:t>2 — </a:t>
            </a:r>
            <a:r>
              <a:rPr b="0" lang="ru-RU" sz="2500" spc="-1" strike="noStrike" u="sng">
                <a:solidFill>
                  <a:srgbClr val="ffffcc"/>
                </a:solidFill>
                <a:uFillTx/>
                <a:latin typeface="Calisto MT"/>
                <a:hlinkClick r:id="rId2"/>
              </a:rPr>
              <a:t>Вахитовский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sto MT"/>
              </a:rPr>
              <a:t>3 — </a:t>
            </a:r>
            <a:r>
              <a:rPr b="0" lang="ru-RU" sz="2500" spc="-1" strike="noStrike" u="sng">
                <a:solidFill>
                  <a:srgbClr val="ffffcc"/>
                </a:solidFill>
                <a:uFillTx/>
                <a:latin typeface="Calisto MT"/>
                <a:hlinkClick r:id="rId3"/>
              </a:rPr>
              <a:t>Кировский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sto MT"/>
              </a:rPr>
              <a:t>4 — </a:t>
            </a:r>
            <a:r>
              <a:rPr b="0" lang="ru-RU" sz="2500" spc="-1" strike="noStrike" u="sng">
                <a:solidFill>
                  <a:srgbClr val="ffffcc"/>
                </a:solidFill>
                <a:uFillTx/>
                <a:latin typeface="Calisto MT"/>
                <a:hlinkClick r:id="rId4"/>
              </a:rPr>
              <a:t>Московский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sto MT"/>
              </a:rPr>
              <a:t>5 — </a:t>
            </a:r>
            <a:r>
              <a:rPr b="0" lang="ru-RU" sz="2500" spc="-1" strike="noStrike" u="sng">
                <a:solidFill>
                  <a:srgbClr val="ffffcc"/>
                </a:solidFill>
                <a:uFillTx/>
                <a:latin typeface="Calisto MT"/>
                <a:hlinkClick r:id="rId5"/>
              </a:rPr>
              <a:t>Ново-Савиновский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sto MT"/>
              </a:rPr>
              <a:t>6 — </a:t>
            </a:r>
            <a:r>
              <a:rPr b="0" lang="ru-RU" sz="2500" spc="-1" strike="noStrike" u="sng">
                <a:solidFill>
                  <a:srgbClr val="ffffcc"/>
                </a:solidFill>
                <a:uFillTx/>
                <a:latin typeface="Calisto MT"/>
                <a:hlinkClick r:id="rId6"/>
              </a:rPr>
              <a:t>Приволжский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sto MT"/>
              </a:rPr>
              <a:t>7 — </a:t>
            </a:r>
            <a:r>
              <a:rPr b="0" lang="ru-RU" sz="2500" spc="-1" strike="noStrike" u="sng">
                <a:solidFill>
                  <a:srgbClr val="ffffcc"/>
                </a:solidFill>
                <a:uFillTx/>
                <a:latin typeface="Calisto MT"/>
                <a:hlinkClick r:id="rId7"/>
              </a:rPr>
              <a:t>Советский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4"/>
          <p:cNvSpPr/>
          <p:nvPr/>
        </p:nvSpPr>
        <p:spPr>
          <a:xfrm>
            <a:off x="1692360" y="1819440"/>
            <a:ext cx="59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ahoma"/>
              </a:rPr>
              <a:t>Ново-Савиновский и Авиастроительный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ahoma"/>
              </a:rPr>
              <a:t>Приволжский и Вахитовский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ahoma"/>
              </a:rPr>
              <a:t>Московский и Кировски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4" descr="загруженное"/>
          <p:cNvPicPr/>
          <p:nvPr/>
        </p:nvPicPr>
        <p:blipFill>
          <a:blip r:embed="rId1"/>
          <a:stretch/>
        </p:blipFill>
        <p:spPr>
          <a:xfrm>
            <a:off x="1258920" y="476280"/>
            <a:ext cx="6696000" cy="4174920"/>
          </a:xfrm>
          <a:prstGeom prst="rect">
            <a:avLst/>
          </a:prstGeom>
          <a:ln w="0">
            <a:noFill/>
          </a:ln>
        </p:spPr>
      </p:pic>
      <p:sp>
        <p:nvSpPr>
          <p:cNvPr id="969" name="Text Box 5"/>
          <p:cNvSpPr/>
          <p:nvPr/>
        </p:nvSpPr>
        <p:spPr>
          <a:xfrm>
            <a:off x="1979640" y="5661000"/>
            <a:ext cx="583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Минниханнов Рустем Нургалеевич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Picture 4" descr="images (3)"/>
          <p:cNvPicPr/>
          <p:nvPr/>
        </p:nvPicPr>
        <p:blipFill>
          <a:blip r:embed="rId1"/>
          <a:stretch/>
        </p:blipFill>
        <p:spPr>
          <a:xfrm>
            <a:off x="1042920" y="765000"/>
            <a:ext cx="3672000" cy="504036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5292720" y="1052640"/>
            <a:ext cx="30243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</a:rPr>
              <a:t>Метшин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</a:rPr>
              <a:t>Ильсур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</a:rPr>
              <a:t>Раисович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4" descr="Kazan town h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76280"/>
            <a:ext cx="3313080" cy="2808360"/>
          </a:xfrm>
          <a:prstGeom prst="rect">
            <a:avLst/>
          </a:prstGeom>
          <a:ln w="0">
            <a:noFill/>
          </a:ln>
        </p:spPr>
      </p:pic>
      <p:sp>
        <p:nvSpPr>
          <p:cNvPr id="973" name="Rectangle 5"/>
          <p:cNvSpPr/>
          <p:nvPr/>
        </p:nvSpPr>
        <p:spPr>
          <a:xfrm>
            <a:off x="611280" y="322704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занская ратуш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быв. Двоянское собрание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4" name="Picture 6" descr="Kazan city administrati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620640"/>
            <a:ext cx="3456000" cy="2664000"/>
          </a:xfrm>
          <a:prstGeom prst="rect">
            <a:avLst/>
          </a:prstGeom>
          <a:ln w="0">
            <a:noFill/>
          </a:ln>
        </p:spPr>
      </p:pic>
      <p:sp>
        <p:nvSpPr>
          <p:cNvPr id="975" name="Rectangle 7"/>
          <p:cNvSpPr/>
          <p:nvPr/>
        </p:nvSpPr>
        <p:spPr>
          <a:xfrm>
            <a:off x="7038720" y="349956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эрия Казан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6" name="Picture 8" descr="Tatarstan Cabinet of Minister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00360" y="3429000"/>
            <a:ext cx="3960720" cy="2521080"/>
          </a:xfrm>
          <a:prstGeom prst="rect">
            <a:avLst/>
          </a:prstGeom>
          <a:ln w="0">
            <a:noFill/>
          </a:ln>
        </p:spPr>
      </p:pic>
      <p:sp>
        <p:nvSpPr>
          <p:cNvPr id="977" name="Rectangle 9"/>
          <p:cNvSpPr/>
          <p:nvPr/>
        </p:nvSpPr>
        <p:spPr>
          <a:xfrm>
            <a:off x="1794600" y="6165000"/>
            <a:ext cx="60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дание Кабинета Министров Республики Татарста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Picture 4" descr="Kazan building in krem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765000"/>
            <a:ext cx="5689440" cy="3888000"/>
          </a:xfrm>
          <a:prstGeom prst="rect">
            <a:avLst/>
          </a:prstGeom>
          <a:ln w="0">
            <a:noFill/>
          </a:ln>
        </p:spPr>
      </p:pic>
      <p:sp>
        <p:nvSpPr>
          <p:cNvPr id="979" name="Rectangle 6"/>
          <p:cNvSpPr/>
          <p:nvPr/>
        </p:nvSpPr>
        <p:spPr>
          <a:xfrm>
            <a:off x="1692360" y="4941360"/>
            <a:ext cx="575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Президентский (бывший Губернаторский) дворец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8" dur="indefinite"/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9" dur="indefinite"/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4" descr="280px-%D0%98%D0%A2-%D0%BF%D0%B0%D1%80%D0%BA_%D0%9A%D0%B0%D0%B7%D0%B0%D0%BD%D1%8C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5"/>
          <p:cNvSpPr/>
          <p:nvPr/>
        </p:nvSpPr>
        <p:spPr>
          <a:xfrm>
            <a:off x="6552720" y="5951160"/>
            <a:ext cx="243324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ffcc00"/>
                </a:solidFill>
                <a:uFillTx/>
                <a:latin typeface="Rockwell"/>
                <a:hlinkClick r:id="rId3"/>
              </a:rPr>
              <a:t>IT-парк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268360" y="242064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Arial Black"/>
              </a:rPr>
              <a:t>ТРАНСПОР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9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4" descr="Kazan vokz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692280"/>
            <a:ext cx="6408720" cy="4681440"/>
          </a:xfrm>
          <a:prstGeom prst="rect">
            <a:avLst/>
          </a:prstGeom>
          <a:ln w="0">
            <a:noFill/>
          </a:ln>
        </p:spPr>
      </p:pic>
      <p:sp>
        <p:nvSpPr>
          <p:cNvPr id="984" name="Rectangle 5"/>
          <p:cNvSpPr/>
          <p:nvPr/>
        </p:nvSpPr>
        <p:spPr>
          <a:xfrm>
            <a:off x="1892520" y="5299920"/>
            <a:ext cx="52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авное здание железнодорожного вокзал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7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70" fill="hold"/>
                                        <p:tgtEl>
                                          <p:spTgt spid="9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Picture 4" descr="Rach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549360"/>
            <a:ext cx="5182920" cy="417492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5"/>
          <p:cNvSpPr/>
          <p:nvPr/>
        </p:nvSpPr>
        <p:spPr>
          <a:xfrm>
            <a:off x="2442960" y="5274720"/>
            <a:ext cx="40852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99ff66"/>
                </a:solidFill>
                <a:uFillTx/>
                <a:latin typeface="Rockwell Condensed"/>
                <a:hlinkClick r:id="rId3"/>
              </a:rPr>
              <a:t>Здание Речного вокзала</a:t>
            </a:r>
            <a:r>
              <a:rPr b="0" lang="ru-RU" sz="2500" spc="-1" strike="noStrike">
                <a:solidFill>
                  <a:srgbClr val="ff0000"/>
                </a:solidFill>
                <a:latin typeface="Rockwell Condense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Picture 4" descr="rtrtrtr"/>
          <p:cNvPicPr/>
          <p:nvPr/>
        </p:nvPicPr>
        <p:blipFill>
          <a:blip r:embed="rId1"/>
          <a:stretch/>
        </p:blipFill>
        <p:spPr>
          <a:xfrm>
            <a:off x="1403280" y="765000"/>
            <a:ext cx="655164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Picture 4" descr="Nefaz 529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9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692360" y="2492280"/>
            <a:ext cx="6105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Franklin Gothic Demi Cond"/>
              </a:rPr>
              <a:t>ОБРАЗОВАНИЕ И НАУ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9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Picture 6" descr="Kgtu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0" name="Rectangle 8"/>
          <p:cNvSpPr/>
          <p:nvPr/>
        </p:nvSpPr>
        <p:spPr>
          <a:xfrm>
            <a:off x="0" y="2676600"/>
            <a:ext cx="723744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Rectangle 9"/>
          <p:cNvSpPr/>
          <p:nvPr/>
        </p:nvSpPr>
        <p:spPr>
          <a:xfrm>
            <a:off x="0" y="2676600"/>
            <a:ext cx="2286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Rectangle 11"/>
          <p:cNvSpPr/>
          <p:nvPr/>
        </p:nvSpPr>
        <p:spPr>
          <a:xfrm>
            <a:off x="0" y="2676600"/>
            <a:ext cx="2286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Rectangle 13"/>
          <p:cNvSpPr/>
          <p:nvPr/>
        </p:nvSpPr>
        <p:spPr>
          <a:xfrm>
            <a:off x="0" y="2676600"/>
            <a:ext cx="2286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Rectangle 15"/>
          <p:cNvSpPr/>
          <p:nvPr/>
        </p:nvSpPr>
        <p:spPr>
          <a:xfrm>
            <a:off x="0" y="2676600"/>
            <a:ext cx="2286000" cy="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4" descr="Paedagogische Uni.Kas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4" descr="Kazan state universit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4"/>
          <p:cNvSpPr/>
          <p:nvPr/>
        </p:nvSpPr>
        <p:spPr>
          <a:xfrm>
            <a:off x="2916360" y="2565000"/>
            <a:ext cx="367164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2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Культур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Picture 4" descr="Гл здание ГМИИ РТ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5920"/>
            <a:ext cx="8424720" cy="6048360"/>
          </a:xfrm>
          <a:prstGeom prst="rect">
            <a:avLst/>
          </a:prstGeom>
          <a:ln w="0">
            <a:noFill/>
          </a:ln>
        </p:spPr>
      </p:pic>
      <p:sp>
        <p:nvSpPr>
          <p:cNvPr id="999" name="Rectangle 5"/>
          <p:cNvSpPr/>
          <p:nvPr/>
        </p:nvSpPr>
        <p:spPr>
          <a:xfrm>
            <a:off x="1579320" y="6179400"/>
            <a:ext cx="49723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Государственный музей изобразитель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 искусств Республики Татарста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9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Picture 4" descr="Teatr ka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60280"/>
            <a:ext cx="8136000" cy="5616720"/>
          </a:xfrm>
          <a:prstGeom prst="rect">
            <a:avLst/>
          </a:prstGeom>
          <a:ln w="0">
            <a:noFill/>
          </a:ln>
        </p:spPr>
      </p:pic>
      <p:sp>
        <p:nvSpPr>
          <p:cNvPr id="1001" name="Rectangle 5"/>
          <p:cNvSpPr/>
          <p:nvPr/>
        </p:nvSpPr>
        <p:spPr>
          <a:xfrm>
            <a:off x="1501560" y="5912640"/>
            <a:ext cx="6249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Казанский государственный академический русск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Большой драматический театр имени В. И. Качало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10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4" descr="Area of First may (Kazan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476280"/>
            <a:ext cx="6912000" cy="5327640"/>
          </a:xfrm>
          <a:prstGeom prst="rect">
            <a:avLst/>
          </a:prstGeom>
          <a:ln w="0">
            <a:noFill/>
          </a:ln>
        </p:spPr>
      </p:pic>
      <p:sp>
        <p:nvSpPr>
          <p:cNvPr id="1003" name="Rectangle 5"/>
          <p:cNvSpPr/>
          <p:nvPr/>
        </p:nvSpPr>
        <p:spPr>
          <a:xfrm>
            <a:off x="2099880" y="6002280"/>
            <a:ext cx="5340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Национальный музей Республики Татарста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4"/>
          <p:cNvSpPr/>
          <p:nvPr/>
        </p:nvSpPr>
        <p:spPr>
          <a:xfrm>
            <a:off x="987120" y="5515920"/>
            <a:ext cx="69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тарский академический театр имени Галиаскара Камал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5" name="Picture 5" descr="72774607"/>
          <p:cNvPicPr/>
          <p:nvPr/>
        </p:nvPicPr>
        <p:blipFill>
          <a:blip r:embed="rId1"/>
          <a:stretch/>
        </p:blipFill>
        <p:spPr>
          <a:xfrm>
            <a:off x="1258920" y="765000"/>
            <a:ext cx="66261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4" descr="сабантуй"/>
          <p:cNvPicPr/>
          <p:nvPr/>
        </p:nvPicPr>
        <p:blipFill>
          <a:blip r:embed="rId1"/>
          <a:stretch/>
        </p:blipFill>
        <p:spPr>
          <a:xfrm>
            <a:off x="1619280" y="1484280"/>
            <a:ext cx="6192720" cy="5041800"/>
          </a:xfrm>
          <a:prstGeom prst="rect">
            <a:avLst/>
          </a:prstGeom>
          <a:ln w="0">
            <a:noFill/>
          </a:ln>
        </p:spPr>
      </p:pic>
      <p:sp>
        <p:nvSpPr>
          <p:cNvPr id="959" name="Text Box 5"/>
          <p:cNvSpPr/>
          <p:nvPr/>
        </p:nvSpPr>
        <p:spPr>
          <a:xfrm>
            <a:off x="1692360" y="476280"/>
            <a:ext cx="6696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99"/>
                </a:solidFill>
                <a:latin typeface="Comic Sans MS"/>
              </a:rPr>
              <a:t>ТРАДИЦИИ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Архитектура и градостроительство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Picture 5" descr="Kazan Kremlin Suyumbika tower.jpg"/>
          <p:cNvPicPr/>
          <p:nvPr/>
        </p:nvPicPr>
        <p:blipFill>
          <a:blip r:embed="rId1"/>
          <a:stretch/>
        </p:blipFill>
        <p:spPr>
          <a:xfrm>
            <a:off x="611280" y="836640"/>
            <a:ext cx="3456000" cy="52563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6" descr="Kazan kremlin entry.jpg"/>
          <p:cNvPicPr/>
          <p:nvPr/>
        </p:nvPicPr>
        <p:blipFill>
          <a:blip r:embed="rId2"/>
          <a:stretch/>
        </p:blipFill>
        <p:spPr>
          <a:xfrm>
            <a:off x="4932360" y="765000"/>
            <a:ext cx="3745080" cy="55436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7" descr="универсида 2"/>
          <p:cNvPicPr/>
          <p:nvPr/>
        </p:nvPicPr>
        <p:blipFill>
          <a:blip r:embed="rId3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10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10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77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770" fill="hold"/>
                                        <p:tgtEl>
                                          <p:spTgt spid="10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4" descr="item58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7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/>
                                        <p:tgtEl>
                                          <p:spTgt spid="10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Picture 4" descr="images"/>
          <p:cNvPicPr/>
          <p:nvPr/>
        </p:nvPicPr>
        <p:blipFill>
          <a:blip r:embed="rId1"/>
          <a:stretch/>
        </p:blipFill>
        <p:spPr>
          <a:xfrm>
            <a:off x="0" y="0"/>
            <a:ext cx="3743280" cy="32418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" descr="images (1)"/>
          <p:cNvPicPr/>
          <p:nvPr/>
        </p:nvPicPr>
        <p:blipFill>
          <a:blip r:embed="rId2"/>
          <a:stretch/>
        </p:blipFill>
        <p:spPr>
          <a:xfrm>
            <a:off x="3708360" y="0"/>
            <a:ext cx="5435640" cy="35244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6" descr="images (2)"/>
          <p:cNvPicPr/>
          <p:nvPr/>
        </p:nvPicPr>
        <p:blipFill>
          <a:blip r:embed="rId3"/>
          <a:stretch/>
        </p:blipFill>
        <p:spPr>
          <a:xfrm>
            <a:off x="0" y="3213000"/>
            <a:ext cx="3708360" cy="364500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7" descr="fg"/>
          <p:cNvPicPr/>
          <p:nvPr/>
        </p:nvPicPr>
        <p:blipFill>
          <a:blip r:embed="rId4"/>
          <a:stretch/>
        </p:blipFill>
        <p:spPr>
          <a:xfrm>
            <a:off x="3708360" y="3500280"/>
            <a:ext cx="5435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Picture 4" descr="64vXYxo8thg"/>
          <p:cNvPicPr/>
          <p:nvPr/>
        </p:nvPicPr>
        <p:blipFill>
          <a:blip r:embed="rId1"/>
          <a:stretch/>
        </p:blipFill>
        <p:spPr>
          <a:xfrm>
            <a:off x="1187280" y="260280"/>
            <a:ext cx="658836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4" descr="iOcZsLSfbmw"/>
          <p:cNvPicPr/>
          <p:nvPr/>
        </p:nvPicPr>
        <p:blipFill>
          <a:blip r:embed="rId1"/>
          <a:stretch/>
        </p:blipFill>
        <p:spPr>
          <a:xfrm>
            <a:off x="2548080" y="552600"/>
            <a:ext cx="404784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10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4" descr="татары"/>
          <p:cNvPicPr/>
          <p:nvPr/>
        </p:nvPicPr>
        <p:blipFill>
          <a:blip r:embed="rId1"/>
          <a:stretch/>
        </p:blipFill>
        <p:spPr>
          <a:xfrm>
            <a:off x="2340000" y="476280"/>
            <a:ext cx="3979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4" descr="сабантуй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4" descr="сабантуй2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4" descr="чак-ча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4" descr="l,kl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4" descr="vcvf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6:36:19Z</dcterms:created>
  <dc:creator>1</dc:creator>
  <dc:description/>
  <dc:language>en-US</dc:language>
  <cp:lastModifiedBy>Пользователь</cp:lastModifiedBy>
  <dcterms:modified xsi:type="dcterms:W3CDTF">2016-12-02T21:34:20Z</dcterms:modified>
  <cp:revision>6</cp:revision>
  <dc:subject/>
  <dc:title>Казань-столица Татарстана</dc:title>
</cp:coreProperties>
</file>