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35.png" ContentType="image/png"/>
  <Override PartName="/ppt/media/image43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523-0B7E-4D58-82ED-1F8E28A1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393-5CD1-42B3-A365-FAD4BA09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47F-8862-411D-A2A6-E12B38ED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2BB-7B62-4077-BE83-E8F325C1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CF4D-9983-4051-BE0D-EFCA5D1B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100-977A-4721-BAAD-2F4CD155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0F2-9187-48AB-A83F-84080F18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493-9202-4F32-B4B2-464BE145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9D88-C434-4FF5-9C74-55EB237F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FC3-2ABB-48A3-AFAE-87BF7330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56C-EA8E-4725-B4CE-64CC7E99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485-D68A-4722-82E7-279EF6FD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C566-3C9B-4997-8AA9-3010C91BFC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5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4.xml"/><Relationship Id="rId3" Type="http://schemas.openxmlformats.org/officeDocument/2006/relationships/slide" Target="slide27.xml"/><Relationship Id="rId4" Type="http://schemas.openxmlformats.org/officeDocument/2006/relationships/slide" Target="slide30.xml"/><Relationship Id="rId5" Type="http://schemas.openxmlformats.org/officeDocument/2006/relationships/slide" Target="slide3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7.xml"/><Relationship Id="rId3" Type="http://schemas.openxmlformats.org/officeDocument/2006/relationships/slide" Target="slide45.xml"/><Relationship Id="rId4" Type="http://schemas.openxmlformats.org/officeDocument/2006/relationships/slide" Target="slide52.xml"/><Relationship Id="rId5" Type="http://schemas.openxmlformats.org/officeDocument/2006/relationships/slide" Target="slide60.xml"/><Relationship Id="rId6" Type="http://schemas.openxmlformats.org/officeDocument/2006/relationships/slide" Target="slide59.xml"/><Relationship Id="rId7" Type="http://schemas.openxmlformats.org/officeDocument/2006/relationships/slide" Target="slide17.xml"/><Relationship Id="rId8" Type="http://schemas.openxmlformats.org/officeDocument/2006/relationships/slide" Target="slide6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19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11.jpeg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19.xm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1.xml"/><Relationship Id="rId3" Type="http://schemas.openxmlformats.org/officeDocument/2006/relationships/image" Target="../media/image17.jpeg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" Target="slide32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6.xml"/><Relationship Id="rId5" Type="http://schemas.openxmlformats.org/officeDocument/2006/relationships/image" Target="../media/image20.jpeg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2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44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39.xml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39.xml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39.xml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6.xml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slide" Target="slide50.xml"/><Relationship Id="rId6" Type="http://schemas.openxmlformats.org/officeDocument/2006/relationships/slide" Target="slide50.xml"/><Relationship Id="rId7" Type="http://schemas.openxmlformats.org/officeDocument/2006/relationships/slide" Target="slide51.xml"/><Relationship Id="rId8" Type="http://schemas.openxmlformats.org/officeDocument/2006/relationships/slide" Target="slide51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5.xml"/><Relationship Id="rId5" Type="http://schemas.openxmlformats.org/officeDocument/2006/relationships/slide" Target="slide12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35344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БОУ «Всходская ОСШ» 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Художественная культура народов России второй половины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XIX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века.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(урок МХК в 11 класс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3644640"/>
            <a:ext cx="7920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читель МХК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уш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ина Геннад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ходы -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>
            <a:hlinkClick r:id="" action="ppaction://hlinkshowjump?jump=nextslide"/>
          </p:cNvPr>
          <p:cNvSpPr/>
          <p:nvPr/>
        </p:nvSpPr>
        <p:spPr>
          <a:xfrm>
            <a:off x="7812000" y="5877000"/>
            <a:ext cx="755640" cy="720720"/>
          </a:xfrm>
          <a:custGeom>
            <a:avLst/>
            <a:gdLst>
              <a:gd name="textAreaLeft" fmla="*/ 46440 w 755640"/>
              <a:gd name="textAreaRight" fmla="*/ 709200 w 75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646" h="21600">
                <a:moveTo>
                  <a:pt x="0" y="0"/>
                </a:moveTo>
                <a:lnTo>
                  <a:pt x="22646" y="0"/>
                </a:lnTo>
                <a:lnTo>
                  <a:pt x="22646" y="21600"/>
                </a:lnTo>
                <a:lnTo>
                  <a:pt x="0" y="21600"/>
                </a:lnTo>
                <a:close/>
              </a:path>
              <a:path fill="lightenLess" w="22646" h="21600">
                <a:moveTo>
                  <a:pt x="0" y="0"/>
                </a:moveTo>
                <a:lnTo>
                  <a:pt x="22646" y="0"/>
                </a:lnTo>
                <a:lnTo>
                  <a:pt x="21246" y="1400"/>
                </a:lnTo>
                <a:lnTo>
                  <a:pt x="1400" y="1400"/>
                </a:lnTo>
                <a:close/>
              </a:path>
              <a:path fill="darken" w="22646" h="21600">
                <a:moveTo>
                  <a:pt x="22646" y="0"/>
                </a:moveTo>
                <a:lnTo>
                  <a:pt x="22646" y="21600"/>
                </a:lnTo>
                <a:lnTo>
                  <a:pt x="21246" y="20200"/>
                </a:lnTo>
                <a:lnTo>
                  <a:pt x="21246" y="1400"/>
                </a:lnTo>
                <a:close/>
              </a:path>
              <a:path fill="darkenLess" w="22646" h="21600">
                <a:moveTo>
                  <a:pt x="22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6" y="20200"/>
                </a:lnTo>
                <a:close/>
              </a:path>
              <a:path fill="lighten" w="22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46" h="21600">
                <a:moveTo>
                  <a:pt x="4317" y="3794"/>
                </a:moveTo>
                <a:lnTo>
                  <a:pt x="18329" y="10800"/>
                </a:lnTo>
                <a:lnTo>
                  <a:pt x="431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Лев Николаевич Толстой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(9 сентября 1828 – 10 ноября 1910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5445000"/>
            <a:ext cx="79200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 второй половин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. относится расцвет творчества Л.Н. Толстого. Его романы, повести, рассказы, драматические произведения выносят беспощадный приговор морали, нравам, устоям, царящим в высшем обществе, нередко противопоставляют ему народные моральные ценности и трад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35280" y="1773000"/>
            <a:ext cx="5051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52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олстой поступает на военную службу. Опубликована первая повесть «Детств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54-11855г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олстой участник Крымской войны, защищает Севастопо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62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Женится на Софье Андреевне Бер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69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олстой заканчивает «Войну и мир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77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Анна Каренин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86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Смерть Ивана Ильич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90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Крейцеров сона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99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Воскресень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901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тлучение Толстого от церк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img166"/>
          <p:cNvPicPr/>
          <p:nvPr/>
        </p:nvPicPr>
        <p:blipFill>
          <a:blip r:embed="rId1"/>
          <a:stretch/>
        </p:blipFill>
        <p:spPr>
          <a:xfrm>
            <a:off x="250920" y="1557360"/>
            <a:ext cx="3203640" cy="38163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7">
            <a:hlinkClick r:id="rId2" action="ppaction://hlinksldjump"/>
          </p:cNvPr>
          <p:cNvSpPr/>
          <p:nvPr/>
        </p:nvSpPr>
        <p:spPr>
          <a:xfrm>
            <a:off x="8317080" y="6021360"/>
            <a:ext cx="684000" cy="522360"/>
          </a:xfrm>
          <a:custGeom>
            <a:avLst/>
            <a:gdLst>
              <a:gd name="textAreaLeft" fmla="*/ 33840 w 684000"/>
              <a:gd name="textAreaRight" fmla="*/ 650160 w 68400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8279" h="21600">
                <a:moveTo>
                  <a:pt x="0" y="0"/>
                </a:moveTo>
                <a:lnTo>
                  <a:pt x="28279" y="0"/>
                </a:lnTo>
                <a:lnTo>
                  <a:pt x="28279" y="21600"/>
                </a:lnTo>
                <a:lnTo>
                  <a:pt x="0" y="21600"/>
                </a:lnTo>
                <a:close/>
              </a:path>
              <a:path fill="lightenLess" w="28279" h="21600">
                <a:moveTo>
                  <a:pt x="0" y="0"/>
                </a:moveTo>
                <a:lnTo>
                  <a:pt x="28279" y="0"/>
                </a:lnTo>
                <a:lnTo>
                  <a:pt x="26879" y="1400"/>
                </a:lnTo>
                <a:lnTo>
                  <a:pt x="1400" y="1400"/>
                </a:lnTo>
                <a:close/>
              </a:path>
              <a:path fill="darken" w="28279" h="21600">
                <a:moveTo>
                  <a:pt x="28279" y="0"/>
                </a:moveTo>
                <a:lnTo>
                  <a:pt x="28279" y="21600"/>
                </a:lnTo>
                <a:lnTo>
                  <a:pt x="26879" y="20200"/>
                </a:lnTo>
                <a:lnTo>
                  <a:pt x="26879" y="1400"/>
                </a:lnTo>
                <a:close/>
              </a:path>
              <a:path fill="darkenLess" w="28279" h="21600">
                <a:moveTo>
                  <a:pt x="28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9" y="20200"/>
                </a:lnTo>
                <a:close/>
              </a:path>
              <a:path fill="lighten" w="28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9" h="21600">
                <a:moveTo>
                  <a:pt x="7133" y="10800"/>
                </a:moveTo>
                <a:lnTo>
                  <a:pt x="21146" y="3794"/>
                </a:lnTo>
                <a:lnTo>
                  <a:pt x="211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Антон Павлович Чехов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(29 января 1860 – 15 июля 1904 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4797000"/>
            <a:ext cx="79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рои А.П. Чехова – мелкие чиновники, разорившиеся дворяне, провинциальная интеллигенция, студенты – задавленные жизненными проблемами, они страдают от равнодушия и непонимания окружающих. Чехов стремился показать человека таким каков он есть, не  приукрашивая, не прибегая к попыткам разложить и растрогать читателя. Пьесы Чехова – это пьесы настроения . Важно не то, что делается на сцене, а то, что происходит внутри персонажей, поэтому игра актёров имеет здесь решающее зна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64000" y="1412640"/>
            <a:ext cx="5122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79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ступил на Медицинский факультет Московского университ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84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ервая книга рассказов «Сказки Мельпомен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88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Чехову присуждена академическая Пушкинская премия за сборник «В сумерках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90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ездка на Сахалин и в Юго-Восточную Аз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96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ервое представление «Чайк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99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становка «Дяди Ван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900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шел первый том собрания сочинений Чех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901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емьера пьесы «Три сестр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904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емьера «Вишнёвого са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>
            <a:hlinkClick r:id="rId1" action="ppaction://hlinksldjump"/>
          </p:cNvPr>
          <p:cNvSpPr/>
          <p:nvPr/>
        </p:nvSpPr>
        <p:spPr>
          <a:xfrm>
            <a:off x="8317080" y="6165720"/>
            <a:ext cx="684000" cy="522360"/>
          </a:xfrm>
          <a:custGeom>
            <a:avLst/>
            <a:gdLst>
              <a:gd name="textAreaLeft" fmla="*/ 33840 w 684000"/>
              <a:gd name="textAreaRight" fmla="*/ 650160 w 68400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8279" h="21600">
                <a:moveTo>
                  <a:pt x="0" y="0"/>
                </a:moveTo>
                <a:lnTo>
                  <a:pt x="28279" y="0"/>
                </a:lnTo>
                <a:lnTo>
                  <a:pt x="28279" y="21600"/>
                </a:lnTo>
                <a:lnTo>
                  <a:pt x="0" y="21600"/>
                </a:lnTo>
                <a:close/>
              </a:path>
              <a:path fill="lightenLess" w="28279" h="21600">
                <a:moveTo>
                  <a:pt x="0" y="0"/>
                </a:moveTo>
                <a:lnTo>
                  <a:pt x="28279" y="0"/>
                </a:lnTo>
                <a:lnTo>
                  <a:pt x="26879" y="1400"/>
                </a:lnTo>
                <a:lnTo>
                  <a:pt x="1400" y="1400"/>
                </a:lnTo>
                <a:close/>
              </a:path>
              <a:path fill="darken" w="28279" h="21600">
                <a:moveTo>
                  <a:pt x="28279" y="0"/>
                </a:moveTo>
                <a:lnTo>
                  <a:pt x="28279" y="21600"/>
                </a:lnTo>
                <a:lnTo>
                  <a:pt x="26879" y="20200"/>
                </a:lnTo>
                <a:lnTo>
                  <a:pt x="26879" y="1400"/>
                </a:lnTo>
                <a:close/>
              </a:path>
              <a:path fill="darkenLess" w="28279" h="21600">
                <a:moveTo>
                  <a:pt x="28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9" y="20200"/>
                </a:lnTo>
                <a:close/>
              </a:path>
              <a:path fill="lighten" w="28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9" h="21600">
                <a:moveTo>
                  <a:pt x="7133" y="10800"/>
                </a:moveTo>
                <a:lnTo>
                  <a:pt x="21146" y="3794"/>
                </a:lnTo>
                <a:lnTo>
                  <a:pt x="211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img168"/>
          <p:cNvPicPr/>
          <p:nvPr/>
        </p:nvPicPr>
        <p:blipFill>
          <a:blip r:embed="rId2"/>
          <a:stretch/>
        </p:blipFill>
        <p:spPr>
          <a:xfrm>
            <a:off x="611280" y="1484280"/>
            <a:ext cx="2768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Николай Алексеевич Некрасов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(10 декабря 1821 – 8 января 1878 г.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4941720"/>
            <a:ext cx="79218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им из сторонников критического реализма был Н.А. Некрасов. Ведущее место в его творчестве занимала тема народной жизни, её беспросветность и горести. В то же время его произведения (поэма «Кому на Руси жить хорошо» и др.) проникнуты верой в силы народа, способного сбросить оковы раб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48000" y="1600200"/>
            <a:ext cx="53388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38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печати появляются первые стихи Некрас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40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тановится сотрудником журнала «Отечественные записк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47-1866 г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красов – редактор и издатель «Современн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66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чал писать поэму «Кому на Руси жить хорош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63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эма «Мороз Красный нос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68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красов – редактор «Отечественных записок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72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эма «Русские женщин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77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писана последняя часть поэмы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Кому на Руси жить хорош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img167"/>
          <p:cNvPicPr/>
          <p:nvPr/>
        </p:nvPicPr>
        <p:blipFill>
          <a:blip r:embed="rId2"/>
          <a:stretch/>
        </p:blipFill>
        <p:spPr>
          <a:xfrm>
            <a:off x="324000" y="1268280"/>
            <a:ext cx="2863800" cy="36007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8">
            <a:hlinkClick r:id="rId3" action="ppaction://hlinksldjump"/>
          </p:cNvPr>
          <p:cNvSpPr/>
          <p:nvPr/>
        </p:nvSpPr>
        <p:spPr>
          <a:xfrm>
            <a:off x="8317080" y="6165720"/>
            <a:ext cx="684000" cy="522360"/>
          </a:xfrm>
          <a:custGeom>
            <a:avLst/>
            <a:gdLst>
              <a:gd name="textAreaLeft" fmla="*/ 33840 w 684000"/>
              <a:gd name="textAreaRight" fmla="*/ 650160 w 68400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8279" h="21600">
                <a:moveTo>
                  <a:pt x="0" y="0"/>
                </a:moveTo>
                <a:lnTo>
                  <a:pt x="28279" y="0"/>
                </a:lnTo>
                <a:lnTo>
                  <a:pt x="28279" y="21600"/>
                </a:lnTo>
                <a:lnTo>
                  <a:pt x="0" y="21600"/>
                </a:lnTo>
                <a:close/>
              </a:path>
              <a:path fill="lightenLess" w="28279" h="21600">
                <a:moveTo>
                  <a:pt x="0" y="0"/>
                </a:moveTo>
                <a:lnTo>
                  <a:pt x="28279" y="0"/>
                </a:lnTo>
                <a:lnTo>
                  <a:pt x="26879" y="1400"/>
                </a:lnTo>
                <a:lnTo>
                  <a:pt x="1400" y="1400"/>
                </a:lnTo>
                <a:close/>
              </a:path>
              <a:path fill="darken" w="28279" h="21600">
                <a:moveTo>
                  <a:pt x="28279" y="0"/>
                </a:moveTo>
                <a:lnTo>
                  <a:pt x="28279" y="21600"/>
                </a:lnTo>
                <a:lnTo>
                  <a:pt x="26879" y="20200"/>
                </a:lnTo>
                <a:lnTo>
                  <a:pt x="26879" y="1400"/>
                </a:lnTo>
                <a:close/>
              </a:path>
              <a:path fill="darkenLess" w="28279" h="21600">
                <a:moveTo>
                  <a:pt x="28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9" y="20200"/>
                </a:lnTo>
                <a:close/>
              </a:path>
              <a:path fill="lighten" w="28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9" h="21600">
                <a:moveTo>
                  <a:pt x="7133" y="10800"/>
                </a:moveTo>
                <a:lnTo>
                  <a:pt x="21146" y="3794"/>
                </a:lnTo>
                <a:lnTo>
                  <a:pt x="211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«Кому на Руси жить хорошо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765000"/>
            <a:ext cx="8893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   Французу не привид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сне – какие праздн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день, не два – по меся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задавали т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и индейки жир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и наливки сочные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и актёры, музы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слуги – целый пол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  Дороги наши тру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ход у нас больш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ящий, умирающ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дающийся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избирает време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жнитво и сеноко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глухую ночь осенню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имой, в морозы лю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 половодье внеш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и, куда зов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042560" y="5949720"/>
            <a:ext cx="6913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Прочитайте отрывок и определи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Кому принадлежат слова в поэме Н.А. Некрас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>
            <a:hlinkClick r:id="rId1" action="ppaction://hlinksldjump"/>
          </p:cNvPr>
          <p:cNvSpPr/>
          <p:nvPr/>
        </p:nvSpPr>
        <p:spPr>
          <a:xfrm>
            <a:off x="179280" y="6021360"/>
            <a:ext cx="755640" cy="576360"/>
          </a:xfrm>
          <a:custGeom>
            <a:avLst/>
            <a:gdLst>
              <a:gd name="textAreaLeft" fmla="*/ 37080 w 755640"/>
              <a:gd name="textAreaRight" fmla="*/ 718560 w 755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8315" h="21600">
                <a:moveTo>
                  <a:pt x="0" y="0"/>
                </a:moveTo>
                <a:lnTo>
                  <a:pt x="28315" y="0"/>
                </a:lnTo>
                <a:lnTo>
                  <a:pt x="28315" y="21600"/>
                </a:lnTo>
                <a:lnTo>
                  <a:pt x="0" y="21600"/>
                </a:lnTo>
                <a:close/>
              </a:path>
              <a:path fill="lightenLess" w="28315" h="21600">
                <a:moveTo>
                  <a:pt x="0" y="0"/>
                </a:moveTo>
                <a:lnTo>
                  <a:pt x="28315" y="0"/>
                </a:lnTo>
                <a:lnTo>
                  <a:pt x="26915" y="1400"/>
                </a:lnTo>
                <a:lnTo>
                  <a:pt x="1400" y="1400"/>
                </a:lnTo>
                <a:close/>
              </a:path>
              <a:path fill="darken" w="28315" h="21600">
                <a:moveTo>
                  <a:pt x="28315" y="0"/>
                </a:moveTo>
                <a:lnTo>
                  <a:pt x="28315" y="21600"/>
                </a:lnTo>
                <a:lnTo>
                  <a:pt x="26915" y="20200"/>
                </a:lnTo>
                <a:lnTo>
                  <a:pt x="26915" y="1400"/>
                </a:lnTo>
                <a:close/>
              </a:path>
              <a:path fill="darkenLess" w="28315" h="21600">
                <a:moveTo>
                  <a:pt x="28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15" y="20200"/>
                </a:lnTo>
                <a:close/>
              </a:path>
              <a:path fill="lighten" w="28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15" h="21600">
                <a:moveTo>
                  <a:pt x="1415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315" h="21600">
                <a:moveTo>
                  <a:pt x="15263" y="14281"/>
                </a:moveTo>
                <a:lnTo>
                  <a:pt x="15263" y="12323"/>
                </a:lnTo>
                <a:cubicBezTo>
                  <a:pt x="15263" y="11496"/>
                  <a:pt x="15593" y="10800"/>
                  <a:pt x="16194" y="10800"/>
                </a:cubicBezTo>
                <a:cubicBezTo>
                  <a:pt x="17325" y="10800"/>
                  <a:pt x="18222" y="9434"/>
                  <a:pt x="18222" y="7849"/>
                </a:cubicBezTo>
                <a:cubicBezTo>
                  <a:pt x="18222" y="5534"/>
                  <a:pt x="16368" y="3794"/>
                  <a:pt x="14157" y="3794"/>
                </a:cubicBezTo>
                <a:cubicBezTo>
                  <a:pt x="11947" y="3794"/>
                  <a:pt x="10275" y="5534"/>
                  <a:pt x="10275" y="7849"/>
                </a:cubicBezTo>
                <a:lnTo>
                  <a:pt x="12129" y="7849"/>
                </a:lnTo>
                <a:cubicBezTo>
                  <a:pt x="12129" y="6709"/>
                  <a:pt x="13052" y="5821"/>
                  <a:pt x="14157" y="5821"/>
                </a:cubicBezTo>
                <a:cubicBezTo>
                  <a:pt x="15263" y="5821"/>
                  <a:pt x="16194" y="6709"/>
                  <a:pt x="16194" y="7849"/>
                </a:cubicBezTo>
                <a:cubicBezTo>
                  <a:pt x="16194" y="8589"/>
                  <a:pt x="15724" y="9320"/>
                  <a:pt x="15263" y="9320"/>
                </a:cubicBezTo>
                <a:cubicBezTo>
                  <a:pt x="14157" y="9320"/>
                  <a:pt x="13052" y="10800"/>
                  <a:pt x="13052" y="12323"/>
                </a:cubicBezTo>
                <a:lnTo>
                  <a:pt x="13052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>
            <a:hlinkClick r:id="rId2" action="ppaction://hlinksldjump"/>
          </p:cNvPr>
          <p:cNvSpPr/>
          <p:nvPr/>
        </p:nvSpPr>
        <p:spPr>
          <a:xfrm>
            <a:off x="8028000" y="6021360"/>
            <a:ext cx="826920" cy="647640"/>
          </a:xfrm>
          <a:custGeom>
            <a:avLst/>
            <a:gdLst>
              <a:gd name="textAreaLeft" fmla="*/ 41760 w 826920"/>
              <a:gd name="textAreaRight" fmla="*/ 785160 w 826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7576" h="21600">
                <a:moveTo>
                  <a:pt x="0" y="0"/>
                </a:moveTo>
                <a:lnTo>
                  <a:pt x="27576" y="0"/>
                </a:lnTo>
                <a:lnTo>
                  <a:pt x="27576" y="21600"/>
                </a:lnTo>
                <a:lnTo>
                  <a:pt x="0" y="21600"/>
                </a:lnTo>
                <a:close/>
              </a:path>
              <a:path fill="lightenLess" w="27576" h="21600">
                <a:moveTo>
                  <a:pt x="0" y="0"/>
                </a:moveTo>
                <a:lnTo>
                  <a:pt x="27576" y="0"/>
                </a:lnTo>
                <a:lnTo>
                  <a:pt x="26176" y="1400"/>
                </a:lnTo>
                <a:lnTo>
                  <a:pt x="1400" y="1400"/>
                </a:lnTo>
                <a:close/>
              </a:path>
              <a:path fill="darken" w="27576" h="21600">
                <a:moveTo>
                  <a:pt x="27576" y="0"/>
                </a:moveTo>
                <a:lnTo>
                  <a:pt x="27576" y="21600"/>
                </a:lnTo>
                <a:lnTo>
                  <a:pt x="26176" y="20200"/>
                </a:lnTo>
                <a:lnTo>
                  <a:pt x="26176" y="1400"/>
                </a:lnTo>
                <a:close/>
              </a:path>
              <a:path fill="darkenLess" w="27576" h="21600">
                <a:moveTo>
                  <a:pt x="2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6" y="20200"/>
                </a:lnTo>
                <a:close/>
              </a:path>
              <a:path fill="lighten" w="2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6" h="21600">
                <a:moveTo>
                  <a:pt x="13788" y="3837"/>
                </a:moveTo>
                <a:lnTo>
                  <a:pt x="16364" y="6448"/>
                </a:lnTo>
                <a:lnTo>
                  <a:pt x="16364" y="4707"/>
                </a:lnTo>
                <a:lnTo>
                  <a:pt x="18140" y="4707"/>
                </a:lnTo>
                <a:lnTo>
                  <a:pt x="18140" y="8224"/>
                </a:lnTo>
                <a:lnTo>
                  <a:pt x="20751" y="10800"/>
                </a:lnTo>
                <a:lnTo>
                  <a:pt x="19097" y="10800"/>
                </a:lnTo>
                <a:lnTo>
                  <a:pt x="19097" y="17989"/>
                </a:lnTo>
                <a:lnTo>
                  <a:pt x="8479" y="17989"/>
                </a:lnTo>
                <a:lnTo>
                  <a:pt x="8479" y="10800"/>
                </a:lnTo>
                <a:lnTo>
                  <a:pt x="6825" y="10800"/>
                </a:lnTo>
                <a:close/>
              </a:path>
              <a:path fill="darkenLess" w="27576" h="21600">
                <a:moveTo>
                  <a:pt x="16364" y="6448"/>
                </a:moveTo>
                <a:lnTo>
                  <a:pt x="16364" y="4707"/>
                </a:lnTo>
                <a:lnTo>
                  <a:pt x="18140" y="4707"/>
                </a:lnTo>
                <a:lnTo>
                  <a:pt x="18140" y="8224"/>
                </a:lnTo>
                <a:close/>
              </a:path>
              <a:path fill="darkenLess" w="27576" h="21600">
                <a:moveTo>
                  <a:pt x="12865" y="14299"/>
                </a:moveTo>
                <a:lnTo>
                  <a:pt x="14711" y="14299"/>
                </a:lnTo>
                <a:lnTo>
                  <a:pt x="14711" y="17989"/>
                </a:lnTo>
                <a:lnTo>
                  <a:pt x="19097" y="17989"/>
                </a:lnTo>
                <a:lnTo>
                  <a:pt x="19097" y="10800"/>
                </a:lnTo>
                <a:lnTo>
                  <a:pt x="8479" y="10800"/>
                </a:lnTo>
                <a:lnTo>
                  <a:pt x="8479" y="17989"/>
                </a:lnTo>
                <a:lnTo>
                  <a:pt x="1286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е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>
            <a:hlinkClick r:id="rId1" action="ppaction://hlinksldjump"/>
          </p:cNvPr>
          <p:cNvSpPr/>
          <p:nvPr/>
        </p:nvSpPr>
        <p:spPr>
          <a:xfrm>
            <a:off x="7812000" y="5734080"/>
            <a:ext cx="898560" cy="792000"/>
          </a:xfrm>
          <a:custGeom>
            <a:avLst/>
            <a:gdLst>
              <a:gd name="textAreaLeft" fmla="*/ 51120 w 898560"/>
              <a:gd name="textAreaRight" fmla="*/ 847440 w 8985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4505" h="21600">
                <a:moveTo>
                  <a:pt x="0" y="0"/>
                </a:moveTo>
                <a:lnTo>
                  <a:pt x="24505" y="0"/>
                </a:lnTo>
                <a:lnTo>
                  <a:pt x="24505" y="21600"/>
                </a:lnTo>
                <a:lnTo>
                  <a:pt x="0" y="21600"/>
                </a:lnTo>
                <a:close/>
              </a:path>
              <a:path fill="lightenLess" w="24505" h="21600">
                <a:moveTo>
                  <a:pt x="0" y="0"/>
                </a:moveTo>
                <a:lnTo>
                  <a:pt x="24505" y="0"/>
                </a:lnTo>
                <a:lnTo>
                  <a:pt x="23105" y="1400"/>
                </a:lnTo>
                <a:lnTo>
                  <a:pt x="1400" y="1400"/>
                </a:lnTo>
                <a:close/>
              </a:path>
              <a:path fill="darken" w="24505" h="21600">
                <a:moveTo>
                  <a:pt x="24505" y="0"/>
                </a:moveTo>
                <a:lnTo>
                  <a:pt x="24505" y="21600"/>
                </a:lnTo>
                <a:lnTo>
                  <a:pt x="23105" y="20200"/>
                </a:lnTo>
                <a:lnTo>
                  <a:pt x="23105" y="1400"/>
                </a:lnTo>
                <a:close/>
              </a:path>
              <a:path fill="darkenLess" w="24505" h="21600">
                <a:moveTo>
                  <a:pt x="24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05" y="20200"/>
                </a:lnTo>
                <a:close/>
              </a:path>
              <a:path fill="lighten" w="24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05" h="21600">
                <a:moveTo>
                  <a:pt x="5246" y="7493"/>
                </a:moveTo>
                <a:lnTo>
                  <a:pt x="8754" y="7493"/>
                </a:lnTo>
                <a:lnTo>
                  <a:pt x="8754" y="12828"/>
                </a:lnTo>
                <a:cubicBezTo>
                  <a:pt x="8754" y="13751"/>
                  <a:pt x="9554" y="14482"/>
                  <a:pt x="10590" y="14482"/>
                </a:cubicBezTo>
                <a:lnTo>
                  <a:pt x="12252" y="14482"/>
                </a:lnTo>
                <a:cubicBezTo>
                  <a:pt x="13288" y="14482"/>
                  <a:pt x="14089" y="13751"/>
                  <a:pt x="14089" y="12828"/>
                </a:cubicBezTo>
                <a:lnTo>
                  <a:pt x="14089" y="7493"/>
                </a:lnTo>
                <a:lnTo>
                  <a:pt x="12252" y="7493"/>
                </a:lnTo>
                <a:lnTo>
                  <a:pt x="15760" y="3985"/>
                </a:lnTo>
                <a:lnTo>
                  <a:pt x="19433" y="7493"/>
                </a:lnTo>
                <a:lnTo>
                  <a:pt x="17597" y="7493"/>
                </a:lnTo>
                <a:lnTo>
                  <a:pt x="17597" y="12828"/>
                </a:lnTo>
                <a:cubicBezTo>
                  <a:pt x="17597" y="15596"/>
                  <a:pt x="15020" y="18155"/>
                  <a:pt x="12252" y="18155"/>
                </a:cubicBezTo>
                <a:lnTo>
                  <a:pt x="10590" y="18155"/>
                </a:lnTo>
                <a:cubicBezTo>
                  <a:pt x="7822" y="18155"/>
                  <a:pt x="5246" y="15596"/>
                  <a:pt x="524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Иван Сергеевич Тургенев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(9 ноября 1818 – 3 сентября 1883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5084280"/>
            <a:ext cx="82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учшие свои произведения И.С. Тургенев создал в эпоху реформ, проводившихся в России в середин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. Писатель точнее всех своих современников уловил момент единодушия нации, когда все хоронили старое и надеялись на лучшее будущее, и ярче всех сумел выразить это ощущение в своих произведениях.    Главный герой произведений И.С. Тургенева – это человек действия, не желающий мириться с существующей действительностью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34920" y="1412640"/>
            <a:ext cx="46148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41 – 1843 г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ервые публикации в «Современнике» и «Отечественных записках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52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Записки охотн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56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Рудин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59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Дворянское гнезд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60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Наканун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62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ходит в свет роман «Отцы и дети», где в образе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игилис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азарова показано появление в России человека нового тип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67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Ды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71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ургенев переезжает в Пари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82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Стихотворения в прозе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img171"/>
          <p:cNvPicPr/>
          <p:nvPr/>
        </p:nvPicPr>
        <p:blipFill>
          <a:blip r:embed="rId2"/>
          <a:stretch/>
        </p:blipFill>
        <p:spPr>
          <a:xfrm>
            <a:off x="395280" y="1413000"/>
            <a:ext cx="3067200" cy="36003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7">
            <a:hlinkClick r:id="rId3" action="ppaction://hlinksldjump"/>
          </p:cNvPr>
          <p:cNvSpPr/>
          <p:nvPr/>
        </p:nvSpPr>
        <p:spPr>
          <a:xfrm>
            <a:off x="8317080" y="6165720"/>
            <a:ext cx="684000" cy="522360"/>
          </a:xfrm>
          <a:custGeom>
            <a:avLst/>
            <a:gdLst>
              <a:gd name="textAreaLeft" fmla="*/ 33840 w 684000"/>
              <a:gd name="textAreaRight" fmla="*/ 650160 w 68400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8279" h="21600">
                <a:moveTo>
                  <a:pt x="0" y="0"/>
                </a:moveTo>
                <a:lnTo>
                  <a:pt x="28279" y="0"/>
                </a:lnTo>
                <a:lnTo>
                  <a:pt x="28279" y="21600"/>
                </a:lnTo>
                <a:lnTo>
                  <a:pt x="0" y="21600"/>
                </a:lnTo>
                <a:close/>
              </a:path>
              <a:path fill="lightenLess" w="28279" h="21600">
                <a:moveTo>
                  <a:pt x="0" y="0"/>
                </a:moveTo>
                <a:lnTo>
                  <a:pt x="28279" y="0"/>
                </a:lnTo>
                <a:lnTo>
                  <a:pt x="26879" y="1400"/>
                </a:lnTo>
                <a:lnTo>
                  <a:pt x="1400" y="1400"/>
                </a:lnTo>
                <a:close/>
              </a:path>
              <a:path fill="darken" w="28279" h="21600">
                <a:moveTo>
                  <a:pt x="28279" y="0"/>
                </a:moveTo>
                <a:lnTo>
                  <a:pt x="28279" y="21600"/>
                </a:lnTo>
                <a:lnTo>
                  <a:pt x="26879" y="20200"/>
                </a:lnTo>
                <a:lnTo>
                  <a:pt x="26879" y="1400"/>
                </a:lnTo>
                <a:close/>
              </a:path>
              <a:path fill="darkenLess" w="28279" h="21600">
                <a:moveTo>
                  <a:pt x="28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9" y="20200"/>
                </a:lnTo>
                <a:close/>
              </a:path>
              <a:path fill="lighten" w="28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9" h="21600">
                <a:moveTo>
                  <a:pt x="7133" y="10800"/>
                </a:moveTo>
                <a:lnTo>
                  <a:pt x="21146" y="3794"/>
                </a:lnTo>
                <a:lnTo>
                  <a:pt x="211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Нигилизм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от лат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hi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– ничто, ничего), в России общественное умонастроение и мироощущение передовой разночинной интеллигенции 60 –х гг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, проявлявшееся в решительном отрицании господствующей иде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мин «нигилизм» получил распространение после опубликования романа И.С. Тургенева «Отцы и дети» (1862г.), в котором главный герой Базаров назван нигилис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rId1" action="ppaction://hlinksldjump"/>
          </p:cNvPr>
          <p:cNvSpPr/>
          <p:nvPr/>
        </p:nvSpPr>
        <p:spPr>
          <a:xfrm>
            <a:off x="7667640" y="5950080"/>
            <a:ext cx="826920" cy="647640"/>
          </a:xfrm>
          <a:custGeom>
            <a:avLst/>
            <a:gdLst>
              <a:gd name="textAreaLeft" fmla="*/ 41760 w 826920"/>
              <a:gd name="textAreaRight" fmla="*/ 785160 w 826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7576" h="21600">
                <a:moveTo>
                  <a:pt x="0" y="0"/>
                </a:moveTo>
                <a:lnTo>
                  <a:pt x="27576" y="0"/>
                </a:lnTo>
                <a:lnTo>
                  <a:pt x="27576" y="21600"/>
                </a:lnTo>
                <a:lnTo>
                  <a:pt x="0" y="21600"/>
                </a:lnTo>
                <a:close/>
              </a:path>
              <a:path fill="lightenLess" w="27576" h="21600">
                <a:moveTo>
                  <a:pt x="0" y="0"/>
                </a:moveTo>
                <a:lnTo>
                  <a:pt x="27576" y="0"/>
                </a:lnTo>
                <a:lnTo>
                  <a:pt x="26176" y="1400"/>
                </a:lnTo>
                <a:lnTo>
                  <a:pt x="1400" y="1400"/>
                </a:lnTo>
                <a:close/>
              </a:path>
              <a:path fill="darken" w="27576" h="21600">
                <a:moveTo>
                  <a:pt x="27576" y="0"/>
                </a:moveTo>
                <a:lnTo>
                  <a:pt x="27576" y="21600"/>
                </a:lnTo>
                <a:lnTo>
                  <a:pt x="26176" y="20200"/>
                </a:lnTo>
                <a:lnTo>
                  <a:pt x="26176" y="1400"/>
                </a:lnTo>
                <a:close/>
              </a:path>
              <a:path fill="darkenLess" w="27576" h="21600">
                <a:moveTo>
                  <a:pt x="2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6" y="20200"/>
                </a:lnTo>
                <a:close/>
              </a:path>
              <a:path fill="lighten" w="2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6" h="21600">
                <a:moveTo>
                  <a:pt x="13788" y="3837"/>
                </a:moveTo>
                <a:lnTo>
                  <a:pt x="16364" y="6448"/>
                </a:lnTo>
                <a:lnTo>
                  <a:pt x="16364" y="4707"/>
                </a:lnTo>
                <a:lnTo>
                  <a:pt x="18140" y="4707"/>
                </a:lnTo>
                <a:lnTo>
                  <a:pt x="18140" y="8224"/>
                </a:lnTo>
                <a:lnTo>
                  <a:pt x="20751" y="10800"/>
                </a:lnTo>
                <a:lnTo>
                  <a:pt x="19097" y="10800"/>
                </a:lnTo>
                <a:lnTo>
                  <a:pt x="19097" y="17989"/>
                </a:lnTo>
                <a:lnTo>
                  <a:pt x="8479" y="17989"/>
                </a:lnTo>
                <a:lnTo>
                  <a:pt x="8479" y="10800"/>
                </a:lnTo>
                <a:lnTo>
                  <a:pt x="6825" y="10800"/>
                </a:lnTo>
                <a:close/>
              </a:path>
              <a:path fill="darkenLess" w="27576" h="21600">
                <a:moveTo>
                  <a:pt x="16364" y="6448"/>
                </a:moveTo>
                <a:lnTo>
                  <a:pt x="16364" y="4707"/>
                </a:lnTo>
                <a:lnTo>
                  <a:pt x="18140" y="4707"/>
                </a:lnTo>
                <a:lnTo>
                  <a:pt x="18140" y="8224"/>
                </a:lnTo>
                <a:close/>
              </a:path>
              <a:path fill="darkenLess" w="27576" h="21600">
                <a:moveTo>
                  <a:pt x="12865" y="14299"/>
                </a:moveTo>
                <a:lnTo>
                  <a:pt x="14711" y="14299"/>
                </a:lnTo>
                <a:lnTo>
                  <a:pt x="14711" y="17989"/>
                </a:lnTo>
                <a:lnTo>
                  <a:pt x="19097" y="17989"/>
                </a:lnTo>
                <a:lnTo>
                  <a:pt x="19097" y="10800"/>
                </a:lnTo>
                <a:lnTo>
                  <a:pt x="8479" y="10800"/>
                </a:lnTo>
                <a:lnTo>
                  <a:pt x="8479" y="17989"/>
                </a:lnTo>
                <a:lnTo>
                  <a:pt x="1286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ff"/>
                </a:solidFill>
                <a:latin typeface="Arial"/>
              </a:rPr>
              <a:t>Живопись второй половины </a:t>
            </a:r>
            <a:r>
              <a:rPr b="1" i="1" lang="en-US" sz="3600" spc="-1" strike="noStrike">
                <a:solidFill>
                  <a:srgbClr val="6666ff"/>
                </a:solidFill>
                <a:latin typeface="Arial"/>
              </a:rPr>
              <a:t>XIX</a:t>
            </a:r>
            <a:r>
              <a:rPr b="1" i="1" lang="ru-RU" sz="3600" spc="-1" strike="noStrike">
                <a:solidFill>
                  <a:srgbClr val="6666ff"/>
                </a:solidFill>
                <a:latin typeface="Arial"/>
              </a:rPr>
              <a:t> 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ая живопись второй половин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 решала те же общественные вопросы, что и литература. Ведущим в ней также стало направление критического реал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863 г. в художественной жизни России произошло из ряда вон выходящее событие. 14 выпускников Академии художеств отказались писать обязательные для получения диплома картины на сюжет скандинавской мифологии объяснив это тем, что в жизни есть  более достойные темы для кисти. Не получив разрешения на свободную тему художники покинули Академию и основали петербургскую Артель художников, которая в 1870 г. была преобразована в Товарищество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ередвиж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Кого из русских живописцев второй половины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XIX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 в. 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>
            <a:hlinkClick r:id="rId2" action="ppaction://hlinksldjump"/>
          </p:cNvPr>
          <p:cNvSpPr/>
          <p:nvPr/>
        </p:nvSpPr>
        <p:spPr>
          <a:xfrm>
            <a:off x="250920" y="515772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>
            <a:hlinkClick r:id="rId3" action="ppaction://hlinksldjump"/>
          </p:cNvPr>
          <p:cNvSpPr/>
          <p:nvPr/>
        </p:nvSpPr>
        <p:spPr>
          <a:xfrm>
            <a:off x="7093080" y="5950080"/>
            <a:ext cx="826920" cy="718920"/>
          </a:xfrm>
          <a:custGeom>
            <a:avLst/>
            <a:gdLst>
              <a:gd name="textAreaLeft" fmla="*/ 46440 w 826920"/>
              <a:gd name="textAreaRight" fmla="*/ 780480 w 826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4843" h="21600">
                <a:moveTo>
                  <a:pt x="0" y="0"/>
                </a:moveTo>
                <a:lnTo>
                  <a:pt x="24843" y="0"/>
                </a:lnTo>
                <a:lnTo>
                  <a:pt x="24843" y="21600"/>
                </a:lnTo>
                <a:lnTo>
                  <a:pt x="0" y="21600"/>
                </a:lnTo>
                <a:close/>
              </a:path>
              <a:path fill="lightenLess" w="24843" h="21600">
                <a:moveTo>
                  <a:pt x="0" y="0"/>
                </a:moveTo>
                <a:lnTo>
                  <a:pt x="24843" y="0"/>
                </a:lnTo>
                <a:lnTo>
                  <a:pt x="23443" y="1400"/>
                </a:lnTo>
                <a:lnTo>
                  <a:pt x="1400" y="1400"/>
                </a:lnTo>
                <a:close/>
              </a:path>
              <a:path fill="darken" w="24843" h="21600">
                <a:moveTo>
                  <a:pt x="24843" y="0"/>
                </a:moveTo>
                <a:lnTo>
                  <a:pt x="24843" y="21600"/>
                </a:lnTo>
                <a:lnTo>
                  <a:pt x="23443" y="20200"/>
                </a:lnTo>
                <a:lnTo>
                  <a:pt x="23443" y="1400"/>
                </a:lnTo>
                <a:close/>
              </a:path>
              <a:path fill="darkenLess" w="24843" h="21600">
                <a:moveTo>
                  <a:pt x="2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43" y="20200"/>
                </a:lnTo>
                <a:close/>
              </a:path>
              <a:path fill="lighten" w="2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43" h="21600">
                <a:moveTo>
                  <a:pt x="5415" y="10800"/>
                </a:moveTo>
                <a:lnTo>
                  <a:pt x="19428" y="3794"/>
                </a:lnTo>
                <a:lnTo>
                  <a:pt x="194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>
            <a:hlinkClick r:id="rId4" action="ppaction://hlinksldjump"/>
          </p:cNvPr>
          <p:cNvSpPr/>
          <p:nvPr/>
        </p:nvSpPr>
        <p:spPr>
          <a:xfrm>
            <a:off x="8101080" y="595008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4891" y="3794"/>
                </a:moveTo>
                <a:lnTo>
                  <a:pt x="18904" y="10800"/>
                </a:lnTo>
                <a:lnTo>
                  <a:pt x="489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ередвижники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Товарищество русских художников, основанное в 1870 г. Передвижники устраивали выставки русской живописи не только в Москве и Санкт – Петербурге, но в провинциях. Это было своеобразное «хождение в народ» русских художников. Основным критерием для отбора картин на выставки стало требование отражать жизнь со всеми её пробле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и художников, подписавших первый устав Товарищества передвижников, были Н.Н Ге, А.К. Саврасов, И.И. Шишкин, В.Г. Перов, братья В.Е. и К.Е. Маковские. Позднее к ним присоединились В.М. Васнецов, Н.А. Ярошенко, К. А. Савицк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>
            <a:hlinkClick r:id="rId1" action="ppaction://hlinksldjump"/>
          </p:cNvPr>
          <p:cNvSpPr/>
          <p:nvPr/>
        </p:nvSpPr>
        <p:spPr>
          <a:xfrm>
            <a:off x="8101080" y="5589720"/>
            <a:ext cx="826920" cy="792000"/>
          </a:xfrm>
          <a:custGeom>
            <a:avLst/>
            <a:gdLst>
              <a:gd name="textAreaLeft" fmla="*/ 51120 w 826920"/>
              <a:gd name="textAreaRight" fmla="*/ 775800 w 826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2552" h="21600">
                <a:moveTo>
                  <a:pt x="0" y="0"/>
                </a:moveTo>
                <a:lnTo>
                  <a:pt x="22552" y="0"/>
                </a:lnTo>
                <a:lnTo>
                  <a:pt x="22552" y="21600"/>
                </a:lnTo>
                <a:lnTo>
                  <a:pt x="0" y="21600"/>
                </a:lnTo>
                <a:close/>
              </a:path>
              <a:path fill="lightenLess" w="22552" h="21600">
                <a:moveTo>
                  <a:pt x="0" y="0"/>
                </a:moveTo>
                <a:lnTo>
                  <a:pt x="22552" y="0"/>
                </a:lnTo>
                <a:lnTo>
                  <a:pt x="21152" y="1400"/>
                </a:lnTo>
                <a:lnTo>
                  <a:pt x="1400" y="1400"/>
                </a:lnTo>
                <a:close/>
              </a:path>
              <a:path fill="darken" w="22552" h="21600">
                <a:moveTo>
                  <a:pt x="22552" y="0"/>
                </a:moveTo>
                <a:lnTo>
                  <a:pt x="22552" y="21600"/>
                </a:lnTo>
                <a:lnTo>
                  <a:pt x="21152" y="20200"/>
                </a:lnTo>
                <a:lnTo>
                  <a:pt x="21152" y="1400"/>
                </a:lnTo>
                <a:close/>
              </a:path>
              <a:path fill="darkenLess" w="22552" h="21600">
                <a:moveTo>
                  <a:pt x="22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52" y="20200"/>
                </a:lnTo>
                <a:close/>
              </a:path>
              <a:path fill="lighten" w="22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52" h="21600">
                <a:moveTo>
                  <a:pt x="11276" y="3837"/>
                </a:moveTo>
                <a:lnTo>
                  <a:pt x="13852" y="6448"/>
                </a:lnTo>
                <a:lnTo>
                  <a:pt x="13852" y="4707"/>
                </a:lnTo>
                <a:lnTo>
                  <a:pt x="15628" y="4707"/>
                </a:lnTo>
                <a:lnTo>
                  <a:pt x="15628" y="8224"/>
                </a:lnTo>
                <a:lnTo>
                  <a:pt x="18239" y="10800"/>
                </a:lnTo>
                <a:lnTo>
                  <a:pt x="16585" y="10800"/>
                </a:lnTo>
                <a:lnTo>
                  <a:pt x="16585" y="17989"/>
                </a:lnTo>
                <a:lnTo>
                  <a:pt x="5967" y="17989"/>
                </a:lnTo>
                <a:lnTo>
                  <a:pt x="5967" y="10800"/>
                </a:lnTo>
                <a:lnTo>
                  <a:pt x="4313" y="10800"/>
                </a:lnTo>
                <a:close/>
              </a:path>
              <a:path fill="darkenLess" w="22552" h="21600">
                <a:moveTo>
                  <a:pt x="13852" y="6448"/>
                </a:moveTo>
                <a:lnTo>
                  <a:pt x="13852" y="4707"/>
                </a:lnTo>
                <a:lnTo>
                  <a:pt x="15628" y="4707"/>
                </a:lnTo>
                <a:lnTo>
                  <a:pt x="15628" y="8224"/>
                </a:lnTo>
                <a:close/>
              </a:path>
              <a:path fill="darkenLess" w="22552" h="21600">
                <a:moveTo>
                  <a:pt x="10353" y="14299"/>
                </a:moveTo>
                <a:lnTo>
                  <a:pt x="12199" y="14299"/>
                </a:lnTo>
                <a:lnTo>
                  <a:pt x="12199" y="17989"/>
                </a:lnTo>
                <a:lnTo>
                  <a:pt x="16585" y="17989"/>
                </a:lnTo>
                <a:lnTo>
                  <a:pt x="16585" y="10800"/>
                </a:lnTo>
                <a:lnTo>
                  <a:pt x="5967" y="10800"/>
                </a:lnTo>
                <a:lnTo>
                  <a:pt x="5967" y="17989"/>
                </a:lnTo>
                <a:lnTo>
                  <a:pt x="103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-5193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32000" y="18864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И. Ши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М. Васне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Н. Крам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К. Сур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Е. Реп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>
            <a:hlinkClick r:id="rId1" action="ppaction://hlinksldjump"/>
          </p:cNvPr>
          <p:cNvSpPr/>
          <p:nvPr/>
        </p:nvSpPr>
        <p:spPr>
          <a:xfrm>
            <a:off x="900000" y="47628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>
            <a:hlinkClick r:id="rId2" action="ppaction://hlinksldjump"/>
          </p:cNvPr>
          <p:cNvSpPr/>
          <p:nvPr/>
        </p:nvSpPr>
        <p:spPr>
          <a:xfrm>
            <a:off x="900000" y="155736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>
            <a:hlinkClick r:id="rId3" action="ppaction://hlinksldjump"/>
          </p:cNvPr>
          <p:cNvSpPr/>
          <p:nvPr/>
        </p:nvSpPr>
        <p:spPr>
          <a:xfrm>
            <a:off x="900000" y="270828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>
            <a:hlinkClick r:id="rId4" action="ppaction://hlinksldjump"/>
          </p:cNvPr>
          <p:cNvSpPr/>
          <p:nvPr/>
        </p:nvSpPr>
        <p:spPr>
          <a:xfrm>
            <a:off x="900000" y="364500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>
            <a:hlinkClick r:id="rId5" action="ppaction://hlinksldjump"/>
          </p:cNvPr>
          <p:cNvSpPr/>
          <p:nvPr/>
        </p:nvSpPr>
        <p:spPr>
          <a:xfrm>
            <a:off x="900000" y="4581360"/>
            <a:ext cx="682560" cy="64800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2751" h="21600">
                <a:moveTo>
                  <a:pt x="0" y="0"/>
                </a:moveTo>
                <a:lnTo>
                  <a:pt x="22751" y="0"/>
                </a:lnTo>
                <a:lnTo>
                  <a:pt x="22751" y="21600"/>
                </a:lnTo>
                <a:lnTo>
                  <a:pt x="0" y="21600"/>
                </a:lnTo>
                <a:close/>
              </a:path>
              <a:path fill="lightenLess" w="22751" h="21600">
                <a:moveTo>
                  <a:pt x="0" y="0"/>
                </a:moveTo>
                <a:lnTo>
                  <a:pt x="22751" y="0"/>
                </a:lnTo>
                <a:lnTo>
                  <a:pt x="21351" y="1400"/>
                </a:lnTo>
                <a:lnTo>
                  <a:pt x="1400" y="1400"/>
                </a:lnTo>
                <a:close/>
              </a:path>
              <a:path fill="darken" w="22751" h="21600">
                <a:moveTo>
                  <a:pt x="22751" y="0"/>
                </a:moveTo>
                <a:lnTo>
                  <a:pt x="22751" y="21600"/>
                </a:lnTo>
                <a:lnTo>
                  <a:pt x="21351" y="20200"/>
                </a:lnTo>
                <a:lnTo>
                  <a:pt x="21351" y="1400"/>
                </a:lnTo>
                <a:close/>
              </a:path>
              <a:path fill="darkenLess" w="22751" h="21600">
                <a:moveTo>
                  <a:pt x="22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51" y="20200"/>
                </a:lnTo>
                <a:close/>
              </a:path>
              <a:path fill="lighten" w="22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51" h="21600">
                <a:moveTo>
                  <a:pt x="4369" y="3794"/>
                </a:moveTo>
                <a:lnTo>
                  <a:pt x="18382" y="10800"/>
                </a:lnTo>
                <a:lnTo>
                  <a:pt x="43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>
            <a:hlinkClick r:id="rId6" action="ppaction://hlinksldjump"/>
          </p:cNvPr>
          <p:cNvSpPr/>
          <p:nvPr/>
        </p:nvSpPr>
        <p:spPr>
          <a:xfrm>
            <a:off x="7885080" y="6165720"/>
            <a:ext cx="684360" cy="522360"/>
          </a:xfrm>
          <a:custGeom>
            <a:avLst/>
            <a:gdLst>
              <a:gd name="textAreaLeft" fmla="*/ 33840 w 684360"/>
              <a:gd name="textAreaRight" fmla="*/ 650520 w 68436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8294" h="21600">
                <a:moveTo>
                  <a:pt x="0" y="0"/>
                </a:moveTo>
                <a:lnTo>
                  <a:pt x="28294" y="0"/>
                </a:lnTo>
                <a:lnTo>
                  <a:pt x="28294" y="21600"/>
                </a:lnTo>
                <a:lnTo>
                  <a:pt x="0" y="21600"/>
                </a:lnTo>
                <a:close/>
              </a:path>
              <a:path fill="lightenLess" w="28294" h="21600">
                <a:moveTo>
                  <a:pt x="0" y="0"/>
                </a:moveTo>
                <a:lnTo>
                  <a:pt x="28294" y="0"/>
                </a:lnTo>
                <a:lnTo>
                  <a:pt x="26894" y="1400"/>
                </a:lnTo>
                <a:lnTo>
                  <a:pt x="1400" y="1400"/>
                </a:lnTo>
                <a:close/>
              </a:path>
              <a:path fill="darken" w="28294" h="21600">
                <a:moveTo>
                  <a:pt x="28294" y="0"/>
                </a:moveTo>
                <a:lnTo>
                  <a:pt x="28294" y="21600"/>
                </a:lnTo>
                <a:lnTo>
                  <a:pt x="26894" y="20200"/>
                </a:lnTo>
                <a:lnTo>
                  <a:pt x="26894" y="1400"/>
                </a:lnTo>
                <a:close/>
              </a:path>
              <a:path fill="darkenLess" w="28294" h="21600">
                <a:moveTo>
                  <a:pt x="282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94" y="20200"/>
                </a:lnTo>
                <a:close/>
              </a:path>
              <a:path fill="lighten" w="282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94" h="21600">
                <a:moveTo>
                  <a:pt x="7141" y="10800"/>
                </a:moveTo>
                <a:lnTo>
                  <a:pt x="21154" y="3794"/>
                </a:lnTo>
                <a:lnTo>
                  <a:pt x="211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1640" y="836280"/>
            <a:ext cx="7561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Опорн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Му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Скульптура и архите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Закрепление пройден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Домашнее за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Рефлек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>
            <a:hlinkClick r:id="rId1" action="ppaction://hlinksldjump"/>
          </p:cNvPr>
          <p:cNvSpPr/>
          <p:nvPr/>
        </p:nvSpPr>
        <p:spPr>
          <a:xfrm>
            <a:off x="539640" y="83664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36" h="21600">
                <a:moveTo>
                  <a:pt x="12812" y="3794"/>
                </a:moveTo>
                <a:lnTo>
                  <a:pt x="26824" y="10800"/>
                </a:lnTo>
                <a:lnTo>
                  <a:pt x="128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>
            <a:hlinkClick r:id="rId2" action="ppaction://hlinksldjump"/>
          </p:cNvPr>
          <p:cNvSpPr/>
          <p:nvPr/>
        </p:nvSpPr>
        <p:spPr>
          <a:xfrm>
            <a:off x="539640" y="299736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36" h="21600">
                <a:moveTo>
                  <a:pt x="12812" y="3794"/>
                </a:moveTo>
                <a:lnTo>
                  <a:pt x="26824" y="10800"/>
                </a:lnTo>
                <a:lnTo>
                  <a:pt x="128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>
            <a:hlinkClick r:id="rId3" action="ppaction://hlinksldjump"/>
          </p:cNvPr>
          <p:cNvSpPr/>
          <p:nvPr/>
        </p:nvSpPr>
        <p:spPr>
          <a:xfrm>
            <a:off x="539640" y="364500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36" h="21600">
                <a:moveTo>
                  <a:pt x="12812" y="3794"/>
                </a:moveTo>
                <a:lnTo>
                  <a:pt x="26824" y="10800"/>
                </a:lnTo>
                <a:lnTo>
                  <a:pt x="128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>
            <a:hlinkClick r:id="rId4" action="ppaction://hlinksldjump"/>
          </p:cNvPr>
          <p:cNvSpPr/>
          <p:nvPr/>
        </p:nvSpPr>
        <p:spPr>
          <a:xfrm>
            <a:off x="539640" y="443700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2795" y="3794"/>
                </a:moveTo>
                <a:lnTo>
                  <a:pt x="26808" y="10800"/>
                </a:lnTo>
                <a:lnTo>
                  <a:pt x="127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>
            <a:hlinkClick r:id="rId5" action="ppaction://hlinksldjump"/>
          </p:cNvPr>
          <p:cNvSpPr/>
          <p:nvPr/>
        </p:nvSpPr>
        <p:spPr>
          <a:xfrm>
            <a:off x="539640" y="515772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2795" y="3794"/>
                </a:moveTo>
                <a:lnTo>
                  <a:pt x="26808" y="10800"/>
                </a:lnTo>
                <a:lnTo>
                  <a:pt x="127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>
            <a:hlinkClick r:id="rId6" action="ppaction://hlinksldjump"/>
          </p:cNvPr>
          <p:cNvSpPr/>
          <p:nvPr/>
        </p:nvSpPr>
        <p:spPr>
          <a:xfrm>
            <a:off x="539640" y="595008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36" h="21600">
                <a:moveTo>
                  <a:pt x="12812" y="3794"/>
                </a:moveTo>
                <a:lnTo>
                  <a:pt x="26824" y="10800"/>
                </a:lnTo>
                <a:lnTo>
                  <a:pt x="128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2">
            <a:hlinkClick r:id="rId7" action="ppaction://hlinksldjump"/>
          </p:cNvPr>
          <p:cNvSpPr/>
          <p:nvPr/>
        </p:nvSpPr>
        <p:spPr>
          <a:xfrm>
            <a:off x="539640" y="234936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2795" y="3794"/>
                </a:moveTo>
                <a:lnTo>
                  <a:pt x="26808" y="10800"/>
                </a:lnTo>
                <a:lnTo>
                  <a:pt x="127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3">
            <a:hlinkClick r:id="rId8" action="ppaction://hlinksldjump"/>
          </p:cNvPr>
          <p:cNvSpPr/>
          <p:nvPr/>
        </p:nvSpPr>
        <p:spPr>
          <a:xfrm>
            <a:off x="539640" y="155736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36" h="21600">
                <a:moveTo>
                  <a:pt x="12812" y="3794"/>
                </a:moveTo>
                <a:lnTo>
                  <a:pt x="26824" y="10800"/>
                </a:lnTo>
                <a:lnTo>
                  <a:pt x="128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Иван Иванович Шишкин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25 января 1832 – 20 марта 1898г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5229360"/>
            <a:ext cx="6769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мые известные картины И.И Шишк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Рожь» (1878 г.)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Лесные дали» (1884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«Дубова роща» (1887 г.)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«Утро в сосновом лесу» (1889 г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76360" y="1125000"/>
            <a:ext cx="5616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ин из крупнейших русских пейзажистов, создавший целую галерею картин, ставших зримыми символами Росс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мской, высоко ценивший искусство Шишкина, писал о достоинствах этого художника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Шишкин нас просто изумляет своими познаниями… Это человек – школ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ё дело в том, что Шишкин. Углублённо изучал ботанику и биологию, он был большим знатоком растительного ми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подолгу рассматривал изображаемый предмет через увеличительное стекло, а потом с поразительной точностью переносил его бумагу. Вот почему растения на его картинах приобретают абсолютно правдивые и естественные формы. Это не просто деревья и кустарники, а деревья и кустарники совершенно определённой породы. Главный герой его живописи – это л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>
            <a:hlinkClick r:id="rId4" action="ppaction://hlinksldjump"/>
          </p:cNvPr>
          <p:cNvSpPr/>
          <p:nvPr/>
        </p:nvSpPr>
        <p:spPr>
          <a:xfrm>
            <a:off x="8317080" y="6165720"/>
            <a:ext cx="684000" cy="522360"/>
          </a:xfrm>
          <a:custGeom>
            <a:avLst/>
            <a:gdLst>
              <a:gd name="textAreaLeft" fmla="*/ 33840 w 684000"/>
              <a:gd name="textAreaRight" fmla="*/ 650160 w 68400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8279" h="21600">
                <a:moveTo>
                  <a:pt x="0" y="0"/>
                </a:moveTo>
                <a:lnTo>
                  <a:pt x="28279" y="0"/>
                </a:lnTo>
                <a:lnTo>
                  <a:pt x="28279" y="21600"/>
                </a:lnTo>
                <a:lnTo>
                  <a:pt x="0" y="21600"/>
                </a:lnTo>
                <a:close/>
              </a:path>
              <a:path fill="lightenLess" w="28279" h="21600">
                <a:moveTo>
                  <a:pt x="0" y="0"/>
                </a:moveTo>
                <a:lnTo>
                  <a:pt x="28279" y="0"/>
                </a:lnTo>
                <a:lnTo>
                  <a:pt x="26879" y="1400"/>
                </a:lnTo>
                <a:lnTo>
                  <a:pt x="1400" y="1400"/>
                </a:lnTo>
                <a:close/>
              </a:path>
              <a:path fill="darken" w="28279" h="21600">
                <a:moveTo>
                  <a:pt x="28279" y="0"/>
                </a:moveTo>
                <a:lnTo>
                  <a:pt x="28279" y="21600"/>
                </a:lnTo>
                <a:lnTo>
                  <a:pt x="26879" y="20200"/>
                </a:lnTo>
                <a:lnTo>
                  <a:pt x="26879" y="1400"/>
                </a:lnTo>
                <a:close/>
              </a:path>
              <a:path fill="darkenLess" w="28279" h="21600">
                <a:moveTo>
                  <a:pt x="28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9" y="20200"/>
                </a:lnTo>
                <a:close/>
              </a:path>
              <a:path fill="lighten" w="28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9" h="21600">
                <a:moveTo>
                  <a:pt x="7133" y="10800"/>
                </a:moveTo>
                <a:lnTo>
                  <a:pt x="21146" y="3794"/>
                </a:lnTo>
                <a:lnTo>
                  <a:pt x="211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img175"/>
          <p:cNvPicPr/>
          <p:nvPr/>
        </p:nvPicPr>
        <p:blipFill>
          <a:blip r:embed="rId5"/>
          <a:stretch/>
        </p:blipFill>
        <p:spPr>
          <a:xfrm>
            <a:off x="179280" y="1268280"/>
            <a:ext cx="30304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6920" y="115560"/>
            <a:ext cx="66978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«Лесные да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img186"/>
          <p:cNvPicPr/>
          <p:nvPr/>
        </p:nvPicPr>
        <p:blipFill>
          <a:blip r:embed="rId1"/>
          <a:stretch/>
        </p:blipFill>
        <p:spPr>
          <a:xfrm>
            <a:off x="250920" y="836640"/>
            <a:ext cx="8424720" cy="530208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">
            <a:hlinkClick r:id="rId2" action="ppaction://hlinksldjump"/>
          </p:cNvPr>
          <p:cNvSpPr/>
          <p:nvPr/>
        </p:nvSpPr>
        <p:spPr>
          <a:xfrm>
            <a:off x="7956720" y="6148440"/>
            <a:ext cx="900000" cy="709560"/>
          </a:xfrm>
          <a:custGeom>
            <a:avLst/>
            <a:gdLst>
              <a:gd name="textAreaLeft" fmla="*/ 45720 w 900000"/>
              <a:gd name="textAreaRight" fmla="*/ 854280 w 90000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7394" h="21600">
                <a:moveTo>
                  <a:pt x="0" y="0"/>
                </a:moveTo>
                <a:lnTo>
                  <a:pt x="27394" y="0"/>
                </a:lnTo>
                <a:lnTo>
                  <a:pt x="27394" y="21600"/>
                </a:lnTo>
                <a:lnTo>
                  <a:pt x="0" y="21600"/>
                </a:lnTo>
                <a:close/>
              </a:path>
              <a:path fill="lightenLess" w="27394" h="21600">
                <a:moveTo>
                  <a:pt x="0" y="0"/>
                </a:moveTo>
                <a:lnTo>
                  <a:pt x="27394" y="0"/>
                </a:lnTo>
                <a:lnTo>
                  <a:pt x="25994" y="1400"/>
                </a:lnTo>
                <a:lnTo>
                  <a:pt x="1400" y="1400"/>
                </a:lnTo>
                <a:close/>
              </a:path>
              <a:path fill="darken" w="27394" h="21600">
                <a:moveTo>
                  <a:pt x="27394" y="0"/>
                </a:moveTo>
                <a:lnTo>
                  <a:pt x="27394" y="21600"/>
                </a:lnTo>
                <a:lnTo>
                  <a:pt x="25994" y="20200"/>
                </a:lnTo>
                <a:lnTo>
                  <a:pt x="25994" y="1400"/>
                </a:lnTo>
                <a:close/>
              </a:path>
              <a:path fill="darkenLess" w="27394" h="21600">
                <a:moveTo>
                  <a:pt x="27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4" y="20200"/>
                </a:lnTo>
                <a:close/>
              </a:path>
              <a:path fill="lighten" w="27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94" h="21600">
                <a:moveTo>
                  <a:pt x="13697" y="3837"/>
                </a:moveTo>
                <a:lnTo>
                  <a:pt x="16273" y="6448"/>
                </a:lnTo>
                <a:lnTo>
                  <a:pt x="16273" y="4707"/>
                </a:lnTo>
                <a:lnTo>
                  <a:pt x="18049" y="4707"/>
                </a:lnTo>
                <a:lnTo>
                  <a:pt x="18049" y="8224"/>
                </a:lnTo>
                <a:lnTo>
                  <a:pt x="20660" y="10800"/>
                </a:lnTo>
                <a:lnTo>
                  <a:pt x="19006" y="10800"/>
                </a:lnTo>
                <a:lnTo>
                  <a:pt x="19006" y="17989"/>
                </a:lnTo>
                <a:lnTo>
                  <a:pt x="8388" y="17989"/>
                </a:lnTo>
                <a:lnTo>
                  <a:pt x="8388" y="10800"/>
                </a:lnTo>
                <a:lnTo>
                  <a:pt x="6734" y="10800"/>
                </a:lnTo>
                <a:close/>
              </a:path>
              <a:path fill="darkenLess" w="27394" h="21600">
                <a:moveTo>
                  <a:pt x="16273" y="6448"/>
                </a:moveTo>
                <a:lnTo>
                  <a:pt x="16273" y="4707"/>
                </a:lnTo>
                <a:lnTo>
                  <a:pt x="18049" y="4707"/>
                </a:lnTo>
                <a:lnTo>
                  <a:pt x="18049" y="8224"/>
                </a:lnTo>
                <a:close/>
              </a:path>
              <a:path fill="darkenLess" w="27394" h="21600">
                <a:moveTo>
                  <a:pt x="12775" y="14299"/>
                </a:moveTo>
                <a:lnTo>
                  <a:pt x="14620" y="14299"/>
                </a:lnTo>
                <a:lnTo>
                  <a:pt x="14620" y="17989"/>
                </a:lnTo>
                <a:lnTo>
                  <a:pt x="19006" y="17989"/>
                </a:lnTo>
                <a:lnTo>
                  <a:pt x="19006" y="10800"/>
                </a:lnTo>
                <a:lnTo>
                  <a:pt x="8388" y="10800"/>
                </a:lnTo>
                <a:lnTo>
                  <a:pt x="8388" y="17989"/>
                </a:lnTo>
                <a:lnTo>
                  <a:pt x="1277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«Дубовая рощ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img187"/>
          <p:cNvPicPr/>
          <p:nvPr/>
        </p:nvPicPr>
        <p:blipFill>
          <a:blip r:embed="rId1"/>
          <a:stretch/>
        </p:blipFill>
        <p:spPr>
          <a:xfrm>
            <a:off x="468360" y="907920"/>
            <a:ext cx="8209080" cy="522792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5">
            <a:hlinkClick r:id="rId2" action="ppaction://hlinksldjump"/>
          </p:cNvPr>
          <p:cNvSpPr/>
          <p:nvPr/>
        </p:nvSpPr>
        <p:spPr>
          <a:xfrm>
            <a:off x="7956720" y="6148440"/>
            <a:ext cx="900000" cy="709560"/>
          </a:xfrm>
          <a:custGeom>
            <a:avLst/>
            <a:gdLst>
              <a:gd name="textAreaLeft" fmla="*/ 45720 w 900000"/>
              <a:gd name="textAreaRight" fmla="*/ 854280 w 90000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7394" h="21600">
                <a:moveTo>
                  <a:pt x="0" y="0"/>
                </a:moveTo>
                <a:lnTo>
                  <a:pt x="27394" y="0"/>
                </a:lnTo>
                <a:lnTo>
                  <a:pt x="27394" y="21600"/>
                </a:lnTo>
                <a:lnTo>
                  <a:pt x="0" y="21600"/>
                </a:lnTo>
                <a:close/>
              </a:path>
              <a:path fill="lightenLess" w="27394" h="21600">
                <a:moveTo>
                  <a:pt x="0" y="0"/>
                </a:moveTo>
                <a:lnTo>
                  <a:pt x="27394" y="0"/>
                </a:lnTo>
                <a:lnTo>
                  <a:pt x="25994" y="1400"/>
                </a:lnTo>
                <a:lnTo>
                  <a:pt x="1400" y="1400"/>
                </a:lnTo>
                <a:close/>
              </a:path>
              <a:path fill="darken" w="27394" h="21600">
                <a:moveTo>
                  <a:pt x="27394" y="0"/>
                </a:moveTo>
                <a:lnTo>
                  <a:pt x="27394" y="21600"/>
                </a:lnTo>
                <a:lnTo>
                  <a:pt x="25994" y="20200"/>
                </a:lnTo>
                <a:lnTo>
                  <a:pt x="25994" y="1400"/>
                </a:lnTo>
                <a:close/>
              </a:path>
              <a:path fill="darkenLess" w="27394" h="21600">
                <a:moveTo>
                  <a:pt x="27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4" y="20200"/>
                </a:lnTo>
                <a:close/>
              </a:path>
              <a:path fill="lighten" w="27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94" h="21600">
                <a:moveTo>
                  <a:pt x="13697" y="3837"/>
                </a:moveTo>
                <a:lnTo>
                  <a:pt x="16273" y="6448"/>
                </a:lnTo>
                <a:lnTo>
                  <a:pt x="16273" y="4707"/>
                </a:lnTo>
                <a:lnTo>
                  <a:pt x="18049" y="4707"/>
                </a:lnTo>
                <a:lnTo>
                  <a:pt x="18049" y="8224"/>
                </a:lnTo>
                <a:lnTo>
                  <a:pt x="20660" y="10800"/>
                </a:lnTo>
                <a:lnTo>
                  <a:pt x="19006" y="10800"/>
                </a:lnTo>
                <a:lnTo>
                  <a:pt x="19006" y="17989"/>
                </a:lnTo>
                <a:lnTo>
                  <a:pt x="8388" y="17989"/>
                </a:lnTo>
                <a:lnTo>
                  <a:pt x="8388" y="10800"/>
                </a:lnTo>
                <a:lnTo>
                  <a:pt x="6734" y="10800"/>
                </a:lnTo>
                <a:close/>
              </a:path>
              <a:path fill="darkenLess" w="27394" h="21600">
                <a:moveTo>
                  <a:pt x="16273" y="6448"/>
                </a:moveTo>
                <a:lnTo>
                  <a:pt x="16273" y="4707"/>
                </a:lnTo>
                <a:lnTo>
                  <a:pt x="18049" y="4707"/>
                </a:lnTo>
                <a:lnTo>
                  <a:pt x="18049" y="8224"/>
                </a:lnTo>
                <a:close/>
              </a:path>
              <a:path fill="darkenLess" w="27394" h="21600">
                <a:moveTo>
                  <a:pt x="12775" y="14299"/>
                </a:moveTo>
                <a:lnTo>
                  <a:pt x="14620" y="14299"/>
                </a:lnTo>
                <a:lnTo>
                  <a:pt x="14620" y="17989"/>
                </a:lnTo>
                <a:lnTo>
                  <a:pt x="19006" y="17989"/>
                </a:lnTo>
                <a:lnTo>
                  <a:pt x="19006" y="10800"/>
                </a:lnTo>
                <a:lnTo>
                  <a:pt x="8388" y="10800"/>
                </a:lnTo>
                <a:lnTo>
                  <a:pt x="8388" y="17989"/>
                </a:lnTo>
                <a:lnTo>
                  <a:pt x="1277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«Утро в сосновом лес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5876640"/>
            <a:ext cx="756144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ысел картины Шишкину подсказал его друг К. Савицкий, Он ж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рисовал медведей и расписался на картине вместе с Шишкиным, 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пивший картину Третьяков снял эту подп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img176"/>
          <p:cNvPicPr/>
          <p:nvPr/>
        </p:nvPicPr>
        <p:blipFill>
          <a:blip r:embed="rId1"/>
          <a:stretch/>
        </p:blipFill>
        <p:spPr>
          <a:xfrm>
            <a:off x="1187280" y="692280"/>
            <a:ext cx="6769440" cy="521172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5">
            <a:hlinkClick r:id="rId2" action="ppaction://hlinksldjump"/>
          </p:cNvPr>
          <p:cNvSpPr/>
          <p:nvPr/>
        </p:nvSpPr>
        <p:spPr>
          <a:xfrm>
            <a:off x="7956720" y="6021360"/>
            <a:ext cx="900000" cy="709560"/>
          </a:xfrm>
          <a:custGeom>
            <a:avLst/>
            <a:gdLst>
              <a:gd name="textAreaLeft" fmla="*/ 45720 w 900000"/>
              <a:gd name="textAreaRight" fmla="*/ 854280 w 90000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7394" h="21600">
                <a:moveTo>
                  <a:pt x="0" y="0"/>
                </a:moveTo>
                <a:lnTo>
                  <a:pt x="27394" y="0"/>
                </a:lnTo>
                <a:lnTo>
                  <a:pt x="27394" y="21600"/>
                </a:lnTo>
                <a:lnTo>
                  <a:pt x="0" y="21600"/>
                </a:lnTo>
                <a:close/>
              </a:path>
              <a:path fill="lightenLess" w="27394" h="21600">
                <a:moveTo>
                  <a:pt x="0" y="0"/>
                </a:moveTo>
                <a:lnTo>
                  <a:pt x="27394" y="0"/>
                </a:lnTo>
                <a:lnTo>
                  <a:pt x="25994" y="1400"/>
                </a:lnTo>
                <a:lnTo>
                  <a:pt x="1400" y="1400"/>
                </a:lnTo>
                <a:close/>
              </a:path>
              <a:path fill="darken" w="27394" h="21600">
                <a:moveTo>
                  <a:pt x="27394" y="0"/>
                </a:moveTo>
                <a:lnTo>
                  <a:pt x="27394" y="21600"/>
                </a:lnTo>
                <a:lnTo>
                  <a:pt x="25994" y="20200"/>
                </a:lnTo>
                <a:lnTo>
                  <a:pt x="25994" y="1400"/>
                </a:lnTo>
                <a:close/>
              </a:path>
              <a:path fill="darkenLess" w="27394" h="21600">
                <a:moveTo>
                  <a:pt x="27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4" y="20200"/>
                </a:lnTo>
                <a:close/>
              </a:path>
              <a:path fill="lighten" w="27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94" h="21600">
                <a:moveTo>
                  <a:pt x="13697" y="3837"/>
                </a:moveTo>
                <a:lnTo>
                  <a:pt x="16273" y="6448"/>
                </a:lnTo>
                <a:lnTo>
                  <a:pt x="16273" y="4707"/>
                </a:lnTo>
                <a:lnTo>
                  <a:pt x="18049" y="4707"/>
                </a:lnTo>
                <a:lnTo>
                  <a:pt x="18049" y="8224"/>
                </a:lnTo>
                <a:lnTo>
                  <a:pt x="20660" y="10800"/>
                </a:lnTo>
                <a:lnTo>
                  <a:pt x="19006" y="10800"/>
                </a:lnTo>
                <a:lnTo>
                  <a:pt x="19006" y="17989"/>
                </a:lnTo>
                <a:lnTo>
                  <a:pt x="8388" y="17989"/>
                </a:lnTo>
                <a:lnTo>
                  <a:pt x="8388" y="10800"/>
                </a:lnTo>
                <a:lnTo>
                  <a:pt x="6734" y="10800"/>
                </a:lnTo>
                <a:close/>
              </a:path>
              <a:path fill="darkenLess" w="27394" h="21600">
                <a:moveTo>
                  <a:pt x="16273" y="6448"/>
                </a:moveTo>
                <a:lnTo>
                  <a:pt x="16273" y="4707"/>
                </a:lnTo>
                <a:lnTo>
                  <a:pt x="18049" y="4707"/>
                </a:lnTo>
                <a:lnTo>
                  <a:pt x="18049" y="8224"/>
                </a:lnTo>
                <a:close/>
              </a:path>
              <a:path fill="darkenLess" w="27394" h="21600">
                <a:moveTo>
                  <a:pt x="12775" y="14299"/>
                </a:moveTo>
                <a:lnTo>
                  <a:pt x="14620" y="14299"/>
                </a:lnTo>
                <a:lnTo>
                  <a:pt x="14620" y="17989"/>
                </a:lnTo>
                <a:lnTo>
                  <a:pt x="19006" y="17989"/>
                </a:lnTo>
                <a:lnTo>
                  <a:pt x="19006" y="10800"/>
                </a:lnTo>
                <a:lnTo>
                  <a:pt x="8388" y="10800"/>
                </a:lnTo>
                <a:lnTo>
                  <a:pt x="8388" y="17989"/>
                </a:lnTo>
                <a:lnTo>
                  <a:pt x="1277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Виктор Михайлович Васнецов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(1848 – 1926 г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5805000"/>
            <a:ext cx="1738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03280" y="1413000"/>
            <a:ext cx="59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снецова влекла русская старина, притягив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лшебный мир народной сказ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М. Васнецов с упоением предавался изуч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ной истории, собиранию сказок, легенд, пред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Я только Русью и жил»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признавал о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вопись В.М. Васнецова близка русскому челове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, что в его картинах живёт неизбывная вера в чуд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лед за народными сказками он напоминает: утр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чера мудренее, а невозможное возможно. Над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ько не падать духом, не унывать и не тер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дежды: всегда найдутся добрые люди, котор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огут одолеть нап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дивительно, но глядя на его сказочные полотна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Иван – Царевич на сером волке», «Ковёр – самолёт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Алёнушка»,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«Богатыри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др., - мы признаём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азочный мир и его герои как раз такие, какими мы 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ами вообража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img173"/>
          <p:cNvPicPr/>
          <p:nvPr/>
        </p:nvPicPr>
        <p:blipFill>
          <a:blip r:embed="rId3"/>
          <a:stretch/>
        </p:blipFill>
        <p:spPr>
          <a:xfrm>
            <a:off x="179280" y="1341360"/>
            <a:ext cx="2857680" cy="468144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7">
            <a:hlinkClick r:id="rId4" action="ppaction://hlinksldjump"/>
          </p:cNvPr>
          <p:cNvSpPr/>
          <p:nvPr/>
        </p:nvSpPr>
        <p:spPr>
          <a:xfrm>
            <a:off x="8317080" y="6165720"/>
            <a:ext cx="684000" cy="522360"/>
          </a:xfrm>
          <a:custGeom>
            <a:avLst/>
            <a:gdLst>
              <a:gd name="textAreaLeft" fmla="*/ 33840 w 684000"/>
              <a:gd name="textAreaRight" fmla="*/ 650160 w 68400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8279" h="21600">
                <a:moveTo>
                  <a:pt x="0" y="0"/>
                </a:moveTo>
                <a:lnTo>
                  <a:pt x="28279" y="0"/>
                </a:lnTo>
                <a:lnTo>
                  <a:pt x="28279" y="21600"/>
                </a:lnTo>
                <a:lnTo>
                  <a:pt x="0" y="21600"/>
                </a:lnTo>
                <a:close/>
              </a:path>
              <a:path fill="lightenLess" w="28279" h="21600">
                <a:moveTo>
                  <a:pt x="0" y="0"/>
                </a:moveTo>
                <a:lnTo>
                  <a:pt x="28279" y="0"/>
                </a:lnTo>
                <a:lnTo>
                  <a:pt x="26879" y="1400"/>
                </a:lnTo>
                <a:lnTo>
                  <a:pt x="1400" y="1400"/>
                </a:lnTo>
                <a:close/>
              </a:path>
              <a:path fill="darken" w="28279" h="21600">
                <a:moveTo>
                  <a:pt x="28279" y="0"/>
                </a:moveTo>
                <a:lnTo>
                  <a:pt x="28279" y="21600"/>
                </a:lnTo>
                <a:lnTo>
                  <a:pt x="26879" y="20200"/>
                </a:lnTo>
                <a:lnTo>
                  <a:pt x="26879" y="1400"/>
                </a:lnTo>
                <a:close/>
              </a:path>
              <a:path fill="darkenLess" w="28279" h="21600">
                <a:moveTo>
                  <a:pt x="28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9" y="20200"/>
                </a:lnTo>
                <a:close/>
              </a:path>
              <a:path fill="lighten" w="28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9" h="21600">
                <a:moveTo>
                  <a:pt x="7133" y="10800"/>
                </a:moveTo>
                <a:lnTo>
                  <a:pt x="21146" y="3794"/>
                </a:lnTo>
                <a:lnTo>
                  <a:pt x="211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«Алёнуш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6125760"/>
            <a:ext cx="227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img184"/>
          <p:cNvPicPr/>
          <p:nvPr/>
        </p:nvPicPr>
        <p:blipFill>
          <a:blip r:embed="rId1"/>
          <a:stretch/>
        </p:blipFill>
        <p:spPr>
          <a:xfrm>
            <a:off x="2108160" y="907920"/>
            <a:ext cx="4648320" cy="576108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5">
            <a:hlinkClick r:id="rId2" action="ppaction://hlinksldjump"/>
          </p:cNvPr>
          <p:cNvSpPr/>
          <p:nvPr/>
        </p:nvSpPr>
        <p:spPr>
          <a:xfrm>
            <a:off x="7740720" y="5661000"/>
            <a:ext cx="898560" cy="792360"/>
          </a:xfrm>
          <a:custGeom>
            <a:avLst/>
            <a:gdLst>
              <a:gd name="textAreaLeft" fmla="*/ 51120 w 898560"/>
              <a:gd name="textAreaRight" fmla="*/ 847440 w 8985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4494" h="21600">
                <a:moveTo>
                  <a:pt x="0" y="0"/>
                </a:moveTo>
                <a:lnTo>
                  <a:pt x="24494" y="0"/>
                </a:lnTo>
                <a:lnTo>
                  <a:pt x="24494" y="21600"/>
                </a:lnTo>
                <a:lnTo>
                  <a:pt x="0" y="21600"/>
                </a:lnTo>
                <a:close/>
              </a:path>
              <a:path fill="lightenLess" w="24494" h="21600">
                <a:moveTo>
                  <a:pt x="0" y="0"/>
                </a:moveTo>
                <a:lnTo>
                  <a:pt x="24494" y="0"/>
                </a:lnTo>
                <a:lnTo>
                  <a:pt x="23094" y="1400"/>
                </a:lnTo>
                <a:lnTo>
                  <a:pt x="1400" y="1400"/>
                </a:lnTo>
                <a:close/>
              </a:path>
              <a:path fill="darken" w="24494" h="21600">
                <a:moveTo>
                  <a:pt x="24494" y="0"/>
                </a:moveTo>
                <a:lnTo>
                  <a:pt x="24494" y="21600"/>
                </a:lnTo>
                <a:lnTo>
                  <a:pt x="23094" y="20200"/>
                </a:lnTo>
                <a:lnTo>
                  <a:pt x="23094" y="1400"/>
                </a:lnTo>
                <a:close/>
              </a:path>
              <a:path fill="darkenLess" w="24494" h="21600">
                <a:moveTo>
                  <a:pt x="24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94" y="20200"/>
                </a:lnTo>
                <a:close/>
              </a:path>
              <a:path fill="lighten" w="24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94" h="21600">
                <a:moveTo>
                  <a:pt x="12247" y="3837"/>
                </a:moveTo>
                <a:lnTo>
                  <a:pt x="14823" y="6448"/>
                </a:lnTo>
                <a:lnTo>
                  <a:pt x="14823" y="4707"/>
                </a:lnTo>
                <a:lnTo>
                  <a:pt x="16599" y="4707"/>
                </a:lnTo>
                <a:lnTo>
                  <a:pt x="16599" y="8224"/>
                </a:lnTo>
                <a:lnTo>
                  <a:pt x="19210" y="10800"/>
                </a:lnTo>
                <a:lnTo>
                  <a:pt x="17556" y="10800"/>
                </a:lnTo>
                <a:lnTo>
                  <a:pt x="17556" y="17989"/>
                </a:lnTo>
                <a:lnTo>
                  <a:pt x="6938" y="17989"/>
                </a:lnTo>
                <a:lnTo>
                  <a:pt x="6938" y="10800"/>
                </a:lnTo>
                <a:lnTo>
                  <a:pt x="5284" y="10800"/>
                </a:lnTo>
                <a:close/>
              </a:path>
              <a:path fill="darkenLess" w="24494" h="21600">
                <a:moveTo>
                  <a:pt x="14823" y="6448"/>
                </a:moveTo>
                <a:lnTo>
                  <a:pt x="14823" y="4707"/>
                </a:lnTo>
                <a:lnTo>
                  <a:pt x="16599" y="4707"/>
                </a:lnTo>
                <a:lnTo>
                  <a:pt x="16599" y="8224"/>
                </a:lnTo>
                <a:close/>
              </a:path>
              <a:path fill="darkenLess" w="24494" h="21600">
                <a:moveTo>
                  <a:pt x="11324" y="14299"/>
                </a:moveTo>
                <a:lnTo>
                  <a:pt x="13169" y="14299"/>
                </a:lnTo>
                <a:lnTo>
                  <a:pt x="13169" y="17989"/>
                </a:lnTo>
                <a:lnTo>
                  <a:pt x="17556" y="17989"/>
                </a:lnTo>
                <a:lnTo>
                  <a:pt x="17556" y="10800"/>
                </a:lnTo>
                <a:lnTo>
                  <a:pt x="6938" y="10800"/>
                </a:lnTo>
                <a:lnTo>
                  <a:pt x="6938" y="17989"/>
                </a:lnTo>
                <a:lnTo>
                  <a:pt x="1132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«Богатыр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9" descr="img188"/>
          <p:cNvPicPr/>
          <p:nvPr/>
        </p:nvPicPr>
        <p:blipFill>
          <a:blip r:embed="rId1"/>
          <a:stretch/>
        </p:blipFill>
        <p:spPr>
          <a:xfrm>
            <a:off x="324000" y="907920"/>
            <a:ext cx="7848360" cy="54532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7">
            <a:hlinkClick r:id="rId2" action="ppaction://hlinksldjump"/>
          </p:cNvPr>
          <p:cNvSpPr/>
          <p:nvPr/>
        </p:nvSpPr>
        <p:spPr>
          <a:xfrm>
            <a:off x="8245440" y="5877000"/>
            <a:ext cx="898560" cy="792000"/>
          </a:xfrm>
          <a:custGeom>
            <a:avLst/>
            <a:gdLst>
              <a:gd name="textAreaLeft" fmla="*/ 51120 w 898560"/>
              <a:gd name="textAreaRight" fmla="*/ 847440 w 8985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4505" h="21600">
                <a:moveTo>
                  <a:pt x="0" y="0"/>
                </a:moveTo>
                <a:lnTo>
                  <a:pt x="24505" y="0"/>
                </a:lnTo>
                <a:lnTo>
                  <a:pt x="24505" y="21600"/>
                </a:lnTo>
                <a:lnTo>
                  <a:pt x="0" y="21600"/>
                </a:lnTo>
                <a:close/>
              </a:path>
              <a:path fill="lightenLess" w="24505" h="21600">
                <a:moveTo>
                  <a:pt x="0" y="0"/>
                </a:moveTo>
                <a:lnTo>
                  <a:pt x="24505" y="0"/>
                </a:lnTo>
                <a:lnTo>
                  <a:pt x="23105" y="1400"/>
                </a:lnTo>
                <a:lnTo>
                  <a:pt x="1400" y="1400"/>
                </a:lnTo>
                <a:close/>
              </a:path>
              <a:path fill="darken" w="24505" h="21600">
                <a:moveTo>
                  <a:pt x="24505" y="0"/>
                </a:moveTo>
                <a:lnTo>
                  <a:pt x="24505" y="21600"/>
                </a:lnTo>
                <a:lnTo>
                  <a:pt x="23105" y="20200"/>
                </a:lnTo>
                <a:lnTo>
                  <a:pt x="23105" y="1400"/>
                </a:lnTo>
                <a:close/>
              </a:path>
              <a:path fill="darkenLess" w="24505" h="21600">
                <a:moveTo>
                  <a:pt x="24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05" y="20200"/>
                </a:lnTo>
                <a:close/>
              </a:path>
              <a:path fill="lighten" w="24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05" h="21600">
                <a:moveTo>
                  <a:pt x="12252" y="3837"/>
                </a:moveTo>
                <a:lnTo>
                  <a:pt x="14829" y="6448"/>
                </a:lnTo>
                <a:lnTo>
                  <a:pt x="14829" y="4707"/>
                </a:lnTo>
                <a:lnTo>
                  <a:pt x="16604" y="4707"/>
                </a:lnTo>
                <a:lnTo>
                  <a:pt x="16604" y="8224"/>
                </a:lnTo>
                <a:lnTo>
                  <a:pt x="19215" y="10800"/>
                </a:lnTo>
                <a:lnTo>
                  <a:pt x="17562" y="10800"/>
                </a:lnTo>
                <a:lnTo>
                  <a:pt x="17562" y="17989"/>
                </a:lnTo>
                <a:lnTo>
                  <a:pt x="6943" y="17989"/>
                </a:lnTo>
                <a:lnTo>
                  <a:pt x="6943" y="10800"/>
                </a:lnTo>
                <a:lnTo>
                  <a:pt x="5289" y="10800"/>
                </a:lnTo>
                <a:close/>
              </a:path>
              <a:path fill="darkenLess" w="24505" h="21600">
                <a:moveTo>
                  <a:pt x="14829" y="6448"/>
                </a:moveTo>
                <a:lnTo>
                  <a:pt x="14829" y="4707"/>
                </a:lnTo>
                <a:lnTo>
                  <a:pt x="16604" y="4707"/>
                </a:lnTo>
                <a:lnTo>
                  <a:pt x="16604" y="8224"/>
                </a:lnTo>
                <a:close/>
              </a:path>
              <a:path fill="darkenLess" w="24505" h="21600">
                <a:moveTo>
                  <a:pt x="11330" y="14299"/>
                </a:moveTo>
                <a:lnTo>
                  <a:pt x="13175" y="14299"/>
                </a:lnTo>
                <a:lnTo>
                  <a:pt x="13175" y="17989"/>
                </a:lnTo>
                <a:lnTo>
                  <a:pt x="17562" y="17989"/>
                </a:lnTo>
                <a:lnTo>
                  <a:pt x="17562" y="10800"/>
                </a:lnTo>
                <a:lnTo>
                  <a:pt x="6943" y="10800"/>
                </a:lnTo>
                <a:lnTo>
                  <a:pt x="6943" y="17989"/>
                </a:lnTo>
                <a:lnTo>
                  <a:pt x="1133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Иван Николаевич Крамской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(8 июня 1837 – 5 апреля 1887 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5877000"/>
            <a:ext cx="1235160" cy="2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635280" y="1413000"/>
            <a:ext cx="5329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.Н. Крамской – вождь и идейный вдохнов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варищества передвижных художников. 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делялся в среде художников не толь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им талантом, но и сильным характер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елостью и независимостью суждений. 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чтой было писать такие картины, котор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ставили бы зрителей содрогнуться от сты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безучастие к тем, кто голодает, бедству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пит нужду. Художник, по Крамскому, долж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только жизни, но и в живописи учи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кренне любить и ненавиде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мской был художником мыслителем. 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красно владел не только кистью, но и пер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П. Чехов сказал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Я жалею, что он не бы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исател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рокую известность И.Н. Крамскому принес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ртины: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Христос в пустыне»(1872г.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«Неизвестная» (1878г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 Крамском говорили, что он мастер портр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>
            <a:hlinkClick r:id="rId3" action="ppaction://hlinksldjump"/>
          </p:cNvPr>
          <p:cNvSpPr/>
          <p:nvPr/>
        </p:nvSpPr>
        <p:spPr>
          <a:xfrm>
            <a:off x="8317080" y="6165720"/>
            <a:ext cx="684000" cy="522360"/>
          </a:xfrm>
          <a:custGeom>
            <a:avLst/>
            <a:gdLst>
              <a:gd name="textAreaLeft" fmla="*/ 33840 w 684000"/>
              <a:gd name="textAreaRight" fmla="*/ 650160 w 68400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8279" h="21600">
                <a:moveTo>
                  <a:pt x="0" y="0"/>
                </a:moveTo>
                <a:lnTo>
                  <a:pt x="28279" y="0"/>
                </a:lnTo>
                <a:lnTo>
                  <a:pt x="28279" y="21600"/>
                </a:lnTo>
                <a:lnTo>
                  <a:pt x="0" y="21600"/>
                </a:lnTo>
                <a:close/>
              </a:path>
              <a:path fill="lightenLess" w="28279" h="21600">
                <a:moveTo>
                  <a:pt x="0" y="0"/>
                </a:moveTo>
                <a:lnTo>
                  <a:pt x="28279" y="0"/>
                </a:lnTo>
                <a:lnTo>
                  <a:pt x="26879" y="1400"/>
                </a:lnTo>
                <a:lnTo>
                  <a:pt x="1400" y="1400"/>
                </a:lnTo>
                <a:close/>
              </a:path>
              <a:path fill="darken" w="28279" h="21600">
                <a:moveTo>
                  <a:pt x="28279" y="0"/>
                </a:moveTo>
                <a:lnTo>
                  <a:pt x="28279" y="21600"/>
                </a:lnTo>
                <a:lnTo>
                  <a:pt x="26879" y="20200"/>
                </a:lnTo>
                <a:lnTo>
                  <a:pt x="26879" y="1400"/>
                </a:lnTo>
                <a:close/>
              </a:path>
              <a:path fill="darkenLess" w="28279" h="21600">
                <a:moveTo>
                  <a:pt x="28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9" y="20200"/>
                </a:lnTo>
                <a:close/>
              </a:path>
              <a:path fill="lighten" w="28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9" h="21600">
                <a:moveTo>
                  <a:pt x="7133" y="10800"/>
                </a:moveTo>
                <a:lnTo>
                  <a:pt x="21146" y="3794"/>
                </a:lnTo>
                <a:lnTo>
                  <a:pt x="211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img174"/>
          <p:cNvPicPr/>
          <p:nvPr/>
        </p:nvPicPr>
        <p:blipFill>
          <a:blip r:embed="rId4"/>
          <a:stretch/>
        </p:blipFill>
        <p:spPr>
          <a:xfrm>
            <a:off x="179280" y="1413000"/>
            <a:ext cx="335304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«Христос в пусты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5733720"/>
            <a:ext cx="79218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мской писал: «Это не Христос, это есть выражение моих лич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слей». Иисус Крамского скорее похож на русского интеллигент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ображённого в момент мучительных раздумий о своём предназнач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>
            <a:hlinkClick r:id="rId1" action="ppaction://hlinksldjump"/>
          </p:cNvPr>
          <p:cNvSpPr/>
          <p:nvPr/>
        </p:nvSpPr>
        <p:spPr>
          <a:xfrm>
            <a:off x="8101080" y="5877000"/>
            <a:ext cx="898560" cy="792000"/>
          </a:xfrm>
          <a:custGeom>
            <a:avLst/>
            <a:gdLst>
              <a:gd name="textAreaLeft" fmla="*/ 51120 w 898560"/>
              <a:gd name="textAreaRight" fmla="*/ 847440 w 8985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4505" h="21600">
                <a:moveTo>
                  <a:pt x="0" y="0"/>
                </a:moveTo>
                <a:lnTo>
                  <a:pt x="24505" y="0"/>
                </a:lnTo>
                <a:lnTo>
                  <a:pt x="24505" y="21600"/>
                </a:lnTo>
                <a:lnTo>
                  <a:pt x="0" y="21600"/>
                </a:lnTo>
                <a:close/>
              </a:path>
              <a:path fill="lightenLess" w="24505" h="21600">
                <a:moveTo>
                  <a:pt x="0" y="0"/>
                </a:moveTo>
                <a:lnTo>
                  <a:pt x="24505" y="0"/>
                </a:lnTo>
                <a:lnTo>
                  <a:pt x="23105" y="1400"/>
                </a:lnTo>
                <a:lnTo>
                  <a:pt x="1400" y="1400"/>
                </a:lnTo>
                <a:close/>
              </a:path>
              <a:path fill="darken" w="24505" h="21600">
                <a:moveTo>
                  <a:pt x="24505" y="0"/>
                </a:moveTo>
                <a:lnTo>
                  <a:pt x="24505" y="21600"/>
                </a:lnTo>
                <a:lnTo>
                  <a:pt x="23105" y="20200"/>
                </a:lnTo>
                <a:lnTo>
                  <a:pt x="23105" y="1400"/>
                </a:lnTo>
                <a:close/>
              </a:path>
              <a:path fill="darkenLess" w="24505" h="21600">
                <a:moveTo>
                  <a:pt x="24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05" y="20200"/>
                </a:lnTo>
                <a:close/>
              </a:path>
              <a:path fill="lighten" w="24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05" h="21600">
                <a:moveTo>
                  <a:pt x="12252" y="3837"/>
                </a:moveTo>
                <a:lnTo>
                  <a:pt x="14829" y="6448"/>
                </a:lnTo>
                <a:lnTo>
                  <a:pt x="14829" y="4707"/>
                </a:lnTo>
                <a:lnTo>
                  <a:pt x="16604" y="4707"/>
                </a:lnTo>
                <a:lnTo>
                  <a:pt x="16604" y="8224"/>
                </a:lnTo>
                <a:lnTo>
                  <a:pt x="19215" y="10800"/>
                </a:lnTo>
                <a:lnTo>
                  <a:pt x="17562" y="10800"/>
                </a:lnTo>
                <a:lnTo>
                  <a:pt x="17562" y="17989"/>
                </a:lnTo>
                <a:lnTo>
                  <a:pt x="6943" y="17989"/>
                </a:lnTo>
                <a:lnTo>
                  <a:pt x="6943" y="10800"/>
                </a:lnTo>
                <a:lnTo>
                  <a:pt x="5289" y="10800"/>
                </a:lnTo>
                <a:close/>
              </a:path>
              <a:path fill="darkenLess" w="24505" h="21600">
                <a:moveTo>
                  <a:pt x="14829" y="6448"/>
                </a:moveTo>
                <a:lnTo>
                  <a:pt x="14829" y="4707"/>
                </a:lnTo>
                <a:lnTo>
                  <a:pt x="16604" y="4707"/>
                </a:lnTo>
                <a:lnTo>
                  <a:pt x="16604" y="8224"/>
                </a:lnTo>
                <a:close/>
              </a:path>
              <a:path fill="darkenLess" w="24505" h="21600">
                <a:moveTo>
                  <a:pt x="11330" y="14299"/>
                </a:moveTo>
                <a:lnTo>
                  <a:pt x="13175" y="14299"/>
                </a:lnTo>
                <a:lnTo>
                  <a:pt x="13175" y="17989"/>
                </a:lnTo>
                <a:lnTo>
                  <a:pt x="17562" y="17989"/>
                </a:lnTo>
                <a:lnTo>
                  <a:pt x="17562" y="10800"/>
                </a:lnTo>
                <a:lnTo>
                  <a:pt x="6943" y="10800"/>
                </a:lnTo>
                <a:lnTo>
                  <a:pt x="6943" y="17989"/>
                </a:lnTo>
                <a:lnTo>
                  <a:pt x="1133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img189"/>
          <p:cNvPicPr/>
          <p:nvPr/>
        </p:nvPicPr>
        <p:blipFill>
          <a:blip r:embed="rId2"/>
          <a:stretch/>
        </p:blipFill>
        <p:spPr>
          <a:xfrm>
            <a:off x="1042920" y="620640"/>
            <a:ext cx="64087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«Неизвестна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5733720"/>
            <a:ext cx="77058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чную загадку женщины художник пытается разгадать в карти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Неизвестная». Молодая дама на полотне Крамского так и остаётся 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х таинственной незнаком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>
            <a:hlinkClick r:id="rId1" action="ppaction://hlinksldjump"/>
          </p:cNvPr>
          <p:cNvSpPr/>
          <p:nvPr/>
        </p:nvSpPr>
        <p:spPr>
          <a:xfrm>
            <a:off x="8028000" y="5877000"/>
            <a:ext cx="898560" cy="792000"/>
          </a:xfrm>
          <a:custGeom>
            <a:avLst/>
            <a:gdLst>
              <a:gd name="textAreaLeft" fmla="*/ 51120 w 898560"/>
              <a:gd name="textAreaRight" fmla="*/ 847440 w 8985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4505" h="21600">
                <a:moveTo>
                  <a:pt x="0" y="0"/>
                </a:moveTo>
                <a:lnTo>
                  <a:pt x="24505" y="0"/>
                </a:lnTo>
                <a:lnTo>
                  <a:pt x="24505" y="21600"/>
                </a:lnTo>
                <a:lnTo>
                  <a:pt x="0" y="21600"/>
                </a:lnTo>
                <a:close/>
              </a:path>
              <a:path fill="lightenLess" w="24505" h="21600">
                <a:moveTo>
                  <a:pt x="0" y="0"/>
                </a:moveTo>
                <a:lnTo>
                  <a:pt x="24505" y="0"/>
                </a:lnTo>
                <a:lnTo>
                  <a:pt x="23105" y="1400"/>
                </a:lnTo>
                <a:lnTo>
                  <a:pt x="1400" y="1400"/>
                </a:lnTo>
                <a:close/>
              </a:path>
              <a:path fill="darken" w="24505" h="21600">
                <a:moveTo>
                  <a:pt x="24505" y="0"/>
                </a:moveTo>
                <a:lnTo>
                  <a:pt x="24505" y="21600"/>
                </a:lnTo>
                <a:lnTo>
                  <a:pt x="23105" y="20200"/>
                </a:lnTo>
                <a:lnTo>
                  <a:pt x="23105" y="1400"/>
                </a:lnTo>
                <a:close/>
              </a:path>
              <a:path fill="darkenLess" w="24505" h="21600">
                <a:moveTo>
                  <a:pt x="24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05" y="20200"/>
                </a:lnTo>
                <a:close/>
              </a:path>
              <a:path fill="lighten" w="24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05" h="21600">
                <a:moveTo>
                  <a:pt x="12252" y="3837"/>
                </a:moveTo>
                <a:lnTo>
                  <a:pt x="14829" y="6448"/>
                </a:lnTo>
                <a:lnTo>
                  <a:pt x="14829" y="4707"/>
                </a:lnTo>
                <a:lnTo>
                  <a:pt x="16604" y="4707"/>
                </a:lnTo>
                <a:lnTo>
                  <a:pt x="16604" y="8224"/>
                </a:lnTo>
                <a:lnTo>
                  <a:pt x="19215" y="10800"/>
                </a:lnTo>
                <a:lnTo>
                  <a:pt x="17562" y="10800"/>
                </a:lnTo>
                <a:lnTo>
                  <a:pt x="17562" y="17989"/>
                </a:lnTo>
                <a:lnTo>
                  <a:pt x="6943" y="17989"/>
                </a:lnTo>
                <a:lnTo>
                  <a:pt x="6943" y="10800"/>
                </a:lnTo>
                <a:lnTo>
                  <a:pt x="5289" y="10800"/>
                </a:lnTo>
                <a:close/>
              </a:path>
              <a:path fill="darkenLess" w="24505" h="21600">
                <a:moveTo>
                  <a:pt x="14829" y="6448"/>
                </a:moveTo>
                <a:lnTo>
                  <a:pt x="14829" y="4707"/>
                </a:lnTo>
                <a:lnTo>
                  <a:pt x="16604" y="4707"/>
                </a:lnTo>
                <a:lnTo>
                  <a:pt x="16604" y="8224"/>
                </a:lnTo>
                <a:close/>
              </a:path>
              <a:path fill="darkenLess" w="24505" h="21600">
                <a:moveTo>
                  <a:pt x="11330" y="14299"/>
                </a:moveTo>
                <a:lnTo>
                  <a:pt x="13175" y="14299"/>
                </a:lnTo>
                <a:lnTo>
                  <a:pt x="13175" y="17989"/>
                </a:lnTo>
                <a:lnTo>
                  <a:pt x="17562" y="17989"/>
                </a:lnTo>
                <a:lnTo>
                  <a:pt x="17562" y="10800"/>
                </a:lnTo>
                <a:lnTo>
                  <a:pt x="6943" y="10800"/>
                </a:lnTo>
                <a:lnTo>
                  <a:pt x="6943" y="17989"/>
                </a:lnTo>
                <a:lnTo>
                  <a:pt x="1133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img177"/>
          <p:cNvPicPr/>
          <p:nvPr/>
        </p:nvPicPr>
        <p:blipFill>
          <a:blip r:embed="rId2"/>
          <a:stretch/>
        </p:blipFill>
        <p:spPr>
          <a:xfrm>
            <a:off x="179280" y="836640"/>
            <a:ext cx="828036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0033"/>
                </a:solidFill>
                <a:uFillTx/>
                <a:latin typeface="Arial"/>
              </a:rPr>
              <a:t>Опорные по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Куль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Художественная куль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>
            <a:hlinkClick r:id="rId1" action="ppaction://hlinksldjump"/>
          </p:cNvPr>
          <p:cNvSpPr/>
          <p:nvPr/>
        </p:nvSpPr>
        <p:spPr>
          <a:xfrm>
            <a:off x="539640" y="2708280"/>
            <a:ext cx="719280" cy="6494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22" h="21600">
                <a:moveTo>
                  <a:pt x="0" y="0"/>
                </a:moveTo>
                <a:lnTo>
                  <a:pt x="23922" y="0"/>
                </a:lnTo>
                <a:lnTo>
                  <a:pt x="23922" y="21600"/>
                </a:lnTo>
                <a:lnTo>
                  <a:pt x="0" y="21600"/>
                </a:lnTo>
                <a:close/>
              </a:path>
              <a:path fill="lightenLess" w="23922" h="21600">
                <a:moveTo>
                  <a:pt x="0" y="0"/>
                </a:moveTo>
                <a:lnTo>
                  <a:pt x="23922" y="0"/>
                </a:lnTo>
                <a:lnTo>
                  <a:pt x="22522" y="1400"/>
                </a:lnTo>
                <a:lnTo>
                  <a:pt x="1400" y="1400"/>
                </a:lnTo>
                <a:close/>
              </a:path>
              <a:path fill="darken" w="23922" h="21600">
                <a:moveTo>
                  <a:pt x="23922" y="0"/>
                </a:moveTo>
                <a:lnTo>
                  <a:pt x="23922" y="21600"/>
                </a:lnTo>
                <a:lnTo>
                  <a:pt x="22522" y="20200"/>
                </a:lnTo>
                <a:lnTo>
                  <a:pt x="22522" y="1400"/>
                </a:lnTo>
                <a:close/>
              </a:path>
              <a:path fill="darkenLess" w="23922" h="21600">
                <a:moveTo>
                  <a:pt x="2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2" y="20200"/>
                </a:lnTo>
                <a:close/>
              </a:path>
              <a:path fill="lighten" w="2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22" h="21600">
                <a:moveTo>
                  <a:pt x="4954" y="3794"/>
                </a:moveTo>
                <a:lnTo>
                  <a:pt x="18967" y="10800"/>
                </a:lnTo>
                <a:lnTo>
                  <a:pt x="49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>
            <a:hlinkClick r:id="rId2" action="ppaction://hlinksldjump"/>
          </p:cNvPr>
          <p:cNvSpPr/>
          <p:nvPr/>
        </p:nvSpPr>
        <p:spPr>
          <a:xfrm>
            <a:off x="539640" y="3933720"/>
            <a:ext cx="720720" cy="57492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7074" h="21600">
                <a:moveTo>
                  <a:pt x="0" y="0"/>
                </a:moveTo>
                <a:lnTo>
                  <a:pt x="27074" y="0"/>
                </a:lnTo>
                <a:lnTo>
                  <a:pt x="27074" y="21600"/>
                </a:lnTo>
                <a:lnTo>
                  <a:pt x="0" y="21600"/>
                </a:lnTo>
                <a:close/>
              </a:path>
              <a:path fill="lightenLess" w="27074" h="21600">
                <a:moveTo>
                  <a:pt x="0" y="0"/>
                </a:moveTo>
                <a:lnTo>
                  <a:pt x="27074" y="0"/>
                </a:lnTo>
                <a:lnTo>
                  <a:pt x="25674" y="1400"/>
                </a:lnTo>
                <a:lnTo>
                  <a:pt x="1400" y="1400"/>
                </a:lnTo>
                <a:close/>
              </a:path>
              <a:path fill="darken" w="27074" h="21600">
                <a:moveTo>
                  <a:pt x="27074" y="0"/>
                </a:moveTo>
                <a:lnTo>
                  <a:pt x="27074" y="21600"/>
                </a:lnTo>
                <a:lnTo>
                  <a:pt x="25674" y="20200"/>
                </a:lnTo>
                <a:lnTo>
                  <a:pt x="25674" y="1400"/>
                </a:lnTo>
                <a:close/>
              </a:path>
              <a:path fill="darkenLess" w="27074" h="21600">
                <a:moveTo>
                  <a:pt x="27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74" y="20200"/>
                </a:lnTo>
                <a:close/>
              </a:path>
              <a:path fill="lighten" w="27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74" h="21600">
                <a:moveTo>
                  <a:pt x="6531" y="3794"/>
                </a:moveTo>
                <a:lnTo>
                  <a:pt x="20544" y="10800"/>
                </a:lnTo>
                <a:lnTo>
                  <a:pt x="65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>
            <a:hlinkClick r:id="rId3" action="ppaction://hlinksldjump"/>
          </p:cNvPr>
          <p:cNvSpPr/>
          <p:nvPr/>
        </p:nvSpPr>
        <p:spPr>
          <a:xfrm>
            <a:off x="8244000" y="5734080"/>
            <a:ext cx="753840" cy="863640"/>
          </a:xfrm>
          <a:custGeom>
            <a:avLst/>
            <a:gdLst>
              <a:gd name="textAreaLeft" fmla="*/ 48600 w 753840"/>
              <a:gd name="textAreaRight" fmla="*/ 705240 w 753840"/>
              <a:gd name="textAreaTop" fmla="*/ 48600 h 863640"/>
              <a:gd name="textAreaBottom" fmla="*/ 815040 h 863640"/>
            </a:gdLst>
            <a:ahLst/>
            <a:rect l="textAreaLeft" t="textAreaTop" r="textAreaRight" b="textAreaBottom"/>
            <a:pathLst>
              <a:path w="21600" h="24745">
                <a:moveTo>
                  <a:pt x="0" y="0"/>
                </a:moveTo>
                <a:lnTo>
                  <a:pt x="21600" y="0"/>
                </a:lnTo>
                <a:lnTo>
                  <a:pt x="21600" y="24745"/>
                </a:lnTo>
                <a:lnTo>
                  <a:pt x="0" y="24745"/>
                </a:lnTo>
                <a:close/>
              </a:path>
              <a:path fill="lightenLess" w="21600" h="247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45">
                <a:moveTo>
                  <a:pt x="21600" y="0"/>
                </a:moveTo>
                <a:lnTo>
                  <a:pt x="21600" y="24745"/>
                </a:lnTo>
                <a:lnTo>
                  <a:pt x="20200" y="23345"/>
                </a:lnTo>
                <a:lnTo>
                  <a:pt x="20200" y="1400"/>
                </a:lnTo>
                <a:close/>
              </a:path>
              <a:path fill="darkenLess" w="21600" h="24745">
                <a:moveTo>
                  <a:pt x="21600" y="24745"/>
                </a:moveTo>
                <a:lnTo>
                  <a:pt x="0" y="24745"/>
                </a:lnTo>
                <a:lnTo>
                  <a:pt x="1400" y="23345"/>
                </a:lnTo>
                <a:lnTo>
                  <a:pt x="20200" y="23345"/>
                </a:lnTo>
                <a:close/>
              </a:path>
              <a:path fill="lighten" w="21600" h="24745">
                <a:moveTo>
                  <a:pt x="0" y="247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45"/>
                </a:lnTo>
                <a:close/>
              </a:path>
              <a:path fill="darken" w="21600" h="24745">
                <a:moveTo>
                  <a:pt x="3794" y="5366"/>
                </a:moveTo>
                <a:lnTo>
                  <a:pt x="17806" y="12372"/>
                </a:lnTo>
                <a:lnTo>
                  <a:pt x="3794" y="1937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>
            <a:hlinkClick r:id="rId4" action="ppaction://hlinksldjump"/>
          </p:cNvPr>
          <p:cNvSpPr/>
          <p:nvPr/>
        </p:nvSpPr>
        <p:spPr>
          <a:xfrm>
            <a:off x="7380360" y="5734080"/>
            <a:ext cx="755640" cy="863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63640"/>
              <a:gd name="textAreaBottom" fmla="*/ 814680 h 863640"/>
            </a:gdLst>
            <a:ahLst/>
            <a:rect l="textAreaLeft" t="textAreaTop" r="textAreaRight" b="textAreaBottom"/>
            <a:pathLst>
              <a:path w="21600" h="24686">
                <a:moveTo>
                  <a:pt x="0" y="0"/>
                </a:moveTo>
                <a:lnTo>
                  <a:pt x="21600" y="0"/>
                </a:lnTo>
                <a:lnTo>
                  <a:pt x="21600" y="24686"/>
                </a:lnTo>
                <a:lnTo>
                  <a:pt x="0" y="24686"/>
                </a:lnTo>
                <a:close/>
              </a:path>
              <a:path fill="lightenLess" w="21600" h="24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6">
                <a:moveTo>
                  <a:pt x="21600" y="0"/>
                </a:moveTo>
                <a:lnTo>
                  <a:pt x="21600" y="24686"/>
                </a:lnTo>
                <a:lnTo>
                  <a:pt x="20200" y="23286"/>
                </a:lnTo>
                <a:lnTo>
                  <a:pt x="20200" y="1400"/>
                </a:lnTo>
                <a:close/>
              </a:path>
              <a:path fill="darkenLess" w="21600" h="24686">
                <a:moveTo>
                  <a:pt x="21600" y="24686"/>
                </a:moveTo>
                <a:lnTo>
                  <a:pt x="0" y="24686"/>
                </a:lnTo>
                <a:lnTo>
                  <a:pt x="1400" y="23286"/>
                </a:lnTo>
                <a:lnTo>
                  <a:pt x="20200" y="23286"/>
                </a:lnTo>
                <a:close/>
              </a:path>
              <a:path fill="lighten" w="21600" h="24686">
                <a:moveTo>
                  <a:pt x="0" y="24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6"/>
                </a:lnTo>
                <a:close/>
              </a:path>
              <a:path fill="darken" w="21600" h="24686">
                <a:moveTo>
                  <a:pt x="3794" y="12343"/>
                </a:moveTo>
                <a:lnTo>
                  <a:pt x="17806" y="5336"/>
                </a:lnTo>
                <a:lnTo>
                  <a:pt x="17806" y="1934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Василий Иванович Суриков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(1848-1916 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76720" y="1413000"/>
            <a:ext cx="568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риков – это художник, который всё, от кон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бруи до пёстрой московской толпы, писал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туры и тщательно, до деталей выверено. 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разрешал себе фантазировать, и его  погру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историю основано на глубоком изучении той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й эпохи. Больше всего художника привлек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толетие: это был последний век Москов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и, преддверие преобразований, перемен, лом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рого уклада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оим творчеством художник как бы напоминал: 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зависим от прошлого, им определенно и наш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удущ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мые известные полотна художника: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Бояры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орозова» (1887г.), «Утро стрелецкой казни» (1881г.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зятие снежного городка» (1891г.), «Перех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ворова через Альпы в 1799 году» (1899г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img172"/>
          <p:cNvPicPr/>
          <p:nvPr/>
        </p:nvPicPr>
        <p:blipFill>
          <a:blip r:embed="rId3"/>
          <a:stretch/>
        </p:blipFill>
        <p:spPr>
          <a:xfrm>
            <a:off x="179280" y="1557360"/>
            <a:ext cx="3027600" cy="44654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8">
            <a:hlinkClick r:id="rId4" action="ppaction://hlinksldjump"/>
          </p:cNvPr>
          <p:cNvSpPr/>
          <p:nvPr/>
        </p:nvSpPr>
        <p:spPr>
          <a:xfrm>
            <a:off x="8244000" y="6165720"/>
            <a:ext cx="684000" cy="522360"/>
          </a:xfrm>
          <a:custGeom>
            <a:avLst/>
            <a:gdLst>
              <a:gd name="textAreaLeft" fmla="*/ 33840 w 684000"/>
              <a:gd name="textAreaRight" fmla="*/ 650160 w 68400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8279" h="21600">
                <a:moveTo>
                  <a:pt x="0" y="0"/>
                </a:moveTo>
                <a:lnTo>
                  <a:pt x="28279" y="0"/>
                </a:lnTo>
                <a:lnTo>
                  <a:pt x="28279" y="21600"/>
                </a:lnTo>
                <a:lnTo>
                  <a:pt x="0" y="21600"/>
                </a:lnTo>
                <a:close/>
              </a:path>
              <a:path fill="lightenLess" w="28279" h="21600">
                <a:moveTo>
                  <a:pt x="0" y="0"/>
                </a:moveTo>
                <a:lnTo>
                  <a:pt x="28279" y="0"/>
                </a:lnTo>
                <a:lnTo>
                  <a:pt x="26879" y="1400"/>
                </a:lnTo>
                <a:lnTo>
                  <a:pt x="1400" y="1400"/>
                </a:lnTo>
                <a:close/>
              </a:path>
              <a:path fill="darken" w="28279" h="21600">
                <a:moveTo>
                  <a:pt x="28279" y="0"/>
                </a:moveTo>
                <a:lnTo>
                  <a:pt x="28279" y="21600"/>
                </a:lnTo>
                <a:lnTo>
                  <a:pt x="26879" y="20200"/>
                </a:lnTo>
                <a:lnTo>
                  <a:pt x="26879" y="1400"/>
                </a:lnTo>
                <a:close/>
              </a:path>
              <a:path fill="darkenLess" w="28279" h="21600">
                <a:moveTo>
                  <a:pt x="28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9" y="20200"/>
                </a:lnTo>
                <a:close/>
              </a:path>
              <a:path fill="lighten" w="28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9" h="21600">
                <a:moveTo>
                  <a:pt x="7133" y="10800"/>
                </a:moveTo>
                <a:lnTo>
                  <a:pt x="21146" y="3794"/>
                </a:lnTo>
                <a:lnTo>
                  <a:pt x="211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8512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«Утро стрелецкой</a:t>
            </a:r>
            <a:br>
              <a:rPr sz="3200"/>
            </a:b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казни»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2349000"/>
            <a:ext cx="3924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         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Что общего межд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этими дву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полотнами?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588000" y="4005000"/>
            <a:ext cx="255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«Бояры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Морозо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img190"/>
          <p:cNvPicPr/>
          <p:nvPr/>
        </p:nvPicPr>
        <p:blipFill>
          <a:blip r:embed="rId1"/>
          <a:stretch/>
        </p:blipFill>
        <p:spPr>
          <a:xfrm>
            <a:off x="4246560" y="115920"/>
            <a:ext cx="4897440" cy="3124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опия img190"/>
          <p:cNvPicPr/>
          <p:nvPr/>
        </p:nvPicPr>
        <p:blipFill>
          <a:blip r:embed="rId2"/>
          <a:stretch/>
        </p:blipFill>
        <p:spPr>
          <a:xfrm>
            <a:off x="0" y="3809880"/>
            <a:ext cx="6697800" cy="3048120"/>
          </a:xfrm>
          <a:prstGeom prst="rect">
            <a:avLst/>
          </a:prstGeom>
          <a:ln w="0">
            <a:noFill/>
          </a:ln>
        </p:spPr>
      </p:pic>
      <p:sp>
        <p:nvSpPr>
          <p:cNvPr id="185" name="Line 9"/>
          <p:cNvSpPr/>
          <p:nvPr/>
        </p:nvSpPr>
        <p:spPr>
          <a:xfrm flipH="1">
            <a:off x="7236000" y="5661000"/>
            <a:ext cx="1008000" cy="0"/>
          </a:xfrm>
          <a:prstGeom prst="line">
            <a:avLst/>
          </a:prstGeom>
          <a:ln w="63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1187280" y="1628640"/>
            <a:ext cx="1513080" cy="0"/>
          </a:xfrm>
          <a:prstGeom prst="line">
            <a:avLst/>
          </a:prstGeom>
          <a:ln w="63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3">
            <a:hlinkClick r:id="rId3" action="ppaction://hlinksldjump"/>
          </p:cNvPr>
          <p:cNvSpPr/>
          <p:nvPr/>
        </p:nvSpPr>
        <p:spPr>
          <a:xfrm>
            <a:off x="179280" y="2565360"/>
            <a:ext cx="825480" cy="719280"/>
          </a:xfrm>
          <a:custGeom>
            <a:avLst/>
            <a:gdLst>
              <a:gd name="textAreaLeft" fmla="*/ 46440 w 825480"/>
              <a:gd name="textAreaRight" fmla="*/ 779040 w 8254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4788" h="21600">
                <a:moveTo>
                  <a:pt x="0" y="0"/>
                </a:moveTo>
                <a:lnTo>
                  <a:pt x="24788" y="0"/>
                </a:lnTo>
                <a:lnTo>
                  <a:pt x="24788" y="21600"/>
                </a:lnTo>
                <a:lnTo>
                  <a:pt x="0" y="21600"/>
                </a:lnTo>
                <a:close/>
              </a:path>
              <a:path fill="lightenLess" w="24788" h="21600">
                <a:moveTo>
                  <a:pt x="0" y="0"/>
                </a:moveTo>
                <a:lnTo>
                  <a:pt x="24788" y="0"/>
                </a:lnTo>
                <a:lnTo>
                  <a:pt x="23388" y="1400"/>
                </a:lnTo>
                <a:lnTo>
                  <a:pt x="1400" y="1400"/>
                </a:lnTo>
                <a:close/>
              </a:path>
              <a:path fill="darken" w="24788" h="21600">
                <a:moveTo>
                  <a:pt x="24788" y="0"/>
                </a:moveTo>
                <a:lnTo>
                  <a:pt x="24788" y="21600"/>
                </a:lnTo>
                <a:lnTo>
                  <a:pt x="23388" y="20200"/>
                </a:lnTo>
                <a:lnTo>
                  <a:pt x="23388" y="1400"/>
                </a:lnTo>
                <a:close/>
              </a:path>
              <a:path fill="darkenLess" w="24788" h="21600">
                <a:moveTo>
                  <a:pt x="2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88" y="20200"/>
                </a:lnTo>
                <a:close/>
              </a:path>
              <a:path fill="lighten" w="2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88" h="21600">
                <a:moveTo>
                  <a:pt x="12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788" h="21600">
                <a:moveTo>
                  <a:pt x="13499" y="14281"/>
                </a:moveTo>
                <a:lnTo>
                  <a:pt x="13499" y="12323"/>
                </a:lnTo>
                <a:cubicBezTo>
                  <a:pt x="13499" y="11496"/>
                  <a:pt x="13830" y="10800"/>
                  <a:pt x="14430" y="10800"/>
                </a:cubicBezTo>
                <a:cubicBezTo>
                  <a:pt x="15562" y="10800"/>
                  <a:pt x="16458" y="9434"/>
                  <a:pt x="16458" y="7849"/>
                </a:cubicBezTo>
                <a:cubicBezTo>
                  <a:pt x="16458" y="5534"/>
                  <a:pt x="14605" y="3794"/>
                  <a:pt x="12394" y="3794"/>
                </a:cubicBezTo>
                <a:cubicBezTo>
                  <a:pt x="10183" y="3794"/>
                  <a:pt x="8512" y="5534"/>
                  <a:pt x="8512" y="7849"/>
                </a:cubicBezTo>
                <a:lnTo>
                  <a:pt x="10366" y="7849"/>
                </a:lnTo>
                <a:cubicBezTo>
                  <a:pt x="10366" y="6709"/>
                  <a:pt x="11288" y="5821"/>
                  <a:pt x="12394" y="5821"/>
                </a:cubicBezTo>
                <a:cubicBezTo>
                  <a:pt x="13499" y="5821"/>
                  <a:pt x="14430" y="6709"/>
                  <a:pt x="14430" y="7849"/>
                </a:cubicBezTo>
                <a:cubicBezTo>
                  <a:pt x="14430" y="8589"/>
                  <a:pt x="13960" y="9320"/>
                  <a:pt x="13499" y="9320"/>
                </a:cubicBezTo>
                <a:cubicBezTo>
                  <a:pt x="12394" y="9320"/>
                  <a:pt x="11288" y="10800"/>
                  <a:pt x="11288" y="12323"/>
                </a:cubicBezTo>
                <a:lnTo>
                  <a:pt x="11288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4">
            <a:hlinkClick r:id="rId4" action="ppaction://hlinksldjump"/>
          </p:cNvPr>
          <p:cNvSpPr/>
          <p:nvPr/>
        </p:nvSpPr>
        <p:spPr>
          <a:xfrm>
            <a:off x="8101080" y="5877000"/>
            <a:ext cx="898560" cy="792000"/>
          </a:xfrm>
          <a:custGeom>
            <a:avLst/>
            <a:gdLst>
              <a:gd name="textAreaLeft" fmla="*/ 51120 w 898560"/>
              <a:gd name="textAreaRight" fmla="*/ 847440 w 8985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4505" h="21600">
                <a:moveTo>
                  <a:pt x="0" y="0"/>
                </a:moveTo>
                <a:lnTo>
                  <a:pt x="24505" y="0"/>
                </a:lnTo>
                <a:lnTo>
                  <a:pt x="24505" y="21600"/>
                </a:lnTo>
                <a:lnTo>
                  <a:pt x="0" y="21600"/>
                </a:lnTo>
                <a:close/>
              </a:path>
              <a:path fill="lightenLess" w="24505" h="21600">
                <a:moveTo>
                  <a:pt x="0" y="0"/>
                </a:moveTo>
                <a:lnTo>
                  <a:pt x="24505" y="0"/>
                </a:lnTo>
                <a:lnTo>
                  <a:pt x="23105" y="1400"/>
                </a:lnTo>
                <a:lnTo>
                  <a:pt x="1400" y="1400"/>
                </a:lnTo>
                <a:close/>
              </a:path>
              <a:path fill="darken" w="24505" h="21600">
                <a:moveTo>
                  <a:pt x="24505" y="0"/>
                </a:moveTo>
                <a:lnTo>
                  <a:pt x="24505" y="21600"/>
                </a:lnTo>
                <a:lnTo>
                  <a:pt x="23105" y="20200"/>
                </a:lnTo>
                <a:lnTo>
                  <a:pt x="23105" y="1400"/>
                </a:lnTo>
                <a:close/>
              </a:path>
              <a:path fill="darkenLess" w="24505" h="21600">
                <a:moveTo>
                  <a:pt x="24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05" y="20200"/>
                </a:lnTo>
                <a:close/>
              </a:path>
              <a:path fill="lighten" w="24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05" h="21600">
                <a:moveTo>
                  <a:pt x="12252" y="3837"/>
                </a:moveTo>
                <a:lnTo>
                  <a:pt x="14829" y="6448"/>
                </a:lnTo>
                <a:lnTo>
                  <a:pt x="14829" y="4707"/>
                </a:lnTo>
                <a:lnTo>
                  <a:pt x="16604" y="4707"/>
                </a:lnTo>
                <a:lnTo>
                  <a:pt x="16604" y="8224"/>
                </a:lnTo>
                <a:lnTo>
                  <a:pt x="19215" y="10800"/>
                </a:lnTo>
                <a:lnTo>
                  <a:pt x="17562" y="10800"/>
                </a:lnTo>
                <a:lnTo>
                  <a:pt x="17562" y="17989"/>
                </a:lnTo>
                <a:lnTo>
                  <a:pt x="6943" y="17989"/>
                </a:lnTo>
                <a:lnTo>
                  <a:pt x="6943" y="10800"/>
                </a:lnTo>
                <a:lnTo>
                  <a:pt x="5289" y="10800"/>
                </a:lnTo>
                <a:close/>
              </a:path>
              <a:path fill="darkenLess" w="24505" h="21600">
                <a:moveTo>
                  <a:pt x="14829" y="6448"/>
                </a:moveTo>
                <a:lnTo>
                  <a:pt x="14829" y="4707"/>
                </a:lnTo>
                <a:lnTo>
                  <a:pt x="16604" y="4707"/>
                </a:lnTo>
                <a:lnTo>
                  <a:pt x="16604" y="8224"/>
                </a:lnTo>
                <a:close/>
              </a:path>
              <a:path fill="darkenLess" w="24505" h="21600">
                <a:moveTo>
                  <a:pt x="11330" y="14299"/>
                </a:moveTo>
                <a:lnTo>
                  <a:pt x="13175" y="14299"/>
                </a:lnTo>
                <a:lnTo>
                  <a:pt x="13175" y="17989"/>
                </a:lnTo>
                <a:lnTo>
                  <a:pt x="17562" y="17989"/>
                </a:lnTo>
                <a:lnTo>
                  <a:pt x="17562" y="10800"/>
                </a:lnTo>
                <a:lnTo>
                  <a:pt x="6943" y="10800"/>
                </a:lnTo>
                <a:lnTo>
                  <a:pt x="6943" y="17989"/>
                </a:lnTo>
                <a:lnTo>
                  <a:pt x="1133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картины – раздумья о судьбах России, о траг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оротах истории, подобных тому, что совершил Пёт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вая новую державу, ломая, рубя и давя на висе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ую Ру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>
            <a:hlinkClick r:id="rId1" action="ppaction://hlinksldjump"/>
          </p:cNvPr>
          <p:cNvSpPr/>
          <p:nvPr/>
        </p:nvSpPr>
        <p:spPr>
          <a:xfrm>
            <a:off x="8028000" y="5805360"/>
            <a:ext cx="900000" cy="898560"/>
          </a:xfrm>
          <a:custGeom>
            <a:avLst/>
            <a:gdLst>
              <a:gd name="textAreaLeft" fmla="*/ 57960 w 900000"/>
              <a:gd name="textAreaRight" fmla="*/ 842040 w 9000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35" h="21600">
                <a:moveTo>
                  <a:pt x="0" y="0"/>
                </a:moveTo>
                <a:lnTo>
                  <a:pt x="21635" y="0"/>
                </a:lnTo>
                <a:lnTo>
                  <a:pt x="21635" y="21600"/>
                </a:lnTo>
                <a:lnTo>
                  <a:pt x="0" y="21600"/>
                </a:lnTo>
                <a:close/>
              </a:path>
              <a:path fill="lightenLess" w="21635" h="21600">
                <a:moveTo>
                  <a:pt x="0" y="0"/>
                </a:moveTo>
                <a:lnTo>
                  <a:pt x="21635" y="0"/>
                </a:lnTo>
                <a:lnTo>
                  <a:pt x="20235" y="1400"/>
                </a:lnTo>
                <a:lnTo>
                  <a:pt x="1400" y="1400"/>
                </a:lnTo>
                <a:close/>
              </a:path>
              <a:path fill="darken" w="21635" h="21600">
                <a:moveTo>
                  <a:pt x="21635" y="0"/>
                </a:moveTo>
                <a:lnTo>
                  <a:pt x="21635" y="21600"/>
                </a:lnTo>
                <a:lnTo>
                  <a:pt x="20235" y="20200"/>
                </a:lnTo>
                <a:lnTo>
                  <a:pt x="20235" y="1400"/>
                </a:lnTo>
                <a:close/>
              </a:path>
              <a:path fill="darkenLess" w="21635" h="21600">
                <a:moveTo>
                  <a:pt x="21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5" y="20200"/>
                </a:lnTo>
                <a:close/>
              </a:path>
              <a:path fill="lighten" w="21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5" h="21600">
                <a:moveTo>
                  <a:pt x="3811" y="7493"/>
                </a:moveTo>
                <a:lnTo>
                  <a:pt x="7318" y="7493"/>
                </a:lnTo>
                <a:lnTo>
                  <a:pt x="7318" y="12828"/>
                </a:lnTo>
                <a:cubicBezTo>
                  <a:pt x="7318" y="13751"/>
                  <a:pt x="8119" y="14482"/>
                  <a:pt x="9155" y="14482"/>
                </a:cubicBezTo>
                <a:lnTo>
                  <a:pt x="10817" y="14482"/>
                </a:lnTo>
                <a:cubicBezTo>
                  <a:pt x="11853" y="14482"/>
                  <a:pt x="12654" y="13751"/>
                  <a:pt x="12654" y="12828"/>
                </a:cubicBezTo>
                <a:lnTo>
                  <a:pt x="12654" y="7493"/>
                </a:lnTo>
                <a:lnTo>
                  <a:pt x="10817" y="7493"/>
                </a:lnTo>
                <a:lnTo>
                  <a:pt x="14325" y="3985"/>
                </a:lnTo>
                <a:lnTo>
                  <a:pt x="17998" y="7493"/>
                </a:lnTo>
                <a:lnTo>
                  <a:pt x="16161" y="7493"/>
                </a:lnTo>
                <a:lnTo>
                  <a:pt x="16161" y="12828"/>
                </a:lnTo>
                <a:cubicBezTo>
                  <a:pt x="16161" y="15596"/>
                  <a:pt x="13585" y="18155"/>
                  <a:pt x="10817" y="18155"/>
                </a:cubicBezTo>
                <a:lnTo>
                  <a:pt x="9155" y="18155"/>
                </a:lnTo>
                <a:cubicBezTo>
                  <a:pt x="6387" y="18155"/>
                  <a:pt x="3811" y="15596"/>
                  <a:pt x="381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Илья Ефимович Репин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(5 августа 1844 – 29 сентября 1930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08000" y="1557360"/>
            <a:ext cx="5256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рчество И.Е. Репина – одна из верш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ского демократического искусства. Поч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кто из русских художников не пользовал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ой прижизненной славой, как Репин. 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офигурные жанровые композиции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четании с умением обозначить сам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лободневные проблемы русской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лали его воистину народным художн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мые известные полотна И.Е. Реп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Бурлаки на Волге» (1870-1873 гг.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«Не ждали» (1884г.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Иван Грозный и его сын Иван 16 ноября 1581г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885г.)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«Запорожцы пишут письмо турецк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ултану» (1891г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img178"/>
          <p:cNvPicPr/>
          <p:nvPr/>
        </p:nvPicPr>
        <p:blipFill>
          <a:blip r:embed="rId5"/>
          <a:stretch/>
        </p:blipFill>
        <p:spPr>
          <a:xfrm>
            <a:off x="395280" y="1484280"/>
            <a:ext cx="3240000" cy="387972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7">
            <a:hlinkClick r:id="rId6" action="ppaction://hlinksldjump"/>
          </p:cNvPr>
          <p:cNvSpPr/>
          <p:nvPr/>
        </p:nvSpPr>
        <p:spPr>
          <a:xfrm>
            <a:off x="8244000" y="6165720"/>
            <a:ext cx="684000" cy="522360"/>
          </a:xfrm>
          <a:custGeom>
            <a:avLst/>
            <a:gdLst>
              <a:gd name="textAreaLeft" fmla="*/ 33840 w 684000"/>
              <a:gd name="textAreaRight" fmla="*/ 650160 w 68400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8279" h="21600">
                <a:moveTo>
                  <a:pt x="0" y="0"/>
                </a:moveTo>
                <a:lnTo>
                  <a:pt x="28279" y="0"/>
                </a:lnTo>
                <a:lnTo>
                  <a:pt x="28279" y="21600"/>
                </a:lnTo>
                <a:lnTo>
                  <a:pt x="0" y="21600"/>
                </a:lnTo>
                <a:close/>
              </a:path>
              <a:path fill="lightenLess" w="28279" h="21600">
                <a:moveTo>
                  <a:pt x="0" y="0"/>
                </a:moveTo>
                <a:lnTo>
                  <a:pt x="28279" y="0"/>
                </a:lnTo>
                <a:lnTo>
                  <a:pt x="26879" y="1400"/>
                </a:lnTo>
                <a:lnTo>
                  <a:pt x="1400" y="1400"/>
                </a:lnTo>
                <a:close/>
              </a:path>
              <a:path fill="darken" w="28279" h="21600">
                <a:moveTo>
                  <a:pt x="28279" y="0"/>
                </a:moveTo>
                <a:lnTo>
                  <a:pt x="28279" y="21600"/>
                </a:lnTo>
                <a:lnTo>
                  <a:pt x="26879" y="20200"/>
                </a:lnTo>
                <a:lnTo>
                  <a:pt x="26879" y="1400"/>
                </a:lnTo>
                <a:close/>
              </a:path>
              <a:path fill="darkenLess" w="28279" h="21600">
                <a:moveTo>
                  <a:pt x="28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9" y="20200"/>
                </a:lnTo>
                <a:close/>
              </a:path>
              <a:path fill="lighten" w="28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9" h="21600">
                <a:moveTo>
                  <a:pt x="7133" y="10800"/>
                </a:moveTo>
                <a:lnTo>
                  <a:pt x="21146" y="3794"/>
                </a:lnTo>
                <a:lnTo>
                  <a:pt x="211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«Бурлаки на Волг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6126120"/>
            <a:ext cx="585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Копия img178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39308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>
            <a:hlinkClick r:id="rId2" action="ppaction://hlinksldjump"/>
          </p:cNvPr>
          <p:cNvSpPr/>
          <p:nvPr/>
        </p:nvSpPr>
        <p:spPr>
          <a:xfrm>
            <a:off x="8028000" y="5877000"/>
            <a:ext cx="898560" cy="792000"/>
          </a:xfrm>
          <a:custGeom>
            <a:avLst/>
            <a:gdLst>
              <a:gd name="textAreaLeft" fmla="*/ 51120 w 898560"/>
              <a:gd name="textAreaRight" fmla="*/ 847440 w 8985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4505" h="21600">
                <a:moveTo>
                  <a:pt x="0" y="0"/>
                </a:moveTo>
                <a:lnTo>
                  <a:pt x="24505" y="0"/>
                </a:lnTo>
                <a:lnTo>
                  <a:pt x="24505" y="21600"/>
                </a:lnTo>
                <a:lnTo>
                  <a:pt x="0" y="21600"/>
                </a:lnTo>
                <a:close/>
              </a:path>
              <a:path fill="lightenLess" w="24505" h="21600">
                <a:moveTo>
                  <a:pt x="0" y="0"/>
                </a:moveTo>
                <a:lnTo>
                  <a:pt x="24505" y="0"/>
                </a:lnTo>
                <a:lnTo>
                  <a:pt x="23105" y="1400"/>
                </a:lnTo>
                <a:lnTo>
                  <a:pt x="1400" y="1400"/>
                </a:lnTo>
                <a:close/>
              </a:path>
              <a:path fill="darken" w="24505" h="21600">
                <a:moveTo>
                  <a:pt x="24505" y="0"/>
                </a:moveTo>
                <a:lnTo>
                  <a:pt x="24505" y="21600"/>
                </a:lnTo>
                <a:lnTo>
                  <a:pt x="23105" y="20200"/>
                </a:lnTo>
                <a:lnTo>
                  <a:pt x="23105" y="1400"/>
                </a:lnTo>
                <a:close/>
              </a:path>
              <a:path fill="darkenLess" w="24505" h="21600">
                <a:moveTo>
                  <a:pt x="24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05" y="20200"/>
                </a:lnTo>
                <a:close/>
              </a:path>
              <a:path fill="lighten" w="24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05" h="21600">
                <a:moveTo>
                  <a:pt x="12252" y="3837"/>
                </a:moveTo>
                <a:lnTo>
                  <a:pt x="14829" y="6448"/>
                </a:lnTo>
                <a:lnTo>
                  <a:pt x="14829" y="4707"/>
                </a:lnTo>
                <a:lnTo>
                  <a:pt x="16604" y="4707"/>
                </a:lnTo>
                <a:lnTo>
                  <a:pt x="16604" y="8224"/>
                </a:lnTo>
                <a:lnTo>
                  <a:pt x="19215" y="10800"/>
                </a:lnTo>
                <a:lnTo>
                  <a:pt x="17562" y="10800"/>
                </a:lnTo>
                <a:lnTo>
                  <a:pt x="17562" y="17989"/>
                </a:lnTo>
                <a:lnTo>
                  <a:pt x="6943" y="17989"/>
                </a:lnTo>
                <a:lnTo>
                  <a:pt x="6943" y="10800"/>
                </a:lnTo>
                <a:lnTo>
                  <a:pt x="5289" y="10800"/>
                </a:lnTo>
                <a:close/>
              </a:path>
              <a:path fill="darkenLess" w="24505" h="21600">
                <a:moveTo>
                  <a:pt x="14829" y="6448"/>
                </a:moveTo>
                <a:lnTo>
                  <a:pt x="14829" y="4707"/>
                </a:lnTo>
                <a:lnTo>
                  <a:pt x="16604" y="4707"/>
                </a:lnTo>
                <a:lnTo>
                  <a:pt x="16604" y="8224"/>
                </a:lnTo>
                <a:close/>
              </a:path>
              <a:path fill="darkenLess" w="24505" h="21600">
                <a:moveTo>
                  <a:pt x="11330" y="14299"/>
                </a:moveTo>
                <a:lnTo>
                  <a:pt x="13175" y="14299"/>
                </a:lnTo>
                <a:lnTo>
                  <a:pt x="13175" y="17989"/>
                </a:lnTo>
                <a:lnTo>
                  <a:pt x="17562" y="17989"/>
                </a:lnTo>
                <a:lnTo>
                  <a:pt x="17562" y="10800"/>
                </a:lnTo>
                <a:lnTo>
                  <a:pt x="6943" y="10800"/>
                </a:lnTo>
                <a:lnTo>
                  <a:pt x="6943" y="17989"/>
                </a:lnTo>
                <a:lnTo>
                  <a:pt x="1133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«Не жда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940000" y="620280"/>
            <a:ext cx="320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России грем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формы, поли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лючённые возвращали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ссылки. Карти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Не ждали» - это сам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чительное произ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пина на революцион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ат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>
            <a:hlinkClick r:id="rId1" action="ppaction://hlinksldjump"/>
          </p:cNvPr>
          <p:cNvSpPr/>
          <p:nvPr/>
        </p:nvSpPr>
        <p:spPr>
          <a:xfrm>
            <a:off x="8028000" y="5877000"/>
            <a:ext cx="898560" cy="792000"/>
          </a:xfrm>
          <a:custGeom>
            <a:avLst/>
            <a:gdLst>
              <a:gd name="textAreaLeft" fmla="*/ 51120 w 898560"/>
              <a:gd name="textAreaRight" fmla="*/ 847440 w 8985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4505" h="21600">
                <a:moveTo>
                  <a:pt x="0" y="0"/>
                </a:moveTo>
                <a:lnTo>
                  <a:pt x="24505" y="0"/>
                </a:lnTo>
                <a:lnTo>
                  <a:pt x="24505" y="21600"/>
                </a:lnTo>
                <a:lnTo>
                  <a:pt x="0" y="21600"/>
                </a:lnTo>
                <a:close/>
              </a:path>
              <a:path fill="lightenLess" w="24505" h="21600">
                <a:moveTo>
                  <a:pt x="0" y="0"/>
                </a:moveTo>
                <a:lnTo>
                  <a:pt x="24505" y="0"/>
                </a:lnTo>
                <a:lnTo>
                  <a:pt x="23105" y="1400"/>
                </a:lnTo>
                <a:lnTo>
                  <a:pt x="1400" y="1400"/>
                </a:lnTo>
                <a:close/>
              </a:path>
              <a:path fill="darken" w="24505" h="21600">
                <a:moveTo>
                  <a:pt x="24505" y="0"/>
                </a:moveTo>
                <a:lnTo>
                  <a:pt x="24505" y="21600"/>
                </a:lnTo>
                <a:lnTo>
                  <a:pt x="23105" y="20200"/>
                </a:lnTo>
                <a:lnTo>
                  <a:pt x="23105" y="1400"/>
                </a:lnTo>
                <a:close/>
              </a:path>
              <a:path fill="darkenLess" w="24505" h="21600">
                <a:moveTo>
                  <a:pt x="24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05" y="20200"/>
                </a:lnTo>
                <a:close/>
              </a:path>
              <a:path fill="lighten" w="24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05" h="21600">
                <a:moveTo>
                  <a:pt x="12252" y="3837"/>
                </a:moveTo>
                <a:lnTo>
                  <a:pt x="14829" y="6448"/>
                </a:lnTo>
                <a:lnTo>
                  <a:pt x="14829" y="4707"/>
                </a:lnTo>
                <a:lnTo>
                  <a:pt x="16604" y="4707"/>
                </a:lnTo>
                <a:lnTo>
                  <a:pt x="16604" y="8224"/>
                </a:lnTo>
                <a:lnTo>
                  <a:pt x="19215" y="10800"/>
                </a:lnTo>
                <a:lnTo>
                  <a:pt x="17562" y="10800"/>
                </a:lnTo>
                <a:lnTo>
                  <a:pt x="17562" y="17989"/>
                </a:lnTo>
                <a:lnTo>
                  <a:pt x="6943" y="17989"/>
                </a:lnTo>
                <a:lnTo>
                  <a:pt x="6943" y="10800"/>
                </a:lnTo>
                <a:lnTo>
                  <a:pt x="5289" y="10800"/>
                </a:lnTo>
                <a:close/>
              </a:path>
              <a:path fill="darkenLess" w="24505" h="21600">
                <a:moveTo>
                  <a:pt x="14829" y="6448"/>
                </a:moveTo>
                <a:lnTo>
                  <a:pt x="14829" y="4707"/>
                </a:lnTo>
                <a:lnTo>
                  <a:pt x="16604" y="4707"/>
                </a:lnTo>
                <a:lnTo>
                  <a:pt x="16604" y="8224"/>
                </a:lnTo>
                <a:close/>
              </a:path>
              <a:path fill="darkenLess" w="24505" h="21600">
                <a:moveTo>
                  <a:pt x="11330" y="14299"/>
                </a:moveTo>
                <a:lnTo>
                  <a:pt x="13175" y="14299"/>
                </a:lnTo>
                <a:lnTo>
                  <a:pt x="13175" y="17989"/>
                </a:lnTo>
                <a:lnTo>
                  <a:pt x="17562" y="17989"/>
                </a:lnTo>
                <a:lnTo>
                  <a:pt x="17562" y="10800"/>
                </a:lnTo>
                <a:lnTo>
                  <a:pt x="6943" y="10800"/>
                </a:lnTo>
                <a:lnTo>
                  <a:pt x="6943" y="17989"/>
                </a:lnTo>
                <a:lnTo>
                  <a:pt x="1133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img179"/>
          <p:cNvPicPr/>
          <p:nvPr/>
        </p:nvPicPr>
        <p:blipFill>
          <a:blip r:embed="rId2"/>
          <a:stretch/>
        </p:blipFill>
        <p:spPr>
          <a:xfrm>
            <a:off x="179280" y="620640"/>
            <a:ext cx="56912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«Запорожцы пишут письмо турецкому султан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465300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легенде, знаменитое «ругательное» письмо было написано в 1676 году кошев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аманом Иваном Сирко в ответ на ультиматум султана Османской импе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хмед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Оригинал письма не сохранился, но в 1870-х гг. была обнаружена коп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торую известный историк того времени Д. Яворницкий зачитал её Репину. Худож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интересовался и в 1880 г. приступил к написанию картины. В 1889 г. Репин нач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у на второй частью «Запорожцев», но картину не закончил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>
            <a:hlinkClick r:id="rId1" action="ppaction://hlinksldjump"/>
          </p:cNvPr>
          <p:cNvSpPr/>
          <p:nvPr/>
        </p:nvSpPr>
        <p:spPr>
          <a:xfrm>
            <a:off x="8028000" y="6066000"/>
            <a:ext cx="898560" cy="792000"/>
          </a:xfrm>
          <a:custGeom>
            <a:avLst/>
            <a:gdLst>
              <a:gd name="textAreaLeft" fmla="*/ 51120 w 898560"/>
              <a:gd name="textAreaRight" fmla="*/ 847440 w 8985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4505" h="21600">
                <a:moveTo>
                  <a:pt x="0" y="0"/>
                </a:moveTo>
                <a:lnTo>
                  <a:pt x="24505" y="0"/>
                </a:lnTo>
                <a:lnTo>
                  <a:pt x="24505" y="21600"/>
                </a:lnTo>
                <a:lnTo>
                  <a:pt x="0" y="21600"/>
                </a:lnTo>
                <a:close/>
              </a:path>
              <a:path fill="lightenLess" w="24505" h="21600">
                <a:moveTo>
                  <a:pt x="0" y="0"/>
                </a:moveTo>
                <a:lnTo>
                  <a:pt x="24505" y="0"/>
                </a:lnTo>
                <a:lnTo>
                  <a:pt x="23105" y="1400"/>
                </a:lnTo>
                <a:lnTo>
                  <a:pt x="1400" y="1400"/>
                </a:lnTo>
                <a:close/>
              </a:path>
              <a:path fill="darken" w="24505" h="21600">
                <a:moveTo>
                  <a:pt x="24505" y="0"/>
                </a:moveTo>
                <a:lnTo>
                  <a:pt x="24505" y="21600"/>
                </a:lnTo>
                <a:lnTo>
                  <a:pt x="23105" y="20200"/>
                </a:lnTo>
                <a:lnTo>
                  <a:pt x="23105" y="1400"/>
                </a:lnTo>
                <a:close/>
              </a:path>
              <a:path fill="darkenLess" w="24505" h="21600">
                <a:moveTo>
                  <a:pt x="24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05" y="20200"/>
                </a:lnTo>
                <a:close/>
              </a:path>
              <a:path fill="lighten" w="24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05" h="21600">
                <a:moveTo>
                  <a:pt x="12252" y="3837"/>
                </a:moveTo>
                <a:lnTo>
                  <a:pt x="14829" y="6448"/>
                </a:lnTo>
                <a:lnTo>
                  <a:pt x="14829" y="4707"/>
                </a:lnTo>
                <a:lnTo>
                  <a:pt x="16604" y="4707"/>
                </a:lnTo>
                <a:lnTo>
                  <a:pt x="16604" y="8224"/>
                </a:lnTo>
                <a:lnTo>
                  <a:pt x="19215" y="10800"/>
                </a:lnTo>
                <a:lnTo>
                  <a:pt x="17562" y="10800"/>
                </a:lnTo>
                <a:lnTo>
                  <a:pt x="17562" y="17989"/>
                </a:lnTo>
                <a:lnTo>
                  <a:pt x="6943" y="17989"/>
                </a:lnTo>
                <a:lnTo>
                  <a:pt x="6943" y="10800"/>
                </a:lnTo>
                <a:lnTo>
                  <a:pt x="5289" y="10800"/>
                </a:lnTo>
                <a:close/>
              </a:path>
              <a:path fill="darkenLess" w="24505" h="21600">
                <a:moveTo>
                  <a:pt x="14829" y="6448"/>
                </a:moveTo>
                <a:lnTo>
                  <a:pt x="14829" y="4707"/>
                </a:lnTo>
                <a:lnTo>
                  <a:pt x="16604" y="4707"/>
                </a:lnTo>
                <a:lnTo>
                  <a:pt x="16604" y="8224"/>
                </a:lnTo>
                <a:close/>
              </a:path>
              <a:path fill="darkenLess" w="24505" h="21600">
                <a:moveTo>
                  <a:pt x="11330" y="14299"/>
                </a:moveTo>
                <a:lnTo>
                  <a:pt x="13175" y="14299"/>
                </a:lnTo>
                <a:lnTo>
                  <a:pt x="13175" y="17989"/>
                </a:lnTo>
                <a:lnTo>
                  <a:pt x="17562" y="17989"/>
                </a:lnTo>
                <a:lnTo>
                  <a:pt x="17562" y="10800"/>
                </a:lnTo>
                <a:lnTo>
                  <a:pt x="6943" y="10800"/>
                </a:lnTo>
                <a:lnTo>
                  <a:pt x="6943" y="17989"/>
                </a:lnTo>
                <a:lnTo>
                  <a:pt x="1133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img201"/>
          <p:cNvPicPr/>
          <p:nvPr/>
        </p:nvPicPr>
        <p:blipFill>
          <a:blip r:embed="rId2"/>
          <a:stretch/>
        </p:blipFill>
        <p:spPr>
          <a:xfrm>
            <a:off x="971640" y="549360"/>
            <a:ext cx="705636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66ff"/>
                </a:solidFill>
                <a:latin typeface="Arial"/>
              </a:rPr>
              <a:t>Музы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орая полови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 – время расцвета русского музык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усства. Его символом стало творчество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Могучей кучки»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й источник вдохновения композиторы, того врем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пали в народном творчестве, ведя сюжетные линии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оического народного эпоса. Композиторы «Могучей ку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ли ряд бессмертных произве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>
            <a:hlinkClick r:id="rId2" action="ppaction://hlinksldjump"/>
          </p:cNvPr>
          <p:cNvSpPr/>
          <p:nvPr/>
        </p:nvSpPr>
        <p:spPr>
          <a:xfrm>
            <a:off x="7380360" y="6021360"/>
            <a:ext cx="720720" cy="666720"/>
          </a:xfrm>
          <a:custGeom>
            <a:avLst/>
            <a:gdLst>
              <a:gd name="textAreaLeft" fmla="*/ 43200 w 720720"/>
              <a:gd name="textAreaRight" fmla="*/ 677520 w 72072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3349" h="21600">
                <a:moveTo>
                  <a:pt x="0" y="0"/>
                </a:moveTo>
                <a:lnTo>
                  <a:pt x="23349" y="0"/>
                </a:lnTo>
                <a:lnTo>
                  <a:pt x="23349" y="21600"/>
                </a:lnTo>
                <a:lnTo>
                  <a:pt x="0" y="21600"/>
                </a:lnTo>
                <a:close/>
              </a:path>
              <a:path fill="lightenLess" w="23349" h="21600">
                <a:moveTo>
                  <a:pt x="0" y="0"/>
                </a:moveTo>
                <a:lnTo>
                  <a:pt x="23349" y="0"/>
                </a:lnTo>
                <a:lnTo>
                  <a:pt x="21949" y="1400"/>
                </a:lnTo>
                <a:lnTo>
                  <a:pt x="1400" y="1400"/>
                </a:lnTo>
                <a:close/>
              </a:path>
              <a:path fill="darken" w="23349" h="21600">
                <a:moveTo>
                  <a:pt x="23349" y="0"/>
                </a:moveTo>
                <a:lnTo>
                  <a:pt x="23349" y="21600"/>
                </a:lnTo>
                <a:lnTo>
                  <a:pt x="21949" y="20200"/>
                </a:lnTo>
                <a:lnTo>
                  <a:pt x="21949" y="1400"/>
                </a:lnTo>
                <a:close/>
              </a:path>
              <a:path fill="darkenLess" w="23349" h="21600">
                <a:moveTo>
                  <a:pt x="2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9" y="20200"/>
                </a:lnTo>
                <a:close/>
              </a:path>
              <a:path fill="lighten" w="2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9" h="21600">
                <a:moveTo>
                  <a:pt x="4668" y="10800"/>
                </a:moveTo>
                <a:lnTo>
                  <a:pt x="18681" y="3794"/>
                </a:lnTo>
                <a:lnTo>
                  <a:pt x="186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>
            <a:hlinkClick r:id="rId3" action="ppaction://hlinksldjump"/>
          </p:cNvPr>
          <p:cNvSpPr/>
          <p:nvPr/>
        </p:nvSpPr>
        <p:spPr>
          <a:xfrm>
            <a:off x="8172360" y="602136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Могучая кучка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ли Балакиревский кружок) – содруж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яти русских композиторов: М.А. Балакирева, М.П. Мусоргск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. А. Кюи, А.П. Бородина, Н.А. Римского – Корсак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ем являлся М.А. Балакирев. Впервые наз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огучая кучка» прозвучало в статье «Славя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церт г. Балакирева» (1867 г.)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Сколько поэзии, чув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ланта и умения есть у маленькой, но уже могучей ку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усских музыкантов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7812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А. Балакир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П. Мусорг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.А. Римский - Корса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>
            <a:hlinkClick r:id="rId1" action="ppaction://hlinksldjump"/>
          </p:cNvPr>
          <p:cNvSpPr/>
          <p:nvPr/>
        </p:nvSpPr>
        <p:spPr>
          <a:xfrm>
            <a:off x="468360" y="155736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>
            <a:hlinkClick r:id="rId2" action="ppaction://hlinksldjump"/>
          </p:cNvPr>
          <p:cNvSpPr/>
          <p:nvPr/>
        </p:nvSpPr>
        <p:spPr>
          <a:xfrm>
            <a:off x="468360" y="263700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>
            <a:hlinkClick r:id="rId3" action="ppaction://hlinksldjump"/>
          </p:cNvPr>
          <p:cNvSpPr/>
          <p:nvPr/>
        </p:nvSpPr>
        <p:spPr>
          <a:xfrm>
            <a:off x="468360" y="357336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">
            <a:hlinkClick r:id="rId4" action="ppaction://hlinksldjump"/>
          </p:cNvPr>
          <p:cNvSpPr/>
          <p:nvPr/>
        </p:nvSpPr>
        <p:spPr>
          <a:xfrm>
            <a:off x="468360" y="4581360"/>
            <a:ext cx="682560" cy="64800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2751" h="21600">
                <a:moveTo>
                  <a:pt x="0" y="0"/>
                </a:moveTo>
                <a:lnTo>
                  <a:pt x="22751" y="0"/>
                </a:lnTo>
                <a:lnTo>
                  <a:pt x="22751" y="21600"/>
                </a:lnTo>
                <a:lnTo>
                  <a:pt x="0" y="21600"/>
                </a:lnTo>
                <a:close/>
              </a:path>
              <a:path fill="lightenLess" w="22751" h="21600">
                <a:moveTo>
                  <a:pt x="0" y="0"/>
                </a:moveTo>
                <a:lnTo>
                  <a:pt x="22751" y="0"/>
                </a:lnTo>
                <a:lnTo>
                  <a:pt x="21351" y="1400"/>
                </a:lnTo>
                <a:lnTo>
                  <a:pt x="1400" y="1400"/>
                </a:lnTo>
                <a:close/>
              </a:path>
              <a:path fill="darken" w="22751" h="21600">
                <a:moveTo>
                  <a:pt x="22751" y="0"/>
                </a:moveTo>
                <a:lnTo>
                  <a:pt x="22751" y="21600"/>
                </a:lnTo>
                <a:lnTo>
                  <a:pt x="21351" y="20200"/>
                </a:lnTo>
                <a:lnTo>
                  <a:pt x="21351" y="1400"/>
                </a:lnTo>
                <a:close/>
              </a:path>
              <a:path fill="darkenLess" w="22751" h="21600">
                <a:moveTo>
                  <a:pt x="22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51" y="20200"/>
                </a:lnTo>
                <a:close/>
              </a:path>
              <a:path fill="lighten" w="22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51" h="21600">
                <a:moveTo>
                  <a:pt x="4369" y="3794"/>
                </a:moveTo>
                <a:lnTo>
                  <a:pt x="18382" y="10800"/>
                </a:lnTo>
                <a:lnTo>
                  <a:pt x="43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8">
            <a:hlinkClick r:id="rId5" action="ppaction://hlinksldjump"/>
          </p:cNvPr>
          <p:cNvSpPr/>
          <p:nvPr/>
        </p:nvSpPr>
        <p:spPr>
          <a:xfrm>
            <a:off x="7885080" y="6165720"/>
            <a:ext cx="684360" cy="522360"/>
          </a:xfrm>
          <a:custGeom>
            <a:avLst/>
            <a:gdLst>
              <a:gd name="textAreaLeft" fmla="*/ 33840 w 684360"/>
              <a:gd name="textAreaRight" fmla="*/ 650520 w 68436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8294" h="21600">
                <a:moveTo>
                  <a:pt x="0" y="0"/>
                </a:moveTo>
                <a:lnTo>
                  <a:pt x="28294" y="0"/>
                </a:lnTo>
                <a:lnTo>
                  <a:pt x="28294" y="21600"/>
                </a:lnTo>
                <a:lnTo>
                  <a:pt x="0" y="21600"/>
                </a:lnTo>
                <a:close/>
              </a:path>
              <a:path fill="lightenLess" w="28294" h="21600">
                <a:moveTo>
                  <a:pt x="0" y="0"/>
                </a:moveTo>
                <a:lnTo>
                  <a:pt x="28294" y="0"/>
                </a:lnTo>
                <a:lnTo>
                  <a:pt x="26894" y="1400"/>
                </a:lnTo>
                <a:lnTo>
                  <a:pt x="1400" y="1400"/>
                </a:lnTo>
                <a:close/>
              </a:path>
              <a:path fill="darken" w="28294" h="21600">
                <a:moveTo>
                  <a:pt x="28294" y="0"/>
                </a:moveTo>
                <a:lnTo>
                  <a:pt x="28294" y="21600"/>
                </a:lnTo>
                <a:lnTo>
                  <a:pt x="26894" y="20200"/>
                </a:lnTo>
                <a:lnTo>
                  <a:pt x="26894" y="1400"/>
                </a:lnTo>
                <a:close/>
              </a:path>
              <a:path fill="darkenLess" w="28294" h="21600">
                <a:moveTo>
                  <a:pt x="282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94" y="20200"/>
                </a:lnTo>
                <a:close/>
              </a:path>
              <a:path fill="lighten" w="282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94" h="21600">
                <a:moveTo>
                  <a:pt x="7141" y="10800"/>
                </a:moveTo>
                <a:lnTo>
                  <a:pt x="21154" y="3794"/>
                </a:lnTo>
                <a:lnTo>
                  <a:pt x="211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Культура 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, включающий знания, верования, искусство, мораль, законы, обычаи, а также иные способы и навыки, усвоенные человеком как членом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>
            <a:hlinkClick r:id="rId1" action="ppaction://hlinksldjump"/>
          </p:cNvPr>
          <p:cNvSpPr/>
          <p:nvPr/>
        </p:nvSpPr>
        <p:spPr>
          <a:xfrm>
            <a:off x="7596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Милий Алексеевич Балакирев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(2 января 1837 – 29 мая 1910 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564000" y="1628280"/>
            <a:ext cx="5580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37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бют а качестве пианиста и дирижё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62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алакирев организует в Петербур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сплатную музыкальную школу. Симфон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эма «Русь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66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здание «Сборника русских народ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сен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67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своей статье впервые употребля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мин «Могучая куч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67-1869 г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Главный дирижёр Император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ского музыкального общ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82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имфоническая поэма «Тамар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83-1894 г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иректор Придворной певчес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пел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img192"/>
          <p:cNvPicPr/>
          <p:nvPr/>
        </p:nvPicPr>
        <p:blipFill>
          <a:blip r:embed="rId1"/>
          <a:stretch/>
        </p:blipFill>
        <p:spPr>
          <a:xfrm>
            <a:off x="395280" y="1557360"/>
            <a:ext cx="3148200" cy="38671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5">
            <a:hlinkClick r:id="rId2" action="ppaction://hlinksldjump"/>
          </p:cNvPr>
          <p:cNvSpPr/>
          <p:nvPr/>
        </p:nvSpPr>
        <p:spPr>
          <a:xfrm>
            <a:off x="8244000" y="6165720"/>
            <a:ext cx="684000" cy="522360"/>
          </a:xfrm>
          <a:custGeom>
            <a:avLst/>
            <a:gdLst>
              <a:gd name="textAreaLeft" fmla="*/ 33840 w 684000"/>
              <a:gd name="textAreaRight" fmla="*/ 650160 w 68400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8279" h="21600">
                <a:moveTo>
                  <a:pt x="0" y="0"/>
                </a:moveTo>
                <a:lnTo>
                  <a:pt x="28279" y="0"/>
                </a:lnTo>
                <a:lnTo>
                  <a:pt x="28279" y="21600"/>
                </a:lnTo>
                <a:lnTo>
                  <a:pt x="0" y="21600"/>
                </a:lnTo>
                <a:close/>
              </a:path>
              <a:path fill="lightenLess" w="28279" h="21600">
                <a:moveTo>
                  <a:pt x="0" y="0"/>
                </a:moveTo>
                <a:lnTo>
                  <a:pt x="28279" y="0"/>
                </a:lnTo>
                <a:lnTo>
                  <a:pt x="26879" y="1400"/>
                </a:lnTo>
                <a:lnTo>
                  <a:pt x="1400" y="1400"/>
                </a:lnTo>
                <a:close/>
              </a:path>
              <a:path fill="darken" w="28279" h="21600">
                <a:moveTo>
                  <a:pt x="28279" y="0"/>
                </a:moveTo>
                <a:lnTo>
                  <a:pt x="28279" y="21600"/>
                </a:lnTo>
                <a:lnTo>
                  <a:pt x="26879" y="20200"/>
                </a:lnTo>
                <a:lnTo>
                  <a:pt x="26879" y="1400"/>
                </a:lnTo>
                <a:close/>
              </a:path>
              <a:path fill="darkenLess" w="28279" h="21600">
                <a:moveTo>
                  <a:pt x="28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9" y="20200"/>
                </a:lnTo>
                <a:close/>
              </a:path>
              <a:path fill="lighten" w="28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9" h="21600">
                <a:moveTo>
                  <a:pt x="7133" y="10800"/>
                </a:moveTo>
                <a:lnTo>
                  <a:pt x="21146" y="3794"/>
                </a:lnTo>
                <a:lnTo>
                  <a:pt x="211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Модест Петрович Мусоргский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(1839 -1881 г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843280" y="1197000"/>
            <a:ext cx="6300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.П. Мусоргского считают создателем «самой народно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духу музы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оценённый при жизни, угасший в 42 года, 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мертно был признан мировым г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ест Петрович стойко выносил критику, враждеб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сившихся к «Могучей кучке» композиторов. Товари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озитора так же критиковали его. Так лучшие 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едения: оперы «Борис Годунов» и «Хованщина»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ли с прохладцей встречены друзьями. Ему советов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-то подправить, изменить, убрать… В кружке бы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ято говорить правду в глаза. Музыка Мусорг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-за своей оригинальности не укладывалась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принятые рамки и воспринималась как неч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ихий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img194"/>
          <p:cNvPicPr/>
          <p:nvPr/>
        </p:nvPicPr>
        <p:blipFill>
          <a:blip r:embed="rId1"/>
          <a:stretch/>
        </p:blipFill>
        <p:spPr>
          <a:xfrm>
            <a:off x="179280" y="1197000"/>
            <a:ext cx="2724120" cy="424800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5">
            <a:hlinkClick r:id="rId2" action="ppaction://hlinksldjump"/>
          </p:cNvPr>
          <p:cNvSpPr/>
          <p:nvPr/>
        </p:nvSpPr>
        <p:spPr>
          <a:xfrm>
            <a:off x="8244000" y="6165720"/>
            <a:ext cx="684000" cy="522360"/>
          </a:xfrm>
          <a:custGeom>
            <a:avLst/>
            <a:gdLst>
              <a:gd name="textAreaLeft" fmla="*/ 33840 w 684000"/>
              <a:gd name="textAreaRight" fmla="*/ 650160 w 68400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8279" h="21600">
                <a:moveTo>
                  <a:pt x="0" y="0"/>
                </a:moveTo>
                <a:lnTo>
                  <a:pt x="28279" y="0"/>
                </a:lnTo>
                <a:lnTo>
                  <a:pt x="28279" y="21600"/>
                </a:lnTo>
                <a:lnTo>
                  <a:pt x="0" y="21600"/>
                </a:lnTo>
                <a:close/>
              </a:path>
              <a:path fill="lightenLess" w="28279" h="21600">
                <a:moveTo>
                  <a:pt x="0" y="0"/>
                </a:moveTo>
                <a:lnTo>
                  <a:pt x="28279" y="0"/>
                </a:lnTo>
                <a:lnTo>
                  <a:pt x="26879" y="1400"/>
                </a:lnTo>
                <a:lnTo>
                  <a:pt x="1400" y="1400"/>
                </a:lnTo>
                <a:close/>
              </a:path>
              <a:path fill="darken" w="28279" h="21600">
                <a:moveTo>
                  <a:pt x="28279" y="0"/>
                </a:moveTo>
                <a:lnTo>
                  <a:pt x="28279" y="21600"/>
                </a:lnTo>
                <a:lnTo>
                  <a:pt x="26879" y="20200"/>
                </a:lnTo>
                <a:lnTo>
                  <a:pt x="26879" y="1400"/>
                </a:lnTo>
                <a:close/>
              </a:path>
              <a:path fill="darkenLess" w="28279" h="21600">
                <a:moveTo>
                  <a:pt x="28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9" y="20200"/>
                </a:lnTo>
                <a:close/>
              </a:path>
              <a:path fill="lighten" w="28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9" h="21600">
                <a:moveTo>
                  <a:pt x="7133" y="10800"/>
                </a:moveTo>
                <a:lnTo>
                  <a:pt x="21146" y="3794"/>
                </a:lnTo>
                <a:lnTo>
                  <a:pt x="211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Николай Андреевич Римский – Корсаков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(1844 – 1908 гг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560" y="6021360"/>
            <a:ext cx="453708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.А. Римский – Корсаков «Полёт шмел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92360" y="1052280"/>
            <a:ext cx="5508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зыка Римского – Корсакова впитала в себ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оцветие народных сказок, и напев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ских песен. Композитор боготворил прир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1861 г. он являлся членом «Могучей кучк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его собственному признанию, без этого 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яд ли стал бы композитором.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делаться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узыкантом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вспоминал Римский – Корсаков,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я никогда не мечтал, учился музыке не особен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лежно, и меня пленяла мысль быть  моряко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почему тема моря так часто встречае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зыкальных произведениях композито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Садко», в опере «Сказ о царе Салтане»,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мфонической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юит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Шехереза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 же в таких произведениях, как «Майская ночь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Моцарт и Сальери», «Царская невеста» - чита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р музыкального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раматур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684000" cy="522360"/>
          </a:xfrm>
          <a:custGeom>
            <a:avLst/>
            <a:gdLst>
              <a:gd name="textAreaLeft" fmla="*/ 33840 w 684000"/>
              <a:gd name="textAreaRight" fmla="*/ 650160 w 68400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8279" h="21600">
                <a:moveTo>
                  <a:pt x="0" y="0"/>
                </a:moveTo>
                <a:lnTo>
                  <a:pt x="28279" y="0"/>
                </a:lnTo>
                <a:lnTo>
                  <a:pt x="28279" y="21600"/>
                </a:lnTo>
                <a:lnTo>
                  <a:pt x="0" y="21600"/>
                </a:lnTo>
                <a:close/>
              </a:path>
              <a:path fill="lightenLess" w="28279" h="21600">
                <a:moveTo>
                  <a:pt x="0" y="0"/>
                </a:moveTo>
                <a:lnTo>
                  <a:pt x="28279" y="0"/>
                </a:lnTo>
                <a:lnTo>
                  <a:pt x="26879" y="1400"/>
                </a:lnTo>
                <a:lnTo>
                  <a:pt x="1400" y="1400"/>
                </a:lnTo>
                <a:close/>
              </a:path>
              <a:path fill="darken" w="28279" h="21600">
                <a:moveTo>
                  <a:pt x="28279" y="0"/>
                </a:moveTo>
                <a:lnTo>
                  <a:pt x="28279" y="21600"/>
                </a:lnTo>
                <a:lnTo>
                  <a:pt x="26879" y="20200"/>
                </a:lnTo>
                <a:lnTo>
                  <a:pt x="26879" y="1400"/>
                </a:lnTo>
                <a:close/>
              </a:path>
              <a:path fill="darkenLess" w="28279" h="21600">
                <a:moveTo>
                  <a:pt x="28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9" y="20200"/>
                </a:lnTo>
                <a:close/>
              </a:path>
              <a:path fill="lighten" w="28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9" h="21600">
                <a:moveTo>
                  <a:pt x="7133" y="10800"/>
                </a:moveTo>
                <a:lnTo>
                  <a:pt x="21146" y="3794"/>
                </a:lnTo>
                <a:lnTo>
                  <a:pt x="211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img195"/>
          <p:cNvPicPr/>
          <p:nvPr/>
        </p:nvPicPr>
        <p:blipFill>
          <a:blip r:embed="rId4"/>
          <a:stretch/>
        </p:blipFill>
        <p:spPr>
          <a:xfrm>
            <a:off x="0" y="1125360"/>
            <a:ext cx="3508200" cy="4392720"/>
          </a:xfrm>
          <a:prstGeom prst="rect">
            <a:avLst/>
          </a:prstGeom>
          <a:ln w="0">
            <a:noFill/>
          </a:ln>
        </p:spPr>
      </p:pic>
      <p:sp>
        <p:nvSpPr>
          <p:cNvPr id="235" name="Line 9"/>
          <p:cNvSpPr/>
          <p:nvPr/>
        </p:nvSpPr>
        <p:spPr>
          <a:xfrm>
            <a:off x="4716360" y="6524640"/>
            <a:ext cx="1295640" cy="0"/>
          </a:xfrm>
          <a:prstGeom prst="line">
            <a:avLst/>
          </a:prstGeom>
          <a:ln w="63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79. Н.Римский-Корсаков - Полет шмеля..mp3" descr=""/>
          <p:cNvPicPr/>
          <p:nvPr/>
        </p:nvPicPr>
        <p:blipFill>
          <a:blip r:embed="rId5"/>
          <a:stretch/>
        </p:blipFill>
        <p:spPr>
          <a:xfrm>
            <a:off x="6500880" y="564372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69382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280" y="-5395320"/>
            <a:ext cx="277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"/>
              </a:rPr>
              <a:t>Сюита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франц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it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буквально – ряд, последовательность), од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основных циклических форм инструментальной музыки. Состо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нескольких самостоятельных частей, объединённых общ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удожественным замы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"/>
              </a:rPr>
              <a:t>Драма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реч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буквально, действие), 1) один их трёх р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ы (наряду с эпосом и лирикой). Драма 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адлежит литературе и театру.   Драма всегда тяготела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острым проблемам и в самых ярких образцах станови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одной. 2) Один из основных жанров (видов) драматургии наря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трагедией и комед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"/>
              </a:rPr>
              <a:t>Драматургия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греч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aturgi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совокупность драмат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ведений какого-либо писателя, народа, эпо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>
            <a:hlinkClick r:id="rId1" action="ppaction://hlinksldjump"/>
          </p:cNvPr>
          <p:cNvSpPr/>
          <p:nvPr/>
        </p:nvSpPr>
        <p:spPr>
          <a:xfrm>
            <a:off x="8028000" y="5734080"/>
            <a:ext cx="826920" cy="792000"/>
          </a:xfrm>
          <a:custGeom>
            <a:avLst/>
            <a:gdLst>
              <a:gd name="textAreaLeft" fmla="*/ 51120 w 826920"/>
              <a:gd name="textAreaRight" fmla="*/ 775800 w 826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2552" h="21600">
                <a:moveTo>
                  <a:pt x="0" y="0"/>
                </a:moveTo>
                <a:lnTo>
                  <a:pt x="22552" y="0"/>
                </a:lnTo>
                <a:lnTo>
                  <a:pt x="22552" y="21600"/>
                </a:lnTo>
                <a:lnTo>
                  <a:pt x="0" y="21600"/>
                </a:lnTo>
                <a:close/>
              </a:path>
              <a:path fill="lightenLess" w="22552" h="21600">
                <a:moveTo>
                  <a:pt x="0" y="0"/>
                </a:moveTo>
                <a:lnTo>
                  <a:pt x="22552" y="0"/>
                </a:lnTo>
                <a:lnTo>
                  <a:pt x="21152" y="1400"/>
                </a:lnTo>
                <a:lnTo>
                  <a:pt x="1400" y="1400"/>
                </a:lnTo>
                <a:close/>
              </a:path>
              <a:path fill="darken" w="22552" h="21600">
                <a:moveTo>
                  <a:pt x="22552" y="0"/>
                </a:moveTo>
                <a:lnTo>
                  <a:pt x="22552" y="21600"/>
                </a:lnTo>
                <a:lnTo>
                  <a:pt x="21152" y="20200"/>
                </a:lnTo>
                <a:lnTo>
                  <a:pt x="21152" y="1400"/>
                </a:lnTo>
                <a:close/>
              </a:path>
              <a:path fill="darkenLess" w="22552" h="21600">
                <a:moveTo>
                  <a:pt x="22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52" y="20200"/>
                </a:lnTo>
                <a:close/>
              </a:path>
              <a:path fill="lighten" w="22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52" h="21600">
                <a:moveTo>
                  <a:pt x="11276" y="3837"/>
                </a:moveTo>
                <a:lnTo>
                  <a:pt x="13852" y="6448"/>
                </a:lnTo>
                <a:lnTo>
                  <a:pt x="13852" y="4707"/>
                </a:lnTo>
                <a:lnTo>
                  <a:pt x="15628" y="4707"/>
                </a:lnTo>
                <a:lnTo>
                  <a:pt x="15628" y="8224"/>
                </a:lnTo>
                <a:lnTo>
                  <a:pt x="18239" y="10800"/>
                </a:lnTo>
                <a:lnTo>
                  <a:pt x="16585" y="10800"/>
                </a:lnTo>
                <a:lnTo>
                  <a:pt x="16585" y="17989"/>
                </a:lnTo>
                <a:lnTo>
                  <a:pt x="5967" y="17989"/>
                </a:lnTo>
                <a:lnTo>
                  <a:pt x="5967" y="10800"/>
                </a:lnTo>
                <a:lnTo>
                  <a:pt x="4313" y="10800"/>
                </a:lnTo>
                <a:close/>
              </a:path>
              <a:path fill="darkenLess" w="22552" h="21600">
                <a:moveTo>
                  <a:pt x="13852" y="6448"/>
                </a:moveTo>
                <a:lnTo>
                  <a:pt x="13852" y="4707"/>
                </a:lnTo>
                <a:lnTo>
                  <a:pt x="15628" y="4707"/>
                </a:lnTo>
                <a:lnTo>
                  <a:pt x="15628" y="8224"/>
                </a:lnTo>
                <a:close/>
              </a:path>
              <a:path fill="darkenLess" w="22552" h="21600">
                <a:moveTo>
                  <a:pt x="10353" y="14299"/>
                </a:moveTo>
                <a:lnTo>
                  <a:pt x="12199" y="14299"/>
                </a:lnTo>
                <a:lnTo>
                  <a:pt x="12199" y="17989"/>
                </a:lnTo>
                <a:lnTo>
                  <a:pt x="16585" y="17989"/>
                </a:lnTo>
                <a:lnTo>
                  <a:pt x="16585" y="10800"/>
                </a:lnTo>
                <a:lnTo>
                  <a:pt x="5967" y="10800"/>
                </a:lnTo>
                <a:lnTo>
                  <a:pt x="5967" y="17989"/>
                </a:lnTo>
                <a:lnTo>
                  <a:pt x="103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Пётр Ильич Чайковский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(7 мая 1840 – 6 ноября 1893 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5660640"/>
            <a:ext cx="540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.И Чайковск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 Сцена из балета «Лебединое озер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Сцена из балета «Щелкунчи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03280" y="1341000"/>
            <a:ext cx="594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торая полов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. подарила миру г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йковского, оставившего богатое музыка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лед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знь композитора – образец непрерыв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тойчивого труда. Плодотворную рабо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озитора он сочетал с деятельностью педагог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итика – публициста, дирижёра. Основная идея 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ворчества – борьба против тёмных сил жизн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двигающих препятствия на пути человека 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частью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Я- человек, страстно любящий жиз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столь же страстно ненавидящий смерть»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мые известные произведения Чайковског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летная трилогия – «Лебединое озеро»(1876г.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Щелкунчик»(1892 г.) и «Спящая красавица»(1889 г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еры – «Пиковая дама»(1891 г.) и «Евгений Онегин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878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img193"/>
          <p:cNvPicPr/>
          <p:nvPr/>
        </p:nvPicPr>
        <p:blipFill>
          <a:blip r:embed="rId1"/>
          <a:stretch/>
        </p:blipFill>
        <p:spPr>
          <a:xfrm>
            <a:off x="0" y="1341360"/>
            <a:ext cx="3176640" cy="39816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684000" cy="522360"/>
          </a:xfrm>
          <a:custGeom>
            <a:avLst/>
            <a:gdLst>
              <a:gd name="textAreaLeft" fmla="*/ 33840 w 684000"/>
              <a:gd name="textAreaRight" fmla="*/ 650160 w 68400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8279" h="21600">
                <a:moveTo>
                  <a:pt x="0" y="0"/>
                </a:moveTo>
                <a:lnTo>
                  <a:pt x="28279" y="0"/>
                </a:lnTo>
                <a:lnTo>
                  <a:pt x="28279" y="21600"/>
                </a:lnTo>
                <a:lnTo>
                  <a:pt x="0" y="21600"/>
                </a:lnTo>
                <a:close/>
              </a:path>
              <a:path fill="lightenLess" w="28279" h="21600">
                <a:moveTo>
                  <a:pt x="0" y="0"/>
                </a:moveTo>
                <a:lnTo>
                  <a:pt x="28279" y="0"/>
                </a:lnTo>
                <a:lnTo>
                  <a:pt x="26879" y="1400"/>
                </a:lnTo>
                <a:lnTo>
                  <a:pt x="1400" y="1400"/>
                </a:lnTo>
                <a:close/>
              </a:path>
              <a:path fill="darken" w="28279" h="21600">
                <a:moveTo>
                  <a:pt x="28279" y="0"/>
                </a:moveTo>
                <a:lnTo>
                  <a:pt x="28279" y="21600"/>
                </a:lnTo>
                <a:lnTo>
                  <a:pt x="26879" y="20200"/>
                </a:lnTo>
                <a:lnTo>
                  <a:pt x="26879" y="1400"/>
                </a:lnTo>
                <a:close/>
              </a:path>
              <a:path fill="darkenLess" w="28279" h="21600">
                <a:moveTo>
                  <a:pt x="28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9" y="20200"/>
                </a:lnTo>
                <a:close/>
              </a:path>
              <a:path fill="lighten" w="28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9" h="21600">
                <a:moveTo>
                  <a:pt x="7133" y="10800"/>
                </a:moveTo>
                <a:lnTo>
                  <a:pt x="21146" y="3794"/>
                </a:lnTo>
                <a:lnTo>
                  <a:pt x="211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508720" y="6093000"/>
            <a:ext cx="1295280" cy="0"/>
          </a:xfrm>
          <a:prstGeom prst="line">
            <a:avLst/>
          </a:prstGeom>
          <a:ln w="63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5508720" y="6524640"/>
            <a:ext cx="1295280" cy="0"/>
          </a:xfrm>
          <a:prstGeom prst="line">
            <a:avLst/>
          </a:prstGeom>
          <a:ln w="63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лебединное озеро.mp3" descr=""/>
          <p:cNvPicPr/>
          <p:nvPr/>
        </p:nvPicPr>
        <p:blipFill>
          <a:blip r:embed="rId3"/>
          <a:stretch/>
        </p:blipFill>
        <p:spPr>
          <a:xfrm>
            <a:off x="7215120" y="5786280"/>
            <a:ext cx="509760" cy="509760"/>
          </a:xfrm>
          <a:prstGeom prst="rect">
            <a:avLst/>
          </a:prstGeom>
          <a:ln w="0">
            <a:noFill/>
          </a:ln>
        </p:spPr>
      </p:pic>
      <p:pic>
        <p:nvPicPr>
          <p:cNvPr id="248" name="nutr-щелкунчик.mp3" descr=""/>
          <p:cNvPicPr/>
          <p:nvPr/>
        </p:nvPicPr>
        <p:blipFill>
          <a:blip r:embed="rId4"/>
          <a:stretch/>
        </p:blipFill>
        <p:spPr>
          <a:xfrm>
            <a:off x="7215120" y="635796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94996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47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ff"/>
                </a:solidFill>
                <a:latin typeface="Arial"/>
              </a:rPr>
              <a:t>Скульптура и архитекту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известным скульпторам второй половин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. был М.М. Антокольск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своим воззрениям он примыкал к передвижникам. Мастер создал сер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торических портретов: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Ермак»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Иван Грозный», «Пётр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дающимся событием культурной жизни было открытие памятника А.С. Пушкина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Москве в июне 1880 г. Автор памятника скульптор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А.М. Опекуш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.О. Микешен в памятнике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«Тысячелетие России»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ом в Новгороде в 1862 г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ставил в бронзе 129 скульптурных фигу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архитектуре себя окончательно изживал классицизм. Новые типы зда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бовали новых архитектурных решений. Зодчие применяли декорат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рмы прошлого, что  привело к господству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эклектики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рокое распростра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чил неорусский (или псевдорусский стиль). В моду вошли шатров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вершения, башенки, фигурные наличники. Особенности архитектуры того времен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женерное искусство, поиск прочных, но при этом дешёвых матери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м стиле были построены знаменитые московские здания –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Исторического музе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(А.А. Семёнов и В.О. Шервуд)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Городской Думы(Д.Н. Чичагов)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Верхних торговых ря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(А.П. Померанцев)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собой страницей русской архитектур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 стали многоэтаж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>
            <a:hlinkClick r:id="rId9" action="ppaction://hlinksldjump"/>
          </p:cNvPr>
          <p:cNvSpPr/>
          <p:nvPr/>
        </p:nvSpPr>
        <p:spPr>
          <a:xfrm>
            <a:off x="7380360" y="602136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3794" y="12135"/>
                </a:moveTo>
                <a:lnTo>
                  <a:pt x="17806" y="5128"/>
                </a:lnTo>
                <a:lnTo>
                  <a:pt x="17806" y="191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8172360" y="602136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3794" y="5128"/>
                </a:moveTo>
                <a:lnTo>
                  <a:pt x="17806" y="12135"/>
                </a:lnTo>
                <a:lnTo>
                  <a:pt x="3794" y="191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Памятник А. С. Пушкину в Москве,</a:t>
            </a:r>
            <a:br>
              <a:rPr sz="3200"/>
            </a:b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скульптор А. М. Опекуш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244000" y="6126120"/>
            <a:ext cx="4428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7740720" y="5734080"/>
            <a:ext cx="934920" cy="898560"/>
          </a:xfrm>
          <a:custGeom>
            <a:avLst/>
            <a:gdLst>
              <a:gd name="textAreaLeft" fmla="*/ 57960 w 934920"/>
              <a:gd name="textAreaRight" fmla="*/ 876960 w 93492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2474" h="21600">
                <a:moveTo>
                  <a:pt x="0" y="0"/>
                </a:moveTo>
                <a:lnTo>
                  <a:pt x="22474" y="0"/>
                </a:lnTo>
                <a:lnTo>
                  <a:pt x="22474" y="21600"/>
                </a:lnTo>
                <a:lnTo>
                  <a:pt x="0" y="21600"/>
                </a:lnTo>
                <a:close/>
              </a:path>
              <a:path fill="lightenLess" w="22474" h="21600">
                <a:moveTo>
                  <a:pt x="0" y="0"/>
                </a:moveTo>
                <a:lnTo>
                  <a:pt x="22474" y="0"/>
                </a:lnTo>
                <a:lnTo>
                  <a:pt x="21074" y="1400"/>
                </a:lnTo>
                <a:lnTo>
                  <a:pt x="1400" y="1400"/>
                </a:lnTo>
                <a:close/>
              </a:path>
              <a:path fill="darken" w="22474" h="21600">
                <a:moveTo>
                  <a:pt x="22474" y="0"/>
                </a:moveTo>
                <a:lnTo>
                  <a:pt x="22474" y="21600"/>
                </a:lnTo>
                <a:lnTo>
                  <a:pt x="21074" y="20200"/>
                </a:lnTo>
                <a:lnTo>
                  <a:pt x="21074" y="1400"/>
                </a:lnTo>
                <a:close/>
              </a:path>
              <a:path fill="darkenLess" w="22474" h="21600">
                <a:moveTo>
                  <a:pt x="22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4" y="20200"/>
                </a:lnTo>
                <a:close/>
              </a:path>
              <a:path fill="lighten" w="22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4" h="21600">
                <a:moveTo>
                  <a:pt x="4230" y="7493"/>
                </a:moveTo>
                <a:lnTo>
                  <a:pt x="7738" y="7493"/>
                </a:lnTo>
                <a:lnTo>
                  <a:pt x="7738" y="12828"/>
                </a:lnTo>
                <a:cubicBezTo>
                  <a:pt x="7738" y="13751"/>
                  <a:pt x="8539" y="14482"/>
                  <a:pt x="9574" y="14482"/>
                </a:cubicBezTo>
                <a:lnTo>
                  <a:pt x="11237" y="14482"/>
                </a:lnTo>
                <a:cubicBezTo>
                  <a:pt x="12273" y="14482"/>
                  <a:pt x="13073" y="13751"/>
                  <a:pt x="13073" y="12828"/>
                </a:cubicBezTo>
                <a:lnTo>
                  <a:pt x="13073" y="7493"/>
                </a:lnTo>
                <a:lnTo>
                  <a:pt x="11237" y="7493"/>
                </a:lnTo>
                <a:lnTo>
                  <a:pt x="14744" y="3985"/>
                </a:lnTo>
                <a:lnTo>
                  <a:pt x="18417" y="7493"/>
                </a:lnTo>
                <a:lnTo>
                  <a:pt x="16581" y="7493"/>
                </a:lnTo>
                <a:lnTo>
                  <a:pt x="16581" y="12828"/>
                </a:lnTo>
                <a:cubicBezTo>
                  <a:pt x="16581" y="15596"/>
                  <a:pt x="14005" y="18155"/>
                  <a:pt x="11237" y="18155"/>
                </a:cubicBezTo>
                <a:lnTo>
                  <a:pt x="9574" y="18155"/>
                </a:lnTo>
                <a:cubicBezTo>
                  <a:pt x="6807" y="18155"/>
                  <a:pt x="4230" y="15596"/>
                  <a:pt x="423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07ni910i"/>
          <p:cNvPicPr/>
          <p:nvPr/>
        </p:nvPicPr>
        <p:blipFill>
          <a:blip r:embed="rId1"/>
          <a:stretch/>
        </p:blipFill>
        <p:spPr>
          <a:xfrm>
            <a:off x="2124000" y="1457280"/>
            <a:ext cx="4853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348000" y="274680"/>
            <a:ext cx="53388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«Ермак»</a:t>
            </a:r>
            <a:br>
              <a:rPr sz="3200"/>
            </a:b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скульптор </a:t>
            </a:r>
            <a:br>
              <a:rPr sz="3200"/>
            </a:b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М.М. Антоколь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67280" y="5949720"/>
            <a:ext cx="21744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img196"/>
          <p:cNvPicPr/>
          <p:nvPr/>
        </p:nvPicPr>
        <p:blipFill>
          <a:blip r:embed="rId1"/>
          <a:stretch/>
        </p:blipFill>
        <p:spPr>
          <a:xfrm>
            <a:off x="971640" y="0"/>
            <a:ext cx="282096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6"/>
          <p:cNvSpPr/>
          <p:nvPr/>
        </p:nvSpPr>
        <p:spPr>
          <a:xfrm>
            <a:off x="7740720" y="5734080"/>
            <a:ext cx="934920" cy="898560"/>
          </a:xfrm>
          <a:custGeom>
            <a:avLst/>
            <a:gdLst>
              <a:gd name="textAreaLeft" fmla="*/ 57960 w 934920"/>
              <a:gd name="textAreaRight" fmla="*/ 876960 w 93492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2474" h="21600">
                <a:moveTo>
                  <a:pt x="0" y="0"/>
                </a:moveTo>
                <a:lnTo>
                  <a:pt x="22474" y="0"/>
                </a:lnTo>
                <a:lnTo>
                  <a:pt x="22474" y="21600"/>
                </a:lnTo>
                <a:lnTo>
                  <a:pt x="0" y="21600"/>
                </a:lnTo>
                <a:close/>
              </a:path>
              <a:path fill="lightenLess" w="22474" h="21600">
                <a:moveTo>
                  <a:pt x="0" y="0"/>
                </a:moveTo>
                <a:lnTo>
                  <a:pt x="22474" y="0"/>
                </a:lnTo>
                <a:lnTo>
                  <a:pt x="21074" y="1400"/>
                </a:lnTo>
                <a:lnTo>
                  <a:pt x="1400" y="1400"/>
                </a:lnTo>
                <a:close/>
              </a:path>
              <a:path fill="darken" w="22474" h="21600">
                <a:moveTo>
                  <a:pt x="22474" y="0"/>
                </a:moveTo>
                <a:lnTo>
                  <a:pt x="22474" y="21600"/>
                </a:lnTo>
                <a:lnTo>
                  <a:pt x="21074" y="20200"/>
                </a:lnTo>
                <a:lnTo>
                  <a:pt x="21074" y="1400"/>
                </a:lnTo>
                <a:close/>
              </a:path>
              <a:path fill="darkenLess" w="22474" h="21600">
                <a:moveTo>
                  <a:pt x="22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4" y="20200"/>
                </a:lnTo>
                <a:close/>
              </a:path>
              <a:path fill="lighten" w="22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4" h="21600">
                <a:moveTo>
                  <a:pt x="4230" y="7493"/>
                </a:moveTo>
                <a:lnTo>
                  <a:pt x="7738" y="7493"/>
                </a:lnTo>
                <a:lnTo>
                  <a:pt x="7738" y="12828"/>
                </a:lnTo>
                <a:cubicBezTo>
                  <a:pt x="7738" y="13751"/>
                  <a:pt x="8539" y="14482"/>
                  <a:pt x="9574" y="14482"/>
                </a:cubicBezTo>
                <a:lnTo>
                  <a:pt x="11237" y="14482"/>
                </a:lnTo>
                <a:cubicBezTo>
                  <a:pt x="12273" y="14482"/>
                  <a:pt x="13073" y="13751"/>
                  <a:pt x="13073" y="12828"/>
                </a:cubicBezTo>
                <a:lnTo>
                  <a:pt x="13073" y="7493"/>
                </a:lnTo>
                <a:lnTo>
                  <a:pt x="11237" y="7493"/>
                </a:lnTo>
                <a:lnTo>
                  <a:pt x="14744" y="3985"/>
                </a:lnTo>
                <a:lnTo>
                  <a:pt x="18417" y="7493"/>
                </a:lnTo>
                <a:lnTo>
                  <a:pt x="16581" y="7493"/>
                </a:lnTo>
                <a:lnTo>
                  <a:pt x="16581" y="12828"/>
                </a:lnTo>
                <a:cubicBezTo>
                  <a:pt x="16581" y="15596"/>
                  <a:pt x="14005" y="18155"/>
                  <a:pt x="11237" y="18155"/>
                </a:cubicBezTo>
                <a:lnTo>
                  <a:pt x="9574" y="18155"/>
                </a:lnTo>
                <a:cubicBezTo>
                  <a:pt x="6807" y="18155"/>
                  <a:pt x="4230" y="15596"/>
                  <a:pt x="423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normal_12~8"/>
          <p:cNvPicPr/>
          <p:nvPr/>
        </p:nvPicPr>
        <p:blipFill>
          <a:blip r:embed="rId1"/>
          <a:stretch/>
        </p:blipFill>
        <p:spPr>
          <a:xfrm>
            <a:off x="4932360" y="333360"/>
            <a:ext cx="3708360" cy="49420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6588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8028000" y="5805360"/>
            <a:ext cx="934920" cy="898560"/>
          </a:xfrm>
          <a:custGeom>
            <a:avLst/>
            <a:gdLst>
              <a:gd name="textAreaLeft" fmla="*/ 57960 w 934920"/>
              <a:gd name="textAreaRight" fmla="*/ 876960 w 93492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2474" h="21600">
                <a:moveTo>
                  <a:pt x="0" y="0"/>
                </a:moveTo>
                <a:lnTo>
                  <a:pt x="22474" y="0"/>
                </a:lnTo>
                <a:lnTo>
                  <a:pt x="22474" y="21600"/>
                </a:lnTo>
                <a:lnTo>
                  <a:pt x="0" y="21600"/>
                </a:lnTo>
                <a:close/>
              </a:path>
              <a:path fill="lightenLess" w="22474" h="21600">
                <a:moveTo>
                  <a:pt x="0" y="0"/>
                </a:moveTo>
                <a:lnTo>
                  <a:pt x="22474" y="0"/>
                </a:lnTo>
                <a:lnTo>
                  <a:pt x="21074" y="1400"/>
                </a:lnTo>
                <a:lnTo>
                  <a:pt x="1400" y="1400"/>
                </a:lnTo>
                <a:close/>
              </a:path>
              <a:path fill="darken" w="22474" h="21600">
                <a:moveTo>
                  <a:pt x="22474" y="0"/>
                </a:moveTo>
                <a:lnTo>
                  <a:pt x="22474" y="21600"/>
                </a:lnTo>
                <a:lnTo>
                  <a:pt x="21074" y="20200"/>
                </a:lnTo>
                <a:lnTo>
                  <a:pt x="21074" y="1400"/>
                </a:lnTo>
                <a:close/>
              </a:path>
              <a:path fill="darkenLess" w="22474" h="21600">
                <a:moveTo>
                  <a:pt x="22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4" y="20200"/>
                </a:lnTo>
                <a:close/>
              </a:path>
              <a:path fill="lighten" w="22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4" h="21600">
                <a:moveTo>
                  <a:pt x="4230" y="7493"/>
                </a:moveTo>
                <a:lnTo>
                  <a:pt x="7738" y="7493"/>
                </a:lnTo>
                <a:lnTo>
                  <a:pt x="7738" y="12828"/>
                </a:lnTo>
                <a:cubicBezTo>
                  <a:pt x="7738" y="13751"/>
                  <a:pt x="8539" y="14482"/>
                  <a:pt x="9574" y="14482"/>
                </a:cubicBezTo>
                <a:lnTo>
                  <a:pt x="11237" y="14482"/>
                </a:lnTo>
                <a:cubicBezTo>
                  <a:pt x="12273" y="14482"/>
                  <a:pt x="13073" y="13751"/>
                  <a:pt x="13073" y="12828"/>
                </a:cubicBezTo>
                <a:lnTo>
                  <a:pt x="13073" y="7493"/>
                </a:lnTo>
                <a:lnTo>
                  <a:pt x="11237" y="7493"/>
                </a:lnTo>
                <a:lnTo>
                  <a:pt x="14744" y="3985"/>
                </a:lnTo>
                <a:lnTo>
                  <a:pt x="18417" y="7493"/>
                </a:lnTo>
                <a:lnTo>
                  <a:pt x="16581" y="7493"/>
                </a:lnTo>
                <a:lnTo>
                  <a:pt x="16581" y="12828"/>
                </a:lnTo>
                <a:cubicBezTo>
                  <a:pt x="16581" y="15596"/>
                  <a:pt x="14005" y="18155"/>
                  <a:pt x="11237" y="18155"/>
                </a:cubicBezTo>
                <a:lnTo>
                  <a:pt x="9574" y="18155"/>
                </a:lnTo>
                <a:cubicBezTo>
                  <a:pt x="6807" y="18155"/>
                  <a:pt x="4230" y="15596"/>
                  <a:pt x="423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normal_12~8"/>
          <p:cNvPicPr/>
          <p:nvPr/>
        </p:nvPicPr>
        <p:blipFill>
          <a:blip r:embed="rId2"/>
          <a:stretch/>
        </p:blipFill>
        <p:spPr>
          <a:xfrm>
            <a:off x="179280" y="1384200"/>
            <a:ext cx="4106880" cy="5473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normal_12~8"/>
          <p:cNvPicPr/>
          <p:nvPr/>
        </p:nvPicPr>
        <p:blipFill>
          <a:blip r:embed="rId3"/>
          <a:stretch/>
        </p:blipFill>
        <p:spPr>
          <a:xfrm>
            <a:off x="234000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-360" y="259920"/>
            <a:ext cx="51116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«Тысячилетие России»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скульптор М.О. Микеш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Эклектика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мешения разных художеств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и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9"/>
          <p:cNvSpPr/>
          <p:nvPr/>
        </p:nvSpPr>
        <p:spPr>
          <a:xfrm>
            <a:off x="7740720" y="5589720"/>
            <a:ext cx="826920" cy="93492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934920"/>
              <a:gd name="textAreaBottom" fmla="*/ 881640 h 934920"/>
            </a:gdLst>
            <a:ahLst/>
            <a:rect l="textAreaLeft" t="textAreaTop" r="textAreaRight" b="textAreaBottom"/>
            <a:pathLst>
              <a:path w="21600" h="24420">
                <a:moveTo>
                  <a:pt x="0" y="0"/>
                </a:moveTo>
                <a:lnTo>
                  <a:pt x="21600" y="0"/>
                </a:lnTo>
                <a:lnTo>
                  <a:pt x="21600" y="24420"/>
                </a:lnTo>
                <a:lnTo>
                  <a:pt x="0" y="24420"/>
                </a:lnTo>
                <a:close/>
              </a:path>
              <a:path fill="lightenLess" w="21600" h="244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20">
                <a:moveTo>
                  <a:pt x="21600" y="0"/>
                </a:moveTo>
                <a:lnTo>
                  <a:pt x="21600" y="24420"/>
                </a:lnTo>
                <a:lnTo>
                  <a:pt x="20200" y="23020"/>
                </a:lnTo>
                <a:lnTo>
                  <a:pt x="20200" y="1400"/>
                </a:lnTo>
                <a:close/>
              </a:path>
              <a:path fill="darkenLess" w="21600" h="24420">
                <a:moveTo>
                  <a:pt x="21600" y="24420"/>
                </a:moveTo>
                <a:lnTo>
                  <a:pt x="0" y="24420"/>
                </a:lnTo>
                <a:lnTo>
                  <a:pt x="1400" y="23020"/>
                </a:lnTo>
                <a:lnTo>
                  <a:pt x="20200" y="23020"/>
                </a:lnTo>
                <a:close/>
              </a:path>
              <a:path fill="lighten" w="21600" h="24420">
                <a:moveTo>
                  <a:pt x="0" y="244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20"/>
                </a:lnTo>
                <a:close/>
              </a:path>
              <a:path fill="darken" w="21600" h="24420">
                <a:moveTo>
                  <a:pt x="10800" y="5247"/>
                </a:moveTo>
                <a:lnTo>
                  <a:pt x="13376" y="7858"/>
                </a:lnTo>
                <a:lnTo>
                  <a:pt x="13376" y="6117"/>
                </a:lnTo>
                <a:lnTo>
                  <a:pt x="15152" y="6117"/>
                </a:lnTo>
                <a:lnTo>
                  <a:pt x="15152" y="9634"/>
                </a:lnTo>
                <a:lnTo>
                  <a:pt x="17763" y="12210"/>
                </a:lnTo>
                <a:lnTo>
                  <a:pt x="16109" y="12210"/>
                </a:lnTo>
                <a:lnTo>
                  <a:pt x="16109" y="19399"/>
                </a:lnTo>
                <a:lnTo>
                  <a:pt x="5491" y="19399"/>
                </a:lnTo>
                <a:lnTo>
                  <a:pt x="5491" y="12210"/>
                </a:lnTo>
                <a:lnTo>
                  <a:pt x="3837" y="12210"/>
                </a:lnTo>
                <a:close/>
              </a:path>
              <a:path fill="darkenLess" w="21600" h="24420">
                <a:moveTo>
                  <a:pt x="13376" y="7858"/>
                </a:moveTo>
                <a:lnTo>
                  <a:pt x="13376" y="6117"/>
                </a:lnTo>
                <a:lnTo>
                  <a:pt x="15152" y="6117"/>
                </a:lnTo>
                <a:lnTo>
                  <a:pt x="15152" y="9634"/>
                </a:lnTo>
                <a:close/>
              </a:path>
              <a:path fill="darkenLess" w="21600" h="24420">
                <a:moveTo>
                  <a:pt x="9877" y="15709"/>
                </a:moveTo>
                <a:lnTo>
                  <a:pt x="11723" y="15709"/>
                </a:lnTo>
                <a:lnTo>
                  <a:pt x="11723" y="19399"/>
                </a:lnTo>
                <a:lnTo>
                  <a:pt x="16109" y="19399"/>
                </a:lnTo>
                <a:lnTo>
                  <a:pt x="16109" y="12210"/>
                </a:lnTo>
                <a:lnTo>
                  <a:pt x="5491" y="12210"/>
                </a:lnTo>
                <a:lnTo>
                  <a:pt x="5491" y="19399"/>
                </a:lnTo>
                <a:lnTo>
                  <a:pt x="9877" y="193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Художественная культура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это совокупность всех видов художественной деятельности – словесной, музыкальной, театральной, изобразительной и т.п., включая продукт и процесс этой деятельности, а именно: созидание, хранение, распространение, восприятие, оценку, изучение художественный произведений, воспитание критиков, искусствоведов, публ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>
            <a:hlinkClick r:id="rId1" action="ppaction://hlinksldjump"/>
          </p:cNvPr>
          <p:cNvSpPr/>
          <p:nvPr/>
        </p:nvSpPr>
        <p:spPr>
          <a:xfrm>
            <a:off x="75247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7" descr="img197"/>
          <p:cNvPicPr/>
          <p:nvPr/>
        </p:nvPicPr>
        <p:blipFill>
          <a:blip r:embed="rId1"/>
          <a:stretch/>
        </p:blipFill>
        <p:spPr>
          <a:xfrm>
            <a:off x="179280" y="692280"/>
            <a:ext cx="5237280" cy="61657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«Исторический музей» в 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Москве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архитекторы – 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А.А. Семёнов, В.О. Шерву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6021000"/>
            <a:ext cx="1540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7740720" y="5734080"/>
            <a:ext cx="934920" cy="898560"/>
          </a:xfrm>
          <a:custGeom>
            <a:avLst/>
            <a:gdLst>
              <a:gd name="textAreaLeft" fmla="*/ 57960 w 934920"/>
              <a:gd name="textAreaRight" fmla="*/ 876960 w 93492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2474" h="21600">
                <a:moveTo>
                  <a:pt x="0" y="0"/>
                </a:moveTo>
                <a:lnTo>
                  <a:pt x="22474" y="0"/>
                </a:lnTo>
                <a:lnTo>
                  <a:pt x="22474" y="21600"/>
                </a:lnTo>
                <a:lnTo>
                  <a:pt x="0" y="21600"/>
                </a:lnTo>
                <a:close/>
              </a:path>
              <a:path fill="lightenLess" w="22474" h="21600">
                <a:moveTo>
                  <a:pt x="0" y="0"/>
                </a:moveTo>
                <a:lnTo>
                  <a:pt x="22474" y="0"/>
                </a:lnTo>
                <a:lnTo>
                  <a:pt x="21074" y="1400"/>
                </a:lnTo>
                <a:lnTo>
                  <a:pt x="1400" y="1400"/>
                </a:lnTo>
                <a:close/>
              </a:path>
              <a:path fill="darken" w="22474" h="21600">
                <a:moveTo>
                  <a:pt x="22474" y="0"/>
                </a:moveTo>
                <a:lnTo>
                  <a:pt x="22474" y="21600"/>
                </a:lnTo>
                <a:lnTo>
                  <a:pt x="21074" y="20200"/>
                </a:lnTo>
                <a:lnTo>
                  <a:pt x="21074" y="1400"/>
                </a:lnTo>
                <a:close/>
              </a:path>
              <a:path fill="darkenLess" w="22474" h="21600">
                <a:moveTo>
                  <a:pt x="22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4" y="20200"/>
                </a:lnTo>
                <a:close/>
              </a:path>
              <a:path fill="lighten" w="22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4" h="21600">
                <a:moveTo>
                  <a:pt x="4230" y="7493"/>
                </a:moveTo>
                <a:lnTo>
                  <a:pt x="7738" y="7493"/>
                </a:lnTo>
                <a:lnTo>
                  <a:pt x="7738" y="12828"/>
                </a:lnTo>
                <a:cubicBezTo>
                  <a:pt x="7738" y="13751"/>
                  <a:pt x="8539" y="14482"/>
                  <a:pt x="9574" y="14482"/>
                </a:cubicBezTo>
                <a:lnTo>
                  <a:pt x="11237" y="14482"/>
                </a:lnTo>
                <a:cubicBezTo>
                  <a:pt x="12273" y="14482"/>
                  <a:pt x="13073" y="13751"/>
                  <a:pt x="13073" y="12828"/>
                </a:cubicBezTo>
                <a:lnTo>
                  <a:pt x="13073" y="7493"/>
                </a:lnTo>
                <a:lnTo>
                  <a:pt x="11237" y="7493"/>
                </a:lnTo>
                <a:lnTo>
                  <a:pt x="14744" y="3985"/>
                </a:lnTo>
                <a:lnTo>
                  <a:pt x="18417" y="7493"/>
                </a:lnTo>
                <a:lnTo>
                  <a:pt x="16581" y="7493"/>
                </a:lnTo>
                <a:lnTo>
                  <a:pt x="16581" y="12828"/>
                </a:lnTo>
                <a:cubicBezTo>
                  <a:pt x="16581" y="15596"/>
                  <a:pt x="14005" y="18155"/>
                  <a:pt x="11237" y="18155"/>
                </a:cubicBezTo>
                <a:lnTo>
                  <a:pt x="9574" y="18155"/>
                </a:lnTo>
                <a:cubicBezTo>
                  <a:pt x="6807" y="18155"/>
                  <a:pt x="4230" y="15596"/>
                  <a:pt x="423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4358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ерхние торговые ряды (ныне</a:t>
            </a:r>
            <a:br>
              <a:rPr sz="3200"/>
            </a:b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здание ГУМА в Москве), архитектор</a:t>
            </a:r>
            <a:br>
              <a:rPr sz="3200"/>
            </a:b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А.П. Померанце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7343640" cy="515448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5"/>
          <p:cNvSpPr/>
          <p:nvPr/>
        </p:nvSpPr>
        <p:spPr>
          <a:xfrm>
            <a:off x="7740720" y="5734080"/>
            <a:ext cx="934920" cy="898560"/>
          </a:xfrm>
          <a:custGeom>
            <a:avLst/>
            <a:gdLst>
              <a:gd name="textAreaLeft" fmla="*/ 57960 w 934920"/>
              <a:gd name="textAreaRight" fmla="*/ 876960 w 93492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2474" h="21600">
                <a:moveTo>
                  <a:pt x="0" y="0"/>
                </a:moveTo>
                <a:lnTo>
                  <a:pt x="22474" y="0"/>
                </a:lnTo>
                <a:lnTo>
                  <a:pt x="22474" y="21600"/>
                </a:lnTo>
                <a:lnTo>
                  <a:pt x="0" y="21600"/>
                </a:lnTo>
                <a:close/>
              </a:path>
              <a:path fill="lightenLess" w="22474" h="21600">
                <a:moveTo>
                  <a:pt x="0" y="0"/>
                </a:moveTo>
                <a:lnTo>
                  <a:pt x="22474" y="0"/>
                </a:lnTo>
                <a:lnTo>
                  <a:pt x="21074" y="1400"/>
                </a:lnTo>
                <a:lnTo>
                  <a:pt x="1400" y="1400"/>
                </a:lnTo>
                <a:close/>
              </a:path>
              <a:path fill="darken" w="22474" h="21600">
                <a:moveTo>
                  <a:pt x="22474" y="0"/>
                </a:moveTo>
                <a:lnTo>
                  <a:pt x="22474" y="21600"/>
                </a:lnTo>
                <a:lnTo>
                  <a:pt x="21074" y="20200"/>
                </a:lnTo>
                <a:lnTo>
                  <a:pt x="21074" y="1400"/>
                </a:lnTo>
                <a:close/>
              </a:path>
              <a:path fill="darkenLess" w="22474" h="21600">
                <a:moveTo>
                  <a:pt x="22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4" y="20200"/>
                </a:lnTo>
                <a:close/>
              </a:path>
              <a:path fill="lighten" w="22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74" h="21600">
                <a:moveTo>
                  <a:pt x="4230" y="7493"/>
                </a:moveTo>
                <a:lnTo>
                  <a:pt x="7738" y="7493"/>
                </a:lnTo>
                <a:lnTo>
                  <a:pt x="7738" y="12828"/>
                </a:lnTo>
                <a:cubicBezTo>
                  <a:pt x="7738" y="13751"/>
                  <a:pt x="8539" y="14482"/>
                  <a:pt x="9574" y="14482"/>
                </a:cubicBezTo>
                <a:lnTo>
                  <a:pt x="11237" y="14482"/>
                </a:lnTo>
                <a:cubicBezTo>
                  <a:pt x="12273" y="14482"/>
                  <a:pt x="13073" y="13751"/>
                  <a:pt x="13073" y="12828"/>
                </a:cubicBezTo>
                <a:lnTo>
                  <a:pt x="13073" y="7493"/>
                </a:lnTo>
                <a:lnTo>
                  <a:pt x="11237" y="7493"/>
                </a:lnTo>
                <a:lnTo>
                  <a:pt x="14744" y="3985"/>
                </a:lnTo>
                <a:lnTo>
                  <a:pt x="18417" y="7493"/>
                </a:lnTo>
                <a:lnTo>
                  <a:pt x="16581" y="7493"/>
                </a:lnTo>
                <a:lnTo>
                  <a:pt x="16581" y="12828"/>
                </a:lnTo>
                <a:cubicBezTo>
                  <a:pt x="16581" y="15596"/>
                  <a:pt x="14005" y="18155"/>
                  <a:pt x="11237" y="18155"/>
                </a:cubicBezTo>
                <a:lnTo>
                  <a:pt x="9574" y="18155"/>
                </a:lnTo>
                <a:cubicBezTo>
                  <a:pt x="6807" y="18155"/>
                  <a:pt x="4230" y="15596"/>
                  <a:pt x="423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44704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Закрепление пройденного материал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777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седа по вопрос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а «Аукцио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755640" y="1628640"/>
            <a:ext cx="682560" cy="64800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2751" h="21600">
                <a:moveTo>
                  <a:pt x="0" y="0"/>
                </a:moveTo>
                <a:lnTo>
                  <a:pt x="22751" y="0"/>
                </a:lnTo>
                <a:lnTo>
                  <a:pt x="22751" y="21600"/>
                </a:lnTo>
                <a:lnTo>
                  <a:pt x="0" y="21600"/>
                </a:lnTo>
                <a:close/>
              </a:path>
              <a:path fill="lightenLess" w="22751" h="21600">
                <a:moveTo>
                  <a:pt x="0" y="0"/>
                </a:moveTo>
                <a:lnTo>
                  <a:pt x="22751" y="0"/>
                </a:lnTo>
                <a:lnTo>
                  <a:pt x="21351" y="1400"/>
                </a:lnTo>
                <a:lnTo>
                  <a:pt x="1400" y="1400"/>
                </a:lnTo>
                <a:close/>
              </a:path>
              <a:path fill="darken" w="22751" h="21600">
                <a:moveTo>
                  <a:pt x="22751" y="0"/>
                </a:moveTo>
                <a:lnTo>
                  <a:pt x="22751" y="21600"/>
                </a:lnTo>
                <a:lnTo>
                  <a:pt x="21351" y="20200"/>
                </a:lnTo>
                <a:lnTo>
                  <a:pt x="21351" y="1400"/>
                </a:lnTo>
                <a:close/>
              </a:path>
              <a:path fill="darkenLess" w="22751" h="21600">
                <a:moveTo>
                  <a:pt x="22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51" y="20200"/>
                </a:lnTo>
                <a:close/>
              </a:path>
              <a:path fill="lighten" w="22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51" h="21600">
                <a:moveTo>
                  <a:pt x="4369" y="3794"/>
                </a:moveTo>
                <a:lnTo>
                  <a:pt x="18382" y="10800"/>
                </a:lnTo>
                <a:lnTo>
                  <a:pt x="43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755640" y="263700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7667640" y="5950080"/>
            <a:ext cx="720720" cy="666720"/>
          </a:xfrm>
          <a:custGeom>
            <a:avLst/>
            <a:gdLst>
              <a:gd name="textAreaLeft" fmla="*/ 43200 w 720720"/>
              <a:gd name="textAreaRight" fmla="*/ 677520 w 72072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3349" h="21600">
                <a:moveTo>
                  <a:pt x="0" y="0"/>
                </a:moveTo>
                <a:lnTo>
                  <a:pt x="23349" y="0"/>
                </a:lnTo>
                <a:lnTo>
                  <a:pt x="23349" y="21600"/>
                </a:lnTo>
                <a:lnTo>
                  <a:pt x="0" y="21600"/>
                </a:lnTo>
                <a:close/>
              </a:path>
              <a:path fill="lightenLess" w="23349" h="21600">
                <a:moveTo>
                  <a:pt x="0" y="0"/>
                </a:moveTo>
                <a:lnTo>
                  <a:pt x="23349" y="0"/>
                </a:lnTo>
                <a:lnTo>
                  <a:pt x="21949" y="1400"/>
                </a:lnTo>
                <a:lnTo>
                  <a:pt x="1400" y="1400"/>
                </a:lnTo>
                <a:close/>
              </a:path>
              <a:path fill="darken" w="23349" h="21600">
                <a:moveTo>
                  <a:pt x="23349" y="0"/>
                </a:moveTo>
                <a:lnTo>
                  <a:pt x="23349" y="21600"/>
                </a:lnTo>
                <a:lnTo>
                  <a:pt x="21949" y="20200"/>
                </a:lnTo>
                <a:lnTo>
                  <a:pt x="21949" y="1400"/>
                </a:lnTo>
                <a:close/>
              </a:path>
              <a:path fill="darkenLess" w="23349" h="21600">
                <a:moveTo>
                  <a:pt x="2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9" y="20200"/>
                </a:lnTo>
                <a:close/>
              </a:path>
              <a:path fill="lighten" w="2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9" h="21600">
                <a:moveTo>
                  <a:pt x="4668" y="10800"/>
                </a:moveTo>
                <a:lnTo>
                  <a:pt x="18681" y="3794"/>
                </a:lnTo>
                <a:lnTo>
                  <a:pt x="186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5554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Бесе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-360" y="83628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художественный стиль, господствовавший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ературе и живописи второй половин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произведения написанные в стиле критического реализ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называлось Товарищество русских худож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орой половин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 и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      Кого из русских композиторов принято считать основа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огучей кучки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     Открытие памятника, работы какого скульптора считается выдающимся событием 1880 г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8028000" y="5877000"/>
            <a:ext cx="826920" cy="792000"/>
          </a:xfrm>
          <a:custGeom>
            <a:avLst/>
            <a:gdLst>
              <a:gd name="textAreaLeft" fmla="*/ 51120 w 826920"/>
              <a:gd name="textAreaRight" fmla="*/ 775800 w 826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2552" h="21600">
                <a:moveTo>
                  <a:pt x="0" y="0"/>
                </a:moveTo>
                <a:lnTo>
                  <a:pt x="22552" y="0"/>
                </a:lnTo>
                <a:lnTo>
                  <a:pt x="22552" y="21600"/>
                </a:lnTo>
                <a:lnTo>
                  <a:pt x="0" y="21600"/>
                </a:lnTo>
                <a:close/>
              </a:path>
              <a:path fill="lightenLess" w="22552" h="21600">
                <a:moveTo>
                  <a:pt x="0" y="0"/>
                </a:moveTo>
                <a:lnTo>
                  <a:pt x="22552" y="0"/>
                </a:lnTo>
                <a:lnTo>
                  <a:pt x="21152" y="1400"/>
                </a:lnTo>
                <a:lnTo>
                  <a:pt x="1400" y="1400"/>
                </a:lnTo>
                <a:close/>
              </a:path>
              <a:path fill="darken" w="22552" h="21600">
                <a:moveTo>
                  <a:pt x="22552" y="0"/>
                </a:moveTo>
                <a:lnTo>
                  <a:pt x="22552" y="21600"/>
                </a:lnTo>
                <a:lnTo>
                  <a:pt x="21152" y="20200"/>
                </a:lnTo>
                <a:lnTo>
                  <a:pt x="21152" y="1400"/>
                </a:lnTo>
                <a:close/>
              </a:path>
              <a:path fill="darkenLess" w="22552" h="21600">
                <a:moveTo>
                  <a:pt x="22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52" y="20200"/>
                </a:lnTo>
                <a:close/>
              </a:path>
              <a:path fill="lighten" w="22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52" h="21600">
                <a:moveTo>
                  <a:pt x="11276" y="3837"/>
                </a:moveTo>
                <a:lnTo>
                  <a:pt x="13852" y="6448"/>
                </a:lnTo>
                <a:lnTo>
                  <a:pt x="13852" y="4707"/>
                </a:lnTo>
                <a:lnTo>
                  <a:pt x="15628" y="4707"/>
                </a:lnTo>
                <a:lnTo>
                  <a:pt x="15628" y="8224"/>
                </a:lnTo>
                <a:lnTo>
                  <a:pt x="18239" y="10800"/>
                </a:lnTo>
                <a:lnTo>
                  <a:pt x="16585" y="10800"/>
                </a:lnTo>
                <a:lnTo>
                  <a:pt x="16585" y="17989"/>
                </a:lnTo>
                <a:lnTo>
                  <a:pt x="5967" y="17989"/>
                </a:lnTo>
                <a:lnTo>
                  <a:pt x="5967" y="10800"/>
                </a:lnTo>
                <a:lnTo>
                  <a:pt x="4313" y="10800"/>
                </a:lnTo>
                <a:close/>
              </a:path>
              <a:path fill="darkenLess" w="22552" h="21600">
                <a:moveTo>
                  <a:pt x="13852" y="6448"/>
                </a:moveTo>
                <a:lnTo>
                  <a:pt x="13852" y="4707"/>
                </a:lnTo>
                <a:lnTo>
                  <a:pt x="15628" y="4707"/>
                </a:lnTo>
                <a:lnTo>
                  <a:pt x="15628" y="8224"/>
                </a:lnTo>
                <a:close/>
              </a:path>
              <a:path fill="darkenLess" w="22552" h="21600">
                <a:moveTo>
                  <a:pt x="10353" y="14299"/>
                </a:moveTo>
                <a:lnTo>
                  <a:pt x="12199" y="14299"/>
                </a:lnTo>
                <a:lnTo>
                  <a:pt x="12199" y="17989"/>
                </a:lnTo>
                <a:lnTo>
                  <a:pt x="16585" y="17989"/>
                </a:lnTo>
                <a:lnTo>
                  <a:pt x="16585" y="10800"/>
                </a:lnTo>
                <a:lnTo>
                  <a:pt x="5967" y="10800"/>
                </a:lnTo>
                <a:lnTo>
                  <a:pt x="5967" y="17989"/>
                </a:lnTo>
                <a:lnTo>
                  <a:pt x="103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6275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Игра «Аукцион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2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1.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                                    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3.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                             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4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Копия img178"/>
          <p:cNvPicPr/>
          <p:nvPr/>
        </p:nvPicPr>
        <p:blipFill>
          <a:blip r:embed="rId1"/>
          <a:stretch/>
        </p:blipFill>
        <p:spPr>
          <a:xfrm>
            <a:off x="755640" y="981000"/>
            <a:ext cx="3411720" cy="1551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img176"/>
          <p:cNvPicPr/>
          <p:nvPr/>
        </p:nvPicPr>
        <p:blipFill>
          <a:blip r:embed="rId2"/>
          <a:stretch/>
        </p:blipFill>
        <p:spPr>
          <a:xfrm>
            <a:off x="5724360" y="1484280"/>
            <a:ext cx="2764080" cy="212724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8"/>
          <p:cNvSpPr/>
          <p:nvPr/>
        </p:nvSpPr>
        <p:spPr>
          <a:xfrm>
            <a:off x="395280" y="5877000"/>
            <a:ext cx="826920" cy="792000"/>
          </a:xfrm>
          <a:custGeom>
            <a:avLst/>
            <a:gdLst>
              <a:gd name="textAreaLeft" fmla="*/ 51120 w 826920"/>
              <a:gd name="textAreaRight" fmla="*/ 775800 w 826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2552" h="21600">
                <a:moveTo>
                  <a:pt x="0" y="0"/>
                </a:moveTo>
                <a:lnTo>
                  <a:pt x="22552" y="0"/>
                </a:lnTo>
                <a:lnTo>
                  <a:pt x="22552" y="21600"/>
                </a:lnTo>
                <a:lnTo>
                  <a:pt x="0" y="21600"/>
                </a:lnTo>
                <a:close/>
              </a:path>
              <a:path fill="lightenLess" w="22552" h="21600">
                <a:moveTo>
                  <a:pt x="0" y="0"/>
                </a:moveTo>
                <a:lnTo>
                  <a:pt x="22552" y="0"/>
                </a:lnTo>
                <a:lnTo>
                  <a:pt x="21152" y="1400"/>
                </a:lnTo>
                <a:lnTo>
                  <a:pt x="1400" y="1400"/>
                </a:lnTo>
                <a:close/>
              </a:path>
              <a:path fill="darken" w="22552" h="21600">
                <a:moveTo>
                  <a:pt x="22552" y="0"/>
                </a:moveTo>
                <a:lnTo>
                  <a:pt x="22552" y="21600"/>
                </a:lnTo>
                <a:lnTo>
                  <a:pt x="21152" y="20200"/>
                </a:lnTo>
                <a:lnTo>
                  <a:pt x="21152" y="1400"/>
                </a:lnTo>
                <a:close/>
              </a:path>
              <a:path fill="darkenLess" w="22552" h="21600">
                <a:moveTo>
                  <a:pt x="22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52" y="20200"/>
                </a:lnTo>
                <a:close/>
              </a:path>
              <a:path fill="lighten" w="22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52" h="21600">
                <a:moveTo>
                  <a:pt x="11276" y="3837"/>
                </a:moveTo>
                <a:lnTo>
                  <a:pt x="13852" y="6448"/>
                </a:lnTo>
                <a:lnTo>
                  <a:pt x="13852" y="4707"/>
                </a:lnTo>
                <a:lnTo>
                  <a:pt x="15628" y="4707"/>
                </a:lnTo>
                <a:lnTo>
                  <a:pt x="15628" y="8224"/>
                </a:lnTo>
                <a:lnTo>
                  <a:pt x="18239" y="10800"/>
                </a:lnTo>
                <a:lnTo>
                  <a:pt x="16585" y="10800"/>
                </a:lnTo>
                <a:lnTo>
                  <a:pt x="16585" y="17989"/>
                </a:lnTo>
                <a:lnTo>
                  <a:pt x="5967" y="17989"/>
                </a:lnTo>
                <a:lnTo>
                  <a:pt x="5967" y="10800"/>
                </a:lnTo>
                <a:lnTo>
                  <a:pt x="4313" y="10800"/>
                </a:lnTo>
                <a:close/>
              </a:path>
              <a:path fill="darkenLess" w="22552" h="21600">
                <a:moveTo>
                  <a:pt x="13852" y="6448"/>
                </a:moveTo>
                <a:lnTo>
                  <a:pt x="13852" y="4707"/>
                </a:lnTo>
                <a:lnTo>
                  <a:pt x="15628" y="4707"/>
                </a:lnTo>
                <a:lnTo>
                  <a:pt x="15628" y="8224"/>
                </a:lnTo>
                <a:close/>
              </a:path>
              <a:path fill="darkenLess" w="22552" h="21600">
                <a:moveTo>
                  <a:pt x="10353" y="14299"/>
                </a:moveTo>
                <a:lnTo>
                  <a:pt x="12199" y="14299"/>
                </a:lnTo>
                <a:lnTo>
                  <a:pt x="12199" y="17989"/>
                </a:lnTo>
                <a:lnTo>
                  <a:pt x="16585" y="17989"/>
                </a:lnTo>
                <a:lnTo>
                  <a:pt x="16585" y="10800"/>
                </a:lnTo>
                <a:lnTo>
                  <a:pt x="5967" y="10800"/>
                </a:lnTo>
                <a:lnTo>
                  <a:pt x="5967" y="17989"/>
                </a:lnTo>
                <a:lnTo>
                  <a:pt x="103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9" descr="img177"/>
          <p:cNvPicPr/>
          <p:nvPr/>
        </p:nvPicPr>
        <p:blipFill>
          <a:blip r:embed="rId3"/>
          <a:stretch/>
        </p:blipFill>
        <p:spPr>
          <a:xfrm>
            <a:off x="684360" y="2781360"/>
            <a:ext cx="3563640" cy="21254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img201"/>
          <p:cNvPicPr/>
          <p:nvPr/>
        </p:nvPicPr>
        <p:blipFill>
          <a:blip r:embed="rId4"/>
          <a:stretch/>
        </p:blipFill>
        <p:spPr>
          <a:xfrm>
            <a:off x="5148360" y="4076640"/>
            <a:ext cx="34844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-2238480"/>
            <a:ext cx="58572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Копия img178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5"/>
          <p:cNvSpPr/>
          <p:nvPr/>
        </p:nvSpPr>
        <p:spPr>
          <a:xfrm>
            <a:off x="8172360" y="5877000"/>
            <a:ext cx="755640" cy="792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92000"/>
              <a:gd name="textAreaBottom" fmla="*/ 743040 h 792000"/>
            </a:gdLst>
            <a:ahLst/>
            <a:rect l="textAreaLeft" t="textAreaTop" r="textAreaRight" b="textAreaBottom"/>
            <a:pathLst>
              <a:path w="21600" h="22639">
                <a:moveTo>
                  <a:pt x="0" y="0"/>
                </a:moveTo>
                <a:lnTo>
                  <a:pt x="21600" y="0"/>
                </a:lnTo>
                <a:lnTo>
                  <a:pt x="21600" y="22639"/>
                </a:lnTo>
                <a:lnTo>
                  <a:pt x="0" y="22639"/>
                </a:lnTo>
                <a:close/>
              </a:path>
              <a:path fill="lightenLess" w="21600" h="226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39">
                <a:moveTo>
                  <a:pt x="21600" y="0"/>
                </a:moveTo>
                <a:lnTo>
                  <a:pt x="21600" y="22639"/>
                </a:lnTo>
                <a:lnTo>
                  <a:pt x="20200" y="21239"/>
                </a:lnTo>
                <a:lnTo>
                  <a:pt x="20200" y="1400"/>
                </a:lnTo>
                <a:close/>
              </a:path>
              <a:path fill="darkenLess" w="21600" h="22639">
                <a:moveTo>
                  <a:pt x="21600" y="22639"/>
                </a:moveTo>
                <a:lnTo>
                  <a:pt x="0" y="22639"/>
                </a:lnTo>
                <a:lnTo>
                  <a:pt x="1400" y="21239"/>
                </a:lnTo>
                <a:lnTo>
                  <a:pt x="20200" y="21239"/>
                </a:lnTo>
                <a:close/>
              </a:path>
              <a:path fill="lighten" w="21600" h="22639">
                <a:moveTo>
                  <a:pt x="0" y="226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39"/>
                </a:lnTo>
                <a:close/>
              </a:path>
              <a:path fill="darken" w="21600" h="22639">
                <a:moveTo>
                  <a:pt x="3794" y="8012"/>
                </a:moveTo>
                <a:lnTo>
                  <a:pt x="7301" y="8012"/>
                </a:lnTo>
                <a:lnTo>
                  <a:pt x="7301" y="13347"/>
                </a:lnTo>
                <a:cubicBezTo>
                  <a:pt x="7301" y="14270"/>
                  <a:pt x="8102" y="15001"/>
                  <a:pt x="9138" y="15001"/>
                </a:cubicBezTo>
                <a:lnTo>
                  <a:pt x="10800" y="15001"/>
                </a:lnTo>
                <a:cubicBezTo>
                  <a:pt x="11836" y="15001"/>
                  <a:pt x="12636" y="14270"/>
                  <a:pt x="12636" y="13347"/>
                </a:cubicBezTo>
                <a:lnTo>
                  <a:pt x="12636" y="8012"/>
                </a:lnTo>
                <a:lnTo>
                  <a:pt x="10800" y="8012"/>
                </a:lnTo>
                <a:lnTo>
                  <a:pt x="14308" y="4504"/>
                </a:lnTo>
                <a:lnTo>
                  <a:pt x="17981" y="8012"/>
                </a:lnTo>
                <a:lnTo>
                  <a:pt x="16144" y="8012"/>
                </a:lnTo>
                <a:lnTo>
                  <a:pt x="16144" y="13347"/>
                </a:lnTo>
                <a:cubicBezTo>
                  <a:pt x="16144" y="16115"/>
                  <a:pt x="13568" y="18674"/>
                  <a:pt x="10800" y="18674"/>
                </a:cubicBezTo>
                <a:lnTo>
                  <a:pt x="9138" y="18674"/>
                </a:lnTo>
                <a:cubicBezTo>
                  <a:pt x="6370" y="18674"/>
                  <a:pt x="3794" y="16115"/>
                  <a:pt x="3794" y="1334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img176"/>
          <p:cNvPicPr/>
          <p:nvPr/>
        </p:nvPicPr>
        <p:blipFill>
          <a:blip r:embed="rId1"/>
          <a:stretch/>
        </p:blipFill>
        <p:spPr>
          <a:xfrm>
            <a:off x="539640" y="0"/>
            <a:ext cx="8172720" cy="616752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5"/>
          <p:cNvSpPr/>
          <p:nvPr/>
        </p:nvSpPr>
        <p:spPr>
          <a:xfrm>
            <a:off x="8388360" y="6066000"/>
            <a:ext cx="755640" cy="792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92000"/>
              <a:gd name="textAreaBottom" fmla="*/ 743040 h 792000"/>
            </a:gdLst>
            <a:ahLst/>
            <a:rect l="textAreaLeft" t="textAreaTop" r="textAreaRight" b="textAreaBottom"/>
            <a:pathLst>
              <a:path w="21600" h="22639">
                <a:moveTo>
                  <a:pt x="0" y="0"/>
                </a:moveTo>
                <a:lnTo>
                  <a:pt x="21600" y="0"/>
                </a:lnTo>
                <a:lnTo>
                  <a:pt x="21600" y="22639"/>
                </a:lnTo>
                <a:lnTo>
                  <a:pt x="0" y="22639"/>
                </a:lnTo>
                <a:close/>
              </a:path>
              <a:path fill="lightenLess" w="21600" h="226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39">
                <a:moveTo>
                  <a:pt x="21600" y="0"/>
                </a:moveTo>
                <a:lnTo>
                  <a:pt x="21600" y="22639"/>
                </a:lnTo>
                <a:lnTo>
                  <a:pt x="20200" y="21239"/>
                </a:lnTo>
                <a:lnTo>
                  <a:pt x="20200" y="1400"/>
                </a:lnTo>
                <a:close/>
              </a:path>
              <a:path fill="darkenLess" w="21600" h="22639">
                <a:moveTo>
                  <a:pt x="21600" y="22639"/>
                </a:moveTo>
                <a:lnTo>
                  <a:pt x="0" y="22639"/>
                </a:lnTo>
                <a:lnTo>
                  <a:pt x="1400" y="21239"/>
                </a:lnTo>
                <a:lnTo>
                  <a:pt x="20200" y="21239"/>
                </a:lnTo>
                <a:close/>
              </a:path>
              <a:path fill="lighten" w="21600" h="22639">
                <a:moveTo>
                  <a:pt x="0" y="226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39"/>
                </a:lnTo>
                <a:close/>
              </a:path>
              <a:path fill="darken" w="21600" h="22639">
                <a:moveTo>
                  <a:pt x="3794" y="8012"/>
                </a:moveTo>
                <a:lnTo>
                  <a:pt x="7301" y="8012"/>
                </a:lnTo>
                <a:lnTo>
                  <a:pt x="7301" y="13347"/>
                </a:lnTo>
                <a:cubicBezTo>
                  <a:pt x="7301" y="14270"/>
                  <a:pt x="8102" y="15001"/>
                  <a:pt x="9138" y="15001"/>
                </a:cubicBezTo>
                <a:lnTo>
                  <a:pt x="10800" y="15001"/>
                </a:lnTo>
                <a:cubicBezTo>
                  <a:pt x="11836" y="15001"/>
                  <a:pt x="12636" y="14270"/>
                  <a:pt x="12636" y="13347"/>
                </a:cubicBezTo>
                <a:lnTo>
                  <a:pt x="12636" y="8012"/>
                </a:lnTo>
                <a:lnTo>
                  <a:pt x="10800" y="8012"/>
                </a:lnTo>
                <a:lnTo>
                  <a:pt x="14308" y="4504"/>
                </a:lnTo>
                <a:lnTo>
                  <a:pt x="17981" y="8012"/>
                </a:lnTo>
                <a:lnTo>
                  <a:pt x="16144" y="8012"/>
                </a:lnTo>
                <a:lnTo>
                  <a:pt x="16144" y="13347"/>
                </a:lnTo>
                <a:cubicBezTo>
                  <a:pt x="16144" y="16115"/>
                  <a:pt x="13568" y="18674"/>
                  <a:pt x="10800" y="18674"/>
                </a:cubicBezTo>
                <a:lnTo>
                  <a:pt x="9138" y="18674"/>
                </a:lnTo>
                <a:cubicBezTo>
                  <a:pt x="6370" y="18674"/>
                  <a:pt x="3794" y="16115"/>
                  <a:pt x="3794" y="1334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img177"/>
          <p:cNvPicPr/>
          <p:nvPr/>
        </p:nvPicPr>
        <p:blipFill>
          <a:blip r:embed="rId1"/>
          <a:stretch/>
        </p:blipFill>
        <p:spPr>
          <a:xfrm>
            <a:off x="0" y="0"/>
            <a:ext cx="9144000" cy="545148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7"/>
          <p:cNvSpPr/>
          <p:nvPr/>
        </p:nvSpPr>
        <p:spPr>
          <a:xfrm>
            <a:off x="8028000" y="5805360"/>
            <a:ext cx="755640" cy="79236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92360"/>
              <a:gd name="textAreaBottom" fmla="*/ 743400 h 792360"/>
            </a:gdLst>
            <a:ahLst/>
            <a:rect l="textAreaLeft" t="textAreaTop" r="textAreaRight" b="textAreaBottom"/>
            <a:pathLst>
              <a:path w="21600" h="22649">
                <a:moveTo>
                  <a:pt x="0" y="0"/>
                </a:moveTo>
                <a:lnTo>
                  <a:pt x="21600" y="0"/>
                </a:lnTo>
                <a:lnTo>
                  <a:pt x="21600" y="22649"/>
                </a:lnTo>
                <a:lnTo>
                  <a:pt x="0" y="22649"/>
                </a:lnTo>
                <a:close/>
              </a:path>
              <a:path fill="lightenLess" w="21600" h="226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49">
                <a:moveTo>
                  <a:pt x="21600" y="0"/>
                </a:moveTo>
                <a:lnTo>
                  <a:pt x="21600" y="22649"/>
                </a:lnTo>
                <a:lnTo>
                  <a:pt x="20200" y="21249"/>
                </a:lnTo>
                <a:lnTo>
                  <a:pt x="20200" y="1400"/>
                </a:lnTo>
                <a:close/>
              </a:path>
              <a:path fill="darkenLess" w="21600" h="22649">
                <a:moveTo>
                  <a:pt x="21600" y="22649"/>
                </a:moveTo>
                <a:lnTo>
                  <a:pt x="0" y="22649"/>
                </a:lnTo>
                <a:lnTo>
                  <a:pt x="1400" y="21249"/>
                </a:lnTo>
                <a:lnTo>
                  <a:pt x="20200" y="21249"/>
                </a:lnTo>
                <a:close/>
              </a:path>
              <a:path fill="lighten" w="21600" h="22649">
                <a:moveTo>
                  <a:pt x="0" y="226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49"/>
                </a:lnTo>
                <a:close/>
              </a:path>
              <a:path fill="darken" w="21600" h="22649">
                <a:moveTo>
                  <a:pt x="3794" y="8017"/>
                </a:moveTo>
                <a:lnTo>
                  <a:pt x="7301" y="8017"/>
                </a:lnTo>
                <a:lnTo>
                  <a:pt x="7301" y="13353"/>
                </a:lnTo>
                <a:cubicBezTo>
                  <a:pt x="7301" y="14275"/>
                  <a:pt x="8102" y="15006"/>
                  <a:pt x="9138" y="15006"/>
                </a:cubicBezTo>
                <a:lnTo>
                  <a:pt x="10800" y="15006"/>
                </a:lnTo>
                <a:cubicBezTo>
                  <a:pt x="11836" y="15006"/>
                  <a:pt x="12636" y="14275"/>
                  <a:pt x="12636" y="13353"/>
                </a:cubicBezTo>
                <a:lnTo>
                  <a:pt x="12636" y="8017"/>
                </a:lnTo>
                <a:lnTo>
                  <a:pt x="10800" y="8017"/>
                </a:lnTo>
                <a:lnTo>
                  <a:pt x="14308" y="4510"/>
                </a:lnTo>
                <a:lnTo>
                  <a:pt x="17981" y="8017"/>
                </a:lnTo>
                <a:lnTo>
                  <a:pt x="16144" y="8017"/>
                </a:lnTo>
                <a:lnTo>
                  <a:pt x="16144" y="13353"/>
                </a:lnTo>
                <a:cubicBezTo>
                  <a:pt x="16144" y="16120"/>
                  <a:pt x="13568" y="18679"/>
                  <a:pt x="10800" y="18679"/>
                </a:cubicBezTo>
                <a:lnTo>
                  <a:pt x="9138" y="18679"/>
                </a:lnTo>
                <a:cubicBezTo>
                  <a:pt x="6370" y="18679"/>
                  <a:pt x="3794" y="16120"/>
                  <a:pt x="3794" y="13353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7956720" y="6066000"/>
            <a:ext cx="755640" cy="792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92000"/>
              <a:gd name="textAreaBottom" fmla="*/ 743040 h 792000"/>
            </a:gdLst>
            <a:ahLst/>
            <a:rect l="textAreaLeft" t="textAreaTop" r="textAreaRight" b="textAreaBottom"/>
            <a:pathLst>
              <a:path w="21600" h="22639">
                <a:moveTo>
                  <a:pt x="0" y="0"/>
                </a:moveTo>
                <a:lnTo>
                  <a:pt x="21600" y="0"/>
                </a:lnTo>
                <a:lnTo>
                  <a:pt x="21600" y="22639"/>
                </a:lnTo>
                <a:lnTo>
                  <a:pt x="0" y="22639"/>
                </a:lnTo>
                <a:close/>
              </a:path>
              <a:path fill="lightenLess" w="21600" h="226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39">
                <a:moveTo>
                  <a:pt x="21600" y="0"/>
                </a:moveTo>
                <a:lnTo>
                  <a:pt x="21600" y="22639"/>
                </a:lnTo>
                <a:lnTo>
                  <a:pt x="20200" y="21239"/>
                </a:lnTo>
                <a:lnTo>
                  <a:pt x="20200" y="1400"/>
                </a:lnTo>
                <a:close/>
              </a:path>
              <a:path fill="darkenLess" w="21600" h="22639">
                <a:moveTo>
                  <a:pt x="21600" y="22639"/>
                </a:moveTo>
                <a:lnTo>
                  <a:pt x="0" y="22639"/>
                </a:lnTo>
                <a:lnTo>
                  <a:pt x="1400" y="21239"/>
                </a:lnTo>
                <a:lnTo>
                  <a:pt x="20200" y="21239"/>
                </a:lnTo>
                <a:close/>
              </a:path>
              <a:path fill="lighten" w="21600" h="22639">
                <a:moveTo>
                  <a:pt x="0" y="226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39"/>
                </a:lnTo>
                <a:close/>
              </a:path>
              <a:path fill="darken" w="21600" h="22639">
                <a:moveTo>
                  <a:pt x="3794" y="8012"/>
                </a:moveTo>
                <a:lnTo>
                  <a:pt x="7301" y="8012"/>
                </a:lnTo>
                <a:lnTo>
                  <a:pt x="7301" y="13347"/>
                </a:lnTo>
                <a:cubicBezTo>
                  <a:pt x="7301" y="14270"/>
                  <a:pt x="8102" y="15001"/>
                  <a:pt x="9138" y="15001"/>
                </a:cubicBezTo>
                <a:lnTo>
                  <a:pt x="10800" y="15001"/>
                </a:lnTo>
                <a:cubicBezTo>
                  <a:pt x="11836" y="15001"/>
                  <a:pt x="12636" y="14270"/>
                  <a:pt x="12636" y="13347"/>
                </a:cubicBezTo>
                <a:lnTo>
                  <a:pt x="12636" y="8012"/>
                </a:lnTo>
                <a:lnTo>
                  <a:pt x="10800" y="8012"/>
                </a:lnTo>
                <a:lnTo>
                  <a:pt x="14308" y="4504"/>
                </a:lnTo>
                <a:lnTo>
                  <a:pt x="17981" y="8012"/>
                </a:lnTo>
                <a:lnTo>
                  <a:pt x="16144" y="8012"/>
                </a:lnTo>
                <a:lnTo>
                  <a:pt x="16144" y="13347"/>
                </a:lnTo>
                <a:cubicBezTo>
                  <a:pt x="16144" y="16115"/>
                  <a:pt x="13568" y="18674"/>
                  <a:pt x="10800" y="18674"/>
                </a:cubicBezTo>
                <a:lnTo>
                  <a:pt x="9138" y="18674"/>
                </a:lnTo>
                <a:cubicBezTo>
                  <a:pt x="6370" y="18674"/>
                  <a:pt x="3794" y="16115"/>
                  <a:pt x="3794" y="1334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52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img201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Рефлекс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ь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ряд вопросов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ам понравился ур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сё ли было понятно на уро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акой раздел вам был более интересе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й раздел вы плохо усвоили и почему (что было не понятно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Что на ваш взгляд необходимо добавить в данную тему ур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7956720" y="6021360"/>
            <a:ext cx="720720" cy="666720"/>
          </a:xfrm>
          <a:custGeom>
            <a:avLst/>
            <a:gdLst>
              <a:gd name="textAreaLeft" fmla="*/ 43200 w 720720"/>
              <a:gd name="textAreaRight" fmla="*/ 677520 w 72072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3349" h="21600">
                <a:moveTo>
                  <a:pt x="0" y="0"/>
                </a:moveTo>
                <a:lnTo>
                  <a:pt x="23349" y="0"/>
                </a:lnTo>
                <a:lnTo>
                  <a:pt x="23349" y="21600"/>
                </a:lnTo>
                <a:lnTo>
                  <a:pt x="0" y="21600"/>
                </a:lnTo>
                <a:close/>
              </a:path>
              <a:path fill="lightenLess" w="23349" h="21600">
                <a:moveTo>
                  <a:pt x="0" y="0"/>
                </a:moveTo>
                <a:lnTo>
                  <a:pt x="23349" y="0"/>
                </a:lnTo>
                <a:lnTo>
                  <a:pt x="21949" y="1400"/>
                </a:lnTo>
                <a:lnTo>
                  <a:pt x="1400" y="1400"/>
                </a:lnTo>
                <a:close/>
              </a:path>
              <a:path fill="darken" w="23349" h="21600">
                <a:moveTo>
                  <a:pt x="23349" y="0"/>
                </a:moveTo>
                <a:lnTo>
                  <a:pt x="23349" y="21600"/>
                </a:lnTo>
                <a:lnTo>
                  <a:pt x="21949" y="20200"/>
                </a:lnTo>
                <a:lnTo>
                  <a:pt x="21949" y="1400"/>
                </a:lnTo>
                <a:close/>
              </a:path>
              <a:path fill="darkenLess" w="23349" h="21600">
                <a:moveTo>
                  <a:pt x="2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9" y="20200"/>
                </a:lnTo>
                <a:close/>
              </a:path>
              <a:path fill="lighten" w="2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9" h="21600">
                <a:moveTo>
                  <a:pt x="4668" y="10800"/>
                </a:moveTo>
                <a:lnTo>
                  <a:pt x="18681" y="3794"/>
                </a:lnTo>
                <a:lnTo>
                  <a:pt x="186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66ff"/>
                </a:solidFill>
                <a:latin typeface="Arial"/>
              </a:rPr>
              <a:t>Литература второй половины </a:t>
            </a:r>
            <a:r>
              <a:rPr b="1" i="1" lang="en-US" sz="4000" spc="-1" strike="noStrike">
                <a:solidFill>
                  <a:srgbClr val="6666ff"/>
                </a:solidFill>
                <a:latin typeface="Arial"/>
              </a:rPr>
              <a:t>XIX</a:t>
            </a:r>
            <a:r>
              <a:rPr b="1" i="1" lang="ru-RU" sz="4000" spc="-1" strike="noStrike">
                <a:solidFill>
                  <a:srgbClr val="6666ff"/>
                </a:solidFill>
                <a:latin typeface="Arial"/>
              </a:rPr>
              <a:t> 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торой полов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 ведущей областью духовной жизни России продолжала оставаться литература. В условиях роста грамотности населения и отсутствия жизненных проблем литература была не только культурным явлением, но и выполняла общественные задачи. Основным художественным направлением ста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критический реализ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Для произведений того времени были характерны дух обличительства, пристальный интерес к жизни простого человека, стремление найти пути и средства  борьбы с пороками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Каких литературных авторов данного времени 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rId2" action="ppaction://hlinksldjump"/>
          </p:cNvPr>
          <p:cNvSpPr/>
          <p:nvPr/>
        </p:nvSpPr>
        <p:spPr>
          <a:xfrm>
            <a:off x="611280" y="5084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>
            <a:hlinkClick r:id="rId3" action="ppaction://hlinksldjump"/>
          </p:cNvPr>
          <p:cNvSpPr/>
          <p:nvPr/>
        </p:nvSpPr>
        <p:spPr>
          <a:xfrm>
            <a:off x="8172360" y="5877000"/>
            <a:ext cx="792360" cy="7189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805" h="21600">
                <a:moveTo>
                  <a:pt x="0" y="0"/>
                </a:moveTo>
                <a:lnTo>
                  <a:pt x="23805" y="0"/>
                </a:lnTo>
                <a:lnTo>
                  <a:pt x="23805" y="21600"/>
                </a:lnTo>
                <a:lnTo>
                  <a:pt x="0" y="21600"/>
                </a:lnTo>
                <a:close/>
              </a:path>
              <a:path fill="lightenLess" w="23805" h="21600">
                <a:moveTo>
                  <a:pt x="0" y="0"/>
                </a:moveTo>
                <a:lnTo>
                  <a:pt x="23805" y="0"/>
                </a:lnTo>
                <a:lnTo>
                  <a:pt x="22405" y="1400"/>
                </a:lnTo>
                <a:lnTo>
                  <a:pt x="1400" y="1400"/>
                </a:lnTo>
                <a:close/>
              </a:path>
              <a:path fill="darken" w="23805" h="21600">
                <a:moveTo>
                  <a:pt x="23805" y="0"/>
                </a:moveTo>
                <a:lnTo>
                  <a:pt x="23805" y="21600"/>
                </a:lnTo>
                <a:lnTo>
                  <a:pt x="22405" y="20200"/>
                </a:lnTo>
                <a:lnTo>
                  <a:pt x="22405" y="1400"/>
                </a:lnTo>
                <a:close/>
              </a:path>
              <a:path fill="darkenLess" w="23805" h="21600">
                <a:moveTo>
                  <a:pt x="23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5" y="20200"/>
                </a:lnTo>
                <a:close/>
              </a:path>
              <a:path fill="lighten" w="23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5" h="21600">
                <a:moveTo>
                  <a:pt x="4896" y="3794"/>
                </a:moveTo>
                <a:lnTo>
                  <a:pt x="18909" y="10800"/>
                </a:lnTo>
                <a:lnTo>
                  <a:pt x="48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>
            <a:hlinkClick r:id="rId4" action="ppaction://hlinksldjump"/>
          </p:cNvPr>
          <p:cNvSpPr/>
          <p:nvPr/>
        </p:nvSpPr>
        <p:spPr>
          <a:xfrm>
            <a:off x="7236000" y="5877000"/>
            <a:ext cx="826920" cy="718920"/>
          </a:xfrm>
          <a:custGeom>
            <a:avLst/>
            <a:gdLst>
              <a:gd name="textAreaLeft" fmla="*/ 46440 w 826920"/>
              <a:gd name="textAreaRight" fmla="*/ 780480 w 826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4843" h="21600">
                <a:moveTo>
                  <a:pt x="0" y="0"/>
                </a:moveTo>
                <a:lnTo>
                  <a:pt x="24843" y="0"/>
                </a:lnTo>
                <a:lnTo>
                  <a:pt x="24843" y="21600"/>
                </a:lnTo>
                <a:lnTo>
                  <a:pt x="0" y="21600"/>
                </a:lnTo>
                <a:close/>
              </a:path>
              <a:path fill="lightenLess" w="24843" h="21600">
                <a:moveTo>
                  <a:pt x="0" y="0"/>
                </a:moveTo>
                <a:lnTo>
                  <a:pt x="24843" y="0"/>
                </a:lnTo>
                <a:lnTo>
                  <a:pt x="23443" y="1400"/>
                </a:lnTo>
                <a:lnTo>
                  <a:pt x="1400" y="1400"/>
                </a:lnTo>
                <a:close/>
              </a:path>
              <a:path fill="darken" w="24843" h="21600">
                <a:moveTo>
                  <a:pt x="24843" y="0"/>
                </a:moveTo>
                <a:lnTo>
                  <a:pt x="24843" y="21600"/>
                </a:lnTo>
                <a:lnTo>
                  <a:pt x="23443" y="20200"/>
                </a:lnTo>
                <a:lnTo>
                  <a:pt x="23443" y="1400"/>
                </a:lnTo>
                <a:close/>
              </a:path>
              <a:path fill="darkenLess" w="24843" h="21600">
                <a:moveTo>
                  <a:pt x="2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43" y="20200"/>
                </a:lnTo>
                <a:close/>
              </a:path>
              <a:path fill="lighten" w="2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43" h="21600">
                <a:moveTo>
                  <a:pt x="5415" y="10800"/>
                </a:moveTo>
                <a:lnTo>
                  <a:pt x="19428" y="3794"/>
                </a:lnTo>
                <a:lnTo>
                  <a:pt x="194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Домашнее задание:</a:t>
            </a:r>
            <a:br>
              <a:rPr sz="3200"/>
            </a:br>
            <a:r>
              <a:rPr b="1" i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Обязательное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ть тему 7 учебника (Рапацкая Л.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ХК 11 класс), ответить на вопросы на стр. 1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i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о выбо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ть реферат на т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«Жизнь и творчеств …(Ф.И.О.- писатель, художник, композитор, скульптор или архитектор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«(произведение автора второй половин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     Подготовить кроссворд на тему: «Культура второй половин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7956720" y="6021360"/>
            <a:ext cx="720720" cy="666720"/>
          </a:xfrm>
          <a:custGeom>
            <a:avLst/>
            <a:gdLst>
              <a:gd name="textAreaLeft" fmla="*/ 43200 w 720720"/>
              <a:gd name="textAreaRight" fmla="*/ 677520 w 72072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3349" h="21600">
                <a:moveTo>
                  <a:pt x="0" y="0"/>
                </a:moveTo>
                <a:lnTo>
                  <a:pt x="23349" y="0"/>
                </a:lnTo>
                <a:lnTo>
                  <a:pt x="23349" y="21600"/>
                </a:lnTo>
                <a:lnTo>
                  <a:pt x="0" y="21600"/>
                </a:lnTo>
                <a:close/>
              </a:path>
              <a:path fill="lightenLess" w="23349" h="21600">
                <a:moveTo>
                  <a:pt x="0" y="0"/>
                </a:moveTo>
                <a:lnTo>
                  <a:pt x="23349" y="0"/>
                </a:lnTo>
                <a:lnTo>
                  <a:pt x="21949" y="1400"/>
                </a:lnTo>
                <a:lnTo>
                  <a:pt x="1400" y="1400"/>
                </a:lnTo>
                <a:close/>
              </a:path>
              <a:path fill="darken" w="23349" h="21600">
                <a:moveTo>
                  <a:pt x="23349" y="0"/>
                </a:moveTo>
                <a:lnTo>
                  <a:pt x="23349" y="21600"/>
                </a:lnTo>
                <a:lnTo>
                  <a:pt x="21949" y="20200"/>
                </a:lnTo>
                <a:lnTo>
                  <a:pt x="21949" y="1400"/>
                </a:lnTo>
                <a:close/>
              </a:path>
              <a:path fill="darkenLess" w="23349" h="21600">
                <a:moveTo>
                  <a:pt x="23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9" y="20200"/>
                </a:lnTo>
                <a:close/>
              </a:path>
              <a:path fill="lighten" w="23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9" h="21600">
                <a:moveTo>
                  <a:pt x="4668" y="10800"/>
                </a:moveTo>
                <a:lnTo>
                  <a:pt x="18681" y="3794"/>
                </a:lnTo>
                <a:lnTo>
                  <a:pt x="186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5193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686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Реализм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литературе и искусстве, правдивое, объективное отражение действительности специфическими средствами, присущими тому или иному виду художественного твор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Критический реализм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ожественный стиль, сочета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роту коренных социальных проблем, широту истор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хвата с живописным изображением конкретных жизн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влений. Писатели были поглощены  происходившей на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зах исторической драмой, вызванной сменой одног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зненного уклада друг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>
            <a:hlinkClick r:id="rId1" action="ppaction://hlinksldjump"/>
          </p:cNvPr>
          <p:cNvSpPr/>
          <p:nvPr/>
        </p:nvSpPr>
        <p:spPr>
          <a:xfrm>
            <a:off x="7667640" y="5950080"/>
            <a:ext cx="826920" cy="647640"/>
          </a:xfrm>
          <a:custGeom>
            <a:avLst/>
            <a:gdLst>
              <a:gd name="textAreaLeft" fmla="*/ 41760 w 826920"/>
              <a:gd name="textAreaRight" fmla="*/ 785160 w 826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7576" h="21600">
                <a:moveTo>
                  <a:pt x="0" y="0"/>
                </a:moveTo>
                <a:lnTo>
                  <a:pt x="27576" y="0"/>
                </a:lnTo>
                <a:lnTo>
                  <a:pt x="27576" y="21600"/>
                </a:lnTo>
                <a:lnTo>
                  <a:pt x="0" y="21600"/>
                </a:lnTo>
                <a:close/>
              </a:path>
              <a:path fill="lightenLess" w="27576" h="21600">
                <a:moveTo>
                  <a:pt x="0" y="0"/>
                </a:moveTo>
                <a:lnTo>
                  <a:pt x="27576" y="0"/>
                </a:lnTo>
                <a:lnTo>
                  <a:pt x="26176" y="1400"/>
                </a:lnTo>
                <a:lnTo>
                  <a:pt x="1400" y="1400"/>
                </a:lnTo>
                <a:close/>
              </a:path>
              <a:path fill="darken" w="27576" h="21600">
                <a:moveTo>
                  <a:pt x="27576" y="0"/>
                </a:moveTo>
                <a:lnTo>
                  <a:pt x="27576" y="21600"/>
                </a:lnTo>
                <a:lnTo>
                  <a:pt x="26176" y="20200"/>
                </a:lnTo>
                <a:lnTo>
                  <a:pt x="26176" y="1400"/>
                </a:lnTo>
                <a:close/>
              </a:path>
              <a:path fill="darkenLess" w="27576" h="21600">
                <a:moveTo>
                  <a:pt x="2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6" y="20200"/>
                </a:lnTo>
                <a:close/>
              </a:path>
              <a:path fill="lighten" w="2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6" h="21600">
                <a:moveTo>
                  <a:pt x="13788" y="3837"/>
                </a:moveTo>
                <a:lnTo>
                  <a:pt x="16364" y="6448"/>
                </a:lnTo>
                <a:lnTo>
                  <a:pt x="16364" y="4707"/>
                </a:lnTo>
                <a:lnTo>
                  <a:pt x="18140" y="4707"/>
                </a:lnTo>
                <a:lnTo>
                  <a:pt x="18140" y="8224"/>
                </a:lnTo>
                <a:lnTo>
                  <a:pt x="20751" y="10800"/>
                </a:lnTo>
                <a:lnTo>
                  <a:pt x="19097" y="10800"/>
                </a:lnTo>
                <a:lnTo>
                  <a:pt x="19097" y="17989"/>
                </a:lnTo>
                <a:lnTo>
                  <a:pt x="8479" y="17989"/>
                </a:lnTo>
                <a:lnTo>
                  <a:pt x="8479" y="10800"/>
                </a:lnTo>
                <a:lnTo>
                  <a:pt x="6825" y="10800"/>
                </a:lnTo>
                <a:close/>
              </a:path>
              <a:path fill="darkenLess" w="27576" h="21600">
                <a:moveTo>
                  <a:pt x="16364" y="6448"/>
                </a:moveTo>
                <a:lnTo>
                  <a:pt x="16364" y="4707"/>
                </a:lnTo>
                <a:lnTo>
                  <a:pt x="18140" y="4707"/>
                </a:lnTo>
                <a:lnTo>
                  <a:pt x="18140" y="8224"/>
                </a:lnTo>
                <a:close/>
              </a:path>
              <a:path fill="darkenLess" w="27576" h="21600">
                <a:moveTo>
                  <a:pt x="12865" y="14299"/>
                </a:moveTo>
                <a:lnTo>
                  <a:pt x="14711" y="14299"/>
                </a:lnTo>
                <a:lnTo>
                  <a:pt x="14711" y="17989"/>
                </a:lnTo>
                <a:lnTo>
                  <a:pt x="19097" y="17989"/>
                </a:lnTo>
                <a:lnTo>
                  <a:pt x="19097" y="10800"/>
                </a:lnTo>
                <a:lnTo>
                  <a:pt x="8479" y="10800"/>
                </a:lnTo>
                <a:lnTo>
                  <a:pt x="8479" y="17989"/>
                </a:lnTo>
                <a:lnTo>
                  <a:pt x="1286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459280" y="-522252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6000" y="476280"/>
            <a:ext cx="7570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.М. Досто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.С. Турге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395280" y="54936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rId2" action="ppaction://hlinksldjump"/>
          </p:cNvPr>
          <p:cNvSpPr/>
          <p:nvPr/>
        </p:nvSpPr>
        <p:spPr>
          <a:xfrm>
            <a:off x="324000" y="1628640"/>
            <a:ext cx="682560" cy="64800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2751" h="21600">
                <a:moveTo>
                  <a:pt x="0" y="0"/>
                </a:moveTo>
                <a:lnTo>
                  <a:pt x="22751" y="0"/>
                </a:lnTo>
                <a:lnTo>
                  <a:pt x="22751" y="21600"/>
                </a:lnTo>
                <a:lnTo>
                  <a:pt x="0" y="21600"/>
                </a:lnTo>
                <a:close/>
              </a:path>
              <a:path fill="lightenLess" w="22751" h="21600">
                <a:moveTo>
                  <a:pt x="0" y="0"/>
                </a:moveTo>
                <a:lnTo>
                  <a:pt x="22751" y="0"/>
                </a:lnTo>
                <a:lnTo>
                  <a:pt x="21351" y="1400"/>
                </a:lnTo>
                <a:lnTo>
                  <a:pt x="1400" y="1400"/>
                </a:lnTo>
                <a:close/>
              </a:path>
              <a:path fill="darken" w="22751" h="21600">
                <a:moveTo>
                  <a:pt x="22751" y="0"/>
                </a:moveTo>
                <a:lnTo>
                  <a:pt x="22751" y="21600"/>
                </a:lnTo>
                <a:lnTo>
                  <a:pt x="21351" y="20200"/>
                </a:lnTo>
                <a:lnTo>
                  <a:pt x="21351" y="1400"/>
                </a:lnTo>
                <a:close/>
              </a:path>
              <a:path fill="darkenLess" w="22751" h="21600">
                <a:moveTo>
                  <a:pt x="22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51" y="20200"/>
                </a:lnTo>
                <a:close/>
              </a:path>
              <a:path fill="lighten" w="22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51" h="21600">
                <a:moveTo>
                  <a:pt x="4369" y="3794"/>
                </a:moveTo>
                <a:lnTo>
                  <a:pt x="18382" y="10800"/>
                </a:lnTo>
                <a:lnTo>
                  <a:pt x="43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>
            <a:hlinkClick r:id="rId3" action="ppaction://hlinksldjump"/>
          </p:cNvPr>
          <p:cNvSpPr/>
          <p:nvPr/>
        </p:nvSpPr>
        <p:spPr>
          <a:xfrm>
            <a:off x="324000" y="285264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>
            <a:hlinkClick r:id="rId4" action="ppaction://hlinksldjump"/>
          </p:cNvPr>
          <p:cNvSpPr/>
          <p:nvPr/>
        </p:nvSpPr>
        <p:spPr>
          <a:xfrm>
            <a:off x="324000" y="400536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>
            <a:hlinkClick r:id="rId5" action="ppaction://hlinksldjump"/>
          </p:cNvPr>
          <p:cNvSpPr/>
          <p:nvPr/>
        </p:nvSpPr>
        <p:spPr>
          <a:xfrm>
            <a:off x="324000" y="515772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>
            <a:hlinkClick r:id="rId6" action="ppaction://hlinksldjump"/>
          </p:cNvPr>
          <p:cNvSpPr/>
          <p:nvPr/>
        </p:nvSpPr>
        <p:spPr>
          <a:xfrm>
            <a:off x="8317080" y="6165720"/>
            <a:ext cx="684000" cy="522360"/>
          </a:xfrm>
          <a:custGeom>
            <a:avLst/>
            <a:gdLst>
              <a:gd name="textAreaLeft" fmla="*/ 33840 w 684000"/>
              <a:gd name="textAreaRight" fmla="*/ 650160 w 68400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8279" h="21600">
                <a:moveTo>
                  <a:pt x="0" y="0"/>
                </a:moveTo>
                <a:lnTo>
                  <a:pt x="28279" y="0"/>
                </a:lnTo>
                <a:lnTo>
                  <a:pt x="28279" y="21600"/>
                </a:lnTo>
                <a:lnTo>
                  <a:pt x="0" y="21600"/>
                </a:lnTo>
                <a:close/>
              </a:path>
              <a:path fill="lightenLess" w="28279" h="21600">
                <a:moveTo>
                  <a:pt x="0" y="0"/>
                </a:moveTo>
                <a:lnTo>
                  <a:pt x="28279" y="0"/>
                </a:lnTo>
                <a:lnTo>
                  <a:pt x="26879" y="1400"/>
                </a:lnTo>
                <a:lnTo>
                  <a:pt x="1400" y="1400"/>
                </a:lnTo>
                <a:close/>
              </a:path>
              <a:path fill="darken" w="28279" h="21600">
                <a:moveTo>
                  <a:pt x="28279" y="0"/>
                </a:moveTo>
                <a:lnTo>
                  <a:pt x="28279" y="21600"/>
                </a:lnTo>
                <a:lnTo>
                  <a:pt x="26879" y="20200"/>
                </a:lnTo>
                <a:lnTo>
                  <a:pt x="26879" y="1400"/>
                </a:lnTo>
                <a:close/>
              </a:path>
              <a:path fill="darkenLess" w="28279" h="21600">
                <a:moveTo>
                  <a:pt x="28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9" y="20200"/>
                </a:lnTo>
                <a:close/>
              </a:path>
              <a:path fill="lighten" w="28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9" h="21600">
                <a:moveTo>
                  <a:pt x="7133" y="10800"/>
                </a:moveTo>
                <a:lnTo>
                  <a:pt x="21146" y="3794"/>
                </a:lnTo>
                <a:lnTo>
                  <a:pt x="211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Фёдор Михайлович Достоевский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(30 октября 1821-28 января 1881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5373360"/>
            <a:ext cx="820908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ы  Достоевского – это мир страданий, трагедия бесправной униженной личности. Писатель показал, как подавление достоинства человека разрушает его душу, раздваивает его сознание; с одной стороны, появляется ощущение собственного ничтожества, с другой- зреет протест, стремление утвердить себя как свободную личность. Нередко самоутверждение приводит героев Достоевского к своеволию – преступл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92000" y="1484280"/>
            <a:ext cx="51944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37 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остоевский поступает в главное инженерное училищ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46г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убликация первого романа «Бедные люд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49г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ест петрашевцев Достоевский осуждён на катор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54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аторга заменена поселением в Семипалатинском гарнизо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59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озвращение из ссылки в Санкт- Петербур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61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убликация «Записок и Мёртвого до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66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ходит в свет «Преступление и наказани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69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Идио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72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Бес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1880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Братья Карамазов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img165"/>
          <p:cNvPicPr/>
          <p:nvPr/>
        </p:nvPicPr>
        <p:blipFill>
          <a:blip r:embed="rId1"/>
          <a:stretch/>
        </p:blipFill>
        <p:spPr>
          <a:xfrm>
            <a:off x="179280" y="1413000"/>
            <a:ext cx="3127320" cy="39099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7">
            <a:hlinkClick r:id="rId2" action="ppaction://hlinksldjump"/>
          </p:cNvPr>
          <p:cNvSpPr/>
          <p:nvPr/>
        </p:nvSpPr>
        <p:spPr>
          <a:xfrm>
            <a:off x="8317080" y="6021360"/>
            <a:ext cx="684000" cy="522360"/>
          </a:xfrm>
          <a:custGeom>
            <a:avLst/>
            <a:gdLst>
              <a:gd name="textAreaLeft" fmla="*/ 33840 w 684000"/>
              <a:gd name="textAreaRight" fmla="*/ 650160 w 68400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8279" h="21600">
                <a:moveTo>
                  <a:pt x="0" y="0"/>
                </a:moveTo>
                <a:lnTo>
                  <a:pt x="28279" y="0"/>
                </a:lnTo>
                <a:lnTo>
                  <a:pt x="28279" y="21600"/>
                </a:lnTo>
                <a:lnTo>
                  <a:pt x="0" y="21600"/>
                </a:lnTo>
                <a:close/>
              </a:path>
              <a:path fill="lightenLess" w="28279" h="21600">
                <a:moveTo>
                  <a:pt x="0" y="0"/>
                </a:moveTo>
                <a:lnTo>
                  <a:pt x="28279" y="0"/>
                </a:lnTo>
                <a:lnTo>
                  <a:pt x="26879" y="1400"/>
                </a:lnTo>
                <a:lnTo>
                  <a:pt x="1400" y="1400"/>
                </a:lnTo>
                <a:close/>
              </a:path>
              <a:path fill="darken" w="28279" h="21600">
                <a:moveTo>
                  <a:pt x="28279" y="0"/>
                </a:moveTo>
                <a:lnTo>
                  <a:pt x="28279" y="21600"/>
                </a:lnTo>
                <a:lnTo>
                  <a:pt x="26879" y="20200"/>
                </a:lnTo>
                <a:lnTo>
                  <a:pt x="26879" y="1400"/>
                </a:lnTo>
                <a:close/>
              </a:path>
              <a:path fill="darkenLess" w="28279" h="21600">
                <a:moveTo>
                  <a:pt x="28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9" y="20200"/>
                </a:lnTo>
                <a:close/>
              </a:path>
              <a:path fill="lighten" w="28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9" h="21600">
                <a:moveTo>
                  <a:pt x="7133" y="10800"/>
                </a:moveTo>
                <a:lnTo>
                  <a:pt x="21146" y="3794"/>
                </a:lnTo>
                <a:lnTo>
                  <a:pt x="211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5T15:55:29Z</dcterms:created>
  <dc:creator>костя</dc:creator>
  <dc:description/>
  <dc:language>en-US</dc:language>
  <cp:lastModifiedBy>Admin</cp:lastModifiedBy>
  <dcterms:modified xsi:type="dcterms:W3CDTF">2016-10-11T02:11:19Z</dcterms:modified>
  <cp:revision>47</cp:revision>
  <dc:subject/>
  <dc:title>МОУ «Клюквинская СОШ»   Художественная культура народов России второй половины XIX века. (урок истории в 8 классе)</dc:title>
</cp:coreProperties>
</file>