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fld id="{7C235878-AD4C-411C-9E15-56E461285A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водоуковск, 2014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fld id="{7A1CC5C5-08D2-4BAF-97B8-8A4751F17E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0834-A4A6-4467-BFA4-B7D347564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6C03-C59E-4F68-85F3-F6D6B4FE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6A33-C40D-4F68-B38C-1B040A2EE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E1E0-890B-4910-B573-6E59A810F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F31F-BB78-450A-B319-FC390FED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2414-2ABC-4837-B158-B36138E6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8794-B265-42FA-B7CB-E2BAB16F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98D3-8081-444A-B167-DB564AD5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0714-0113-4427-B326-01CCB9D0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6ADA-F756-44CB-8054-42DC0122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FB21-150E-47F1-AE07-61FBFCDC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E48D-18E1-4CEF-A3E0-58CD441D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ea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fld id="{54A708BD-C1B3-40B5-8147-47D081BC18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9600" y="285480"/>
            <a:ext cx="92152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381480" y="2428920"/>
            <a:ext cx="6524640" cy="33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якишева Наталья Геннадь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лжность: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маст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изводственного обу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тегория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перв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щий стаж работы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14 л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агогический стаж работы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14 л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ж работы в занимаемой должности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14 л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2"/>
          <p:cNvSpPr/>
          <p:nvPr/>
        </p:nvSpPr>
        <p:spPr>
          <a:xfrm>
            <a:off x="237960" y="428760"/>
            <a:ext cx="9277560" cy="10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сударственное автономное профессионального образовательное учреждение Тюменской области «Ялуторовский аграрный колледж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8"/>
          <p:cNvSpPr/>
          <p:nvPr/>
        </p:nvSpPr>
        <p:spPr>
          <a:xfrm>
            <a:off x="1989000" y="6093000"/>
            <a:ext cx="39006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 Ялуторовск, 2015 г</a:t>
            </a:r>
            <a:r>
              <a:rPr b="0" lang="ru-RU" sz="2000" spc="-1" strike="noStrike">
                <a:solidFill>
                  <a:srgbClr val="20c9f8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7" descr=""/>
          <p:cNvPicPr/>
          <p:nvPr/>
        </p:nvPicPr>
        <p:blipFill>
          <a:blip r:embed="rId1"/>
          <a:stretch/>
        </p:blipFill>
        <p:spPr>
          <a:xfrm>
            <a:off x="666720" y="2214720"/>
            <a:ext cx="2214720" cy="3771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3" name="Прямоугольник 9"/>
          <p:cNvSpPr/>
          <p:nvPr/>
        </p:nvSpPr>
        <p:spPr>
          <a:xfrm>
            <a:off x="309600" y="1214280"/>
            <a:ext cx="95965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ru-RU" sz="2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«Двигаться вперед и не останавливаться на достигнутом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37960" y="900000"/>
          <a:ext cx="9429840" cy="5481720"/>
        </p:xfrm>
        <a:graphic>
          <a:graphicData uri="http://schemas.openxmlformats.org/drawingml/2006/table">
            <a:tbl>
              <a:tblPr/>
              <a:tblGrid>
                <a:gridCol w="374760"/>
                <a:gridCol w="1639800"/>
                <a:gridCol w="1128960"/>
                <a:gridCol w="1422360"/>
                <a:gridCol w="1122120"/>
                <a:gridCol w="1497240"/>
                <a:gridCol w="1122480"/>
                <a:gridCol w="1122120"/>
              </a:tblGrid>
              <a:tr h="1713960"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\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ОПОП, ПМ,  УП , ПП в соответств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 тарификаци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личие рабочей  программ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личие календарно-тематического план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личие поурочных пла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личие методических пособий, указаний, рекомендаций для обучаю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ли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плекта оценоч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руг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760"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1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ар, кондит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П. ПМ 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готовление блюд из овощей и гриб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зен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2 шт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9400"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1.1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ар, кондит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П. ПМ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готовление блюд и гарниров из круп, бобовых, макаронных изделий, яиц, творога, тест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зен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2 шт.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ака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3 шт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760"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1.1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ар, кондит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П. ПМ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готовление супов и соус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зен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2 шт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Rectangle 1"/>
          <p:cNvSpPr/>
          <p:nvPr/>
        </p:nvSpPr>
        <p:spPr>
          <a:xfrm>
            <a:off x="428760" y="325800"/>
            <a:ext cx="920412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sp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ическое обеспечение  профессионального обучения</a:t>
            </a:r>
            <a:r>
              <a:rPr b="1" lang="ru-RU" sz="23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523800" y="785880"/>
          <a:ext cx="8858160" cy="5738760"/>
        </p:xfrm>
        <a:graphic>
          <a:graphicData uri="http://schemas.openxmlformats.org/drawingml/2006/table">
            <a:tbl>
              <a:tblPr/>
              <a:tblGrid>
                <a:gridCol w="319320"/>
                <a:gridCol w="1373040"/>
                <a:gridCol w="512640"/>
                <a:gridCol w="511200"/>
                <a:gridCol w="511200"/>
                <a:gridCol w="513000"/>
                <a:gridCol w="510840"/>
                <a:gridCol w="513000"/>
                <a:gridCol w="511200"/>
                <a:gridCol w="511200"/>
                <a:gridCol w="512640"/>
                <a:gridCol w="511200"/>
                <a:gridCol w="512640"/>
                <a:gridCol w="511200"/>
                <a:gridCol w="513000"/>
                <a:gridCol w="510840"/>
              </a:tblGrid>
              <a:tr h="489960">
                <a:tc rowSpan="2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\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ОПОП, ПМ, УП, ПП в соответствии с тарификаци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нвар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евра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пр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юн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б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б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б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б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б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б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б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964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1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ар, кондит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П. ПМ 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готовление блюд из овощей и гриб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1.1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ар, кондит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П. ПМ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готовление блюд и гарниров из круп, бобовых, макаронных изделий, яиц, творога, тест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76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1.1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ар, кондит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П. ПМ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готовление супов и соус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"/>
          <p:cNvSpPr/>
          <p:nvPr/>
        </p:nvSpPr>
        <p:spPr>
          <a:xfrm>
            <a:off x="309600" y="216720"/>
            <a:ext cx="959652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зультативность качества освоения профессионального обучени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380880" y="260280"/>
            <a:ext cx="9180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«Организация внеучебной деятельности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по профессиональному обучен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00160" y="1190520"/>
          <a:ext cx="9505800" cy="5148360"/>
        </p:xfrm>
        <a:graphic>
          <a:graphicData uri="http://schemas.openxmlformats.org/drawingml/2006/table">
            <a:tbl>
              <a:tblPr/>
              <a:tblGrid>
                <a:gridCol w="495000"/>
                <a:gridCol w="1659240"/>
                <a:gridCol w="887400"/>
                <a:gridCol w="990360"/>
                <a:gridCol w="1092240"/>
                <a:gridCol w="1855800"/>
                <a:gridCol w="928800"/>
                <a:gridCol w="912600"/>
                <a:gridCol w="684360"/>
              </a:tblGrid>
              <a:tr h="98280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ПОП, ПМ, УП, ПП в соответствии с  тарификаци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вр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33120" rIns="3312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. ПК-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1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ар, кондит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П. ПМ 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готовление блюд из овощей и гриб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и проведение конкурса «Широкая маслениц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и проведение выставки кондитерских изделий, посвященная «Дню открытых дверей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7520">
                <a:tc>
                  <a:txBody>
                    <a:bodyPr lIns="33120" rIns="3312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1.1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ар, кондит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П. ПМ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готовление блюд и гарниров из круп, бобовых, макаронных изделий, яиц, творога, тест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улинарный  эруди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готовка и проведение мастер-класса «Приготовление вареников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824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1.1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ар, кондит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П. ПМ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готовление супов и соус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готовка и участие в выставке с дегустацией  «Русские блины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0320"/>
                          <a:tab algn="l" pos="2060640"/>
                          <a:tab algn="l" pos="3090960"/>
                          <a:tab algn="l" pos="4121280"/>
                          <a:tab algn="l" pos="5151600"/>
                          <a:tab algn="l" pos="6181560"/>
                          <a:tab algn="l" pos="7211880"/>
                          <a:tab algn="l" pos="8242200"/>
                          <a:tab algn="l" pos="9272520"/>
                          <a:tab algn="l" pos="103028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курсия на предприятие общественного питания «Белые росы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6129360" y="333360"/>
            <a:ext cx="3071880" cy="3452760"/>
          </a:xfrm>
          <a:prstGeom prst="rect">
            <a:avLst/>
          </a:prstGeom>
          <a:solidFill>
            <a:srgbClr val="dbe7b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и достиж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13 г. - обобщения опыта работы на региональном уровне по теме «Активные и интерактивные методы обучения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14 г. - участие в научно–практической конференции «Современные педагогические технологии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E:\фотки\фото1 (2).jpg"/>
          <p:cNvPicPr/>
          <p:nvPr/>
        </p:nvPicPr>
        <p:blipFill>
          <a:blip r:embed="rId1"/>
          <a:stretch/>
        </p:blipFill>
        <p:spPr>
          <a:xfrm>
            <a:off x="7931160" y="4065480"/>
            <a:ext cx="1725480" cy="4608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E:\фотки\фото1.jpg"/>
          <p:cNvPicPr/>
          <p:nvPr/>
        </p:nvPicPr>
        <p:blipFill>
          <a:blip r:embed="rId2"/>
          <a:stretch/>
        </p:blipFill>
        <p:spPr>
          <a:xfrm>
            <a:off x="96840" y="4821120"/>
            <a:ext cx="2378160" cy="367056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8"/>
          <p:cNvSpPr/>
          <p:nvPr/>
        </p:nvSpPr>
        <p:spPr>
          <a:xfrm>
            <a:off x="2666880" y="4929120"/>
            <a:ext cx="2857680" cy="1500120"/>
          </a:xfrm>
          <a:prstGeom prst="rect">
            <a:avLst/>
          </a:prstGeom>
          <a:solidFill>
            <a:srgbClr val="dbe7b6"/>
          </a:solidFill>
          <a:ln w="25560">
            <a:solidFill>
              <a:srgbClr val="08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тижения моих студен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рославцева Ольга – шеф – повар ресторана «Русский стиль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E:\фотки\фото.jpg"/>
          <p:cNvPicPr/>
          <p:nvPr/>
        </p:nvPicPr>
        <p:blipFill>
          <a:blip r:embed="rId3"/>
          <a:stretch/>
        </p:blipFill>
        <p:spPr>
          <a:xfrm>
            <a:off x="5662440" y="4065480"/>
            <a:ext cx="2109960" cy="4608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37600" y="214200"/>
            <a:ext cx="4929480" cy="1500480"/>
          </a:xfrm>
          <a:prstGeom prst="rect">
            <a:avLst/>
          </a:prstGeom>
          <a:solidFill>
            <a:srgbClr val="dbe7b6"/>
          </a:solidFill>
          <a:ln w="9360">
            <a:solidFill>
              <a:srgbClr val="083763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Формула успех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учить можно лишь тому, что любишь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истинное звание может быть достигнуто только через личное самосовершенствова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11"/>
          <p:cNvSpPr/>
          <p:nvPr/>
        </p:nvSpPr>
        <p:spPr>
          <a:xfrm>
            <a:off x="237960" y="1857240"/>
            <a:ext cx="4929480" cy="1261800"/>
          </a:xfrm>
          <a:prstGeom prst="rect">
            <a:avLst/>
          </a:prstGeom>
          <a:solidFill>
            <a:srgbClr val="dbe7b6"/>
          </a:solidFill>
          <a:ln w="9360">
            <a:solidFill>
              <a:srgbClr val="08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е педагогическое кред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гулярно пополнять и совершенствовать свои знания, соответствовать времени, в котором живёшь, месту, которое занимаеш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5"/>
          <p:cNvSpPr/>
          <p:nvPr/>
        </p:nvSpPr>
        <p:spPr>
          <a:xfrm>
            <a:off x="237960" y="3357720"/>
            <a:ext cx="4929480" cy="1409400"/>
          </a:xfrm>
          <a:prstGeom prst="rect">
            <a:avLst/>
          </a:prstGeom>
          <a:solidFill>
            <a:srgbClr val="dbe7b6"/>
          </a:solidFill>
          <a:ln w="9360">
            <a:solidFill>
              <a:srgbClr val="08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лавный результат моей работы-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хорошая квалификационная подготовка и  качественная  профессиональная деятельность выпускников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30T08:31:35Z</dcterms:created>
  <dc:creator>Win7HB</dc:creator>
  <dc:description/>
  <dc:language>en-US</dc:language>
  <cp:lastModifiedBy>User</cp:lastModifiedBy>
  <dcterms:modified xsi:type="dcterms:W3CDTF">2015-02-03T10:26:41Z</dcterms:modified>
  <cp:revision>121</cp:revision>
  <dc:subject/>
  <dc:title>Слайд 1</dc:title>
</cp:coreProperties>
</file>