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424-FE47-4E2A-9DD7-159CEAE9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AAF-54E9-4414-AF23-C28F3801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8AA-3EC8-4E4D-961B-2A013692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B04-7623-4DBF-B35A-5E454FCA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77D7-6E2E-4439-B4BF-1D1B5553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10FC-0DDC-4EC8-B50C-725B268A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CEC6-FC61-467E-B31D-5C5882E6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9A2C-8C29-4E50-AA7F-E8C858C9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4D6A-70F5-4C6E-A74F-48E47FB9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0BBE-C4A3-4692-8CD3-5585C293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1913-7F19-499F-BC99-C5738C75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E59-D54D-4482-B584-6C042416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8D84-FD5F-41B0-9EF6-0FA24A51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18BF-F27B-4921-96E3-F7531107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2F74-C38D-4D57-BB79-5A44B164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9698-E871-4CCE-9AEB-457414CF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8AB6-6140-4ABC-BA72-205F38B6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901-C7B1-41DC-BC18-AB5E620A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DB5-C9F4-404D-849F-19ACA2A6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EEE-6DE5-4933-B956-85E993AB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642-6D75-4BBE-8CC3-75967AFD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663-B561-453F-9613-46119B01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FF4-3D55-4E2D-9502-3777764C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8FA-5108-4A7D-AFF0-83563AB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CA95-671C-4AF7-914D-5E62CB0D29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3C5E-5464-4865-8256-E0CEFFF7DA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8;&#1050;&#1058;%20&#1085;&#1072;%20&#1091;&#1088;&#1086;&#1082;&#1072;&#1093;%20&#1088;&#1091;&#1089;&#1089;&#1082;&#1086;&#1075;&#1086;%20&#1103;&#1079;&#1099;&#1082;&#1072;%20&#1080;%20&#1083;&#1080;&#1090;&#1077;&#1088;&#1072;&#1090;&#1091;&#1088;&#1099;%20&#1082;&#1072;&#1082;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Официально – деловой стиль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Практик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Образец доверенност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верен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, гр. Кузнецов Иван Александрович (26.03.56 г.р., паспорт, серия…, №…, выдан…), доверяю (настоящей доверенностью уполномочиваю) гр. Фёдорову Константину Петровичу, проживающему … (паспорт, серия…, №…, выдан…), получить причитающуюся мне зарплату на сентябрь  месяц 2007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исло                                           Подпи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Образец распис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ис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, руководитель изостудии клуба «Смена», даю настоящую расписку в том, что получил от заведующего хозяйственной частью клуба «Смена» 30 коробок гуаши для проведения занятий. Свою подпись удостоверя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исло                                                 Подпи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Характеристик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истика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греческ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та, особен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характеристике отмечаются отличительные свойства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характеристике используются стандартные языковые средства 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за время учёбы, проявил себя, принимает участие, характеристика выдана и др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 документа стандартизирована: излагаются общие сведения, указывается время учёбы (работы) в данном учреждении, оцениваются учебные (профессиональные) умения и приводятся конкретные результаты деятельности, констатируются человеческие качества, имеющие значения для коллектива; отмечается участие в общественной жизни, указывается место и цель представления характерист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План характеристи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Характери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Кого (фамилия, имя, отчество; год рождения; национальность, образование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imes New Roman"/>
              </a:rPr>
              <a:t>Ученик(ца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фамилия, имя, отчест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де и с какого года уч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imes New Roman"/>
              </a:rPr>
              <a:t>Проявил(а) себя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оявляет себя, чем занимается, как учится (относится к учёбе, что сделал(а) за время учёбы, какие (конкретно) успехи имеет в учёб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imes New Roman"/>
              </a:rPr>
              <a:t>Имеет склонность к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ие склонности имеет; чем интересуется, увлекается; какими качествами обладает, как относится к одноклассник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imes New Roman"/>
              </a:rPr>
              <a:t>Характеристика выдан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какой цел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иректор      (подпись)                                                  Да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Характеристик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Характери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Ученика 6 класса Дудинской средней школы Иванова Виктора, 1966 года рождения, русско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ванов Виктор учится в Дудинской средней школе третий год. Виктор – трудолюбивый и исполнительный мальчик. Серьёзно относится к учебным занятиям и общественным поручениям. Имеет прочные знания по всем предметам, учится на «4» и «5». Особенный интерес проявляет к биологии и географии. На городских олимпиадах по географии второй год подряд занимает призовые мес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ктор – член редколлегии классной стенной газеты. Принимает активное участие в спортивной жизни школ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ванов Виктор – хороший товарищ, пользуется уважением и любовью одноклассни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лассный руководитель____________________ А.В.Вид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.05.2007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Автобиограф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тобиография содержит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сведения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социально значимые и важны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официального представления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тобиография предполагает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достоверное сообщ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об основны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фактах и события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жизни ав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втобиографии принят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хронологическая последовате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 изложении основных событий жизни, стандартизированное нача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ждый новый блок информации начинается, как правило, с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определения врем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графически обозначается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абзац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овка документа стандартна: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дата и подп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Автобиограф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, Ерохина Анна Николаевна, родилась 12 января 1981 года в Саратов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й отец, Ерохин Николай Петрович, директор фирмы. Моя мать, Ерохина Наталья Алексеевна, домохозяйка. Моя сестра – Вера, ученица 3 класса средней шко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1988 году я поступила в среднюю общеобразовательную школу №56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1997 году начала обучаться в американской академ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йчас учусь в 9 класс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вободное время я иногда читаю книги (фантастику), а ещё люблю заниматься рукодел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й домашний адрес: Заводской район, ул. Мичурина, д. № 5, кв.5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октября 1998 года                                     Ерохи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/>
          </p:cNvPr>
          <p:cNvSpPr/>
          <p:nvPr/>
        </p:nvSpPr>
        <p:spPr>
          <a:xfrm>
            <a:off x="8317080" y="6308640"/>
            <a:ext cx="433080" cy="360360"/>
          </a:xfrm>
          <a:custGeom>
            <a:avLst/>
            <a:gdLst>
              <a:gd name="textAreaLeft" fmla="*/ 23040 w 433080"/>
              <a:gd name="textAreaRight" fmla="*/ 410040 w 433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54" h="21600">
                <a:moveTo>
                  <a:pt x="0" y="0"/>
                </a:moveTo>
                <a:lnTo>
                  <a:pt x="25954" y="0"/>
                </a:lnTo>
                <a:lnTo>
                  <a:pt x="25954" y="21600"/>
                </a:lnTo>
                <a:lnTo>
                  <a:pt x="0" y="21600"/>
                </a:lnTo>
                <a:close/>
              </a:path>
              <a:path fill="lightenLess" w="25954" h="21600">
                <a:moveTo>
                  <a:pt x="0" y="0"/>
                </a:moveTo>
                <a:lnTo>
                  <a:pt x="25954" y="0"/>
                </a:lnTo>
                <a:lnTo>
                  <a:pt x="24554" y="1400"/>
                </a:lnTo>
                <a:lnTo>
                  <a:pt x="1400" y="1400"/>
                </a:lnTo>
                <a:close/>
              </a:path>
              <a:path fill="darken" w="25954" h="21600">
                <a:moveTo>
                  <a:pt x="25954" y="0"/>
                </a:moveTo>
                <a:lnTo>
                  <a:pt x="25954" y="21600"/>
                </a:lnTo>
                <a:lnTo>
                  <a:pt x="24554" y="20200"/>
                </a:lnTo>
                <a:lnTo>
                  <a:pt x="24554" y="1400"/>
                </a:lnTo>
                <a:close/>
              </a:path>
              <a:path fill="darkenLess" w="25954" h="21600">
                <a:moveTo>
                  <a:pt x="25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54" y="20200"/>
                </a:lnTo>
                <a:close/>
              </a:path>
              <a:path fill="lighten" w="25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54" h="21600">
                <a:moveTo>
                  <a:pt x="5971" y="3794"/>
                </a:moveTo>
                <a:lnTo>
                  <a:pt x="19984" y="10800"/>
                </a:lnTo>
                <a:lnTo>
                  <a:pt x="5971" y="17806"/>
                </a:lnTo>
                <a:close/>
              </a:path>
            </a:pathLst>
          </a:cu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Образец заявлен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ректору ДК «Смен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вановой Т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ведующей отдел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ёдоровой Е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яв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шу предоставить мне очередной отпуск с 1 июля по 26 июля 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. 06.2007 г.                                            Фёдор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Образец докладной запис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ректору предприя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Контрак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ванову А.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кладная запис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вожу до Вашего сведения, что при установке оборудования в цехе электроприборов был поврежден один из механизмов по вине рабоч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женер   (личная подпись)            И.М.Рудн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та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Образец справ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Справ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12.2007                                                                    № 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дана Антонову Петру в том, что он является учеником 7 класса средней школы № 1 г. Владивосто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равка выдана для представления в железнодорожную касс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ительна по 15 января 200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ректор школы___________________А.Б.Бе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Образец приказ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ководителям подраздел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мпании «Энергоресурс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каз №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 22 апреля 2007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вязи с производственной необходимостью объявить 2 мая рабочим днё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приказом ознакомить всех сотрудников вверенного вам подразде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енеральный директор          Фёдоров А.В.                 (подпис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Образец объяснительной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ректору лагер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Сосновый бор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ролову И.П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 Петрова Волод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отря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яснительна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 разбил лампочку в нашем корпусе по неосторожности. Обещаю завтра заменить на нов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исло                                                                 Подпись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Образец оформления протокол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Протокол №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собрания учащихся 7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школы №1 г. Влади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от 22 сентября 2007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сутствовало 25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вест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Выборы редколлегии классной газе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Организация помощи отстающим учени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Образец оформления протокол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ушали: о выборах редколлегии классной стенгазе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.Ситникова предложила выбрать в редколлегию В.Антонова, Н.Голубеву, А.Белов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шили: избрать редколлегию в составе 3 человек: В.Антонова, Н.Голубевой, А.Белов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660000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ушали: об организации помощи отстающим учени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.И.Щукина, классный руководитель, отметила низкую успеваемость некоторых уча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шили: организовать индивидуальные занятия с отстающими ученик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кретарь___________________Н.Семё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Композиция доверенност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.И.О. автора, паспортные дан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азание на доверенное лицо, паспортные дан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арактеристика того, что доверя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ок действия доверенности (не всегд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та, подп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верение подписи (чаще нотариально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1:35:21Z</dcterms:created>
  <dc:creator>User</dc:creator>
  <dc:description/>
  <dc:language>en-US</dc:language>
  <cp:lastModifiedBy>User</cp:lastModifiedBy>
  <dcterms:modified xsi:type="dcterms:W3CDTF">2008-03-31T05:20:36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