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152-D75A-4CE9-8347-840D657BF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047D-FF35-48DB-B191-FA920E08A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F690-0570-402A-A0CF-2946580C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96F1-C2E0-4B73-ACDE-68CD5A27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BCC1-23BA-45B3-8676-207043D0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E8BA-C308-4E5C-BF09-CA083400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DEC3-2433-43F2-B3B8-276A081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C839-B57B-469F-84D1-9D76387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3FEF-0B07-47E1-8F0D-3A8B413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9A4A-60C7-48A4-AE7F-AF03728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1A19-7BC6-42C6-8E50-5900233A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F116-9826-451D-ACE6-3B392150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F10-2CA1-491E-92AD-00A0620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A7BD-9908-4A50-91CD-095A9BCC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29AC-95F7-4475-A3CD-DABF2BD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3E40-E6C4-447F-A2C8-922D978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2567-95AA-4848-B062-7EE00F38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D471-4F6F-40A6-A344-9FB94F08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43A0-EA4F-4714-88B9-5CAAFA4D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5734-944F-4FD7-BC77-FB5D0D35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E5F1-46ED-4FF5-A865-E2540583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8FD4-C3C1-4225-AD6C-FB433814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F39D-6E6A-421C-8D23-D76F557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9FF6-0197-4047-A5A2-C5D7B3F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26F9-EABB-46C6-AC76-A38B0AAA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6DF6-7DC6-4764-BE2C-2BB7EBE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63A-805A-45C2-84EC-13C3A68EE0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9952-7BFD-40B2-8D6F-63EF84ED5C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Olympic_flag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Olympic_flag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3;&#1080;&#1084;&#1087;&#1080;&#1081;&#1089;&#1082;&#1080;&#1077;_&#1080;&#1075;&#1088;&#1099;" TargetMode="External"/><Relationship Id="rId2" Type="http://schemas.openxmlformats.org/officeDocument/2006/relationships/hyperlink" Target="http://ru.wikipedia.org/wiki/&#1044;&#1088;&#1077;&#1074;&#1085;&#1103;&#1103;_&#1043;&#1088;&#1077;&#1094;&#1080;&#1103;" TargetMode="External"/><Relationship Id="rId3" Type="http://schemas.openxmlformats.org/officeDocument/2006/relationships/hyperlink" Target="http://ru.wikipedia.org/wiki/&#1040;&#1085;&#1090;&#1080;&#1095;&#1085;&#1099;&#1077;_&#1054;&#1083;&#1080;&#1084;&#1087;&#1080;&#1081;&#1089;&#1082;&#1080;&#1077;_&#1080;&#1075;&#1088;&#1099;" TargetMode="External"/><Relationship Id="rId4" Type="http://schemas.openxmlformats.org/officeDocument/2006/relationships/hyperlink" Target="http://ru.wikipedia.org/wiki/&#1055;&#1088;&#1086;&#1084;&#1077;&#1090;&#1077;&#1081;" TargetMode="External"/><Relationship Id="rId5" Type="http://schemas.openxmlformats.org/officeDocument/2006/relationships/hyperlink" Target="http://ru.wikipedia.org/wiki/&#1047;&#1077;&#1074;&#1089;" TargetMode="External"/><Relationship Id="rId6" Type="http://schemas.openxmlformats.org/officeDocument/2006/relationships/hyperlink" Target="http://ru.wikipedia.org/wiki/1928_&#1075;&#1086;&#1076;" TargetMode="External"/><Relationship Id="rId7" Type="http://schemas.openxmlformats.org/officeDocument/2006/relationships/hyperlink" Target="http://ru.wikipedia.org/wiki/&#1054;&#1083;&#1080;&#1084;&#1087;&#1080;&#1081;&#1089;&#1082;&#1080;&#1077;_&#1080;&#1075;&#1088;&#1099;" TargetMode="External"/><Relationship Id="rId8" Type="http://schemas.openxmlformats.org/officeDocument/2006/relationships/hyperlink" Target="http://ru.wikipedia.org/wiki/1936_&#1075;&#1086;&#1076;" TargetMode="External"/><Relationship Id="rId9" Type="http://schemas.openxmlformats.org/officeDocument/2006/relationships/hyperlink" Target="http://ru.wikipedia.org/wiki/&#1041;&#1077;&#1088;&#1083;&#1080;&#1085;" TargetMode="External"/><Relationship Id="rId10" Type="http://schemas.openxmlformats.org/officeDocument/2006/relationships/hyperlink" Target="http://ru.wikipedia.org/wiki/&#1054;&#1083;&#1080;&#1084;&#1087;&#1080;&#1103;" TargetMode="External"/><Relationship Id="rId11" Type="http://schemas.openxmlformats.org/officeDocument/2006/relationships/hyperlink" Target="http://ru.wikipedia.org/wiki/&#1041;&#1077;&#1088;&#1083;&#1080;&#1085;" TargetMode="External"/><Relationship Id="rId12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13" Type="http://schemas.openxmlformats.org/officeDocument/2006/relationships/hyperlink" Target="http://ru.wikipedia.org/wiki/1936" TargetMode="External"/><Relationship Id="rId14" Type="http://schemas.openxmlformats.org/officeDocument/2006/relationships/hyperlink" Target="http://ru.wikipedia.org/wiki/1948_&#1075;&#1086;&#1076;" TargetMode="External"/><Relationship Id="rId15" Type="http://schemas.openxmlformats.org/officeDocument/2006/relationships/hyperlink" Target="http://ru.wikipedia.org/wiki/1952_&#1075;&#1086;&#1076;" TargetMode="External"/><Relationship Id="rId16" Type="http://schemas.openxmlformats.org/officeDocument/2006/relationships/hyperlink" Target="http://ru.wikipedia.org/wiki/&#1054;&#1089;&#1083;&#1086;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появились Олимпийски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Файл:Olympic fla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1928880"/>
            <a:ext cx="53578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2876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в Древней Греции, современные Олимпийские игры проводятся каждые четыре года. Многие  виды соревнований перешли к нам из древнегреческих Олимпиад: бег, метание, прыжки, борьба, пятибор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FT0051635. Фото прыжок, фотографии и постеры прыжков, постеры Прыжки, плакат Прыжки"/>
          <p:cNvPicPr/>
          <p:nvPr/>
        </p:nvPicPr>
        <p:blipFill>
          <a:blip r:embed="rId1"/>
          <a:stretch/>
        </p:blipFill>
        <p:spPr>
          <a:xfrm>
            <a:off x="407880" y="4211640"/>
            <a:ext cx="1451160" cy="220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FT0058159. Фото Борьба, фотографии борцов, борьба в картинках, рисунки борьбы, постеры Борьба, плакат Борьба"/>
          <p:cNvPicPr/>
          <p:nvPr/>
        </p:nvPicPr>
        <p:blipFill>
          <a:blip r:embed="rId2"/>
          <a:stretch/>
        </p:blipFill>
        <p:spPr>
          <a:xfrm>
            <a:off x="360360" y="1925640"/>
            <a:ext cx="2657520" cy="195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FT0100435. Фото метание, фотографии метние, метание диска фото, постеры Метание, плакат Метание"/>
          <p:cNvPicPr/>
          <p:nvPr/>
        </p:nvPicPr>
        <p:blipFill>
          <a:blip r:embed="rId3"/>
          <a:stretch/>
        </p:blipFill>
        <p:spPr>
          <a:xfrm>
            <a:off x="6126120" y="2000160"/>
            <a:ext cx="2584440" cy="1895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FT0056604. Фото метание, фотографии метние, метание диска фото, постеры Метание, плакат Метание"/>
          <p:cNvPicPr/>
          <p:nvPr/>
        </p:nvPicPr>
        <p:blipFill>
          <a:blip r:embed="rId4"/>
          <a:stretch/>
        </p:blipFill>
        <p:spPr>
          <a:xfrm>
            <a:off x="3408480" y="2000160"/>
            <a:ext cx="2504880" cy="189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097061. Фото прыжок, фотографии и постеры прыжков, постеры Прыжки, плакат Прыжки"/>
          <p:cNvPicPr/>
          <p:nvPr/>
        </p:nvPicPr>
        <p:blipFill>
          <a:blip r:embed="rId5"/>
          <a:stretch/>
        </p:blipFill>
        <p:spPr>
          <a:xfrm>
            <a:off x="2193840" y="4211640"/>
            <a:ext cx="3110040" cy="218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648049. Фото Бег, постеры бег, плакаты бег, фотографии бегунов, постеры Бег, плакат Бег"/>
          <p:cNvPicPr/>
          <p:nvPr/>
        </p:nvPicPr>
        <p:blipFill>
          <a:blip r:embed="rId6"/>
          <a:stretch/>
        </p:blipFill>
        <p:spPr>
          <a:xfrm>
            <a:off x="5553000" y="4211640"/>
            <a:ext cx="3189240" cy="2182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Файл:Olympic flag.svg"/>
          <p:cNvPicPr/>
          <p:nvPr/>
        </p:nvPicPr>
        <p:blipFill>
          <a:blip r:embed="rId1"/>
          <a:stretch/>
        </p:blipFill>
        <p:spPr>
          <a:xfrm>
            <a:off x="3252960" y="285840"/>
            <a:ext cx="2747880" cy="1869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71680" y="185724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Быстрее,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ше,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ьне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992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Петрова Нина Николаевн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физической культу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БОУ СОШ № 175  Калини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кт- Петербург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высшей квалификационной категор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греческом городе Олим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дились спортивные соревно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е игр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www.home-edu.ru/user/uatml/00001838/Gotovie/olimpia/og2.jpg"/>
          <p:cNvPicPr/>
          <p:nvPr/>
        </p:nvPicPr>
        <p:blipFill>
          <a:blip r:embed="rId1"/>
          <a:stretch/>
        </p:blipFill>
        <p:spPr>
          <a:xfrm>
            <a:off x="500040" y="2643120"/>
            <a:ext cx="820440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началом состязаний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ли клятву о честной борь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игр город Олим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лся в главный г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ремя проведения игр вою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щие стороны договарив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еремирии. Споры решалис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ой ар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Файл:Olympic fla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558720"/>
            <a:ext cx="4429080" cy="301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57120" y="92880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шь ли ты, что это за эм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эмблема означает пять континентов, участвующих в  Олимпиад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Америка, 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фрика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зия,  </a:t>
            </a:r>
            <a:r>
              <a:rPr b="1" lang="ru-RU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Европа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стра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ы думаешь,  что такое Олимпийский ого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Олимпийский огонь (42 фото)"/>
          <p:cNvPicPr/>
          <p:nvPr/>
        </p:nvPicPr>
        <p:blipFill>
          <a:blip r:embed="rId1"/>
          <a:stretch/>
        </p:blipFill>
        <p:spPr>
          <a:xfrm>
            <a:off x="1214280" y="1809720"/>
            <a:ext cx="6572520" cy="438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й Ого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символо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Олимпийских иг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о зажигают в городе проведения игр во время их открытия и он горит непрерывно до их оконч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 зажигания Олимпийского огня существовала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/>
              </a:rPr>
              <a:t>Древней Гре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ремя проведения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/>
              </a:rPr>
              <a:t>античных Олимпийских иг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лимпийский огонь служил напоминанием о подвиге титана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4"/>
              </a:rPr>
              <a:t>Промет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легенде похитившего огонь у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5"/>
              </a:rPr>
              <a:t>Зев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дарившего его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 была возрождена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6"/>
              </a:rPr>
              <a:t>1928 го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храняется до сих пор. Во время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7"/>
              </a:rPr>
              <a:t>Олимпийских иг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8"/>
              </a:rPr>
              <a:t>1936 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ившихся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9"/>
              </a:rPr>
              <a:t>Берли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первые была проведена эстафета Олимпийского огня .Более 3000 бегунов участвовали в доставке факела из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0"/>
              </a:rPr>
              <a:t>Олим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1"/>
              </a:rPr>
              <a:t>Берл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2"/>
              </a:rPr>
              <a:t>Зимних Олимпийских игр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онь зажигался и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3"/>
              </a:rPr>
              <a:t>193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4"/>
              </a:rPr>
              <a:t>1948 го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эстафета впервые была проведена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5"/>
              </a:rPr>
              <a:t>1952 го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 Олимпийскими играми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6"/>
              </a:rPr>
              <a:t>Осл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ако она брала начало не в Олимпии, а в Моргенд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4200" y="571320"/>
            <a:ext cx="868680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ы знаешь о современных Олимпийских иг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14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е игры возродились в 1896 году благодаря барону Пьеру де Кубертену, который на протяжении многих лет был президентом МОК (Международный Олимпийский Комитет). Они прошли в Аф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24 года отдельно начинают  проводиться зимние Олимпийски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00 государств принимают участие в Олимпийских иг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24 года отдельно начинают проводиться зимние Олимпийски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00 государств принимают участие в Олимпийских иг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8584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 рисунки. Какие виды соревнований входили в Олимпийски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в древ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www.home-edu.ru/user/uatml/00001838/Gotovie/olimpia/og8.jpg"/>
          <p:cNvPicPr/>
          <p:nvPr/>
        </p:nvPicPr>
        <p:blipFill>
          <a:blip r:embed="rId1"/>
          <a:stretch/>
        </p:blipFill>
        <p:spPr>
          <a:xfrm>
            <a:off x="357120" y="2214720"/>
            <a:ext cx="4891320" cy="4071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home-edu.ru/user/uatml/00001838/Gotovie/olimpia/og6.jpg"/>
          <p:cNvPicPr/>
          <p:nvPr/>
        </p:nvPicPr>
        <p:blipFill>
          <a:blip r:embed="rId2"/>
          <a:stretch/>
        </p:blipFill>
        <p:spPr>
          <a:xfrm>
            <a:off x="6500880" y="3857760"/>
            <a:ext cx="1785960" cy="287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06:31:30Z</dcterms:created>
  <dc:creator>1</dc:creator>
  <dc:description/>
  <dc:language>en-US</dc:language>
  <cp:lastModifiedBy>Алексей</cp:lastModifiedBy>
  <dcterms:modified xsi:type="dcterms:W3CDTF">2016-12-03T18:12:11Z</dcterms:modified>
  <cp:revision>104</cp:revision>
  <dc:subject/>
  <dc:title>Слайд 1</dc:title>
</cp:coreProperties>
</file>