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45B-69CF-4E56-891A-3292192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E1D-AF3E-46A5-B0D6-F9CC3065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95A5B-27AD-4D0A-9F3A-D2AA1DBE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A625-E8AC-486E-822E-3E8A5CD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F3981-2CD1-4253-8C04-D516E245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792EA-8D28-44B0-8F5F-8367740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289B3-49AA-4099-AB43-1322E7C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3D3B1-B375-45A9-B3C2-9233758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D8F9E-175C-4DCF-A09C-C587D822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C8682-048A-4B1F-9E40-C71252C6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E5F6E-48D5-4D9E-8AC0-FDA23C47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75F2C-B634-40A7-8373-FD29E60E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824-51F2-4263-BF28-018E446D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88DE5-3F2A-4D0A-A36E-6169F3CD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91B6E-4BE9-42C0-9431-D6A06EB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06C83-C1EB-4B0D-9C20-750F8CF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EA922-C863-4B8A-9E9A-775403B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38ACB-D0FF-49F6-BB76-D03745F0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51404-E294-418C-BA26-4783223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F83CC-A115-45BF-895C-B91EB0C2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2B8ED-AA9A-4C40-B596-34B5705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9320D-14B6-4B40-A6F9-F1113C1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124F9-37BD-49FE-87E1-D7A75D56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CA5-30BF-4A90-9873-42D37C6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A5A01-D0A4-45D7-990E-64823A42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0F89-662C-4125-A2CF-0947AD4F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046A6-5162-45AA-BA53-A937B73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FB92C-D66C-4EB5-BB5B-1E74F300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B1970-C2D6-4214-8334-A406F9E8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4637F-330D-493C-8A89-81BC0F2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F4426-0A32-49E8-A60A-4762628C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06EC-BB0C-451D-951F-2A65A81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DFE22-A3B9-4F4C-B529-EAA2323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E8184-318E-40BD-A7A3-56B1894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645-9AEF-4C71-B2E7-8DDC7806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2B331-2303-4EED-B606-496F2C26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306B-13A6-464A-9136-35953B92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8D51-7D63-43A2-81A8-7CCB0A57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C34B7-0713-42E5-A807-FFB7A387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09D4-8955-48DD-9F88-B301F69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58660-9487-4474-8144-28A1187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55E56-2DBC-49C6-ADB9-7F21B5C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FA87D-349E-4831-8A5A-0A88973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30CDE-6482-45CA-A403-623F9FF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C25F-01DD-4DBA-AE8A-E2DD089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2C32-C71E-4492-9B0D-AC17AB81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23936-C2D3-458D-BFF4-A1CCCEF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84D4D-991E-4138-923A-19AB0D4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D66A-6384-4544-BCD5-B9EAD3B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70328-9C59-45D7-98E9-0D7182C5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AA4E7-01C6-465B-9E08-97E17326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872-5BCD-4CF7-9278-93CF000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FC5-2266-478C-8207-21E41A1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F273-21DF-4199-B6EC-D0A757F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ABA-A7C7-4013-9AFC-8F8E58A1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C63-9AA6-488F-98BB-0DE8C4E5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3A7-0B34-43DE-BB53-F95B53F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77BD-9FB2-480F-8EE8-05DEBF3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A4B1-F62E-4FB2-952E-6AD3800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71E-F592-49C8-8651-B5AF593C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4785-9D51-4AFC-BB2D-966537DD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92F-2BE9-47E9-88F4-8660ED6B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4353-AF6D-4B2A-A3E1-55CFE4CF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7518-864B-4C32-AF05-4BA7859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2288-312F-4025-AC4C-30FDFB5B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8FF8-2299-4B6E-96E1-86A9626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53DE-7C62-4E04-AC66-91EA867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9AD-8E40-4DBB-8A2F-62D95CC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348A-5689-4F79-81B1-6FD0BD66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3B0C-BAF2-403C-933A-7DA3F74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EBD0-A341-4F5A-B698-84AA27D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D026-AB35-43AE-AC42-F20D01A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650C-67CE-460F-847E-641F4F7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A41C-60A9-4721-A7EC-5C96A024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4C25-C7CF-436B-BC6D-CEF5C2F0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937A3-7231-477D-8120-FCE0042A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3F136-6430-4838-B6C9-2271D18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7680-5450-4D18-9278-20E2BE36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E5E-BB0F-4F62-B912-C083FCA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FD10-C2DA-4ED3-9CCE-FDD3A83C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90AC-2C27-44B1-9EB7-0DB823B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413E-44AB-4C1B-B320-5C8EBF13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5692-A90C-4F8E-9D2A-D7503A2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88063-4293-4040-8596-4A4D418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B938-99D2-42AF-B632-101E2C6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B03A-9F49-4D63-9C92-C4F70F2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79F51-5E2D-481F-8008-74B36810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9E49-06F3-4BE6-AAD8-75C5AA2F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2E6F-09C2-4DEE-A4EA-673E23ED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EC-BF9E-401C-9072-E248FDD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4BB05-2E67-43F8-9E0D-CF4D5AE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CA6C-9061-42DE-9219-63A731E6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5314D-C2FD-4D59-83BF-9E8B12E8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98EB-0A81-4F5C-80A0-A72D7689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B9D9-8185-41EA-8A16-A60FE7D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282E7-43C9-43B8-8BD8-689A44C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44B34-27F3-42F6-AE41-2744D525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4305-CACA-4BC4-8732-94831D74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CD4C-6D1E-48C4-843D-65886D80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2A51E-2694-43FF-9CE7-9E4CF7E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5ED-B946-4F2A-866B-F55131F4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AF43-4C50-4EA7-99E2-4E1D7200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CF9F-D3BC-4728-B0E8-68E4C8A6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E9F6-34C0-40BA-8A45-7B288180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EF068-0ACA-4845-92CE-29FA8398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6449-DDA6-4A7B-90A5-0221CEF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FDD3-5EC1-44F6-9FA2-3BC0CAD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1F48E-BB71-4734-9A80-41676E0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963FA-ECCA-4AB3-AD30-80E5B45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6B5E-659D-4FEB-AB89-6F61613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FD3FD-D95B-4737-B09C-B94C2C5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E89-8581-4111-A47B-787891C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A59A-8EC2-4187-BA3F-252F4FE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DD9A-A293-4CE7-BF2D-F9BA2001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7AD37-6638-4E22-B7D2-66F5BDA9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028B7-612B-4243-94D2-290ED19D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4BDB-EC87-4A93-B8AB-755DC1C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08194-A36D-4D19-BC1D-E1BE1465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C8CB-D062-460C-B26F-2A2CB28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F476-1FF0-469E-93AA-AECC710B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FC279-E92B-4D36-A54C-6B2BDF4D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E92C-A6D1-49E0-AD81-EC83F98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799-19FD-43BE-87E0-EED04B7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54882-0186-4385-9E92-3CC9ADB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EA09-5379-4261-92CF-B2CB485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11A7-59CA-4437-AC0F-98E9D107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3F7F-51D2-41A4-B565-2FF62664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EA20-666A-44D7-8256-B6CCE392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57704-A88B-45FF-A9FD-FDB61D49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2A1E0-C8AE-43E1-96B7-8720015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3834-9E0C-4742-9E77-98874DB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45A9-79E6-48AC-BA09-36E8122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7D301-C1D2-4F84-9FF6-C8D4E95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625-FCC2-4AE8-A6D9-136EA5B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446E-05D4-4687-A67E-8C3A049B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BEF34-5248-47B3-8A4A-B72281E4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EE07F-BD28-4722-AC16-3B15993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D8F8D-45B8-4C9B-8B5B-ECE36FD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511B-5373-4D56-B95B-3F1D1752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5B52-1E16-4F96-BAD1-B7AF950A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F7394-7723-4609-AECE-C30EEF42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C8003-82DE-42C1-8A5E-6115CAAA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E043-C3E5-4770-8095-2C94B0F7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B94D-F64F-413C-B879-BA76F81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965-5620-46F3-810E-35468EECF21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E82-FFFE-442C-AFC4-95131DD9A68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100-E5AB-45E3-9A25-C14319E744C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6CE-60FF-4A13-94EC-F4D0FE7F8DF6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F9E6-9301-442B-AB99-6B12FD5B89F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3C90-A59D-428A-B47E-12F7ED531E9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B4E-AEA5-4217-825C-5DF3B2DAA76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E41D-F68E-4BBE-9CB6-D05D8167C6E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F866-04E5-4018-B32C-A8D803A3008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A27-7245-4F22-8977-1656B0DE65C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66960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inion Pro SmBd"/>
              </a:rPr>
              <a:t>Характеристик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inion Pro SmBd"/>
              </a:rPr>
              <a:t> развития речи детей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Minion Pro SmBd"/>
              </a:rPr>
              <a:t> среднего дошкольного возра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796000" y="4652640"/>
            <a:ext cx="295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Monotype Corsiva"/>
              </a:rPr>
              <a:t>Воспита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Monotype Corsiva"/>
              </a:rPr>
              <a:t>Петрухина Т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6" descr="DSCF3090.JPG"/>
          <p:cNvPicPr/>
          <p:nvPr/>
        </p:nvPicPr>
        <p:blipFill>
          <a:blip r:embed="rId1"/>
          <a:stretch/>
        </p:blipFill>
        <p:spPr>
          <a:xfrm>
            <a:off x="1692360" y="2924280"/>
            <a:ext cx="3744720" cy="28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684360" y="705240"/>
            <a:ext cx="392256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вуковая сторона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Звукопроиз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Становление нормального звукопроизношения завершается к пяти годам; у большинства детей звуки уже введены в речь, и наблюдается только некоторое смешение звуков Л и Р, С и Ш в многосложных словах, если в одном слове находятся оба парных звука (лаборатория, шерстяно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4211640" y="3371760"/>
            <a:ext cx="270036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Интонация, высота, сила гол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  <a:ea typeface="Times New Roman"/>
              </a:rPr>
              <a:t>Дети улавливают в речи взрослых различные интонационные средства выразительности и подражают им, пересказывая сказку. Они произвольно могут менять высоту, силу голоса с учетом содержания рассказа. В этом возрасте умеют уже говорить шепотом</a:t>
            </a:r>
            <a:r>
              <a:rPr b="0" lang="ru-RU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Рисунок 3" descr="444955451.jpg"/>
          <p:cNvPicPr/>
          <p:nvPr/>
        </p:nvPicPr>
        <p:blipFill>
          <a:blip r:embed="rId1"/>
          <a:stretch/>
        </p:blipFill>
        <p:spPr>
          <a:xfrm>
            <a:off x="4859280" y="1125360"/>
            <a:ext cx="3089160" cy="215928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4" descr="DSCF4352.JPG"/>
          <p:cNvPicPr/>
          <p:nvPr/>
        </p:nvPicPr>
        <p:blipFill>
          <a:blip r:embed="rId2"/>
          <a:stretch/>
        </p:blipFill>
        <p:spPr>
          <a:xfrm>
            <a:off x="1247760" y="4013280"/>
            <a:ext cx="238752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684360" y="715320"/>
            <a:ext cx="7272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Итоги пятого года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1. Качественный скачок в овладении связанной речью: дети способны составить рассказ по картинке, пересказать текст в нужной временной и логическ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2. Начинает формироваться внутренняя речь – свернутая, сокращенная форма речи, с помощью которой происходит планирование предстоящ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3. Значительно обогатился словарный запас, дети пользуются словами второй степени об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4. Грубых аграмматизмов в речи нет, возможны ошибки при построении сложных пред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5. Звукопроизношение полностью нормализов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6. появляется способность к выделению звука из слова, то есть формируются навыки звукового анализа слов, звуковая оболочка слова перестала быть «прозрачной», незаметной для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7. Дети способны менять произвольно громкость голоса, умеют воспроизводить различные инто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5640" y="476280"/>
            <a:ext cx="770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  <a:ea typeface="Arial"/>
              </a:rPr>
              <a:t>Речевое развитие - одна из важнейших задач дошкольного воспитания. Поскольку развивая детскую речь, мы расширяем не только речевые возможности ребенка, но и непосредственно влияем его интеллектуальные способности, внимание, память, кругозор и другие аспекты жизне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3" descr="DSC09625.JPG"/>
          <p:cNvPicPr/>
          <p:nvPr/>
        </p:nvPicPr>
        <p:blipFill>
          <a:blip r:embed="rId1"/>
          <a:stretch/>
        </p:blipFill>
        <p:spPr>
          <a:xfrm>
            <a:off x="2124000" y="3500280"/>
            <a:ext cx="404352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9640" y="407520"/>
            <a:ext cx="5904000" cy="606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вязная 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и   слушают и понимают просьбы взрослого;  свободно разговаривают друг с другом, рассказывать о том, что они видели или слышали, могут спорить, рассуждать, делать элементарные вы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  </a:t>
            </a: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и  очень пытливы, они задают много вопросов, им интересны качества и свойства предметов, они могут установить простейшие связи между явлениями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В этом возрасте дети начинают овладевать монологической речью.  Дети учатся  связано рассказывать о событиях из собственной жизни, описывать животных или заменяющие их игрушки, рассказывать об изображенном событии на картинке или на серии картинок. Многие дети могут пересказать знакомый текс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  <a:ea typeface="Times New Roman"/>
              </a:rPr>
              <a:t>Дети также начинают рассказывать не только о том, что видят и слышат, но и о том, над чем думают, чего хотят, ждут. Эти изменения свидетельствуют о том, что в среднем дошкольном возрасте начинает развиваться так называемая внутренняя речь (внешне невыраженная, быстрая и сокращенная речь). Ребенок может решить задачу и рассказать о своем решен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Рисунок 3" descr="DSCF2993.JPG"/>
          <p:cNvPicPr/>
          <p:nvPr/>
        </p:nvPicPr>
        <p:blipFill>
          <a:blip r:embed="rId1"/>
          <a:stretch/>
        </p:blipFill>
        <p:spPr>
          <a:xfrm>
            <a:off x="6659640" y="1341360"/>
            <a:ext cx="1657440" cy="12416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4" descr="DSCF3003.JPG"/>
          <p:cNvPicPr/>
          <p:nvPr/>
        </p:nvPicPr>
        <p:blipFill>
          <a:blip r:embed="rId2"/>
          <a:stretch/>
        </p:blipFill>
        <p:spPr>
          <a:xfrm>
            <a:off x="6804000" y="3573360"/>
            <a:ext cx="164304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рямоугольник 2"/>
          <p:cNvSpPr/>
          <p:nvPr/>
        </p:nvSpPr>
        <p:spPr>
          <a:xfrm>
            <a:off x="826920" y="620640"/>
            <a:ext cx="7058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наша задача – расширять и активизировать словарь, развивать качественный рост, учить называть признаки и свойства предметов. Все это применяем ,как в процессе НОД, так и вне ее: в играх, наблюдениях, непосредственном 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4"/>
          <p:cNvSpPr/>
          <p:nvPr/>
        </p:nvSpPr>
        <p:spPr>
          <a:xfrm>
            <a:off x="900000" y="2276640"/>
            <a:ext cx="58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ля развития связной речи детей учим  пересказывать литературные произведения, как уже знакомые, так и впервые прочитанные на занятии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ссматривая картины, дети учатся составлять небольшие рассказы и подводятся к составлению рассказов из личного опыта (по аналогии с содержанием картины). Рассказывание об игрушке проводим сначала по вопросам, затем в совместном рассказывании со взрослым, а после этого и самостоятельно. Эти виды рассказывания предполагают обучение разным типам высказывания: описанию, повествованию и некоторым компонентам рассуждения (выявление причинной связи — «Мне нравится зима, потому что...»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3" descr="DSCF4353.JPG"/>
          <p:cNvPicPr/>
          <p:nvPr/>
        </p:nvPicPr>
        <p:blipFill>
          <a:blip r:embed="rId1"/>
          <a:stretch/>
        </p:blipFill>
        <p:spPr>
          <a:xfrm>
            <a:off x="7164360" y="1557360"/>
            <a:ext cx="1344600" cy="10065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4" descr="image004.jpg"/>
          <p:cNvPicPr/>
          <p:nvPr/>
        </p:nvPicPr>
        <p:blipFill>
          <a:blip r:embed="rId2"/>
          <a:stretch/>
        </p:blipFill>
        <p:spPr>
          <a:xfrm rot="1776000">
            <a:off x="6403680" y="3776760"/>
            <a:ext cx="217332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3"/>
          <p:cNvSpPr/>
          <p:nvPr/>
        </p:nvSpPr>
        <p:spPr>
          <a:xfrm>
            <a:off x="3635280" y="683280"/>
            <a:ext cx="489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развития умения  реагировать на любое обращение в основном используем беседы на бытовые темы, на события общественной жизни, на жизнь природы, а так же на деятельность дошкольников в детском саду. В этих беседах дети сообщают, с кем они живут, как зовут членов семьи, где они работают, что они делают дома, рассказывают о своих играх и увлечениях. Беседы сопровождаю картинками, иллюстрациями, фотограф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развития умения умение вступить в диалог с окружающими людьми используем игровые задания, связанные с обращением по телефон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- учу детей запросить какую-либо информацию («Узнай о здоровье», «Спроси, как испечь сказочный пирог» и т. д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шу сообщить о предстоящем событии: «Позвони, скажи, что у тебя скоро день рождения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-инсценируем короткие стихи, сказки «Колобок», «Репка»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Для развития культуры диалога использую сюжетно-ролевые игры «У врача», «Парикмахерская», «Гости», «Магазин». Особо хочу выделить игру «Журналисты». В ходе этой игры дошкольники учатся задавать вопросы, вести диалог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3" descr="DSCF2529.JPG"/>
          <p:cNvPicPr/>
          <p:nvPr/>
        </p:nvPicPr>
        <p:blipFill>
          <a:blip r:embed="rId1"/>
          <a:stretch/>
        </p:blipFill>
        <p:spPr>
          <a:xfrm>
            <a:off x="1187280" y="119700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5" descr="DSCF2992.JPG"/>
          <p:cNvPicPr/>
          <p:nvPr/>
        </p:nvPicPr>
        <p:blipFill>
          <a:blip r:embed="rId2"/>
          <a:stretch/>
        </p:blipFill>
        <p:spPr>
          <a:xfrm>
            <a:off x="1332000" y="3429000"/>
            <a:ext cx="1955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611280" y="558360"/>
            <a:ext cx="39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  <a:ea typeface="Times New Roman"/>
              </a:rPr>
              <a:t>Изучаем слова – обобщения по темам: «Одежда», «Обувь», «Овощи», «Фрукты», «Мебель», «Животные». Закрепляем и углубляем знания о детенышах животных: лиса с лисятами, свинья с поросятами, собака со щенкам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  <a:ea typeface="Times New Roman"/>
              </a:rPr>
              <a:t>Большое значение уделяем знакомству с профессиями. Работа начинается со знакомства с семьей: «Твоя мама (папа) работает? К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  <a:ea typeface="Times New Roman"/>
              </a:rPr>
              <a:t>Внимание детей привлекают многозначные слова: ручка – рука ребенка, у двери, у предметов; новый год, костюм, дом, день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2" descr="675736353.jpg"/>
          <p:cNvPicPr/>
          <p:nvPr/>
        </p:nvPicPr>
        <p:blipFill>
          <a:blip r:embed="rId1"/>
          <a:stretch/>
        </p:blipFill>
        <p:spPr>
          <a:xfrm>
            <a:off x="4643280" y="549360"/>
            <a:ext cx="4071960" cy="273528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3" descr="5b983d77d70dee66c3f37225a32516c2.jpg"/>
          <p:cNvPicPr/>
          <p:nvPr/>
        </p:nvPicPr>
        <p:blipFill>
          <a:blip r:embed="rId2"/>
          <a:stretch/>
        </p:blipFill>
        <p:spPr>
          <a:xfrm>
            <a:off x="1258920" y="4292640"/>
            <a:ext cx="3241800" cy="217656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5" descr="233773a4c14d9ff825907e0dca2e713e.jpg"/>
          <p:cNvPicPr/>
          <p:nvPr/>
        </p:nvPicPr>
        <p:blipFill>
          <a:blip r:embed="rId3"/>
          <a:stretch/>
        </p:blipFill>
        <p:spPr>
          <a:xfrm>
            <a:off x="4716360" y="3789360"/>
            <a:ext cx="40672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826920" y="549360"/>
            <a:ext cx="777744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амматический стр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В возрасте от четырех до пяти лет ребенок усваивает основные грамматические формы: предложно-падежные формы имен существительных единственного и множественного числа, изменение имен прилагательных по падежам, числам и родам, правильное употребление глагольных форм, наречий. Имеют место нарушения согласования числительных с существительными в косвенных падежах. Употребляются предлоги в самых разнообразных значе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К пяти годам ребенок в своей речи пользуется сложноподчиненными предложениями с союзами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потому что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, 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поэтому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, но при ответах на вопросы часто опускает главную часть предложения и начинает сразу с придаточного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(«Потому что болел»).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оявляются предложения с однородными обстоятельст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Усложнение высказывания, увеличение количества слов в предложениях может привести к большему количеству грамматических ошибок: неадекватному использованию предлогов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потому что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, 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зачем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), 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неправильным согласованиям прилагательных с существительными в косвенных падеж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3"/>
          <p:cNvSpPr/>
          <p:nvPr/>
        </p:nvSpPr>
        <p:spPr>
          <a:xfrm>
            <a:off x="755640" y="40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чь детей от четырех до пяти лет отличается подвижностью и неустойчивостью. Они могут ориентироваться на смысловую сторону слова, однако точное употребление слова вызывает у многих детей затруд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755640" y="1959120"/>
            <a:ext cx="73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Чтобы устранить эти недостатки, в группе ведется систематическая рабо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- Упражняем детей в употреблении имен существительных во множественном числе.  Игра «Один- мн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Эти упражнения вызывают затруднения у детей, т.к. изменяются не только окончания (карандаш – карандаши), но и само слово (ухо – уш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-Учим образовывать форму родительного падежа множественного числа существительных (чего нет?; с предлогом без). Например: Возле дома нет деревьев. В аквариуме много рыбок. На столе коробка без карандаш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-Упражняем в согласовании прилагательных с существительными (в роде , числе).  «Подбери признаки», «Назови цве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-Согласование числительных с существительными. «Сосчитай, сколько предметов: картинки с изображением от 1 до 10 (полотенце, блюдце, платье, яйцо)»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684360" y="705600"/>
            <a:ext cx="741672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Дети начинают использовать слова-обобщения тогда, кода, во-первых, в их активном словаре достаточно слов – названий конкретных предметов, и, во-вторых, они усвоили слова-обобщения. К тому же у ребенка должен быть накоплен определенный запас сведений об отдельных предметах, об их предназнач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Дальнейшее развитие получает в данном возрасте словотворчество, появляющееся еще до четырех лет, так как процесс усвоения морфемной системы еще не заверш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2"/>
          <p:cNvSpPr/>
          <p:nvPr/>
        </p:nvSpPr>
        <p:spPr>
          <a:xfrm>
            <a:off x="3708360" y="3213000"/>
            <a:ext cx="446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ловарн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Количество слов растет, к концу года составляет примерно 3000 слов. Увеличивается количество местоимений, наречий, предлогов, союзов, так как дети употребляют в речи сложно-сочиненные и сложноподчиненные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3" descr="DSCF4355.JPG"/>
          <p:cNvPicPr/>
          <p:nvPr/>
        </p:nvPicPr>
        <p:blipFill>
          <a:blip r:embed="rId1"/>
          <a:stretch/>
        </p:blipFill>
        <p:spPr>
          <a:xfrm>
            <a:off x="1042920" y="3860640"/>
            <a:ext cx="2089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RePack by SPecialiST</cp:lastModifiedBy>
  <dcterms:modified xsi:type="dcterms:W3CDTF">2016-12-03T15:14:37Z</dcterms:modified>
  <cp:revision>39</cp:revision>
  <dc:subject/>
  <dc:title>Слайд 1</dc:title>
</cp:coreProperties>
</file>