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0EC-456C-4050-A8AD-EE99EEFF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DC4-D68A-47DE-935B-2E9A3BA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D52-738B-4D9E-B925-9D2040F5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809-9977-4D75-8969-A0E307EF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26A-409E-458C-BD26-A8177222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A6FA-38C6-4DAD-B2B3-9DD75A2E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BA2B-A35C-4A93-B492-7710A23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7D0F-F4D7-48EB-B0A7-2BAD574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3DB5-CACB-45C6-A57D-74ED43E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EDB9-DBD3-42DB-84D8-9CA6B0F2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AC8F-DF52-4B73-8CA0-F519369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8EB-4DD6-4DD6-ACDC-71ACEC3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51D-AF36-44EE-B5B2-6F4EDE3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75C-2BE3-4BA9-B956-546730E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9BB8-3109-4184-A87D-B2054054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8D81-346F-4F0A-9409-B9502AD6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423F-2A4B-4E86-8E11-B10853FD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4BBE2-ED4E-481F-9B2D-3638408A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30EE7-857E-406C-8F63-C91170B7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1AA64-92EA-470C-A9AA-3B292F4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4A937-0BCC-414F-B1E2-34019CC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5AF43-096D-4222-8E93-4CEA1172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E6F-9DEA-411B-AE20-763EE0AA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4166-5FCF-44F0-9D3B-C19D7FBF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F2A53-2BF1-4B4C-B948-224EC17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E2550-C2C2-4EC1-B108-A89FF8D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9897B-BE7B-400C-B7A6-C558F73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C4B92-E516-47C4-A196-FB8D9A87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66D7B-7D71-448E-84BA-DB3C956F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CF5EE-F9D5-43F5-BED7-68CEA349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7696-8653-4D6F-9379-2957A8DA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3FFE-C86A-440D-AA6E-2BFFF004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B9B7-0CB6-4971-A269-81A02E6E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A7C-8248-4FDB-81E4-A9AFB4C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AE90-231B-4595-A1A4-9A35A21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A340-C1C1-4A93-88DE-A4661C72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42C7-DBE9-49A2-9C27-9E497B53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EEA2-3234-4B3F-B7DB-84116FD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F9D4-B672-484C-BD13-68D82B8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7347-B5DA-4732-AECF-FEEC6C62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E145-93FB-476D-B41B-6E28521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4FDA-7B72-4D38-BACA-5F7AC512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83D7-17E9-4A8D-961C-9528C674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ECD08-3B95-4352-8C47-5C34D4A4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A8A-CD05-4657-81ED-BDA6D561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8FDEB-3A52-4785-AE57-7080101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CAF8B-6212-4FCF-8B86-B895D81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143EF-ED39-4876-BCA0-A082EFE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49FCF-C6AD-4BF3-81E0-2FE6B45F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3D48F-1F86-40CA-9540-5F3FD5DE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EBDB0-BBA1-4D6B-82FE-574E838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06875-BEFD-453A-A1BC-FC96E46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042DF-1110-4112-B14E-614EF0F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CFA7D-8435-46C1-B45D-FD92EE0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9BC84-B4B4-4D35-8973-B886714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577-5980-4CCE-B906-5E7DA7F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E8436-CC9D-460B-9240-5CE19D9B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4BEC9-C83B-42C6-91B8-B29A30B8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D9185-A42A-49B8-8F1F-E6FF078B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C1B86-E0E8-431D-807D-68E3124F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D7339-C30B-4C84-A1D3-902FAB2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FF554-1BD8-4491-A774-CFE1A74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3CC15-7B8B-4D55-93D0-5876B89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9C2B2-BEF0-4086-851F-C3A422A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7393D-F86F-4374-86C6-ACE5BC9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F5DC1-5C4E-42A3-8585-2409D6C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66D-E768-45D5-BB55-20ED9C1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5681C-581D-401B-A0A7-933D93F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AE302-6508-4045-A318-D1BC5FCB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0709C-2988-46B4-89F1-3352012E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9C4B5-72AB-4C38-A3D9-BED22C36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35175-86BA-4AC9-A1F5-50B4639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4F7A6-0806-4344-B0B4-0E27FEA2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15A07-E6CB-4AE0-BE2D-43D6AFDB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80D65-D981-4E90-BF08-815D5AF6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5CD1A-4290-457C-9AD0-F4A3DAAC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B3D5F-D51C-41A4-8543-13D1160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1EC-16CF-4CB8-9419-50BAF7F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8EA9F-AD40-4667-A4B5-81F7E2C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95C22-1C6F-4092-9DFB-C022950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4ADB0-7B55-4A36-BAF1-FAE81002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7B162-3830-496C-AF42-269583B7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181B2-5E3C-4BAA-80F2-C138CD61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F47-6D29-43A6-ADDE-0AE9D33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D1F5-2D54-484A-BBDE-F85FDB4B84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8EE-F244-4D58-A327-6345D3A114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BE5F-6A93-47C4-887B-441A318DC2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D90-D97B-4087-8365-E4C72FE5C9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9BB-58FC-457B-9AA4-A6087057A1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6D5B-E044-4F55-A697-F1F6EE059C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3E0A-0494-4068-B558-6011C5FABC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7640" y="1628280"/>
            <a:ext cx="65502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ПРЕЗЕНТАЦ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ВНЕУРОЧНАЯ РАБОТА 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79280" y="3860640"/>
            <a:ext cx="6460920" cy="25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о русскому языку и литературному чтению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Учитель Е.А. Кореньков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г. Смоленск  2015 год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2214720" y="571680"/>
            <a:ext cx="6500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 большим удовольствием ребята пытаются разгадать языковые тайны, по-новому увидеть знакомые предметы. Благодаря вне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РОЧ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ым занятиям у ребят появляется живой интерес к урокам русского языка, вырабатывается умение наблюдать, сравнивать языковые факты, преодолевать трудности, проявлять сообразительност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D:\MyDoc\Tirol\Desktop\Презентация\DSCN1329.JPG"/>
          <p:cNvPicPr/>
          <p:nvPr/>
        </p:nvPicPr>
        <p:blipFill>
          <a:blip r:embed="rId1"/>
          <a:stretch/>
        </p:blipFill>
        <p:spPr>
          <a:xfrm>
            <a:off x="5286240" y="3446640"/>
            <a:ext cx="3519720" cy="2639880"/>
          </a:xfrm>
          <a:prstGeom prst="rect">
            <a:avLst/>
          </a:prstGeom>
          <a:ln w="9360">
            <a:solidFill>
              <a:srgbClr val="e75c01"/>
            </a:solidFill>
            <a:miter/>
          </a:ln>
        </p:spPr>
      </p:pic>
      <p:pic>
        <p:nvPicPr>
          <p:cNvPr id="371" name="Picture 3" descr="D:\MyDoc\Tirol\Desktop\Презентация\DSCN1330.JPG"/>
          <p:cNvPicPr/>
          <p:nvPr/>
        </p:nvPicPr>
        <p:blipFill>
          <a:blip r:embed="rId2"/>
          <a:stretch/>
        </p:blipFill>
        <p:spPr>
          <a:xfrm>
            <a:off x="2214720" y="2786040"/>
            <a:ext cx="3429000" cy="257184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4"/>
          <p:cNvSpPr/>
          <p:nvPr/>
        </p:nvSpPr>
        <p:spPr>
          <a:xfrm>
            <a:off x="2143080" y="428760"/>
            <a:ext cx="67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лимпиада – это своеобразное соревнование в знаниях, итог предварительной работы учащихся как на уроке, так и вне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лимпиады могут быть классными, школьными, районными, общегородскими. Все участники олимпиады должны пройти несколько туров (два, три, четыре). Для проведения олимпиады избирается жюри, которое оценивает и письменные работы, и устные ответы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Человек благодаря кому мы общаемся. - LandiSH- я.ру"/>
          <p:cNvPicPr/>
          <p:nvPr/>
        </p:nvPicPr>
        <p:blipFill>
          <a:blip r:embed="rId1"/>
          <a:stretch/>
        </p:blipFill>
        <p:spPr>
          <a:xfrm>
            <a:off x="571680" y="500040"/>
            <a:ext cx="1357200" cy="1635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:\DCIM\103NIKON\DSCN1332.JPG"/>
          <p:cNvPicPr/>
          <p:nvPr/>
        </p:nvPicPr>
        <p:blipFill>
          <a:blip r:embed="rId2"/>
          <a:stretch/>
        </p:blipFill>
        <p:spPr>
          <a:xfrm>
            <a:off x="5500800" y="3571920"/>
            <a:ext cx="3238560" cy="242892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5" name="Picture 5" descr="H:\DCIM\103NIKON\DSCN1333.JPG"/>
          <p:cNvPicPr/>
          <p:nvPr/>
        </p:nvPicPr>
        <p:blipFill>
          <a:blip r:embed="rId3"/>
          <a:stretch/>
        </p:blipFill>
        <p:spPr>
          <a:xfrm>
            <a:off x="2143080" y="3571920"/>
            <a:ext cx="3238560" cy="242892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:\DCIM\103NIKON\DSCN12431.jpg"/>
          <p:cNvPicPr/>
          <p:nvPr/>
        </p:nvPicPr>
        <p:blipFill>
          <a:blip r:embed="rId1"/>
          <a:stretch/>
        </p:blipFill>
        <p:spPr>
          <a:xfrm>
            <a:off x="2000160" y="1285920"/>
            <a:ext cx="4429080" cy="295416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7" name="Picture 3" descr="H:\DCIM\103NIKON\DSCN12421.jpg"/>
          <p:cNvPicPr/>
          <p:nvPr/>
        </p:nvPicPr>
        <p:blipFill>
          <a:blip r:embed="rId2"/>
          <a:stretch/>
        </p:blipFill>
        <p:spPr>
          <a:xfrm>
            <a:off x="4429080" y="3571920"/>
            <a:ext cx="4429080" cy="295416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sp>
        <p:nvSpPr>
          <p:cNvPr id="378" name="TextBox 7"/>
          <p:cNvSpPr/>
          <p:nvPr/>
        </p:nvSpPr>
        <p:spPr>
          <a:xfrm>
            <a:off x="1857240" y="285840"/>
            <a:ext cx="6929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нятие кружка«Юный дизайнер»проходит в музее скульп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ергея Тимофеевича КОНЕНКОВА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1785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:\MyDoc\Tirol\Desktop\Презентация\DSCN1313.JPG"/>
          <p:cNvPicPr/>
          <p:nvPr/>
        </p:nvPicPr>
        <p:blipFill>
          <a:blip r:embed="rId1"/>
          <a:stretch/>
        </p:blipFill>
        <p:spPr>
          <a:xfrm>
            <a:off x="5643720" y="1589040"/>
            <a:ext cx="3143160" cy="235764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sp>
        <p:nvSpPr>
          <p:cNvPr id="381" name="TextBox 6"/>
          <p:cNvSpPr/>
          <p:nvPr/>
        </p:nvSpPr>
        <p:spPr>
          <a:xfrm>
            <a:off x="2214720" y="357120"/>
            <a:ext cx="6500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ИТОГОВОЕ ЗАНЯТИЕ ЛИТЕРАТУРНОГО КРУ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УТРЕННИК «ЗИМНЯЯ СКАЗКА»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D:\MyDoc\Tirol\Desktop\Презентация\DSCN1314.JPG"/>
          <p:cNvPicPr/>
          <p:nvPr/>
        </p:nvPicPr>
        <p:blipFill>
          <a:blip r:embed="rId2"/>
          <a:stretch/>
        </p:blipFill>
        <p:spPr>
          <a:xfrm>
            <a:off x="2214720" y="4214880"/>
            <a:ext cx="3147840" cy="236052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83" name="Picture 4" descr="D:\MyDoc\Tirol\Desktop\Презентация\DSCN1315.JPG"/>
          <p:cNvPicPr/>
          <p:nvPr/>
        </p:nvPicPr>
        <p:blipFill>
          <a:blip r:embed="rId3"/>
          <a:stretch/>
        </p:blipFill>
        <p:spPr>
          <a:xfrm>
            <a:off x="5643720" y="4214880"/>
            <a:ext cx="3147840" cy="236052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sp>
        <p:nvSpPr>
          <p:cNvPr id="384" name="TextBox 8"/>
          <p:cNvSpPr/>
          <p:nvPr/>
        </p:nvSpPr>
        <p:spPr>
          <a:xfrm>
            <a:off x="2071800" y="1571760"/>
            <a:ext cx="3429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нтерес к внеурочной работе в современной школе объясняется ещё и тем, что она задаёт тон ломке методических стереотипов, рождению новых подходов к преподаванию литературы, привносит дух живого диалога, откровени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Заголовок 1"/>
          <p:cNvSpPr/>
          <p:nvPr/>
        </p:nvSpPr>
        <p:spPr>
          <a:xfrm>
            <a:off x="1908000" y="620640"/>
            <a:ext cx="6912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Учить детей нужно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« играя и шутя»,широко используя в процессе обучения загадки, игры и другие виды заним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Ян Амос Ка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РУССКИЙ ЯЗЫК В УМЕЛЫХ РУКАХ И В ОПЫТНЫХ УСТАХ — КРАСИВ, ПЕВУЧ, ВЫРАЗИТЕЛЕН, ГИБОК, ПОСЛУШЕН, ЛОВОК 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И ВМЕСТИТЕЛЕН. </a:t>
            </a:r>
            <a:br>
              <a:rPr sz="36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А. И. КУПРИН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698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ВНЕКЛАССНОЙ РАБОТЫ ПО РУССКОМУ ЯЗЫКУ НЕОБЫЧНО МНОГООБРАЗНЫ. ЭТО РАЗЛИЧНЫЕ ЛИНГВИСТИЧЕСКИЕ КРУЖКИ, ОБЩЕСТВА ЛЮБИТЕЛЕЙ СЛОВЕСНОСТИ, УТРЕННИКИ, ВЕЧЕРА, КОНКУРСЫ, ОБСУЖДЕНИЯ ПОПУЛЯРНЫХ КНИГ О РУССКОМ ЯЗЫКЕ, ВЫПУСК ТЕМАТИЧЕСКИХ СТЕНГАЗЕТ, УСТНЫХ И РУКОПИСНЫХ ЛИНГВИСТИЧЕСКИХ ЖУРНАЛОВ И ДР. ОДНИ ВИДЫ ВНЕУРОЧНОЙ РАБОТЫ ПОСТОЯННО ДЕЙСТВУЮЩИЕ, ДРУГИЕ ЭПИЗОДИЧЕСКИЕ. ОНИ НЕ ИСКЛЮЧАЮТ ДРУГ ДРУГА, НАОБОРОТ, ШИРОКОЕ РАЗВЁРТЫВАНИЕ РАЗЛИЧНЫХ ВИДОВ ВНЕУРОЧНЫХ МЕРОПРИЯТИЙ ПРЕДЛАГАЕТ ИХ ГАРМОНИЧНЫЕ СОЧЕТАНИЯ.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575f6d"/>
                </a:solidFill>
                <a:latin typeface="Arial"/>
              </a:rPr>
              <a:t>ПРЕДЛОЖЕННОЕ НИЖЕ ЗАНЯТИЕ КРУЖКА «ЗАГАДКИ РУССКОГО ЯЗЫКА»ПОКАЗЫВАЕТ,КАК Я ИСПОЛЬЗУЮ ИГРЫ И ИГРОВЫЕ МОМЕНТЫ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66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: Имя существительное</a:t>
            </a:r>
            <a:br>
              <a:rPr sz="3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1. Игра «Кто? Что?»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Класс делится на две команды. Одна команда записывает слова, отвечающие на вопрос кто?, другая – слова, отвечающие на вопрос что? Игра проводится в форме диктанта «Молчанка». Учитель или ведущий показывает предметные картинки. Дети записывают названия предметов. Побеждает та команда, которая правильно запишет все слова.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2. Игра «Подбери противоположное слово». Класс делится на три команды. На доске записаны слова в три столбика. Игроки должны подобрать и записать противоположные по значению имена существительные. Выигрывает та команда, которая точнее и быстрее других справится с заданием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6912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Друг                начало             добро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ночь                 свет                 правда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радость           юг                    шум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холод               вход                небо 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утро                 дружба           жизнь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храбрость       верх                белы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3. Игра «Наборщики».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едущий называет какое-либо трёхсложное или четырёхсложное существительное. Нужно за 5 минут составить из букв слова как можно больше имён существительных и записать их. Победителем считается тот, кто составит больше слов. Он читает составленные слова, а все остальные вычёркивают у себя такие же слова. В конце выясняется, у кого осталось больше всех незачёркнутых слов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912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4. Игра «Запиши одним словом».</a:t>
            </a:r>
            <a:br>
              <a:rPr sz="2000"/>
            </a:b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Играет весь класс. Нужно предложить заменить каждую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группу слов одним общим словом: 1) тополь, клён, берёза, ель; 2) волк, лиса, заяц, медведь; 3) сорока, ворона, воробей, аист; 4) брусника, черника, земляника; 5) футболист, хоккеист, баскетболист; 6) шкаф, парта, стол, стул; 7) молоко, сахар, хлеб, мясо; 8) костюм, пальто, кофта, платье; 9) ботинки, сапоги, валенки, лапти, туфли; 10) кукла, мяч, юла, барабан.</a:t>
            </a:r>
            <a:br>
              <a:rPr sz="2000"/>
            </a:b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Выигрывает тот, кто правильно запишет все 10 слов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6092640"/>
            <a:ext cx="763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5. Эстафета «Кто больше?»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Класс делится на 3 команды. На доске записаны слова: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посуда                    мебель                      насекомые</a:t>
            </a: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К доске выходят ученики по одному от каждого ряда и пишут подходящие слова км эти понятиям. Выигрывает та команда, которая быстрее всех справится с заданием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6. Разгадайте ребус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39640" y="4797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 flipH="1" rot="10581600">
            <a:off x="3780000" y="4797000"/>
            <a:ext cx="2584440" cy="1440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732720" y="4581360"/>
            <a:ext cx="203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42924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ЗАНЯТИЯ ПО ВНЕУРОЧНОЙ РАБОТЕ ЧАСТО ПОСВЯЩАЮ ЗАГАДКАМ РУССКОГО ЯЗЫ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ТО МОЖЕТ БЫТЬ, НАПРИМЕР,  КВН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Рисунок 2" descr="DSCN1324.JPG"/>
          <p:cNvPicPr/>
          <p:nvPr/>
        </p:nvPicPr>
        <p:blipFill>
          <a:blip r:embed="rId1"/>
          <a:stretch/>
        </p:blipFill>
        <p:spPr>
          <a:xfrm>
            <a:off x="2357280" y="2428920"/>
            <a:ext cx="3071880" cy="230328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64" name="Рисунок 4" descr="DSCN1326.JPG"/>
          <p:cNvPicPr/>
          <p:nvPr/>
        </p:nvPicPr>
        <p:blipFill>
          <a:blip r:embed="rId2"/>
          <a:stretch/>
        </p:blipFill>
        <p:spPr>
          <a:xfrm>
            <a:off x="5572080" y="2428920"/>
            <a:ext cx="3071880" cy="2303280"/>
          </a:xfrm>
          <a:prstGeom prst="rect">
            <a:avLst/>
          </a:prstGeom>
          <a:ln w="15840">
            <a:solidFill>
              <a:srgbClr val="e75c01"/>
            </a:solidFill>
            <a:miter/>
          </a:ln>
          <a:effectLst>
            <a:outerShdw dist="50887" dir="7070043" blurRad="0" rotWithShape="0">
              <a:srgbClr val="000000">
                <a:alpha val="44000"/>
              </a:srgbClr>
            </a:outerShdw>
          </a:effectLst>
        </p:spPr>
      </p:pic>
      <p:sp>
        <p:nvSpPr>
          <p:cNvPr id="365" name="TextBox 6"/>
          <p:cNvSpPr/>
          <p:nvPr/>
        </p:nvSpPr>
        <p:spPr>
          <a:xfrm>
            <a:off x="2998800" y="492912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КВН между командами 3 А класса и 3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неделя русского я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DSCN1325.JPG"/>
          <p:cNvPicPr/>
          <p:nvPr/>
        </p:nvPicPr>
        <p:blipFill>
          <a:blip r:embed="rId1"/>
          <a:stretch/>
        </p:blipFill>
        <p:spPr>
          <a:xfrm>
            <a:off x="2428920" y="2214720"/>
            <a:ext cx="3571920" cy="2679480"/>
          </a:xfrm>
          <a:prstGeom prst="rect">
            <a:avLst/>
          </a:prstGeom>
          <a:ln w="9360">
            <a:solidFill>
              <a:srgbClr val="e75c01"/>
            </a:solidFill>
            <a:miter/>
          </a:ln>
          <a:effectLst>
            <a:outerShdw dist="50760" dir="5400000" blurRad="0" rotWithShape="0">
              <a:srgbClr val="000000">
                <a:alpha val="85000"/>
              </a:srgbClr>
            </a:outerShdw>
          </a:effectLst>
        </p:spPr>
      </p:pic>
      <p:pic>
        <p:nvPicPr>
          <p:cNvPr id="367" name="Рисунок 5" descr="DSCN1327.JPG"/>
          <p:cNvPicPr/>
          <p:nvPr/>
        </p:nvPicPr>
        <p:blipFill>
          <a:blip r:embed="rId2"/>
          <a:stretch/>
        </p:blipFill>
        <p:spPr>
          <a:xfrm>
            <a:off x="5381640" y="3929040"/>
            <a:ext cx="3524400" cy="2643120"/>
          </a:xfrm>
          <a:prstGeom prst="rect">
            <a:avLst/>
          </a:prstGeom>
          <a:ln w="9360">
            <a:solidFill>
              <a:srgbClr val="e75c01"/>
            </a:solidFill>
            <a:miter/>
          </a:ln>
          <a:effectLst>
            <a:outerShdw dist="50760" dir="5400000" blurRad="0" rotWithShape="0">
              <a:srgbClr val="000000">
                <a:alpha val="85000"/>
              </a:srgbClr>
            </a:outerShdw>
          </a:effectLst>
        </p:spPr>
      </p:pic>
      <p:sp>
        <p:nvSpPr>
          <p:cNvPr id="368" name="TextBox 6"/>
          <p:cNvSpPr/>
          <p:nvPr/>
        </p:nvSpPr>
        <p:spPr>
          <a:xfrm>
            <a:off x="2643120" y="57168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лавная цель КВНа – формирование и закрепление навыков внутригрупповой коммуникации, развитие быстроты реакции, установление доброжелательного микроклимата в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08:58:38Z</dcterms:created>
  <dc:creator>Tirol</dc:creator>
  <dc:description/>
  <dc:language>en-US</dc:language>
  <cp:lastModifiedBy>1</cp:lastModifiedBy>
  <dcterms:modified xsi:type="dcterms:W3CDTF">2015-02-05T16:26:50Z</dcterms:modified>
  <cp:revision>28</cp:revision>
  <dc:subject/>
  <dc:title>ПРЕЗЕНТАЦИЯ внеклассная работа</dc:title>
</cp:coreProperties>
</file>