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947-C716-4835-A6F5-171DC10A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3401-08A8-467E-8E5B-F7ABBE24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F73D-1C84-4A97-ACD0-1AF32420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DA8B-32D1-44EB-90C7-F6138C81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6BFB-EC75-4FF3-A2A8-06B1993C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3FBB-3BB4-4386-ACA7-CFADAB26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1DE7-B599-436A-952D-6FBB7C4A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9C24-6ADD-448A-96FF-32D7A82E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E7F6-7111-4A1A-825B-CB1A8FC3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C089-5C7D-4825-9807-0A1F4982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3B63-4521-4C2B-A171-A3D11CBB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6512-BA35-444E-8ED8-A31226DD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46D0-8131-4303-BD8E-19E7BABC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9D05-3753-4A9B-9DAA-73CF017D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B599-FA05-4363-A885-38C122FD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5574-C244-4AC1-B3C4-0D168F8A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13C1-2BB2-4FB2-A3A3-E2C5D63D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0C60-1E32-4F8F-ACA9-EB2AE963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06B0-2D82-4195-9B0D-C22B96E6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2820-4D4D-44C8-B598-8B0A6766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F3E9-F8F2-45CC-94A8-1A7D1F81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DEC6-FDCF-4642-A8F2-C546F0CD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9B77-F760-4197-9802-E60EBB06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AD2A-D5F5-46E9-9572-A4F6800B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41ED-3E80-4D8F-9828-003534A2758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6ABC-E421-4129-8213-0C236EFA963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Unicode MS"/>
              </a:rPr>
              <a:t>ГБОУ Кадетская школа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 Unicode MS"/>
              </a:rPr>
              <a:t>Пушкинского района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 Unicode MS"/>
              </a:rPr>
              <a:t>Санкт-Петербурга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 Unicode MS"/>
              </a:rPr>
              <a:t>ПРОСТЕЙШИЕ СРЕДСТВА ЗАЩИТЫ ОРГАНОВ ДЫХА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Unicode MS"/>
              </a:rPr>
              <a:t>Выполнил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Unicode MS"/>
              </a:rPr>
              <a:t>Воспитатель ГПД Огурин А.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Unicode MS"/>
              </a:rPr>
              <a:t>                </a:t>
            </a:r>
            <a:r>
              <a:rPr b="1" lang="ru-RU" sz="2000" spc="-1" strike="noStrike">
                <a:solidFill>
                  <a:srgbClr val="ffff00"/>
                </a:solidFill>
                <a:latin typeface="Arial Unicode MS"/>
              </a:rPr>
              <a:t>г. Павловс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762120" y="304920"/>
            <a:ext cx="7619760" cy="838080"/>
          </a:xfrm>
          <a:prstGeom prst="foldedCorner">
            <a:avLst>
              <a:gd name="adj" fmla="val 12500"/>
            </a:avLst>
          </a:prstGeom>
          <a:blipFill rotWithShape="0">
            <a:blip r:embed="rId1">
              <a:alphaModFix amt="49000"/>
            </a:blip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40186" dir="1096358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ОСТЕЙШИЕ СРЕДСТВА ЗАЩИТЫ ОРГАНОВ  ДЫХА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228600" y="1371600"/>
            <a:ext cx="2743200" cy="914400"/>
          </a:xfrm>
          <a:prstGeom prst="foldedCorner">
            <a:avLst>
              <a:gd name="adj" fmla="val 12500"/>
            </a:avLst>
          </a:prstGeom>
          <a:blipFill rotWithShape="0">
            <a:blip r:embed="rId2">
              <a:alphaModFix amt="49000"/>
            </a:blip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40186" dir="1096358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ас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ТМ-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5562720" y="1371600"/>
            <a:ext cx="2590560" cy="914400"/>
          </a:xfrm>
          <a:prstGeom prst="foldedCorner">
            <a:avLst>
              <a:gd name="adj" fmla="val 12500"/>
            </a:avLst>
          </a:prstGeom>
          <a:blipFill rotWithShape="0">
            <a:blip r:embed="rId3">
              <a:alphaModFix amt="49000"/>
            </a:blip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40186" dir="1096358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атно-марлев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вяз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0" y="2455920"/>
            <a:ext cx="3962520" cy="1465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дежно защищает органы дыхания и глаза человека  от радиоактивной пыли, вредных аэрозолей, бактериальных средст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648320" y="2486160"/>
            <a:ext cx="4190760" cy="1191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дежно защищает органы дыхания человека  от радиоактивной пыли, вредных аэрозолей, бактериальных средст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8" descr=""/>
          <p:cNvPicPr/>
          <p:nvPr/>
        </p:nvPicPr>
        <p:blipFill>
          <a:blip r:embed="rId4"/>
          <a:srcRect l="29325" t="52976" r="28520" b="6953"/>
          <a:stretch/>
        </p:blipFill>
        <p:spPr>
          <a:xfrm>
            <a:off x="762120" y="4114800"/>
            <a:ext cx="1752480" cy="2133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7" name="Picture 9" descr=""/>
          <p:cNvPicPr/>
          <p:nvPr/>
        </p:nvPicPr>
        <p:blipFill>
          <a:blip r:embed="rId5"/>
          <a:srcRect l="56817" t="0" r="0" b="55716"/>
          <a:stretch/>
        </p:blipFill>
        <p:spPr>
          <a:xfrm>
            <a:off x="5595840" y="4114800"/>
            <a:ext cx="1683000" cy="2209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{130A0935-4F91-4310-8C0A-C0377C08412F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5"/>
          <p:cNvSpPr/>
          <p:nvPr/>
        </p:nvSpPr>
        <p:spPr>
          <a:xfrm>
            <a:off x="76320" y="304920"/>
            <a:ext cx="899136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>
                  <a:alpha val="53333"/>
                </a:srgbClr>
              </a:gs>
              <a:gs pos="100000">
                <a:srgbClr val="0000ff">
                  <a:alpha val="5333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атно-марлевая повязка изготавливается так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0" y="1371600"/>
            <a:ext cx="8991720" cy="525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>
                  <a:alpha val="53333"/>
                </a:srgbClr>
              </a:gs>
              <a:gs pos="100000">
                <a:srgbClr val="0000ff">
                  <a:alpha val="5333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1.берут кусок марли 100x50 с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2. в средней части куска на площади 30x20 с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ладут ровный слой ваты толщи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имерно 2 с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3. О свободные от ваты концы марли (около 30-35 см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 обеих сторон разрезают посредине ножницам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бразуя две пары завязок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4.завязки закрепляют стежками ниток (обшивают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5.Если есть марля, но нет ваты, можно изготови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арлевую повяз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Для этого вместо ваты на середину кус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укладывают 5-6 слоев мар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87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rcRect l="0" t="0" r="0" b="54198"/>
          <a:stretch/>
        </p:blipFill>
        <p:spPr>
          <a:xfrm>
            <a:off x="514440" y="1676520"/>
            <a:ext cx="8115120" cy="475920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27" name="AutoShape 6"/>
          <p:cNvSpPr/>
          <p:nvPr/>
        </p:nvSpPr>
        <p:spPr>
          <a:xfrm>
            <a:off x="76320" y="304920"/>
            <a:ext cx="899136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>
                  <a:alpha val="53333"/>
                </a:srgbClr>
              </a:gs>
              <a:gs pos="100000">
                <a:srgbClr val="0000ff">
                  <a:alpha val="5333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атно-марлевая повяз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1-22T14:04:54Z</dcterms:modified>
  <cp:revision>1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