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1374-D18E-4C33-B79A-60A2ED66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EF2E8-9A84-49E9-87CF-D2BD04BF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F254-ED9D-42F3-9744-D4FEB085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E72D8-E7D8-4E43-9BF5-62E353B7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99B2-C4C4-494D-A658-D456835C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AC85-18F2-418D-AA0C-CECCB590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F050-C19D-41D9-A1A8-13FE3B2D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5466-0671-4997-AA6B-83FC209D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D5E1-21C4-4497-970B-5558F6A2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29ED-64EC-43AC-B513-399A56CF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2DAD-EAF5-4E2D-B105-631437A1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A0E3E-F1F3-4EA9-B15F-2EFCBB3C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4519-5780-48E0-8CC6-D3A2BA68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CB0F-971C-4A94-A26C-D1E0F105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E261-C263-48D0-840A-CF94E63A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6FE2-E813-49E7-A7B4-203BE46A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49CD-8713-4D20-B28D-D6F7F620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BDD74-6C02-4B17-BB6F-155A708D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A764-7760-4162-A7D2-70B1C141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1D94-293C-4B9B-826C-C4F2B180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88826-EA78-4B41-8982-3C7323C9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23F3-E13D-470A-BABA-4D157880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71AB-8D82-4630-AF72-8CC60844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0F7F3-8EFB-4707-99D4-71508EF5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AB81-133F-4245-9AA0-9DC5F513B1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32E9-406D-4D65-A82D-700C869AAB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Определение прямоугольного треугольник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Тангенс острого угла это отношение противолежащего катета к прилежащему 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724280" y="3962520"/>
            <a:ext cx="2819520" cy="2286000"/>
          </a:xfrm>
          <a:prstGeom prst="rtTriangle">
            <a:avLst/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 rot="5400000">
            <a:off x="4148280" y="591012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7" name=""/>
          <p:cNvSpPr txBox="1"/>
          <p:nvPr/>
        </p:nvSpPr>
        <p:spPr>
          <a:xfrm rot="5400000">
            <a:off x="4147920" y="331920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8" name=""/>
          <p:cNvSpPr txBox="1"/>
          <p:nvPr/>
        </p:nvSpPr>
        <p:spPr>
          <a:xfrm rot="5400000">
            <a:off x="7805520" y="59860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457200" y="3048120"/>
                <a:ext cx="2803680" cy="34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Площадь прямоугольного треугольника (используя катеты)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724280" y="3962520"/>
            <a:ext cx="2819520" cy="2286000"/>
          </a:xfrm>
          <a:prstGeom prst="rtTriangle">
            <a:avLst/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 rot="5400000">
            <a:off x="4148280" y="591012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5" name=""/>
          <p:cNvSpPr txBox="1"/>
          <p:nvPr/>
        </p:nvSpPr>
        <p:spPr>
          <a:xfrm rot="5400000">
            <a:off x="4147920" y="331920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6" name=""/>
          <p:cNvSpPr txBox="1"/>
          <p:nvPr/>
        </p:nvSpPr>
        <p:spPr>
          <a:xfrm rot="5400000">
            <a:off x="7805520" y="59860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Площадь прямоугольного треугольника равна половине произведения катетов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724280" y="3962520"/>
            <a:ext cx="2819520" cy="2286000"/>
          </a:xfrm>
          <a:prstGeom prst="rtTriangle">
            <a:avLst/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 rot="5400000">
            <a:off x="4148280" y="591012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0" name=""/>
          <p:cNvSpPr txBox="1"/>
          <p:nvPr/>
        </p:nvSpPr>
        <p:spPr>
          <a:xfrm rot="5400000">
            <a:off x="4147920" y="331920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1" name=""/>
          <p:cNvSpPr txBox="1"/>
          <p:nvPr/>
        </p:nvSpPr>
        <p:spPr>
          <a:xfrm rot="5400000">
            <a:off x="7805520" y="59860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57200" y="3124080"/>
                <a:ext cx="3048120" cy="26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Площадь прямоугольного треугольника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(используя гипотенузу)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724280" y="3962520"/>
            <a:ext cx="2819520" cy="2286000"/>
          </a:xfrm>
          <a:prstGeom prst="rtTriangle">
            <a:avLst/>
          </a:prstGeom>
          <a:solidFill>
            <a:srgbClr val="66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 rot="5400000">
            <a:off x="4148280" y="591012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7" name=""/>
          <p:cNvSpPr txBox="1"/>
          <p:nvPr/>
        </p:nvSpPr>
        <p:spPr>
          <a:xfrm rot="5400000">
            <a:off x="4147920" y="331920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8" name=""/>
          <p:cNvSpPr txBox="1"/>
          <p:nvPr/>
        </p:nvSpPr>
        <p:spPr>
          <a:xfrm rot="5400000">
            <a:off x="7805520" y="59860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4724280" y="4876920"/>
            <a:ext cx="1067040" cy="137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 rot="5400000">
            <a:off x="6052680" y="43099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42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Площадь прямоугольного треугольника равна половине произведения гипотенузы на высоту, опущенную на неё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724280" y="3962520"/>
            <a:ext cx="2819520" cy="2286000"/>
          </a:xfrm>
          <a:prstGeom prst="rtTriangle">
            <a:avLst/>
          </a:prstGeom>
          <a:solidFill>
            <a:srgbClr val="66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 rot="5400000">
            <a:off x="4148280" y="591012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5" name=""/>
          <p:cNvSpPr txBox="1"/>
          <p:nvPr/>
        </p:nvSpPr>
        <p:spPr>
          <a:xfrm rot="5400000">
            <a:off x="4147920" y="331920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6" name=""/>
          <p:cNvSpPr txBox="1"/>
          <p:nvPr/>
        </p:nvSpPr>
        <p:spPr>
          <a:xfrm rot="5400000">
            <a:off x="7805520" y="59860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380880" y="3581280"/>
                <a:ext cx="2971800" cy="254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 flipV="1">
            <a:off x="4724280" y="4876920"/>
            <a:ext cx="1067040" cy="137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 rot="5400000">
            <a:off x="6052680" y="43099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1" name=""/>
          <p:cNvSpPr/>
          <p:nvPr/>
        </p:nvSpPr>
        <p:spPr>
          <a:xfrm rot="2536800">
            <a:off x="5765400" y="4896000"/>
            <a:ext cx="152280" cy="152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24364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Площадь прямоугольного треугольника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(используя острый угол)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724280" y="3962520"/>
            <a:ext cx="2819520" cy="2286000"/>
          </a:xfrm>
          <a:prstGeom prst="rtTriangle">
            <a:avLst/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 rot="5400000">
            <a:off x="4148280" y="591012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5" name=""/>
          <p:cNvSpPr txBox="1"/>
          <p:nvPr/>
        </p:nvSpPr>
        <p:spPr>
          <a:xfrm rot="5400000">
            <a:off x="4147920" y="331920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6" name=""/>
          <p:cNvSpPr txBox="1"/>
          <p:nvPr/>
        </p:nvSpPr>
        <p:spPr>
          <a:xfrm rot="5400000">
            <a:off x="7805520" y="59860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8423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Площадь прямоугольного треугольника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равна половине произведения двух сторон на синус угла между ними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724280" y="3962520"/>
            <a:ext cx="2819520" cy="2286000"/>
          </a:xfrm>
          <a:prstGeom prst="rtTriangle">
            <a:avLst/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 rot="5400000">
            <a:off x="4148280" y="591012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0" name=""/>
          <p:cNvSpPr txBox="1"/>
          <p:nvPr/>
        </p:nvSpPr>
        <p:spPr>
          <a:xfrm rot="5400000">
            <a:off x="4147920" y="331920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1" name=""/>
          <p:cNvSpPr txBox="1"/>
          <p:nvPr/>
        </p:nvSpPr>
        <p:spPr>
          <a:xfrm rot="5400000">
            <a:off x="7805520" y="59860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460440" y="3803760"/>
                <a:ext cx="3375000" cy="21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Медиана, проведенная к гипотенузе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181480" y="2895480"/>
            <a:ext cx="2819520" cy="2286000"/>
          </a:xfrm>
          <a:prstGeom prst="rtTriangle">
            <a:avLst/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5181480" y="3962520"/>
            <a:ext cx="137160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 rot="5400000">
            <a:off x="8186400" y="51483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8" name=""/>
          <p:cNvSpPr txBox="1"/>
          <p:nvPr/>
        </p:nvSpPr>
        <p:spPr>
          <a:xfrm rot="5400000">
            <a:off x="6662520" y="354780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9" name=""/>
          <p:cNvSpPr txBox="1"/>
          <p:nvPr/>
        </p:nvSpPr>
        <p:spPr>
          <a:xfrm rot="5400000">
            <a:off x="4757400" y="51483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0" name=""/>
          <p:cNvSpPr txBox="1"/>
          <p:nvPr/>
        </p:nvSpPr>
        <p:spPr>
          <a:xfrm rot="5400000">
            <a:off x="4605480" y="248112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2328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Медиана, проведенная к гипотенузе равна половине гипотенузы и равна радиусу описанной окружности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181480" y="2895480"/>
            <a:ext cx="2819520" cy="2286000"/>
          </a:xfrm>
          <a:prstGeom prst="rtTriangle">
            <a:avLst/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181480" y="3962520"/>
            <a:ext cx="137160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 rot="5400000">
            <a:off x="8186400" y="51483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5" name=""/>
          <p:cNvSpPr txBox="1"/>
          <p:nvPr/>
        </p:nvSpPr>
        <p:spPr>
          <a:xfrm rot="5400000">
            <a:off x="6662520" y="354780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6" name=""/>
          <p:cNvSpPr txBox="1"/>
          <p:nvPr/>
        </p:nvSpPr>
        <p:spPr>
          <a:xfrm rot="5400000">
            <a:off x="4757400" y="51483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7" name=""/>
          <p:cNvSpPr txBox="1"/>
          <p:nvPr/>
        </p:nvSpPr>
        <p:spPr>
          <a:xfrm rot="5400000">
            <a:off x="4605480" y="248112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37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Высота, проведенная к гипотенузе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2880" y="2441160"/>
            <a:ext cx="778356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181480" y="2895480"/>
            <a:ext cx="2819520" cy="2286000"/>
          </a:xfrm>
          <a:prstGeom prst="rtTriangle">
            <a:avLst/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 rot="5400000">
            <a:off x="8186400" y="51483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2" name=""/>
          <p:cNvSpPr txBox="1"/>
          <p:nvPr/>
        </p:nvSpPr>
        <p:spPr>
          <a:xfrm rot="5400000">
            <a:off x="6433920" y="32428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3" name=""/>
          <p:cNvSpPr txBox="1"/>
          <p:nvPr/>
        </p:nvSpPr>
        <p:spPr>
          <a:xfrm rot="5400000">
            <a:off x="4757400" y="51483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4" name=""/>
          <p:cNvSpPr txBox="1"/>
          <p:nvPr/>
        </p:nvSpPr>
        <p:spPr>
          <a:xfrm rot="5400000">
            <a:off x="4605480" y="248112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181480" y="3733560"/>
            <a:ext cx="1067040" cy="144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Определение прямоугольного треугольник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еугольник, один из углов которого равен 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ahoma"/>
              </a:rPr>
              <a:t>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ahoma"/>
              </a:rPr>
              <a:t>, называется прямоугольн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47920" y="3124080"/>
            <a:ext cx="3047760" cy="2210040"/>
          </a:xfrm>
          <a:prstGeom prst="rtTriangle">
            <a:avLst/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 rot="5400000">
            <a:off x="718920" y="27856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9" name=""/>
          <p:cNvSpPr txBox="1"/>
          <p:nvPr/>
        </p:nvSpPr>
        <p:spPr>
          <a:xfrm rot="5400000">
            <a:off x="4834080" y="522432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0" name=""/>
          <p:cNvSpPr txBox="1"/>
          <p:nvPr/>
        </p:nvSpPr>
        <p:spPr>
          <a:xfrm rot="5400000">
            <a:off x="871200" y="52243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Высота, проведенная к гипотенузе, есть среднее геометрическое между проекциями катетов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181480" y="2895480"/>
            <a:ext cx="2819520" cy="2286000"/>
          </a:xfrm>
          <a:prstGeom prst="rtTriangle">
            <a:avLst/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 rot="5400000">
            <a:off x="8186400" y="51483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9" name=""/>
          <p:cNvSpPr txBox="1"/>
          <p:nvPr/>
        </p:nvSpPr>
        <p:spPr>
          <a:xfrm rot="5400000">
            <a:off x="6433920" y="32428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0" name=""/>
          <p:cNvSpPr txBox="1"/>
          <p:nvPr/>
        </p:nvSpPr>
        <p:spPr>
          <a:xfrm rot="5400000">
            <a:off x="4757400" y="51483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1" name=""/>
          <p:cNvSpPr txBox="1"/>
          <p:nvPr/>
        </p:nvSpPr>
        <p:spPr>
          <a:xfrm rot="5400000">
            <a:off x="4605480" y="248112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5181480" y="3733560"/>
            <a:ext cx="1067040" cy="144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460440" y="3294000"/>
                <a:ext cx="33303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H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H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В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37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Катет прямоугольного треугольника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02880" y="2441160"/>
            <a:ext cx="778356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181480" y="2895480"/>
            <a:ext cx="2819520" cy="2286000"/>
          </a:xfrm>
          <a:prstGeom prst="rtTriangle">
            <a:avLst/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 rot="5400000">
            <a:off x="8186400" y="51483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8" name=""/>
          <p:cNvSpPr txBox="1"/>
          <p:nvPr/>
        </p:nvSpPr>
        <p:spPr>
          <a:xfrm rot="5400000">
            <a:off x="6433920" y="32428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9" name=""/>
          <p:cNvSpPr txBox="1"/>
          <p:nvPr/>
        </p:nvSpPr>
        <p:spPr>
          <a:xfrm rot="5400000">
            <a:off x="4757400" y="51483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0" name=""/>
          <p:cNvSpPr txBox="1"/>
          <p:nvPr/>
        </p:nvSpPr>
        <p:spPr>
          <a:xfrm rot="5400000">
            <a:off x="4605480" y="248112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5181480" y="3733560"/>
            <a:ext cx="990720" cy="14475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37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Катет прямоугольного треугольника есть среднее геометрическое между гипотенузой и проекцией этого катета на гипотенузу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724280" y="3581280"/>
            <a:ext cx="2819520" cy="2286000"/>
          </a:xfrm>
          <a:prstGeom prst="rtTriangle">
            <a:avLst/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 rot="5400000">
            <a:off x="7805880" y="545292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5" name=""/>
          <p:cNvSpPr txBox="1"/>
          <p:nvPr/>
        </p:nvSpPr>
        <p:spPr>
          <a:xfrm rot="5400000">
            <a:off x="5976720" y="39286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6" name=""/>
          <p:cNvSpPr txBox="1"/>
          <p:nvPr/>
        </p:nvSpPr>
        <p:spPr>
          <a:xfrm rot="5400000">
            <a:off x="4071600" y="55292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7" name=""/>
          <p:cNvSpPr txBox="1"/>
          <p:nvPr/>
        </p:nvSpPr>
        <p:spPr>
          <a:xfrm rot="5400000">
            <a:off x="4300200" y="32432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4724280" y="4419360"/>
            <a:ext cx="990720" cy="14475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825480" y="3595680"/>
                <a:ext cx="2863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СА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Н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В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Н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Теорема Пифагора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3505320"/>
            <a:ext cx="2819160" cy="2286000"/>
          </a:xfrm>
          <a:prstGeom prst="rtTriangle">
            <a:avLst/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 rot="5400000">
            <a:off x="4148280" y="568152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4" name=""/>
          <p:cNvSpPr txBox="1"/>
          <p:nvPr/>
        </p:nvSpPr>
        <p:spPr>
          <a:xfrm rot="5400000">
            <a:off x="4147920" y="309060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5" name=""/>
          <p:cNvSpPr txBox="1"/>
          <p:nvPr/>
        </p:nvSpPr>
        <p:spPr>
          <a:xfrm rot="5400000">
            <a:off x="7729200" y="57578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610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В прямоугольном треугольнике квадрат гипотенузы равен сумме квадратов катетов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800600" y="3581280"/>
            <a:ext cx="2819520" cy="2286000"/>
          </a:xfrm>
          <a:prstGeom prst="rtTriangle">
            <a:avLst/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 rot="5400000">
            <a:off x="4148280" y="568152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9" name=""/>
          <p:cNvSpPr txBox="1"/>
          <p:nvPr/>
        </p:nvSpPr>
        <p:spPr>
          <a:xfrm rot="5400000">
            <a:off x="4223880" y="30909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0" name=""/>
          <p:cNvSpPr txBox="1"/>
          <p:nvPr/>
        </p:nvSpPr>
        <p:spPr>
          <a:xfrm rot="5400000">
            <a:off x="7805520" y="57574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304920" y="4038480"/>
                <a:ext cx="361476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инус острого угла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724280" y="3962520"/>
            <a:ext cx="2819520" cy="2286000"/>
          </a:xfrm>
          <a:prstGeom prst="rtTriangle">
            <a:avLst/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 rot="5400000">
            <a:off x="4148280" y="591012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6" name=""/>
          <p:cNvSpPr txBox="1"/>
          <p:nvPr/>
        </p:nvSpPr>
        <p:spPr>
          <a:xfrm rot="5400000">
            <a:off x="4147920" y="331920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7" name=""/>
          <p:cNvSpPr txBox="1"/>
          <p:nvPr/>
        </p:nvSpPr>
        <p:spPr>
          <a:xfrm rot="5400000">
            <a:off x="7805520" y="59860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Синус острого угла это отношение противолежащего катета к гипотенузе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724280" y="3962520"/>
            <a:ext cx="2819520" cy="2286000"/>
          </a:xfrm>
          <a:prstGeom prst="rtTriangle">
            <a:avLst/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 rot="5400000">
            <a:off x="4148280" y="591012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1" name=""/>
          <p:cNvSpPr txBox="1"/>
          <p:nvPr/>
        </p:nvSpPr>
        <p:spPr>
          <a:xfrm rot="5400000">
            <a:off x="4147920" y="331920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2" name=""/>
          <p:cNvSpPr txBox="1"/>
          <p:nvPr/>
        </p:nvSpPr>
        <p:spPr>
          <a:xfrm rot="5400000">
            <a:off x="7805520" y="59860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533520" y="3505320"/>
                <a:ext cx="254952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Косинус острого угла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724280" y="3962520"/>
            <a:ext cx="2819520" cy="2286000"/>
          </a:xfrm>
          <a:prstGeom prst="rtTriangle">
            <a:avLst/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 rot="5400000">
            <a:off x="4148280" y="591012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8" name=""/>
          <p:cNvSpPr txBox="1"/>
          <p:nvPr/>
        </p:nvSpPr>
        <p:spPr>
          <a:xfrm rot="5400000">
            <a:off x="4147920" y="331920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9" name=""/>
          <p:cNvSpPr txBox="1"/>
          <p:nvPr/>
        </p:nvSpPr>
        <p:spPr>
          <a:xfrm rot="5400000">
            <a:off x="7805520" y="59860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Косинус острого угла это отношение прилежащего катета к гипотенузе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724280" y="3962520"/>
            <a:ext cx="2819520" cy="2286000"/>
          </a:xfrm>
          <a:prstGeom prst="rtTriangle">
            <a:avLst/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 rot="5400000">
            <a:off x="4148280" y="591012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3" name=""/>
          <p:cNvSpPr txBox="1"/>
          <p:nvPr/>
        </p:nvSpPr>
        <p:spPr>
          <a:xfrm rot="5400000">
            <a:off x="4147920" y="331920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4" name=""/>
          <p:cNvSpPr txBox="1"/>
          <p:nvPr/>
        </p:nvSpPr>
        <p:spPr>
          <a:xfrm rot="5400000">
            <a:off x="7805520" y="59860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380880" y="3048120"/>
                <a:ext cx="2783160" cy="30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сos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os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Тангенс острого угла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724280" y="3962520"/>
            <a:ext cx="2819520" cy="2286000"/>
          </a:xfrm>
          <a:prstGeom prst="rtTriangle">
            <a:avLst/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 rot="5400000">
            <a:off x="4148280" y="591012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2" name=""/>
          <p:cNvSpPr txBox="1"/>
          <p:nvPr/>
        </p:nvSpPr>
        <p:spPr>
          <a:xfrm rot="5400000">
            <a:off x="4147920" y="331920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3" name=""/>
          <p:cNvSpPr txBox="1"/>
          <p:nvPr/>
        </p:nvSpPr>
        <p:spPr>
          <a:xfrm rot="5400000">
            <a:off x="7805520" y="59860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ша</cp:lastModifiedBy>
  <dcterms:modified xsi:type="dcterms:W3CDTF">2006-12-18T16:19:3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