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.jpeg" ContentType="image/jpeg"/>
  <Override PartName="/ppt/media/image19.png" ContentType="image/png"/>
  <Override PartName="/ppt/media/image1.png" ContentType="image/png"/>
  <Override PartName="/ppt/media/image18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3.png" ContentType="image/png"/>
  <Override PartName="/ppt/media/image3.jpeg" ContentType="image/jpeg"/>
  <Override PartName="/ppt/media/image15.png" ContentType="image/png"/>
  <Override PartName="/ppt/media/image21.jpeg" ContentType="image/jpeg"/>
  <Override PartName="/ppt/media/camera.wav" ContentType="audio/x-wav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DDDE-7A48-4977-84D0-F3FB5B5C5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D198-4A94-4F46-A8E5-C358C666E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5632-C926-49A1-8F27-BF5D49481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466C-3E38-48C3-AA88-70B0ED08D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6D698-8AB4-4BFE-A8EE-9A3E496DE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CFA6E-C94B-47D8-9C61-B6DE1B88F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92E77-4E3F-4345-93C6-7E0517C20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3FAAA-3D65-4385-B560-F7A3A6061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3C612-32F5-457C-922D-0206F74F8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7EEB8-4348-40D6-A8F5-EB2C0D0F8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08886-D7E0-47D0-8C0C-349BDBF5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7187-6CAF-4483-B4E1-7B89B3192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6AA5A-1853-4E89-A232-492F8EE7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DCCA2-D8BE-47DC-ADF6-D5F29FB4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F09B8-A143-4F9D-AC06-AE59B2140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185C0-7257-4C0C-BAEE-91AF9D3F3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E855E-B22F-4AE6-9539-7812117CA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138165-CEB4-4A31-AD78-376522B2B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7149DE-43E2-4C50-B3A1-618C748A1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560EF0-3377-4B56-9E57-FDF900AE8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E06C84-BCC8-44DC-9463-ED6EC4E2F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02C64D-BE07-4210-AB4B-8269FC54E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4B04-0E28-4FB9-B176-E9A5C184E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0E2380-2C2F-4582-AF4D-1CC785FB3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3010DF-FEA4-4D53-A97B-C6A198BE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44F26D-ADD9-4048-A952-0F9CB806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A75749-E28F-49D5-8008-91266EA5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BB37FD-EDD0-479B-87C3-8F373CE23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7C13D4-F17D-473C-A8BD-4B754FF53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2F3A11-A552-4D94-828B-A38F088FC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4C599-D522-4529-8009-9999E7E66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5DD41-230E-4799-943A-4332F517B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E3058-D591-480F-BD8E-A41D2A01B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D114-D4E6-48F6-A6C0-4378108FD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4BA98-2E58-44B1-B6F6-E15A8EE13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A6BD6-DE4A-4CEA-AAB9-DFE8695A7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800F0-A4F2-4AB6-9439-13DB3D031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66142-39D1-418D-AE00-88CDA00A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AFDEB-7AC0-4F39-82AA-BDC52FC0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5EDEE-9FB3-4194-A723-E73BDF0F8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FD933-1EE9-48CE-9DFD-B85AF3D99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E5974-E75A-4E5C-A78B-B5CA41510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E3997-7F7C-4007-8C66-6A2880417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5FC7-DAB5-4542-ADE1-6646F8C53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D319-5A07-43BB-8D04-4636F553A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C37E-3525-41FA-97F1-B3342D67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FB0E-98F9-47EB-8164-D819EFD9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3973-5FD1-4BA3-AA7C-8DF82D8B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B7808-5C07-4525-ACE7-827645A76A47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0771D-0A51-40D3-BCAE-EFB30BCF12CC}" type="slidenum">
              <a:rPr b="0" lang="ru-RU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6590-8727-4798-9FE5-57C5F32F294E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74131-6712-46DD-A7E8-0DD2D7A39A51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10.png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13.png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7.png"/><Relationship Id="rId6" Type="http://schemas.openxmlformats.org/officeDocument/2006/relationships/image" Target="../media/image17.jpeg"/><Relationship Id="rId7" Type="http://schemas.openxmlformats.org/officeDocument/2006/relationships/image" Target="../media/image18.png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image" Target="../media/image12.png"/><Relationship Id="rId4" Type="http://schemas.openxmlformats.org/officeDocument/2006/relationships/image" Target="../media/image19.png"/><Relationship Id="rId5" Type="http://schemas.openxmlformats.org/officeDocument/2006/relationships/image" Target="../media/image7.png"/><Relationship Id="rId6" Type="http://schemas.openxmlformats.org/officeDocument/2006/relationships/image" Target="../media/image17.jpeg"/><Relationship Id="rId7" Type="http://schemas.openxmlformats.org/officeDocument/2006/relationships/image" Target="../media/image18.png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643280" y="188640"/>
            <a:ext cx="3510000" cy="208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Century Gothic"/>
              </a:rPr>
              <a:t>Родительское собрание «Особенности</a:t>
            </a:r>
            <a:br>
              <a:rPr sz="2900"/>
            </a:br>
            <a:r>
              <a:rPr b="1" lang="ru-RU" sz="2900" spc="-1" strike="noStrike">
                <a:solidFill>
                  <a:srgbClr val="ffffff"/>
                </a:solidFill>
                <a:latin typeface="Century Gothic"/>
              </a:rPr>
              <a:t>подросткового возраста»</a:t>
            </a:r>
            <a:endParaRPr b="0" lang="en-US" sz="29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6084720" y="5300280"/>
            <a:ext cx="2159280" cy="81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424242"/>
                </a:solidFill>
                <a:latin typeface="Century Gothic"/>
              </a:rPr>
              <a:t>педагог-психолог </a:t>
            </a:r>
            <a:endParaRPr b="0" lang="en-US" sz="17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424242"/>
                </a:solidFill>
                <a:latin typeface="Century Gothic"/>
              </a:rPr>
              <a:t>Надеина Т.В.</a:t>
            </a:r>
            <a:endParaRPr b="0" lang="en-US" sz="17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37" name="Picture 5" descr=""/>
          <p:cNvPicPr/>
          <p:nvPr/>
        </p:nvPicPr>
        <p:blipFill>
          <a:blip r:embed="rId1"/>
          <a:stretch/>
        </p:blipFill>
        <p:spPr>
          <a:xfrm>
            <a:off x="4643280" y="2349360"/>
            <a:ext cx="352908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Группа 2"/>
          <p:cNvGrpSpPr/>
          <p:nvPr/>
        </p:nvGrpSpPr>
        <p:grpSpPr>
          <a:xfrm>
            <a:off x="1249200" y="1052640"/>
            <a:ext cx="6480360" cy="5416560"/>
            <a:chOff x="1249200" y="1052640"/>
            <a:chExt cx="6480360" cy="5416560"/>
          </a:xfrm>
        </p:grpSpPr>
        <p:grpSp>
          <p:nvGrpSpPr>
            <p:cNvPr id="371" name="Группа 7"/>
            <p:cNvGrpSpPr/>
            <p:nvPr/>
          </p:nvGrpSpPr>
          <p:grpSpPr>
            <a:xfrm>
              <a:off x="1249200" y="1052640"/>
              <a:ext cx="6480360" cy="5416560"/>
              <a:chOff x="1249200" y="1052640"/>
              <a:chExt cx="6480360" cy="5416560"/>
            </a:xfrm>
          </p:grpSpPr>
          <p:pic>
            <p:nvPicPr>
              <p:cNvPr id="372" name="Рисунок 9" descr=""/>
              <p:cNvPicPr/>
              <p:nvPr/>
            </p:nvPicPr>
            <p:blipFill>
              <a:blip r:embed="rId1"/>
              <a:srcRect l="59106" t="13172" r="6137" b="9310"/>
              <a:stretch/>
            </p:blipFill>
            <p:spPr>
              <a:xfrm>
                <a:off x="1249200" y="1052640"/>
                <a:ext cx="6480360" cy="541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3" name="Прямая соединительная линия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2383200" y="5437800"/>
                <a:ext cx="4206240" cy="152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74" name="TextBox 6"/>
            <p:cNvSpPr/>
            <p:nvPr/>
          </p:nvSpPr>
          <p:spPr>
            <a:xfrm>
              <a:off x="1969200" y="3165120"/>
              <a:ext cx="4968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entury Gothic"/>
                </a:rPr>
                <a:t>Потребности в любви, </a:t>
              </a:r>
              <a:endParaRPr b="0" lang="en-US" sz="2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entury Gothic"/>
                </a:rPr>
                <a:t>понимании, признании, сочувствии, уважении, внимании</a:t>
              </a:r>
              <a:endParaRPr b="0" lang="en-US" sz="2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5" name="TextBox 4"/>
          <p:cNvSpPr/>
          <p:nvPr/>
        </p:nvSpPr>
        <p:spPr>
          <a:xfrm>
            <a:off x="3257640" y="2173320"/>
            <a:ext cx="259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Боль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Страх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Обида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76" name="Прямая соединительная линия 13" descr=""/>
          <p:cNvPicPr/>
          <p:nvPr/>
        </p:nvPicPr>
        <p:blipFill>
          <a:blip r:embed="rId3"/>
          <a:stretch/>
        </p:blipFill>
        <p:spPr>
          <a:xfrm>
            <a:off x="2779560" y="3176640"/>
            <a:ext cx="3517920" cy="152280"/>
          </a:xfrm>
          <a:prstGeom prst="rect">
            <a:avLst/>
          </a:prstGeom>
          <a:ln w="0">
            <a:noFill/>
          </a:ln>
        </p:spPr>
      </p:pic>
      <p:pic>
        <p:nvPicPr>
          <p:cNvPr id="377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3206880" y="2163600"/>
            <a:ext cx="2724120" cy="152640"/>
          </a:xfrm>
          <a:prstGeom prst="rect">
            <a:avLst/>
          </a:prstGeom>
          <a:ln w="0">
            <a:noFill/>
          </a:ln>
        </p:spPr>
      </p:pic>
      <p:sp>
        <p:nvSpPr>
          <p:cNvPr id="378" name="TextBox 17"/>
          <p:cNvSpPr/>
          <p:nvPr/>
        </p:nvSpPr>
        <p:spPr>
          <a:xfrm>
            <a:off x="3238560" y="1163520"/>
            <a:ext cx="246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Century Gothic"/>
              </a:rPr>
              <a:t>Гнев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Century Gothic"/>
              </a:rPr>
              <a:t>Агрессия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Century Gothic"/>
              </a:rPr>
              <a:t>Злоба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79" name="Прямая соединительная линия 14" descr=""/>
          <p:cNvPicPr/>
          <p:nvPr/>
        </p:nvPicPr>
        <p:blipFill>
          <a:blip r:embed="rId5"/>
          <a:stretch/>
        </p:blipFill>
        <p:spPr>
          <a:xfrm>
            <a:off x="1627200" y="4273560"/>
            <a:ext cx="5675400" cy="152280"/>
          </a:xfrm>
          <a:prstGeom prst="rect">
            <a:avLst/>
          </a:prstGeom>
          <a:ln w="0">
            <a:noFill/>
          </a:ln>
        </p:spPr>
      </p:pic>
      <p:sp>
        <p:nvSpPr>
          <p:cNvPr id="380" name="Прямоугольник 19"/>
          <p:cNvSpPr/>
          <p:nvPr/>
        </p:nvSpPr>
        <p:spPr>
          <a:xfrm>
            <a:off x="4849920" y="184320"/>
            <a:ext cx="26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Кувшин эмоций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checker dir="vert"/>
    <p:sndAc>
      <p:stSnd>
        <p:snd r:embed="rId6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Группа 1"/>
          <p:cNvGrpSpPr/>
          <p:nvPr/>
        </p:nvGrpSpPr>
        <p:grpSpPr>
          <a:xfrm>
            <a:off x="1266840" y="1052640"/>
            <a:ext cx="6481800" cy="5416560"/>
            <a:chOff x="1266840" y="1052640"/>
            <a:chExt cx="6481800" cy="5416560"/>
          </a:xfrm>
        </p:grpSpPr>
        <p:grpSp>
          <p:nvGrpSpPr>
            <p:cNvPr id="382" name="Группа 2"/>
            <p:cNvGrpSpPr/>
            <p:nvPr/>
          </p:nvGrpSpPr>
          <p:grpSpPr>
            <a:xfrm>
              <a:off x="1266840" y="1052640"/>
              <a:ext cx="6481800" cy="5416560"/>
              <a:chOff x="1266840" y="1052640"/>
              <a:chExt cx="6481800" cy="5416560"/>
            </a:xfrm>
          </p:grpSpPr>
          <p:grpSp>
            <p:nvGrpSpPr>
              <p:cNvPr id="383" name="Группа 5"/>
              <p:cNvGrpSpPr/>
              <p:nvPr/>
            </p:nvGrpSpPr>
            <p:grpSpPr>
              <a:xfrm>
                <a:off x="1266840" y="1052640"/>
                <a:ext cx="6481800" cy="5416560"/>
                <a:chOff x="1266840" y="1052640"/>
                <a:chExt cx="6481800" cy="5416560"/>
              </a:xfrm>
            </p:grpSpPr>
            <p:grpSp>
              <p:nvGrpSpPr>
                <p:cNvPr id="384" name="Группа 7"/>
                <p:cNvGrpSpPr/>
                <p:nvPr/>
              </p:nvGrpSpPr>
              <p:grpSpPr>
                <a:xfrm>
                  <a:off x="1266840" y="1052640"/>
                  <a:ext cx="6481800" cy="5416560"/>
                  <a:chOff x="1266840" y="1052640"/>
                  <a:chExt cx="6481800" cy="5416560"/>
                </a:xfrm>
              </p:grpSpPr>
              <p:pic>
                <p:nvPicPr>
                  <p:cNvPr id="385" name="Рисунок 9" descr=""/>
                  <p:cNvPicPr/>
                  <p:nvPr/>
                </p:nvPicPr>
                <p:blipFill>
                  <a:blip r:embed="rId1"/>
                  <a:srcRect l="59106" t="13172" r="6137" b="9310"/>
                  <a:stretch/>
                </p:blipFill>
                <p:spPr>
                  <a:xfrm>
                    <a:off x="1266840" y="1052640"/>
                    <a:ext cx="6481800" cy="54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86" name="Прямая соединительная линия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33400" y="5437800"/>
                    <a:ext cx="3980880" cy="15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387" name="Прямоугольник 8"/>
                <p:cNvSpPr/>
                <p:nvPr/>
              </p:nvSpPr>
              <p:spPr>
                <a:xfrm>
                  <a:off x="2285280" y="4176360"/>
                  <a:ext cx="425952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002060"/>
                      </a:solidFill>
                      <a:latin typeface="Century Gothic"/>
                    </a:rPr>
                    <a:t>Я  х о р о ш и й! </a:t>
                  </a: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002060"/>
                      </a:solidFill>
                      <a:latin typeface="Century Gothic"/>
                    </a:rPr>
                    <a:t>Я любим!</a:t>
                  </a: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002060"/>
                      </a:solidFill>
                      <a:latin typeface="Century Gothic"/>
                    </a:rPr>
                    <a:t>Я могу!</a:t>
                  </a: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388" name="TextBox 6"/>
              <p:cNvSpPr/>
              <p:nvPr/>
            </p:nvSpPr>
            <p:spPr>
              <a:xfrm>
                <a:off x="1986840" y="3165120"/>
                <a:ext cx="496944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Century Gothic"/>
                  </a:rPr>
                  <a:t>Потребности в любви, </a:t>
                </a:r>
                <a:endParaRPr b="0" lang="en-US" sz="2000" spc="-1" strike="noStrike">
                  <a:solidFill>
                    <a:srgbClr val="000000"/>
                  </a:solidFill>
                  <a:latin typeface="Century Gothic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Century Gothic"/>
                  </a:rPr>
                  <a:t>понимании, признании, сочувствии, уважении, внимании</a:t>
                </a:r>
                <a:endParaRPr b="0" lang="en-US" sz="20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pic>
          <p:nvPicPr>
            <p:cNvPr id="389" name="Прямая соединительная линия 3" descr=""/>
            <p:cNvPicPr/>
            <p:nvPr/>
          </p:nvPicPr>
          <p:blipFill>
            <a:blip r:embed="rId3"/>
            <a:stretch/>
          </p:blipFill>
          <p:spPr>
            <a:xfrm>
              <a:off x="1694520" y="4242960"/>
              <a:ext cx="5675400" cy="1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TextBox 4"/>
            <p:cNvSpPr/>
            <p:nvPr/>
          </p:nvSpPr>
          <p:spPr>
            <a:xfrm>
              <a:off x="3257640" y="2173680"/>
              <a:ext cx="259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Century Gothic"/>
                </a:rPr>
                <a:t>Боль</a:t>
              </a:r>
              <a:endParaRPr b="0" lang="en-US" sz="2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Century Gothic"/>
                </a:rPr>
                <a:t>Страх</a:t>
              </a:r>
              <a:endParaRPr b="0" lang="en-US" sz="2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Century Gothic"/>
                </a:rPr>
                <a:t>Обида</a:t>
              </a:r>
              <a:endParaRPr b="0" lang="en-US" sz="2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pic>
        <p:nvPicPr>
          <p:cNvPr id="391" name="Прямая соединительная линия 13" descr=""/>
          <p:cNvPicPr/>
          <p:nvPr/>
        </p:nvPicPr>
        <p:blipFill>
          <a:blip r:embed="rId4"/>
          <a:stretch/>
        </p:blipFill>
        <p:spPr>
          <a:xfrm>
            <a:off x="2779560" y="3176640"/>
            <a:ext cx="3517920" cy="152280"/>
          </a:xfrm>
          <a:prstGeom prst="rect">
            <a:avLst/>
          </a:prstGeom>
          <a:ln w="0">
            <a:noFill/>
          </a:ln>
        </p:spPr>
      </p:pic>
      <p:pic>
        <p:nvPicPr>
          <p:cNvPr id="392" name="Прямая соединительная линия 16" descr=""/>
          <p:cNvPicPr/>
          <p:nvPr/>
        </p:nvPicPr>
        <p:blipFill>
          <a:blip r:embed="rId5"/>
          <a:stretch/>
        </p:blipFill>
        <p:spPr>
          <a:xfrm>
            <a:off x="3206880" y="2163600"/>
            <a:ext cx="2724120" cy="152640"/>
          </a:xfrm>
          <a:prstGeom prst="rect">
            <a:avLst/>
          </a:prstGeom>
          <a:ln w="0">
            <a:noFill/>
          </a:ln>
        </p:spPr>
      </p:pic>
      <p:sp>
        <p:nvSpPr>
          <p:cNvPr id="393" name="TextBox 17"/>
          <p:cNvSpPr/>
          <p:nvPr/>
        </p:nvSpPr>
        <p:spPr>
          <a:xfrm>
            <a:off x="3238560" y="1163520"/>
            <a:ext cx="246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Century Gothic"/>
              </a:rPr>
              <a:t>Гнев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Century Gothic"/>
              </a:rPr>
              <a:t>Агрессия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Century Gothic"/>
              </a:rPr>
              <a:t>Злоба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4" name="Прямоугольник 15"/>
          <p:cNvSpPr/>
          <p:nvPr/>
        </p:nvSpPr>
        <p:spPr>
          <a:xfrm>
            <a:off x="4849920" y="184320"/>
            <a:ext cx="26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Кувшин эмоций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5" name="TextBox 18"/>
          <p:cNvSpPr/>
          <p:nvPr/>
        </p:nvSpPr>
        <p:spPr>
          <a:xfrm>
            <a:off x="439560" y="4506840"/>
            <a:ext cx="171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Century Gothic"/>
              </a:rPr>
              <a:t>Базисные потребности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96" name="Прямая соединительная линия 19" descr=""/>
          <p:cNvPicPr/>
          <p:nvPr/>
        </p:nvPicPr>
        <p:blipFill>
          <a:blip r:embed="rId6"/>
          <a:stretch/>
        </p:blipFill>
        <p:spPr>
          <a:xfrm>
            <a:off x="1695600" y="3376440"/>
            <a:ext cx="5106960" cy="9036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  <p:sndAc>
      <p:stSnd>
        <p:snd r:embed="rId7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7" name="Группа 1"/>
          <p:cNvGrpSpPr/>
          <p:nvPr/>
        </p:nvGrpSpPr>
        <p:grpSpPr>
          <a:xfrm>
            <a:off x="1266840" y="1052640"/>
            <a:ext cx="6481800" cy="5416560"/>
            <a:chOff x="1266840" y="1052640"/>
            <a:chExt cx="6481800" cy="5416560"/>
          </a:xfrm>
        </p:grpSpPr>
        <p:grpSp>
          <p:nvGrpSpPr>
            <p:cNvPr id="398" name="Группа 2"/>
            <p:cNvGrpSpPr/>
            <p:nvPr/>
          </p:nvGrpSpPr>
          <p:grpSpPr>
            <a:xfrm>
              <a:off x="1266840" y="1052640"/>
              <a:ext cx="6481800" cy="5416560"/>
              <a:chOff x="1266840" y="1052640"/>
              <a:chExt cx="6481800" cy="5416560"/>
            </a:xfrm>
          </p:grpSpPr>
          <p:grpSp>
            <p:nvGrpSpPr>
              <p:cNvPr id="399" name="Группа 5"/>
              <p:cNvGrpSpPr/>
              <p:nvPr/>
            </p:nvGrpSpPr>
            <p:grpSpPr>
              <a:xfrm>
                <a:off x="1266840" y="1052640"/>
                <a:ext cx="6481800" cy="5416560"/>
                <a:chOff x="1266840" y="1052640"/>
                <a:chExt cx="6481800" cy="5416560"/>
              </a:xfrm>
            </p:grpSpPr>
            <p:grpSp>
              <p:nvGrpSpPr>
                <p:cNvPr id="400" name="Группа 7"/>
                <p:cNvGrpSpPr/>
                <p:nvPr/>
              </p:nvGrpSpPr>
              <p:grpSpPr>
                <a:xfrm>
                  <a:off x="1266840" y="1052640"/>
                  <a:ext cx="6481800" cy="5416560"/>
                  <a:chOff x="1266840" y="1052640"/>
                  <a:chExt cx="6481800" cy="5416560"/>
                </a:xfrm>
              </p:grpSpPr>
              <p:pic>
                <p:nvPicPr>
                  <p:cNvPr id="401" name="Рисунок 9" descr=""/>
                  <p:cNvPicPr/>
                  <p:nvPr/>
                </p:nvPicPr>
                <p:blipFill>
                  <a:blip r:embed="rId1"/>
                  <a:srcRect l="59106" t="13172" r="6137" b="9310"/>
                  <a:stretch/>
                </p:blipFill>
                <p:spPr>
                  <a:xfrm>
                    <a:off x="1266840" y="1052640"/>
                    <a:ext cx="6481800" cy="54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02" name="Прямая соединительная линия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1560" y="5437800"/>
                    <a:ext cx="4206240" cy="15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03" name="TextBox 11"/>
                  <p:cNvSpPr/>
                  <p:nvPr/>
                </p:nvSpPr>
                <p:spPr>
                  <a:xfrm>
                    <a:off x="3026160" y="5550120"/>
                    <a:ext cx="30556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800" spc="-1" strike="noStrike">
                        <a:solidFill>
                          <a:srgbClr val="cc0000"/>
                        </a:solidFill>
                        <a:latin typeface="Century Gothic"/>
                      </a:rPr>
                      <a:t>Я есть!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Century Gothic"/>
                    </a:endParaRPr>
                  </a:p>
                </p:txBody>
              </p:sp>
            </p:grpSp>
            <p:sp>
              <p:nvSpPr>
                <p:cNvPr id="404" name="Прямоугольник 8"/>
                <p:cNvSpPr/>
                <p:nvPr/>
              </p:nvSpPr>
              <p:spPr>
                <a:xfrm>
                  <a:off x="2285280" y="4176360"/>
                  <a:ext cx="425952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002060"/>
                      </a:solidFill>
                      <a:latin typeface="Century Gothic"/>
                    </a:rPr>
                    <a:t>Я  х о р о ш и й! </a:t>
                  </a: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002060"/>
                      </a:solidFill>
                      <a:latin typeface="Century Gothic"/>
                    </a:rPr>
                    <a:t>Я любим!</a:t>
                  </a: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002060"/>
                      </a:solidFill>
                      <a:latin typeface="Century Gothic"/>
                    </a:rPr>
                    <a:t>Я могу!</a:t>
                  </a: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405" name="TextBox 6"/>
              <p:cNvSpPr/>
              <p:nvPr/>
            </p:nvSpPr>
            <p:spPr>
              <a:xfrm>
                <a:off x="1986840" y="3165120"/>
                <a:ext cx="4969440" cy="13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Century Gothic"/>
                  </a:rPr>
                  <a:t>Потребности в любви, </a:t>
                </a:r>
                <a:endParaRPr b="0" lang="en-US" sz="2000" spc="-1" strike="noStrike">
                  <a:solidFill>
                    <a:srgbClr val="000000"/>
                  </a:solidFill>
                  <a:latin typeface="Century Gothic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Century Gothic"/>
                  </a:rPr>
                  <a:t>понимании, признании, сочувствии, </a:t>
                </a:r>
                <a:endParaRPr b="0" lang="en-US" sz="2000" spc="-1" strike="noStrike">
                  <a:solidFill>
                    <a:srgbClr val="000000"/>
                  </a:solidFill>
                  <a:latin typeface="Century Gothic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Century Gothic"/>
                  </a:rPr>
                  <a:t>уважении, внимании</a:t>
                </a:r>
                <a:endParaRPr b="0" lang="en-US" sz="20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pic>
          <p:nvPicPr>
            <p:cNvPr id="406" name="Прямая соединительная линия 3" descr=""/>
            <p:cNvPicPr/>
            <p:nvPr/>
          </p:nvPicPr>
          <p:blipFill>
            <a:blip r:embed="rId3"/>
            <a:stretch/>
          </p:blipFill>
          <p:spPr>
            <a:xfrm>
              <a:off x="1694520" y="4242960"/>
              <a:ext cx="5608440" cy="1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TextBox 4"/>
            <p:cNvSpPr/>
            <p:nvPr/>
          </p:nvSpPr>
          <p:spPr>
            <a:xfrm>
              <a:off x="3257640" y="2173680"/>
              <a:ext cx="259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Century Gothic"/>
                </a:rPr>
                <a:t>Боль</a:t>
              </a:r>
              <a:endParaRPr b="0" lang="en-US" sz="2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Century Gothic"/>
                </a:rPr>
                <a:t>Страх</a:t>
              </a:r>
              <a:endParaRPr b="0" lang="en-US" sz="2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Century Gothic"/>
                </a:rPr>
                <a:t>Обида</a:t>
              </a:r>
              <a:endParaRPr b="0" lang="en-US" sz="2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pic>
        <p:nvPicPr>
          <p:cNvPr id="408" name="Прямая соединительная линия 13" descr=""/>
          <p:cNvPicPr/>
          <p:nvPr/>
        </p:nvPicPr>
        <p:blipFill>
          <a:blip r:embed="rId4"/>
          <a:stretch/>
        </p:blipFill>
        <p:spPr>
          <a:xfrm>
            <a:off x="2401920" y="3176640"/>
            <a:ext cx="4206960" cy="156960"/>
          </a:xfrm>
          <a:prstGeom prst="rect">
            <a:avLst/>
          </a:prstGeom>
          <a:ln w="0">
            <a:noFill/>
          </a:ln>
        </p:spPr>
      </p:pic>
      <p:pic>
        <p:nvPicPr>
          <p:cNvPr id="409" name="Прямая соединительная линия 16" descr=""/>
          <p:cNvPicPr/>
          <p:nvPr/>
        </p:nvPicPr>
        <p:blipFill>
          <a:blip r:embed="rId5"/>
          <a:stretch/>
        </p:blipFill>
        <p:spPr>
          <a:xfrm>
            <a:off x="3206880" y="2163600"/>
            <a:ext cx="2724120" cy="152640"/>
          </a:xfrm>
          <a:prstGeom prst="rect">
            <a:avLst/>
          </a:prstGeom>
          <a:ln w="0">
            <a:noFill/>
          </a:ln>
        </p:spPr>
      </p:pic>
      <p:sp>
        <p:nvSpPr>
          <p:cNvPr id="410" name="TextBox 17"/>
          <p:cNvSpPr/>
          <p:nvPr/>
        </p:nvSpPr>
        <p:spPr>
          <a:xfrm>
            <a:off x="3238560" y="1163520"/>
            <a:ext cx="246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Century Gothic"/>
              </a:rPr>
              <a:t>Гнев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Century Gothic"/>
              </a:rPr>
              <a:t>Агрессия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Century Gothic"/>
              </a:rPr>
              <a:t>Злоба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1" name="Прямоугольник 15"/>
          <p:cNvSpPr/>
          <p:nvPr/>
        </p:nvSpPr>
        <p:spPr>
          <a:xfrm>
            <a:off x="4849920" y="184320"/>
            <a:ext cx="26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Кувшин эмоций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2" name="TextBox 12"/>
          <p:cNvSpPr/>
          <p:nvPr/>
        </p:nvSpPr>
        <p:spPr>
          <a:xfrm>
            <a:off x="439560" y="4506840"/>
            <a:ext cx="171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Century Gothic"/>
              </a:rPr>
              <a:t>Базисные потребности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13" name="Рисунок 18" descr=""/>
          <p:cNvPicPr/>
          <p:nvPr/>
        </p:nvPicPr>
        <p:blipFill>
          <a:blip r:embed="rId6"/>
          <a:stretch/>
        </p:blipFill>
        <p:spPr>
          <a:xfrm>
            <a:off x="3046320" y="5549760"/>
            <a:ext cx="687600" cy="628920"/>
          </a:xfrm>
          <a:prstGeom prst="rect">
            <a:avLst/>
          </a:prstGeom>
          <a:ln w="0">
            <a:noFill/>
          </a:ln>
        </p:spPr>
      </p:pic>
      <p:pic>
        <p:nvPicPr>
          <p:cNvPr id="414" name="Прямая соединительная линия 19" descr=""/>
          <p:cNvPicPr/>
          <p:nvPr/>
        </p:nvPicPr>
        <p:blipFill>
          <a:blip r:embed="rId7"/>
          <a:stretch/>
        </p:blipFill>
        <p:spPr>
          <a:xfrm>
            <a:off x="1695600" y="3376440"/>
            <a:ext cx="5327640" cy="9036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  <p:sndAc>
      <p:stSnd>
        <p:snd r:embed="rId8" name="camera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Группа 1"/>
          <p:cNvGrpSpPr/>
          <p:nvPr/>
        </p:nvGrpSpPr>
        <p:grpSpPr>
          <a:xfrm>
            <a:off x="1266840" y="1052640"/>
            <a:ext cx="6481800" cy="5416560"/>
            <a:chOff x="1266840" y="1052640"/>
            <a:chExt cx="6481800" cy="5416560"/>
          </a:xfrm>
        </p:grpSpPr>
        <p:grpSp>
          <p:nvGrpSpPr>
            <p:cNvPr id="416" name="Группа 2"/>
            <p:cNvGrpSpPr/>
            <p:nvPr/>
          </p:nvGrpSpPr>
          <p:grpSpPr>
            <a:xfrm>
              <a:off x="1266840" y="1052640"/>
              <a:ext cx="6481800" cy="5416560"/>
              <a:chOff x="1266840" y="1052640"/>
              <a:chExt cx="6481800" cy="5416560"/>
            </a:xfrm>
          </p:grpSpPr>
          <p:grpSp>
            <p:nvGrpSpPr>
              <p:cNvPr id="417" name="Группа 5"/>
              <p:cNvGrpSpPr/>
              <p:nvPr/>
            </p:nvGrpSpPr>
            <p:grpSpPr>
              <a:xfrm>
                <a:off x="1266840" y="1052640"/>
                <a:ext cx="6481800" cy="5416560"/>
                <a:chOff x="1266840" y="1052640"/>
                <a:chExt cx="6481800" cy="5416560"/>
              </a:xfrm>
            </p:grpSpPr>
            <p:grpSp>
              <p:nvGrpSpPr>
                <p:cNvPr id="418" name="Группа 7"/>
                <p:cNvGrpSpPr/>
                <p:nvPr/>
              </p:nvGrpSpPr>
              <p:grpSpPr>
                <a:xfrm>
                  <a:off x="1266840" y="1052640"/>
                  <a:ext cx="6481800" cy="5416560"/>
                  <a:chOff x="1266840" y="1052640"/>
                  <a:chExt cx="6481800" cy="5416560"/>
                </a:xfrm>
              </p:grpSpPr>
              <p:pic>
                <p:nvPicPr>
                  <p:cNvPr id="419" name="Рисунок 9" descr=""/>
                  <p:cNvPicPr/>
                  <p:nvPr/>
                </p:nvPicPr>
                <p:blipFill>
                  <a:blip r:embed="rId1"/>
                  <a:srcRect l="59106" t="13172" r="6137" b="9310"/>
                  <a:stretch/>
                </p:blipFill>
                <p:spPr>
                  <a:xfrm>
                    <a:off x="1266840" y="1052640"/>
                    <a:ext cx="6481800" cy="54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20" name="Прямая соединительная линия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1560" y="5437800"/>
                    <a:ext cx="4206240" cy="15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21" name="TextBox 11"/>
                  <p:cNvSpPr/>
                  <p:nvPr/>
                </p:nvSpPr>
                <p:spPr>
                  <a:xfrm>
                    <a:off x="3026160" y="5550120"/>
                    <a:ext cx="30556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800" spc="-1" strike="noStrike">
                        <a:solidFill>
                          <a:srgbClr val="cc0000"/>
                        </a:solidFill>
                        <a:latin typeface="Century Gothic"/>
                      </a:rPr>
                      <a:t>Я есть!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Century Gothic"/>
                    </a:endParaRPr>
                  </a:p>
                </p:txBody>
              </p:sp>
            </p:grpSp>
            <p:sp>
              <p:nvSpPr>
                <p:cNvPr id="422" name="Прямоугольник 8"/>
                <p:cNvSpPr/>
                <p:nvPr/>
              </p:nvSpPr>
              <p:spPr>
                <a:xfrm>
                  <a:off x="2285280" y="4176360"/>
                  <a:ext cx="425952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002060"/>
                      </a:solidFill>
                      <a:latin typeface="Century Gothic"/>
                    </a:rPr>
                    <a:t>Я  х о р о ш и й! </a:t>
                  </a: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002060"/>
                      </a:solidFill>
                      <a:latin typeface="Century Gothic"/>
                    </a:rPr>
                    <a:t>Я любим!</a:t>
                  </a: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002060"/>
                      </a:solidFill>
                      <a:latin typeface="Century Gothic"/>
                    </a:rPr>
                    <a:t>Я могу!</a:t>
                  </a: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423" name="TextBox 6"/>
              <p:cNvSpPr/>
              <p:nvPr/>
            </p:nvSpPr>
            <p:spPr>
              <a:xfrm>
                <a:off x="1986840" y="3165120"/>
                <a:ext cx="4969440" cy="13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Century Gothic"/>
                  </a:rPr>
                  <a:t>Потребности в любви, </a:t>
                </a:r>
                <a:endParaRPr b="0" lang="en-US" sz="2000" spc="-1" strike="noStrike">
                  <a:solidFill>
                    <a:srgbClr val="000000"/>
                  </a:solidFill>
                  <a:latin typeface="Century Gothic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Century Gothic"/>
                  </a:rPr>
                  <a:t>понимании, признании, сочувствии, </a:t>
                </a:r>
                <a:endParaRPr b="0" lang="en-US" sz="2000" spc="-1" strike="noStrike">
                  <a:solidFill>
                    <a:srgbClr val="000000"/>
                  </a:solidFill>
                  <a:latin typeface="Century Gothic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Century Gothic"/>
                  </a:rPr>
                  <a:t>уважении, внимании</a:t>
                </a:r>
                <a:endParaRPr b="0" lang="en-US" sz="20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pic>
          <p:nvPicPr>
            <p:cNvPr id="424" name="Прямая соединительная линия 3" descr=""/>
            <p:cNvPicPr/>
            <p:nvPr/>
          </p:nvPicPr>
          <p:blipFill>
            <a:blip r:embed="rId3"/>
            <a:stretch/>
          </p:blipFill>
          <p:spPr>
            <a:xfrm>
              <a:off x="1694520" y="4242960"/>
              <a:ext cx="5675400" cy="1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TextBox 4"/>
            <p:cNvSpPr/>
            <p:nvPr/>
          </p:nvSpPr>
          <p:spPr>
            <a:xfrm>
              <a:off x="3257640" y="2173680"/>
              <a:ext cx="259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Century Gothic"/>
                </a:rPr>
                <a:t>Боль</a:t>
              </a:r>
              <a:endParaRPr b="0" lang="en-US" sz="2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Century Gothic"/>
                </a:rPr>
                <a:t>Страх</a:t>
              </a:r>
              <a:endParaRPr b="0" lang="en-US" sz="2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Century Gothic"/>
                </a:rPr>
                <a:t>Обида</a:t>
              </a:r>
              <a:endParaRPr b="0" lang="en-US" sz="2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pic>
        <p:nvPicPr>
          <p:cNvPr id="426" name="Прямая соединительная линия 13" descr=""/>
          <p:cNvPicPr/>
          <p:nvPr/>
        </p:nvPicPr>
        <p:blipFill>
          <a:blip r:embed="rId4"/>
          <a:stretch/>
        </p:blipFill>
        <p:spPr>
          <a:xfrm>
            <a:off x="2401920" y="3181320"/>
            <a:ext cx="4206960" cy="152280"/>
          </a:xfrm>
          <a:prstGeom prst="rect">
            <a:avLst/>
          </a:prstGeom>
          <a:ln w="0">
            <a:noFill/>
          </a:ln>
        </p:spPr>
      </p:pic>
      <p:pic>
        <p:nvPicPr>
          <p:cNvPr id="427" name="Прямая соединительная линия 16" descr=""/>
          <p:cNvPicPr/>
          <p:nvPr/>
        </p:nvPicPr>
        <p:blipFill>
          <a:blip r:embed="rId5"/>
          <a:stretch/>
        </p:blipFill>
        <p:spPr>
          <a:xfrm>
            <a:off x="3206880" y="2163600"/>
            <a:ext cx="2724120" cy="152640"/>
          </a:xfrm>
          <a:prstGeom prst="rect">
            <a:avLst/>
          </a:prstGeom>
          <a:ln w="0">
            <a:noFill/>
          </a:ln>
        </p:spPr>
      </p:pic>
      <p:sp>
        <p:nvSpPr>
          <p:cNvPr id="428" name="TextBox 17"/>
          <p:cNvSpPr/>
          <p:nvPr/>
        </p:nvSpPr>
        <p:spPr>
          <a:xfrm>
            <a:off x="3238560" y="1163520"/>
            <a:ext cx="246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Century Gothic"/>
              </a:rPr>
              <a:t>Гнев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Century Gothic"/>
              </a:rPr>
              <a:t>Агрессия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Century Gothic"/>
              </a:rPr>
              <a:t>Злоба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9" name="Прямоугольник 15"/>
          <p:cNvSpPr/>
          <p:nvPr/>
        </p:nvSpPr>
        <p:spPr>
          <a:xfrm>
            <a:off x="4849920" y="184320"/>
            <a:ext cx="26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Кувшин эмоций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0" name="TextBox 12"/>
          <p:cNvSpPr/>
          <p:nvPr/>
        </p:nvSpPr>
        <p:spPr>
          <a:xfrm>
            <a:off x="539640" y="765000"/>
            <a:ext cx="19306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Century Gothic"/>
              </a:rPr>
              <a:t>Активно слушать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Century Gothic"/>
              </a:rPr>
              <a:t>Слышать потребности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Century Gothic"/>
              </a:rPr>
              <a:t>Безусловно принимать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31" name="Рисунок 14" descr=""/>
          <p:cNvPicPr/>
          <p:nvPr/>
        </p:nvPicPr>
        <p:blipFill>
          <a:blip r:embed="rId6"/>
          <a:stretch/>
        </p:blipFill>
        <p:spPr>
          <a:xfrm>
            <a:off x="3046320" y="5549760"/>
            <a:ext cx="687600" cy="628920"/>
          </a:xfrm>
          <a:prstGeom prst="rect">
            <a:avLst/>
          </a:prstGeom>
          <a:ln w="0">
            <a:noFill/>
          </a:ln>
        </p:spPr>
      </p:pic>
      <p:sp>
        <p:nvSpPr>
          <p:cNvPr id="432" name="TextBox 18"/>
          <p:cNvSpPr/>
          <p:nvPr/>
        </p:nvSpPr>
        <p:spPr>
          <a:xfrm>
            <a:off x="2478240" y="701640"/>
            <a:ext cx="42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Негативное поведение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33" name="Прямая соединительная линия 20" descr=""/>
          <p:cNvPicPr/>
          <p:nvPr/>
        </p:nvPicPr>
        <p:blipFill>
          <a:blip r:embed="rId7"/>
          <a:stretch/>
        </p:blipFill>
        <p:spPr>
          <a:xfrm>
            <a:off x="1695600" y="3376440"/>
            <a:ext cx="5327640" cy="9036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  <p:sndAc>
      <p:stSnd>
        <p:snd r:embed="rId8" name="camera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04480" y="234900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6600"/>
                </a:solidFill>
                <a:latin typeface="Century Gothic"/>
              </a:rPr>
              <a:t>«Стратегии семейного воспитания»</a:t>
            </a:r>
            <a:br>
              <a:rPr sz="4000"/>
            </a:b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5" name="TextBox 3"/>
          <p:cNvSpPr/>
          <p:nvPr/>
        </p:nvSpPr>
        <p:spPr>
          <a:xfrm>
            <a:off x="4745160" y="14436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Методика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checker dir="vert"/>
    <p:sndAc>
      <p:stSnd>
        <p:snd r:embed="rId1" name="camera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22120" y="136188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Calibri"/>
                <a:ea typeface="Times New Roman"/>
              </a:rPr>
              <a:t>Обработка и интерпретация результатов</a:t>
            </a:r>
            <a:br>
              <a:rPr sz="4800"/>
            </a:b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539640" y="1916280"/>
          <a:ext cx="8064720" cy="4655880"/>
        </p:xfrm>
        <a:graphic>
          <a:graphicData uri="http://schemas.openxmlformats.org/drawingml/2006/table">
            <a:tbl>
              <a:tblPr/>
              <a:tblGrid>
                <a:gridCol w="2657520"/>
                <a:gridCol w="798480"/>
                <a:gridCol w="505080"/>
                <a:gridCol w="502920"/>
                <a:gridCol w="538200"/>
                <a:gridCol w="540000"/>
                <a:gridCol w="538200"/>
                <a:gridCol w="441000"/>
                <a:gridCol w="439920"/>
                <a:gridCol w="579240"/>
                <a:gridCol w="524160"/>
              </a:tblGrid>
              <a:tr h="721800">
                <a:tc>
                  <a:txBody>
                    <a:bodyPr lIns="10080" rIns="10080" tIns="10080" bIns="10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 gridSpan="10">
                  <a:txBody>
                    <a:bodyPr lIns="10080" rIns="10080" tIns="10080" bIns="10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Номера вопро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7320">
                <a:tc>
                  <a:txBody>
                    <a:bodyPr lIns="10080" rIns="10080" tIns="10080" bIns="10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Стиль повед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a6300"/>
                    </a:solidFill>
                  </a:tcPr>
                </a:tc>
                <a:tc>
                  <a:txBody>
                    <a:bodyPr lIns="10080" rIns="10080" tIns="10080" bIns="10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a6300"/>
                    </a:solidFill>
                  </a:tcPr>
                </a:tc>
                <a:tc>
                  <a:txBody>
                    <a:bodyPr lIns="10080" rIns="10080" tIns="10080" bIns="10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a6300"/>
                    </a:solidFill>
                  </a:tcPr>
                </a:tc>
                <a:tc>
                  <a:txBody>
                    <a:bodyPr lIns="10080" rIns="10080" tIns="10080" bIns="10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a6300"/>
                    </a:solidFill>
                  </a:tcPr>
                </a:tc>
                <a:tc>
                  <a:txBody>
                    <a:bodyPr lIns="10080" rIns="10080" tIns="10080" bIns="10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a6300"/>
                    </a:solidFill>
                  </a:tcPr>
                </a:tc>
                <a:tc>
                  <a:txBody>
                    <a:bodyPr lIns="10080" rIns="10080" tIns="10080" bIns="10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a6300"/>
                    </a:solidFill>
                  </a:tcPr>
                </a:tc>
                <a:tc>
                  <a:txBody>
                    <a:bodyPr lIns="10080" rIns="10080" tIns="10080" bIns="10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a6300"/>
                    </a:solidFill>
                  </a:tcPr>
                </a:tc>
                <a:tc>
                  <a:txBody>
                    <a:bodyPr lIns="10080" rIns="10080" tIns="10080" bIns="10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a6300"/>
                    </a:solidFill>
                  </a:tcPr>
                </a:tc>
                <a:tc>
                  <a:txBody>
                    <a:bodyPr lIns="10080" rIns="10080" tIns="10080" bIns="10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a6300"/>
                    </a:solidFill>
                  </a:tcPr>
                </a:tc>
                <a:tc>
                  <a:txBody>
                    <a:bodyPr lIns="10080" rIns="10080" tIns="10080" bIns="10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a6300"/>
                    </a:solidFill>
                  </a:tcPr>
                </a:tc>
                <a:tc>
                  <a:txBody>
                    <a:bodyPr lIns="10080" rIns="10080" tIns="10080" bIns="10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a6300"/>
                    </a:solidFill>
                  </a:tcPr>
                </a:tc>
              </a:tr>
              <a:tr h="787320">
                <a:tc>
                  <a:txBody>
                    <a:bodyPr lIns="10080" rIns="10080" tIns="10080" bIns="10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авторитет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10080" rIns="10080" tIns="10080" bIns="10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10080" rIns="10080" tIns="10080" bIns="10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10080" rIns="10080" tIns="10080" bIns="10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10080" rIns="10080" tIns="10080" bIns="10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10080" rIns="10080" tIns="10080" bIns="10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10080" rIns="10080" tIns="10080" bIns="10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10080" rIns="10080" tIns="10080" bIns="10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10080" rIns="10080" tIns="10080" bIns="10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10080" rIns="10080" tIns="10080" bIns="10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10080" rIns="10080" tIns="10080" bIns="10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787320">
                <a:tc>
                  <a:txBody>
                    <a:bodyPr lIns="10080" rIns="10080" tIns="10080" bIns="10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авторитар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10080" rIns="10080" tIns="10080" bIns="10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10080" rIns="10080" tIns="10080" bIns="10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10080" rIns="10080" tIns="10080" bIns="10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10080" rIns="10080" tIns="10080" bIns="10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10080" rIns="10080" tIns="10080" bIns="10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10080" rIns="10080" tIns="10080" bIns="10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10080" rIns="10080" tIns="10080" bIns="10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10080" rIns="10080" tIns="10080" bIns="10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10080" rIns="10080" tIns="10080" bIns="10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10080" rIns="10080" tIns="10080" bIns="10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785880">
                <a:tc>
                  <a:txBody>
                    <a:bodyPr lIns="10080" rIns="10080" tIns="10080" bIns="10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либераль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10080" rIns="10080" tIns="10080" bIns="10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10080" rIns="10080" tIns="10080" bIns="10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10080" rIns="10080" tIns="10080" bIns="10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10080" rIns="10080" tIns="10080" bIns="10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10080" rIns="10080" tIns="10080" bIns="10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10080" rIns="10080" tIns="10080" bIns="10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10080" rIns="10080" tIns="10080" bIns="10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10080" rIns="10080" tIns="10080" bIns="10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10080" rIns="10080" tIns="10080" bIns="10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10080" rIns="10080" tIns="10080" bIns="10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786240">
                <a:tc>
                  <a:txBody>
                    <a:bodyPr lIns="10080" rIns="10080" tIns="10080" bIns="10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индифферент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10080" rIns="10080" tIns="10080" bIns="10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10080" rIns="10080" tIns="10080" bIns="10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10080" rIns="10080" tIns="10080" bIns="10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10080" rIns="10080" tIns="10080" bIns="10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10080" rIns="10080" tIns="10080" bIns="10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10080" rIns="10080" tIns="10080" bIns="10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10080" rIns="10080" tIns="10080" bIns="10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10080" rIns="10080" tIns="10080" bIns="10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10080" rIns="10080" tIns="10080" bIns="10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10080" rIns="10080" tIns="10080" bIns="10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</a:tbl>
          </a:graphicData>
        </a:graphic>
      </p:graphicFrame>
      <p:sp>
        <p:nvSpPr>
          <p:cNvPr id="438" name="Rectangle 1"/>
          <p:cNvSpPr/>
          <p:nvPr/>
        </p:nvSpPr>
        <p:spPr>
          <a:xfrm>
            <a:off x="1149480" y="232092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9" name="TextBox 5"/>
          <p:cNvSpPr/>
          <p:nvPr/>
        </p:nvSpPr>
        <p:spPr>
          <a:xfrm>
            <a:off x="4745160" y="14436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Методика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checker dir="vert"/>
    <p:sndAc>
      <p:stSnd>
        <p:snd r:embed="rId1" name="camera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Прямоугольник 3"/>
          <p:cNvSpPr/>
          <p:nvPr/>
        </p:nvSpPr>
        <p:spPr>
          <a:xfrm>
            <a:off x="512640" y="692280"/>
            <a:ext cx="8136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Century Gothic"/>
              </a:rPr>
              <a:t>Авторитетный стиль 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(в терминологии других авторов — «демократический»). Вы осознаете свою важную роль в становлении личности ребенка, но и за ним самим признаете право на саморазвитие. Трезво понимаете, какие требования необходимо диктовать, какие обсуждать. В разумных пределах готовы пересматривать свои позиции. Родители поощряют личную ответственность и самостоятельность своих детей в соответствии с их возрастными возможностями.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Прямоугольник 4"/>
          <p:cNvSpPr/>
          <p:nvPr/>
        </p:nvSpPr>
        <p:spPr>
          <a:xfrm>
            <a:off x="512640" y="3562200"/>
            <a:ext cx="8136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Century Gothic"/>
              </a:rPr>
              <a:t>Авторитарный стиль.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Вы хорошо представляете, каким должен вырасти ваш ребенок, и прилагаете к этому максимум усилий. В своих требованиях вы, вероятно, очень категоричны и неуступчивы. Неудивительно, что ребенку порой неуютно под вашим контролем. Родители с таким стилем воспитания ограничивают самостоятельность ребенка, не считают нужным как-то обосновывать свои требования, сопровождая их жестким контролем, суровыми запретами, выговорами и физическими наказаниями.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2" name="TextBox 5"/>
          <p:cNvSpPr/>
          <p:nvPr/>
        </p:nvSpPr>
        <p:spPr>
          <a:xfrm>
            <a:off x="4745160" y="14436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Интерпретация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checker dir="vert"/>
    <p:sndAc>
      <p:stSnd>
        <p:snd r:embed="rId1" name="camera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Прямоугольник 3"/>
          <p:cNvSpPr/>
          <p:nvPr/>
        </p:nvSpPr>
        <p:spPr>
          <a:xfrm>
            <a:off x="468360" y="765000"/>
            <a:ext cx="82072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Century Gothic"/>
              </a:rPr>
              <a:t>Либеральный стиль .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Вы высоко цените своего ребенка, считаете простительными его слабости. Легко общаетесь с ним, доверяете ему, не склонны к запретам и ограничениям. Однако стоит задуматься: по плечу ли ребенку такая свобода? Становясь более взрослыми, такие подростки конфликтуют с теми, кто не потакает им, не способны учитывать интересы других людей, устанавливать прочные эмоциональные связи, не готовы к ограничениям и ответственности. С другой стороны, воспринимая недостаток руководства со стороны родителей как проявление равнодушия и эмоционального отторжения, дети чувствуют страх и неуверенность.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Century Gothic"/>
              </a:rPr>
              <a:t>Индифферентный стиль.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Проблемы воспитания не являются для вас первостепенными, поскольку у вас иных забот немало. Свои проблемы ребенку в основном приходится решать самому. А ведь он вправе рассчитывать на большее участие и поддержку с вашей стороны!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4" name="TextBox 4"/>
          <p:cNvSpPr/>
          <p:nvPr/>
        </p:nvSpPr>
        <p:spPr>
          <a:xfrm>
            <a:off x="4745160" y="14436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Интерпретация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checker dir="vert"/>
    <p:sndAc>
      <p:stSnd>
        <p:snd r:embed="rId1" name="camera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55280" y="76464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a6300"/>
                </a:solidFill>
                <a:latin typeface="Century Gothic"/>
              </a:rPr>
              <a:t>Рекомендации для родителей подростков: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539640" y="1915920"/>
            <a:ext cx="8064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Arial"/>
              </a:rPr>
              <a:t>Помочь ребенку найти компромисс души и тела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Arial"/>
              </a:rPr>
              <a:t>Все замечания делать в доброжелательном , спокойном тоне, без ярлыков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Arial"/>
              </a:rPr>
              <a:t>Помните, пока развивается тело ребенка, болит и ждет помощи его душа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Arial"/>
              </a:rPr>
              <a:t>Не перегружайте ребенка опекой и контролем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Arial"/>
              </a:rPr>
              <a:t>Демонстрируйте взаимное уважение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Arial"/>
              </a:rPr>
              <a:t>Поддерживайте подростка. В отличие от награды поддержка нужна даже тогда, когда он не достигает успеха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Arial"/>
              </a:rPr>
              <a:t>Имейте мужество. Изменение в ребенке требуют практики и терпения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7" name="TextBox 3"/>
          <p:cNvSpPr/>
          <p:nvPr/>
        </p:nvSpPr>
        <p:spPr>
          <a:xfrm>
            <a:off x="4745160" y="14436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Подросток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5" descr="I4kf8duUTOE"/>
          <p:cNvPicPr/>
          <p:nvPr/>
        </p:nvPicPr>
        <p:blipFill>
          <a:blip r:embed="rId1"/>
          <a:stretch/>
        </p:blipFill>
        <p:spPr>
          <a:xfrm>
            <a:off x="468360" y="1989000"/>
            <a:ext cx="4076640" cy="4552920"/>
          </a:xfrm>
          <a:prstGeom prst="rect">
            <a:avLst/>
          </a:prstGeom>
          <a:ln w="0">
            <a:noFill/>
          </a:ln>
        </p:spPr>
      </p:pic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68000" y="907560"/>
            <a:ext cx="702468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4c600"/>
                </a:solidFill>
                <a:latin typeface="Century Gothic"/>
              </a:rPr>
              <a:t>Главным для подростка со стороны семьи является: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1692360" y="3468240"/>
            <a:ext cx="706752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lnSpc>
                <a:spcPct val="90000"/>
              </a:lnSpc>
              <a:spcBef>
                <a:spcPts val="11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3e3d2d"/>
                </a:solidFill>
                <a:latin typeface="Arial"/>
              </a:rPr>
              <a:t>Любовь</a:t>
            </a:r>
            <a:endParaRPr b="0" lang="en-US" sz="4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>
              <a:lnSpc>
                <a:spcPct val="90000"/>
              </a:lnSpc>
              <a:spcBef>
                <a:spcPts val="11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3e3d2d"/>
                </a:solidFill>
                <a:latin typeface="Arial"/>
              </a:rPr>
              <a:t>Доверие</a:t>
            </a:r>
            <a:endParaRPr b="0" lang="en-US" sz="4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>
              <a:lnSpc>
                <a:spcPct val="90000"/>
              </a:lnSpc>
              <a:spcBef>
                <a:spcPts val="11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3e3d2d"/>
                </a:solidFill>
                <a:latin typeface="Arial"/>
              </a:rPr>
              <a:t>Понимание</a:t>
            </a:r>
            <a:endParaRPr b="0" lang="en-US" sz="4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>
              <a:lnSpc>
                <a:spcPct val="90000"/>
              </a:lnSpc>
              <a:spcBef>
                <a:spcPts val="11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3e3d2d"/>
                </a:solidFill>
                <a:latin typeface="Arial"/>
              </a:rPr>
              <a:t>Поддержка</a:t>
            </a:r>
            <a:endParaRPr b="0" lang="en-US" sz="4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51" name="TextBox 5"/>
          <p:cNvSpPr/>
          <p:nvPr/>
        </p:nvSpPr>
        <p:spPr>
          <a:xfrm>
            <a:off x="4745160" y="14436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Подросток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52" name="Рисунок 6" descr=""/>
          <p:cNvPicPr/>
          <p:nvPr/>
        </p:nvPicPr>
        <p:blipFill>
          <a:blip r:embed="rId2"/>
          <a:stretch/>
        </p:blipFill>
        <p:spPr>
          <a:xfrm>
            <a:off x="6156360" y="1663560"/>
            <a:ext cx="2448000" cy="180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Century Gothic"/>
              </a:rPr>
              <a:t>Что изменилось?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9" name="Объект 3" descr=""/>
          <p:cNvPicPr/>
          <p:nvPr/>
        </p:nvPicPr>
        <p:blipFill>
          <a:blip r:embed="rId1"/>
          <a:stretch/>
        </p:blipFill>
        <p:spPr>
          <a:xfrm>
            <a:off x="2249640" y="2516040"/>
            <a:ext cx="4362120" cy="3124440"/>
          </a:xfrm>
          <a:prstGeom prst="rect">
            <a:avLst/>
          </a:prstGeom>
          <a:ln w="0">
            <a:noFill/>
          </a:ln>
        </p:spPr>
      </p:pic>
      <p:sp>
        <p:nvSpPr>
          <p:cNvPr id="340" name="TextBox 4"/>
          <p:cNvSpPr/>
          <p:nvPr/>
        </p:nvSpPr>
        <p:spPr>
          <a:xfrm>
            <a:off x="4745160" y="14436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Подросток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checker dir="vert"/>
    <p:sndAc>
      <p:stSnd>
        <p:snd r:embed="rId2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96440" y="691920"/>
            <a:ext cx="4248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cc0000"/>
                </a:solidFill>
                <a:latin typeface="Century Gothic"/>
              </a:rPr>
              <a:t>Младший подростковый возраст   </a:t>
            </a:r>
            <a:br>
              <a:rPr sz="2500"/>
            </a:br>
            <a:endParaRPr b="0" lang="en-US" sz="25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593640" y="1844640"/>
            <a:ext cx="46087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a6300"/>
                </a:solidFill>
                <a:latin typeface="Century Gothic"/>
              </a:rPr>
              <a:t>Меняется поведение подростка, его эмоциональные реакции и мировоззрение в целом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a6300"/>
                </a:solidFill>
                <a:latin typeface="Century Gothic"/>
              </a:rPr>
              <a:t>Протекает трудно и для ребенка, и для близких ему взрослых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a6300"/>
                </a:solidFill>
                <a:latin typeface="Century Gothic"/>
              </a:rPr>
              <a:t>Подростковый возраст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a6300"/>
                </a:solidFill>
                <a:latin typeface="Century Gothic"/>
              </a:rPr>
              <a:t>называют затянувшимся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a6300"/>
                </a:solidFill>
                <a:latin typeface="Century Gothic"/>
              </a:rPr>
              <a:t>кризисом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3" name="TextBox 4"/>
          <p:cNvSpPr/>
          <p:nvPr/>
        </p:nvSpPr>
        <p:spPr>
          <a:xfrm>
            <a:off x="4745160" y="14436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Подросток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4" name="Прямоугольник 6"/>
          <p:cNvSpPr/>
          <p:nvPr/>
        </p:nvSpPr>
        <p:spPr>
          <a:xfrm>
            <a:off x="5353200" y="4076640"/>
            <a:ext cx="3311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a6300"/>
                </a:solidFill>
                <a:latin typeface="Century Gothic"/>
              </a:rPr>
              <a:t>Взросление - чертовски трудная штука. Гораздо легче перейти из одного детства в другое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a6300"/>
                </a:solidFill>
                <a:latin typeface="Century Gothic"/>
              </a:rPr>
              <a:t>Френсис Скотт Фицджеральд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45" name="Рисунок 2" descr=""/>
          <p:cNvPicPr/>
          <p:nvPr/>
        </p:nvPicPr>
        <p:blipFill>
          <a:blip r:embed="rId1"/>
          <a:stretch/>
        </p:blipFill>
        <p:spPr>
          <a:xfrm>
            <a:off x="5353200" y="1052640"/>
            <a:ext cx="3281040" cy="26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42920" y="115920"/>
            <a:ext cx="34578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Кризис подросткового возраста</a:t>
            </a:r>
            <a:endParaRPr b="0" lang="en-US" sz="2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55640" y="836280"/>
            <a:ext cx="7618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99"/>
              </a:spcBef>
              <a:buClr>
                <a:srgbClr val="94c600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f9500"/>
                </a:solidFill>
                <a:latin typeface="Century Gothic"/>
              </a:rPr>
              <a:t>Кризис</a:t>
            </a:r>
            <a:r>
              <a:rPr b="0" lang="ru-RU" sz="3200" spc="-1" strike="noStrike">
                <a:solidFill>
                  <a:srgbClr val="3e3d2d"/>
                </a:solidFill>
                <a:latin typeface="Century Gothic"/>
              </a:rPr>
              <a:t> -опасность (риск) и возможность.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99"/>
              </a:spcBef>
              <a:buClr>
                <a:srgbClr val="94c600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f9500"/>
                </a:solidFill>
                <a:latin typeface="Century Gothic"/>
              </a:rPr>
              <a:t>Опасность </a:t>
            </a:r>
            <a:r>
              <a:rPr b="0" lang="ru-RU" sz="3200" spc="-1" strike="noStrike">
                <a:solidFill>
                  <a:srgbClr val="3e3d2d"/>
                </a:solidFill>
                <a:latin typeface="Century Gothic"/>
              </a:rPr>
              <a:t>— не пройти этот кризис, этот период, но, пройдя его, для человека открывается дверь к новым </a:t>
            </a:r>
            <a:r>
              <a:rPr b="1" lang="ru-RU" sz="3200" spc="-1" strike="noStrike">
                <a:solidFill>
                  <a:srgbClr val="6f9500"/>
                </a:solidFill>
                <a:latin typeface="Century Gothic"/>
              </a:rPr>
              <a:t>возможностям</a:t>
            </a:r>
            <a:r>
              <a:rPr b="0" lang="ru-RU" sz="3200" spc="-1" strike="noStrike">
                <a:solidFill>
                  <a:srgbClr val="3e3d2d"/>
                </a:solidFill>
                <a:latin typeface="Century Gothic"/>
              </a:rPr>
              <a:t>, новым путям. 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394920" y="765000"/>
            <a:ext cx="8280360" cy="575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7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e3d2d"/>
                </a:solidFill>
                <a:latin typeface="Arial"/>
              </a:rPr>
              <a:t>безапелляционные суждения в отношении окружающих; 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7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e3d2d"/>
                </a:solidFill>
                <a:latin typeface="Arial"/>
              </a:rPr>
              <a:t>двойственность, внимательность порой уживается с поразительной черствостью, болезненная застенчивость с развязностью;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7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e3d2d"/>
                </a:solidFill>
                <a:latin typeface="Arial"/>
              </a:rPr>
              <a:t>эмоциональная неустойчивость и резкие колебания настроения;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7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c0000"/>
                </a:solidFill>
                <a:latin typeface="Arial"/>
              </a:rPr>
              <a:t>чувство взрослости;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7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e3d2d"/>
                </a:solidFill>
                <a:latin typeface="Arial"/>
              </a:rPr>
              <a:t>внутренний мир;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7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e3d2d"/>
                </a:solidFill>
                <a:latin typeface="Arial"/>
              </a:rPr>
              <a:t>общение со 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e3d2d"/>
                </a:solidFill>
                <a:latin typeface="Arial"/>
              </a:rPr>
              <a:t>сверстниками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9" name="TextBox 5"/>
          <p:cNvSpPr/>
          <p:nvPr/>
        </p:nvSpPr>
        <p:spPr>
          <a:xfrm>
            <a:off x="4745160" y="14436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Подросток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50" name="Рисунок 2" descr=""/>
          <p:cNvPicPr/>
          <p:nvPr/>
        </p:nvPicPr>
        <p:blipFill>
          <a:blip r:embed="rId1"/>
          <a:stretch/>
        </p:blipFill>
        <p:spPr>
          <a:xfrm>
            <a:off x="5148360" y="4149720"/>
            <a:ext cx="3552840" cy="23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Прямоугольник 1"/>
          <p:cNvSpPr/>
          <p:nvPr/>
        </p:nvSpPr>
        <p:spPr>
          <a:xfrm>
            <a:off x="539640" y="83664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6300"/>
                </a:solidFill>
                <a:latin typeface="Century Gothic"/>
              </a:rPr>
              <a:t>Основные задачи подросткового возраста: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2" name="Прямоугольник 2"/>
          <p:cNvSpPr/>
          <p:nvPr/>
        </p:nvSpPr>
        <p:spPr>
          <a:xfrm>
            <a:off x="826920" y="1914480"/>
            <a:ext cx="6985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4a6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6300"/>
                </a:solidFill>
                <a:latin typeface="Century Gothic"/>
              </a:rPr>
              <a:t>быть самостоятельным;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buClr>
                <a:srgbClr val="4a6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6300"/>
                </a:solidFill>
                <a:latin typeface="Century Gothic"/>
              </a:rPr>
              <a:t> </a:t>
            </a:r>
            <a:r>
              <a:rPr b="0" lang="ru-RU" sz="3200" spc="-1" strike="noStrike">
                <a:solidFill>
                  <a:srgbClr val="4a6300"/>
                </a:solidFill>
                <a:latin typeface="Century Gothic"/>
              </a:rPr>
              <a:t>уметь принимать решения;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buClr>
                <a:srgbClr val="4a6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6300"/>
                </a:solidFill>
                <a:latin typeface="Century Gothic"/>
              </a:rPr>
              <a:t>отстаивать свою точку зрения;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buClr>
                <a:srgbClr val="4a6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6300"/>
                </a:solidFill>
                <a:latin typeface="Century Gothic"/>
              </a:rPr>
              <a:t> </a:t>
            </a:r>
            <a:r>
              <a:rPr b="0" lang="ru-RU" sz="3200" spc="-1" strike="noStrike">
                <a:solidFill>
                  <a:srgbClr val="4a6300"/>
                </a:solidFill>
                <a:latin typeface="Century Gothic"/>
              </a:rPr>
              <a:t>осознавать последствия своих поступков, нести за них ответственность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3" name="TextBox 3"/>
          <p:cNvSpPr/>
          <p:nvPr/>
        </p:nvSpPr>
        <p:spPr>
          <a:xfrm>
            <a:off x="4745160" y="14436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Подросток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26560" y="4759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Century Gothic"/>
              </a:rPr>
              <a:t>Кувшин эмоций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55" name="Объект 3" descr=""/>
          <p:cNvPicPr/>
          <p:nvPr/>
        </p:nvPicPr>
        <p:blipFill>
          <a:blip r:embed="rId1"/>
          <a:stretch/>
        </p:blipFill>
        <p:spPr>
          <a:xfrm>
            <a:off x="2411280" y="1644480"/>
            <a:ext cx="4025880" cy="4880160"/>
          </a:xfrm>
          <a:prstGeom prst="rect">
            <a:avLst/>
          </a:prstGeom>
          <a:ln w="0">
            <a:noFill/>
          </a:ln>
        </p:spPr>
      </p:pic>
      <p:sp>
        <p:nvSpPr>
          <p:cNvPr id="356" name="TextBox 3"/>
          <p:cNvSpPr/>
          <p:nvPr/>
        </p:nvSpPr>
        <p:spPr>
          <a:xfrm>
            <a:off x="4745160" y="14436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Подросток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checker dir="vert"/>
    <p:sndAc>
      <p:stSnd>
        <p:snd r:embed="rId2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Рисунок 9" descr=""/>
          <p:cNvPicPr/>
          <p:nvPr/>
        </p:nvPicPr>
        <p:blipFill>
          <a:blip r:embed="rId1"/>
          <a:srcRect l="59106" t="13172" r="6137" b="9310"/>
          <a:stretch/>
        </p:blipFill>
        <p:spPr>
          <a:xfrm>
            <a:off x="1266840" y="1052640"/>
            <a:ext cx="6481800" cy="5416560"/>
          </a:xfrm>
          <a:prstGeom prst="rect">
            <a:avLst/>
          </a:prstGeom>
          <a:ln w="0">
            <a:noFill/>
          </a:ln>
        </p:spPr>
      </p:pic>
      <p:pic>
        <p:nvPicPr>
          <p:cNvPr id="358" name="Прямая соединительная линия 16" descr=""/>
          <p:cNvPicPr/>
          <p:nvPr/>
        </p:nvPicPr>
        <p:blipFill>
          <a:blip r:embed="rId2"/>
          <a:stretch/>
        </p:blipFill>
        <p:spPr>
          <a:xfrm>
            <a:off x="3206880" y="2163600"/>
            <a:ext cx="2724120" cy="152640"/>
          </a:xfrm>
          <a:prstGeom prst="rect">
            <a:avLst/>
          </a:prstGeom>
          <a:ln w="0">
            <a:noFill/>
          </a:ln>
        </p:spPr>
      </p:pic>
      <p:sp>
        <p:nvSpPr>
          <p:cNvPr id="359" name="TextBox 17"/>
          <p:cNvSpPr/>
          <p:nvPr/>
        </p:nvSpPr>
        <p:spPr>
          <a:xfrm>
            <a:off x="3238560" y="1163520"/>
            <a:ext cx="246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Century Gothic"/>
              </a:rPr>
              <a:t>Гнев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Century Gothic"/>
              </a:rPr>
              <a:t>Агрессия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Century Gothic"/>
              </a:rPr>
              <a:t>Злоба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0" name="Прямоугольник 12"/>
          <p:cNvSpPr/>
          <p:nvPr/>
        </p:nvSpPr>
        <p:spPr>
          <a:xfrm>
            <a:off x="4849920" y="184320"/>
            <a:ext cx="26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Кувшин эмоций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1" name="TextBox 14"/>
          <p:cNvSpPr/>
          <p:nvPr/>
        </p:nvSpPr>
        <p:spPr>
          <a:xfrm>
            <a:off x="539640" y="55404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крик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2" name="TextBox 15"/>
          <p:cNvSpPr/>
          <p:nvPr/>
        </p:nvSpPr>
        <p:spPr>
          <a:xfrm>
            <a:off x="1727280" y="46188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истерика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3" name="TextBox 18"/>
          <p:cNvSpPr/>
          <p:nvPr/>
        </p:nvSpPr>
        <p:spPr>
          <a:xfrm>
            <a:off x="6732720" y="733320"/>
            <a:ext cx="216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Негативное поведение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checker dir="vert"/>
    <p:sndAc>
      <p:stSnd>
        <p:snd r:embed="rId3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Рисунок 9" descr=""/>
          <p:cNvPicPr/>
          <p:nvPr/>
        </p:nvPicPr>
        <p:blipFill>
          <a:blip r:embed="rId1"/>
          <a:srcRect l="59106" t="13172" r="6137" b="9310"/>
          <a:stretch/>
        </p:blipFill>
        <p:spPr>
          <a:xfrm>
            <a:off x="1266840" y="1052640"/>
            <a:ext cx="6481800" cy="5416560"/>
          </a:xfrm>
          <a:prstGeom prst="rect">
            <a:avLst/>
          </a:prstGeom>
          <a:ln w="0">
            <a:noFill/>
          </a:ln>
        </p:spPr>
      </p:pic>
      <p:sp>
        <p:nvSpPr>
          <p:cNvPr id="365" name="TextBox 4"/>
          <p:cNvSpPr/>
          <p:nvPr/>
        </p:nvSpPr>
        <p:spPr>
          <a:xfrm>
            <a:off x="3257640" y="2173320"/>
            <a:ext cx="259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Боль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Страх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Обида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66" name="Прямая соединительная линия 13" descr=""/>
          <p:cNvPicPr/>
          <p:nvPr/>
        </p:nvPicPr>
        <p:blipFill>
          <a:blip r:embed="rId2"/>
          <a:stretch/>
        </p:blipFill>
        <p:spPr>
          <a:xfrm>
            <a:off x="2779560" y="3176640"/>
            <a:ext cx="3517920" cy="152280"/>
          </a:xfrm>
          <a:prstGeom prst="rect">
            <a:avLst/>
          </a:prstGeom>
          <a:ln w="0">
            <a:noFill/>
          </a:ln>
        </p:spPr>
      </p:pic>
      <p:pic>
        <p:nvPicPr>
          <p:cNvPr id="367" name="Прямая соединительная линия 16" descr=""/>
          <p:cNvPicPr/>
          <p:nvPr/>
        </p:nvPicPr>
        <p:blipFill>
          <a:blip r:embed="rId3"/>
          <a:stretch/>
        </p:blipFill>
        <p:spPr>
          <a:xfrm>
            <a:off x="3206880" y="2163600"/>
            <a:ext cx="2724120" cy="152640"/>
          </a:xfrm>
          <a:prstGeom prst="rect">
            <a:avLst/>
          </a:prstGeom>
          <a:ln w="0">
            <a:noFill/>
          </a:ln>
        </p:spPr>
      </p:pic>
      <p:sp>
        <p:nvSpPr>
          <p:cNvPr id="368" name="TextBox 17"/>
          <p:cNvSpPr/>
          <p:nvPr/>
        </p:nvSpPr>
        <p:spPr>
          <a:xfrm>
            <a:off x="3238560" y="1163520"/>
            <a:ext cx="246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Century Gothic"/>
              </a:rPr>
              <a:t>Гнев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Century Gothic"/>
              </a:rPr>
              <a:t>Агрессия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Century Gothic"/>
              </a:rPr>
              <a:t>Злоба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9" name="Прямоугольник 18"/>
          <p:cNvSpPr/>
          <p:nvPr/>
        </p:nvSpPr>
        <p:spPr>
          <a:xfrm>
            <a:off x="4849920" y="184320"/>
            <a:ext cx="26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Кувшин эмоций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checker dir="vert"/>
    <p:sndAc>
      <p:stSnd>
        <p:snd r:embed="rId4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9T16:05:48Z</dcterms:created>
  <dc:creator>Ольга</dc:creator>
  <dc:description/>
  <dc:language>en-US</dc:language>
  <cp:lastModifiedBy>ППМС</cp:lastModifiedBy>
  <dcterms:modified xsi:type="dcterms:W3CDTF">2016-12-03T08:41:18Z</dcterms:modified>
  <cp:revision>58</cp:revision>
  <dc:subject/>
  <dc:title>Слайд 1</dc:title>
</cp:coreProperties>
</file>