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1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13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4D08-0968-41A5-B263-8C2007CC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8F2F-9D5C-49CD-AADF-3B980C8A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ECF6-0668-4288-B378-FD9C2D13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3911-0639-4650-927E-B763DECB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561E-6B70-41A9-BD27-DE4F6C5A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ED39-516D-4BA0-98F3-DF0ED679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5068-0A64-48AF-B7CA-A026BECC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66CC-0979-4819-ACED-CA10FDEB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0DBB-1BE0-4D97-B9DA-85415697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2A54-5287-4DA4-BFD7-E0A0C55F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86E7-0EB9-45C6-8F2E-01CEB480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2310-8D73-4749-8B96-92567EBD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B8B8-AC31-4363-8FFA-A649F8CC5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009999"/>
                </a:solidFill>
                <a:latin typeface="Times New Roman"/>
              </a:rPr>
              <a:t>САН</a:t>
            </a:r>
            <a:br>
              <a:rPr sz="4800"/>
            </a:br>
            <a:r>
              <a:rPr b="1" lang="tt-RU" sz="3200" spc="-1" strike="noStrike">
                <a:solidFill>
                  <a:srgbClr val="000000"/>
                </a:solidFill>
                <a:latin typeface="Times New Roman"/>
              </a:rPr>
              <a:t>(6 сыйныф татар төркемендә</a:t>
            </a:r>
            <a:br>
              <a:rPr sz="3200"/>
            </a:br>
            <a:r>
              <a:rPr b="1" lang="tt-RU" sz="3200" spc="-1" strike="noStrike">
                <a:solidFill>
                  <a:srgbClr val="000000"/>
                </a:solidFill>
                <a:latin typeface="Times New Roman"/>
              </a:rPr>
              <a:t>гомумиләштереп кабатлау дәрес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J0236227"/>
          <p:cNvPicPr/>
          <p:nvPr/>
        </p:nvPicPr>
        <p:blipFill>
          <a:blip r:embed="rId2"/>
          <a:stretch/>
        </p:blipFill>
        <p:spPr>
          <a:xfrm>
            <a:off x="6858000" y="228600"/>
            <a:ext cx="17496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Сезгә миннән  шул теләк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333399"/>
                </a:solidFill>
                <a:latin typeface="Times New Roman"/>
              </a:rPr>
              <a:t>Көн дә зарядка ясагыз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333399"/>
                </a:solidFill>
                <a:latin typeface="Times New Roman"/>
              </a:rPr>
              <a:t>Булырсыз сау-сәламә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111"/>
          <p:cNvPicPr/>
          <p:nvPr/>
        </p:nvPicPr>
        <p:blipFill>
          <a:blip r:embed="rId2"/>
          <a:stretch/>
        </p:blipFill>
        <p:spPr>
          <a:xfrm>
            <a:off x="5181480" y="304920"/>
            <a:ext cx="3560760" cy="350496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20" name="Picture 7" descr="ТРЕНЕР"/>
          <p:cNvPicPr/>
          <p:nvPr/>
        </p:nvPicPr>
        <p:blipFill>
          <a:blip r:embed="rId3"/>
          <a:stretch/>
        </p:blipFill>
        <p:spPr>
          <a:xfrm>
            <a:off x="380880" y="4114800"/>
            <a:ext cx="3505320" cy="25383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21" name="Picture 11" descr="6297~1"/>
          <p:cNvPicPr/>
          <p:nvPr/>
        </p:nvPicPr>
        <p:blipFill>
          <a:blip r:embed="rId4"/>
          <a:stretch/>
        </p:blipFill>
        <p:spPr>
          <a:xfrm>
            <a:off x="4495680" y="4419720"/>
            <a:ext cx="4419720" cy="19810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22" name="Picture 12" descr=""/>
          <p:cNvPicPr/>
          <p:nvPr/>
        </p:nvPicPr>
        <p:blipFill>
          <a:blip r:embed="rId5"/>
          <a:srcRect l="1940" t="0" r="0" b="0"/>
          <a:stretch/>
        </p:blipFill>
        <p:spPr>
          <a:xfrm>
            <a:off x="533520" y="304920"/>
            <a:ext cx="373356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2892240" cy="3047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248520" y="2819520"/>
            <a:ext cx="2571480" cy="3886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3886200" y="874800"/>
            <a:ext cx="4952880" cy="1465560"/>
          </a:xfrm>
          <a:prstGeom prst="rect">
            <a:avLst/>
          </a:prstGeom>
          <a:solidFill>
            <a:srgbClr val="bbe0e3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ТКАЗАНГАН  СПОРТ  МАСТЕ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ЛИМПИЯ  ЧЕМПИ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ДОР   СИМАШ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1447920" y="-56160"/>
            <a:ext cx="707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Федор</a:t>
            </a:r>
            <a:r>
              <a:rPr b="0" lang="ru-RU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Петрович </a:t>
            </a:r>
            <a:r>
              <a:rPr b="0" lang="ru-RU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Симаш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0880" y="914400"/>
          <a:ext cx="8382240" cy="5732640"/>
        </p:xfrm>
        <a:graphic>
          <a:graphicData uri="http://schemas.openxmlformats.org/drawingml/2006/table">
            <a:tbl>
              <a:tblPr/>
              <a:tblGrid>
                <a:gridCol w="1905120"/>
                <a:gridCol w="6477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1945 елның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13 нче мар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әй районы Югары Баграж авылында туг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1962 – 1990 нчы  елл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мәртәбә Советлар Союзы чемпи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1969 нчы 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өнья чемпионатында алтын һәм бронза медальләре яул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1969 нчы 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ословакиядәге Биек Татр тауларында үткәрелгән ярышларда дөнья чемпи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ССРның атказанган спорт мастер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1972 нче 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ышкы Олимпия уеннарында алтын һәм көмеш медаль алг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1976 нчы 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өнья чемпионатында көмеш медаль яул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1991 нче 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мАЗның Зәйдәге автоагрегат заводында физик тәрбия буенча директор урынбасар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4771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cc00cc"/>
                </a:solidFill>
                <a:latin typeface="Times New Roman"/>
              </a:rPr>
              <a:t>Т Е С Т</a:t>
            </a:r>
            <a:r>
              <a:rPr b="0" lang="tt-RU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2280"/>
            <a:ext cx="7772400" cy="6477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t-RU" sz="2000" spc="-1" strike="noStrike">
                <a:solidFill>
                  <a:srgbClr val="333399"/>
                </a:solidFill>
                <a:latin typeface="Times New Roman"/>
              </a:rPr>
              <a:t>1.   Санн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а)  предметның исәбен, санын;       б)  предметның эше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cc00cc"/>
                </a:solidFill>
                <a:latin typeface="Times New Roman"/>
              </a:rPr>
              <a:t>         </a:t>
            </a:r>
            <a:r>
              <a:rPr b="0" lang="tt-RU" sz="2000" spc="-1" strike="noStrike">
                <a:solidFill>
                  <a:srgbClr val="cc00cc"/>
                </a:solidFill>
                <a:latin typeface="Times New Roman"/>
              </a:rPr>
              <a:t>в)  предметның билгесен белдер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tt-RU" sz="2000" spc="-1" strike="noStrike">
                <a:solidFill>
                  <a:srgbClr val="333399"/>
                </a:solidFill>
                <a:latin typeface="Times New Roman"/>
              </a:rPr>
              <a:t>2.   Сан ачыклаган ис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а)  аныкланмыш;              б)  сыйфатланмыш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cc00cc"/>
                </a:solidFill>
                <a:latin typeface="Times New Roman"/>
              </a:rPr>
              <a:t>         </a:t>
            </a:r>
            <a:r>
              <a:rPr b="0" lang="tt-RU" sz="2000" spc="-1" strike="noStrike">
                <a:solidFill>
                  <a:srgbClr val="cc00cc"/>
                </a:solidFill>
                <a:latin typeface="Times New Roman"/>
              </a:rPr>
              <a:t>в)  саналмыш дип а</a:t>
            </a:r>
            <a:r>
              <a:rPr b="0" lang="ru-RU" sz="2000" spc="-1" strike="noStrike">
                <a:solidFill>
                  <a:srgbClr val="cc00cc"/>
                </a:solidFill>
                <a:latin typeface="Times New Roman"/>
              </a:rPr>
              <a:t>т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333399"/>
                </a:solidFill>
                <a:latin typeface="Times New Roman"/>
              </a:rPr>
              <a:t>3.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ан төркемчәлә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а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өч;    </a:t>
            </a: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б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үрт;     </a:t>
            </a:r>
            <a:r>
              <a:rPr b="0" lang="tt-RU" sz="2000" spc="-1" strike="noStrike">
                <a:solidFill>
                  <a:srgbClr val="cc00cc"/>
                </a:solidFill>
                <a:latin typeface="Times New Roman"/>
              </a:rPr>
              <a:t>в)  </a:t>
            </a:r>
            <a:r>
              <a:rPr b="0" lang="ru-RU" sz="2000" spc="-1" strike="noStrike">
                <a:solidFill>
                  <a:srgbClr val="cc00cc"/>
                </a:solidFill>
                <a:latin typeface="Times New Roman"/>
              </a:rPr>
              <a:t>би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4.  Җыю саннарын билгеләге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а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рау, игәү,</a:t>
            </a: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рау;    </a:t>
            </a: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б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у, дәү, ба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cc00cc"/>
                </a:solidFill>
                <a:latin typeface="Times New Roman"/>
              </a:rPr>
              <a:t>       </a:t>
            </a:r>
            <a:r>
              <a:rPr b="0" lang="tt-RU" sz="2000" spc="-1" strike="noStrike">
                <a:solidFill>
                  <a:srgbClr val="cc00cc"/>
                </a:solidFill>
                <a:latin typeface="Times New Roman"/>
              </a:rPr>
              <a:t>в)  </a:t>
            </a:r>
            <a:r>
              <a:rPr b="0" lang="ru-RU" sz="2000" spc="-1" strike="noStrike">
                <a:solidFill>
                  <a:srgbClr val="cc00cc"/>
                </a:solidFill>
                <a:latin typeface="Times New Roman"/>
              </a:rPr>
              <a:t>алтау, җидәү, тугыза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333399"/>
                </a:solidFill>
                <a:latin typeface="Times New Roman"/>
              </a:rPr>
              <a:t>5.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Бүлем саннарын билгеләге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cc00cc"/>
                </a:solidFill>
                <a:latin typeface="Times New Roman"/>
              </a:rPr>
              <a:t>      </a:t>
            </a:r>
            <a:r>
              <a:rPr b="0" lang="tt-RU" sz="2000" spc="-1" strike="noStrike">
                <a:solidFill>
                  <a:srgbClr val="cc00cc"/>
                </a:solidFill>
                <a:latin typeface="Times New Roman"/>
              </a:rPr>
              <a:t>а)  </a:t>
            </a:r>
            <a:r>
              <a:rPr b="0" lang="ru-RU" sz="2000" spc="-1" strike="noStrike">
                <a:solidFill>
                  <a:srgbClr val="cc00cc"/>
                </a:solidFill>
                <a:latin typeface="Times New Roman"/>
              </a:rPr>
              <a:t>алтышар, җидешәр, унар;     </a:t>
            </a: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б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тышыр, җиңәр, уңа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в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шар, җитешер, уңдыры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333399"/>
                </a:solidFill>
                <a:latin typeface="Times New Roman"/>
              </a:rPr>
              <a:t>6.  Кайсы төркемгә бер сан «ялгыш» кергән?</a:t>
            </a: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а)   тәртип саннары:   </a:t>
            </a:r>
            <a:r>
              <a:rPr b="0" i="1" lang="tt-RU" sz="2000" spc="-1" strike="noStrike">
                <a:solidFill>
                  <a:srgbClr val="000000"/>
                </a:solidFill>
                <a:latin typeface="Times New Roman"/>
              </a:rPr>
              <a:t>беренче,   унынчы,  өченче;</a:t>
            </a: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б)  бүлем саннары:    </a:t>
            </a:r>
            <a:r>
              <a:rPr b="0" i="1" lang="tt-RU" sz="2000" spc="-1" strike="noStrike">
                <a:solidFill>
                  <a:srgbClr val="000000"/>
                </a:solidFill>
                <a:latin typeface="Times New Roman"/>
              </a:rPr>
              <a:t>өчәр,  алтышар,  утызар;</a:t>
            </a: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cc00cc"/>
                </a:solidFill>
                <a:latin typeface="Times New Roman"/>
              </a:rPr>
              <a:t>     </a:t>
            </a:r>
            <a:r>
              <a:rPr b="0" lang="tt-RU" sz="2000" spc="-1" strike="noStrike">
                <a:solidFill>
                  <a:srgbClr val="cc00cc"/>
                </a:solidFill>
                <a:latin typeface="Times New Roman"/>
              </a:rPr>
              <a:t>в)   чама саннары:    </a:t>
            </a:r>
            <a:r>
              <a:rPr b="0" i="1" lang="tt-RU" sz="2000" spc="-1" strike="noStrike">
                <a:solidFill>
                  <a:srgbClr val="cc00cc"/>
                </a:solidFill>
                <a:latin typeface="Times New Roman"/>
              </a:rPr>
              <a:t>унлап,  ике-өч,  ал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4920" y="2057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Нинди сүз төркеме сан дип атала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Саннар  нинди  төркемчәләргә бүленәләр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Organization Chart 9"/>
          <p:cNvGrpSpPr/>
          <p:nvPr/>
        </p:nvGrpSpPr>
        <p:grpSpPr>
          <a:xfrm>
            <a:off x="228600" y="228600"/>
            <a:ext cx="8686440" cy="5879880"/>
            <a:chOff x="228600" y="228600"/>
            <a:chExt cx="8686440" cy="5879880"/>
          </a:xfrm>
        </p:grpSpPr>
        <p:cxnSp>
          <p:nvCxnSpPr>
            <p:cNvPr id="46" name="_s1028"/>
            <p:cNvCxnSpPr>
              <a:stCxn id="47" idx="0"/>
              <a:endCxn id="48" idx="2"/>
            </p:cNvCxnSpPr>
            <p:nvPr/>
          </p:nvCxnSpPr>
          <p:spPr>
            <a:xfrm flipH="1" flipV="1" rot="5400000">
              <a:off x="3089880" y="2273760"/>
              <a:ext cx="1176480" cy="1789200"/>
            </a:xfrm>
            <a:prstGeom prst="bentConnector3">
              <a:avLst>
                <a:gd name="adj1" fmla="val 127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1029"/>
            <p:cNvCxnSpPr>
              <a:stCxn id="50" idx="0"/>
              <a:endCxn id="48" idx="2"/>
            </p:cNvCxnSpPr>
            <p:nvPr/>
          </p:nvCxnSpPr>
          <p:spPr>
            <a:xfrm flipV="1">
              <a:off x="4572720" y="2580120"/>
              <a:ext cx="2160" cy="117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1030"/>
            <p:cNvCxnSpPr>
              <a:stCxn id="52" idx="0"/>
              <a:endCxn id="48" idx="2"/>
            </p:cNvCxnSpPr>
            <p:nvPr/>
          </p:nvCxnSpPr>
          <p:spPr>
            <a:xfrm flipV="1" rot="16200000">
              <a:off x="5772240" y="1379880"/>
              <a:ext cx="1176480" cy="3576600"/>
            </a:xfrm>
            <a:prstGeom prst="bentConnector3">
              <a:avLst>
                <a:gd name="adj1" fmla="val 127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31"/>
            <p:cNvCxnSpPr>
              <a:stCxn id="54" idx="0"/>
              <a:endCxn id="48" idx="2"/>
            </p:cNvCxnSpPr>
            <p:nvPr/>
          </p:nvCxnSpPr>
          <p:spPr>
            <a:xfrm flipV="1" rot="16200000">
              <a:off x="4878000" y="2274120"/>
              <a:ext cx="1176480" cy="1787760"/>
            </a:xfrm>
            <a:prstGeom prst="bentConnector3">
              <a:avLst>
                <a:gd name="adj1" fmla="val 127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1032"/>
            <p:cNvCxnSpPr>
              <a:stCxn id="56" idx="0"/>
              <a:endCxn id="48" idx="2"/>
            </p:cNvCxnSpPr>
            <p:nvPr/>
          </p:nvCxnSpPr>
          <p:spPr>
            <a:xfrm flipH="1" flipV="1" rot="5400000">
              <a:off x="2195280" y="1379160"/>
              <a:ext cx="1176480" cy="3578040"/>
            </a:xfrm>
            <a:prstGeom prst="bentConnector3">
              <a:avLst>
                <a:gd name="adj1" fmla="val 127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8" name="_s1033"/>
            <p:cNvSpPr/>
            <p:nvPr/>
          </p:nvSpPr>
          <p:spPr>
            <a:xfrm>
              <a:off x="3804480" y="228600"/>
              <a:ext cx="1533240" cy="2351880"/>
            </a:xfrm>
            <a:custGeom>
              <a:avLst/>
              <a:gdLst>
                <a:gd name="textAreaLeft" fmla="*/ 74520 w 1533240"/>
                <a:gd name="textAreaRight" fmla="*/ 1458720 w 1533240"/>
                <a:gd name="textAreaTop" fmla="*/ 74520 h 2351880"/>
                <a:gd name="textAreaBottom" fmla="*/ 2277360 h 2351880"/>
              </a:gdLst>
              <a:ahLst/>
              <a:rect l="textAreaLeft" t="textAreaTop" r="textAreaRight" b="textAreaBottom"/>
              <a:pathLst>
                <a:path w="21600" h="33130">
                  <a:moveTo>
                    <a:pt x="3600" y="0"/>
                  </a:moveTo>
                  <a:arcTo wR="3600" hR="3600" stAng="16200000" swAng="-5400000"/>
                  <a:lnTo>
                    <a:pt x="0" y="29530"/>
                  </a:lnTo>
                  <a:arcTo wR="3600" hR="3600" stAng="10800000" swAng="-5400000"/>
                  <a:lnTo>
                    <a:pt x="18000" y="331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13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tt-RU" sz="3600" spc="-1" strike="noStrike">
                  <a:solidFill>
                    <a:srgbClr val="cc00cc"/>
                  </a:solidFill>
                  <a:latin typeface="Times New Roman"/>
                </a:rPr>
                <a:t>Сан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3600" spc="-1" strike="noStrike">
                  <a:solidFill>
                    <a:srgbClr val="cc00cc"/>
                  </a:solidFill>
                  <a:latin typeface="Times New Roman"/>
                </a:rPr>
                <a:t>төркем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3600" spc="-1" strike="noStrike">
                  <a:solidFill>
                    <a:srgbClr val="cc00cc"/>
                  </a:solidFill>
                  <a:latin typeface="Times New Roman"/>
                </a:rPr>
                <a:t>чәләр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4"/>
            <p:cNvSpPr/>
            <p:nvPr/>
          </p:nvSpPr>
          <p:spPr>
            <a:xfrm>
              <a:off x="228600" y="3756600"/>
              <a:ext cx="1533240" cy="2351880"/>
            </a:xfrm>
            <a:custGeom>
              <a:avLst/>
              <a:gdLst>
                <a:gd name="textAreaLeft" fmla="*/ 74520 w 1533240"/>
                <a:gd name="textAreaRight" fmla="*/ 1458720 w 1533240"/>
                <a:gd name="textAreaTop" fmla="*/ 74520 h 2351880"/>
                <a:gd name="textAreaBottom" fmla="*/ 2277360 h 2351880"/>
              </a:gdLst>
              <a:ahLst/>
              <a:rect l="textAreaLeft" t="textAreaTop" r="textAreaRight" b="textAreaBottom"/>
              <a:pathLst>
                <a:path w="21600" h="33130">
                  <a:moveTo>
                    <a:pt x="3600" y="0"/>
                  </a:moveTo>
                  <a:arcTo wR="3600" hR="3600" stAng="16200000" swAng="-5400000"/>
                  <a:lnTo>
                    <a:pt x="0" y="29530"/>
                  </a:lnTo>
                  <a:arcTo wR="3600" hR="3600" stAng="10800000" swAng="-5400000"/>
                  <a:lnTo>
                    <a:pt x="18000" y="331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000" spc="-1" strike="noStrike">
                  <a:solidFill>
                    <a:srgbClr val="333399"/>
                  </a:solidFill>
                  <a:latin typeface="Times New Roman"/>
                </a:rPr>
                <a:t>МИКЪДА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5"/>
            <p:cNvSpPr/>
            <p:nvPr/>
          </p:nvSpPr>
          <p:spPr>
            <a:xfrm>
              <a:off x="5593320" y="3756600"/>
              <a:ext cx="1533240" cy="2351880"/>
            </a:xfrm>
            <a:custGeom>
              <a:avLst/>
              <a:gdLst>
                <a:gd name="textAreaLeft" fmla="*/ 74520 w 1533240"/>
                <a:gd name="textAreaRight" fmla="*/ 1458720 w 1533240"/>
                <a:gd name="textAreaTop" fmla="*/ 74520 h 2351880"/>
                <a:gd name="textAreaBottom" fmla="*/ 2277360 h 2351880"/>
              </a:gdLst>
              <a:ahLst/>
              <a:rect l="textAreaLeft" t="textAreaTop" r="textAreaRight" b="textAreaBottom"/>
              <a:pathLst>
                <a:path w="21600" h="33130">
                  <a:moveTo>
                    <a:pt x="3600" y="0"/>
                  </a:moveTo>
                  <a:arcTo wR="3600" hR="3600" stAng="16200000" swAng="-5400000"/>
                  <a:lnTo>
                    <a:pt x="0" y="29530"/>
                  </a:lnTo>
                  <a:arcTo wR="3600" hR="3600" stAng="10800000" swAng="-5400000"/>
                  <a:lnTo>
                    <a:pt x="18000" y="331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000" spc="-1" strike="noStrike">
                  <a:solidFill>
                    <a:srgbClr val="333399"/>
                  </a:solidFill>
                  <a:latin typeface="Times New Roman"/>
                </a:rPr>
                <a:t>ЧАМ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6"/>
            <p:cNvSpPr/>
            <p:nvPr/>
          </p:nvSpPr>
          <p:spPr>
            <a:xfrm>
              <a:off x="7381800" y="3756600"/>
              <a:ext cx="1533240" cy="2351880"/>
            </a:xfrm>
            <a:custGeom>
              <a:avLst/>
              <a:gdLst>
                <a:gd name="textAreaLeft" fmla="*/ 74520 w 1533240"/>
                <a:gd name="textAreaRight" fmla="*/ 1458720 w 1533240"/>
                <a:gd name="textAreaTop" fmla="*/ 74520 h 2351880"/>
                <a:gd name="textAreaBottom" fmla="*/ 2277360 h 2351880"/>
              </a:gdLst>
              <a:ahLst/>
              <a:rect l="textAreaLeft" t="textAreaTop" r="textAreaRight" b="textAreaBottom"/>
              <a:pathLst>
                <a:path w="21600" h="33130">
                  <a:moveTo>
                    <a:pt x="3600" y="0"/>
                  </a:moveTo>
                  <a:arcTo wR="3600" hR="3600" stAng="16200000" swAng="-5400000"/>
                  <a:lnTo>
                    <a:pt x="0" y="29530"/>
                  </a:lnTo>
                  <a:arcTo wR="3600" hR="3600" stAng="10800000" swAng="-5400000"/>
                  <a:lnTo>
                    <a:pt x="18000" y="331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000" spc="-1" strike="noStrike">
                  <a:solidFill>
                    <a:srgbClr val="333399"/>
                  </a:solidFill>
                  <a:latin typeface="Times New Roman"/>
                </a:rPr>
                <a:t>ҖЫ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37"/>
            <p:cNvSpPr/>
            <p:nvPr/>
          </p:nvSpPr>
          <p:spPr>
            <a:xfrm>
              <a:off x="3804480" y="3756600"/>
              <a:ext cx="1533240" cy="2351880"/>
            </a:xfrm>
            <a:custGeom>
              <a:avLst/>
              <a:gdLst>
                <a:gd name="textAreaLeft" fmla="*/ 74520 w 1533240"/>
                <a:gd name="textAreaRight" fmla="*/ 1458720 w 1533240"/>
                <a:gd name="textAreaTop" fmla="*/ 74520 h 2351880"/>
                <a:gd name="textAreaBottom" fmla="*/ 2277360 h 2351880"/>
              </a:gdLst>
              <a:ahLst/>
              <a:rect l="textAreaLeft" t="textAreaTop" r="textAreaRight" b="textAreaBottom"/>
              <a:pathLst>
                <a:path w="21600" h="33130">
                  <a:moveTo>
                    <a:pt x="3600" y="0"/>
                  </a:moveTo>
                  <a:arcTo wR="3600" hR="3600" stAng="16200000" swAng="-5400000"/>
                  <a:lnTo>
                    <a:pt x="0" y="29530"/>
                  </a:lnTo>
                  <a:arcTo wR="3600" hR="3600" stAng="10800000" swAng="-5400000"/>
                  <a:lnTo>
                    <a:pt x="18000" y="331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000" spc="-1" strike="noStrike">
                  <a:solidFill>
                    <a:srgbClr val="333399"/>
                  </a:solidFill>
                  <a:latin typeface="Times New Roman"/>
                </a:rPr>
                <a:t>БҮЛ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38"/>
            <p:cNvSpPr/>
            <p:nvPr/>
          </p:nvSpPr>
          <p:spPr>
            <a:xfrm>
              <a:off x="2017080" y="3756600"/>
              <a:ext cx="1531440" cy="2351880"/>
            </a:xfrm>
            <a:custGeom>
              <a:avLst/>
              <a:gdLst>
                <a:gd name="textAreaLeft" fmla="*/ 74520 w 1531440"/>
                <a:gd name="textAreaRight" fmla="*/ 1456920 w 1531440"/>
                <a:gd name="textAreaTop" fmla="*/ 74520 h 2351880"/>
                <a:gd name="textAreaBottom" fmla="*/ 2277360 h 2351880"/>
              </a:gdLst>
              <a:ahLst/>
              <a:rect l="textAreaLeft" t="textAreaTop" r="textAreaRight" b="textAreaBottom"/>
              <a:pathLst>
                <a:path w="21600" h="33169">
                  <a:moveTo>
                    <a:pt x="3600" y="0"/>
                  </a:moveTo>
                  <a:arcTo wR="3600" hR="3600" stAng="16200000" swAng="-5400000"/>
                  <a:lnTo>
                    <a:pt x="0" y="29569"/>
                  </a:lnTo>
                  <a:arcTo wR="3600" hR="3600" stAng="10800000" swAng="-5400000"/>
                  <a:lnTo>
                    <a:pt x="18000" y="331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ТӘРТИ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2"/>
          <p:cNvSpPr/>
          <p:nvPr/>
        </p:nvSpPr>
        <p:spPr>
          <a:xfrm>
            <a:off x="324000" y="404640"/>
            <a:ext cx="1150920" cy="1081440"/>
          </a:xfrm>
          <a:prstGeom prst="ellipse">
            <a:avLst/>
          </a:prstGeom>
          <a:gradFill rotWithShape="0">
            <a:gsLst>
              <a:gs pos="0">
                <a:srgbClr val="eb1d5d"/>
              </a:gs>
              <a:gs pos="100000">
                <a:srgbClr val="6d0d2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7308720" y="5229360"/>
            <a:ext cx="1008360" cy="1008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8m5"/>
          <p:cNvPicPr/>
          <p:nvPr/>
        </p:nvPicPr>
        <p:blipFill>
          <a:blip r:embed="rId2"/>
          <a:stretch/>
        </p:blipFill>
        <p:spPr>
          <a:xfrm>
            <a:off x="1476360" y="1413000"/>
            <a:ext cx="2016000" cy="21603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5"/>
          <p:cNvSpPr/>
          <p:nvPr/>
        </p:nvSpPr>
        <p:spPr>
          <a:xfrm>
            <a:off x="7020000" y="333360"/>
            <a:ext cx="158436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d298a"/>
              </a:gs>
              <a:gs pos="100000">
                <a:srgbClr val="5013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324000" y="4797360"/>
            <a:ext cx="1438200" cy="1584360"/>
          </a:xfrm>
          <a:prstGeom prst="diamond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mb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031E-006 L 0.74827 -0.00532 E">
                                      <p:cBhvr>
                                        <p:cTn id="4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0532 L 0.00018 0.67137 E">
                                      <p:cBhvr>
                                        <p:cTn id="4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2613 L -0.7165 -0.03654 E">
                                      <p:cBhvr>
                                        <p:cTn id="52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00648E-006 L -0.00799 -0.65565 E">
                                      <p:cBhvr>
                                        <p:cTn id="5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ubPieSlice"/>
          <p:cNvSpPr/>
          <p:nvPr/>
        </p:nvSpPr>
        <p:spPr>
          <a:xfrm>
            <a:off x="1547640" y="404640"/>
            <a:ext cx="6912000" cy="61930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4632480" y="3247920"/>
            <a:ext cx="72072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li10_2"/>
          <p:cNvPicPr/>
          <p:nvPr/>
        </p:nvPicPr>
        <p:blipFill>
          <a:blip r:embed="rId3"/>
          <a:stretch/>
        </p:blipFill>
        <p:spPr>
          <a:xfrm>
            <a:off x="1685880" y="3429000"/>
            <a:ext cx="6734160" cy="9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5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67 -0.03191 C 0.346 -0.28931 0.17222 -0.48335 -0.02691 -0.45953 C -0.21771 -0.43871 -0.37639 -0.23473 -0.36042 0.01688 C -0.34809 0.25 -0.20104 0.43872 -0.02257 0.41952 C 0.14097 0.40079 0.27968 0.22711 0.2684 0.00971 C 0.25729 -0.18802 0.13298 -0.3506 -0.01927 -0.33603 C -0.15868 -0.31984 -0.275 -0.17599 -0.26424 0.00717 C -0.25608 0.17137 -0.15538 0.30921 -0.0316 0.29232 C 0.08246 0.28099 0.17934 0.17045 0.17274 0.02105 C 0.16389 -0.10985 0.08628 -0.22317 -0.01198 -0.21022 C -0.09757 -0.20282 -0.17587 -0.11702 -0.16962 -0.003 C -0.16459 0.09228 -0.10973 0.17507 -0.03785 0.16929 C 0.02135 0.16397 0.07916 0.10939 0.07343 0.0333 C 0.07205 -0.02937 0.03854 -0.09066 -0.00417 -0.0895 C -0.03941 -0.08256 -0.0724 -0.06036 -0.07448 -0.01572 C -0.07379 0.01342 -0.06372 0.0377 -0.04601 0.0444 C -0.03525 0.04764 -0.03125 0.04464 -0.02223 0.04117 E">
                                      <p:cBhvr>
                                        <p:cTn id="74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2"/>
          <p:cNvSpPr/>
          <p:nvPr/>
        </p:nvSpPr>
        <p:spPr>
          <a:xfrm>
            <a:off x="7518240" y="5533920"/>
            <a:ext cx="1203480" cy="1022400"/>
          </a:xfrm>
          <a:prstGeom prst="ellipse">
            <a:avLst/>
          </a:prstGeom>
          <a:solidFill>
            <a:srgbClr val="e03c82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 flipV="1">
            <a:off x="297000" y="6264000"/>
            <a:ext cx="8596080" cy="903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297000" y="5543640"/>
            <a:ext cx="85500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297000" y="4824360"/>
            <a:ext cx="8550000" cy="44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250920" y="4103640"/>
            <a:ext cx="8642160" cy="46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297000" y="338472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297000" y="266400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 flipV="1">
            <a:off x="250920" y="1942920"/>
            <a:ext cx="8686800" cy="45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 flipV="1">
            <a:off x="297000" y="122364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1"/>
          <p:cNvSpPr/>
          <p:nvPr/>
        </p:nvSpPr>
        <p:spPr>
          <a:xfrm flipV="1">
            <a:off x="341280" y="549000"/>
            <a:ext cx="850572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3"/>
          <p:cNvSpPr/>
          <p:nvPr/>
        </p:nvSpPr>
        <p:spPr>
          <a:xfrm>
            <a:off x="905040" y="0"/>
            <a:ext cx="8856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1685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24066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31291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7"/>
          <p:cNvSpPr/>
          <p:nvPr/>
        </p:nvSpPr>
        <p:spPr>
          <a:xfrm>
            <a:off x="38498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9"/>
          <p:cNvSpPr/>
          <p:nvPr/>
        </p:nvSpPr>
        <p:spPr>
          <a:xfrm>
            <a:off x="5234040" y="0"/>
            <a:ext cx="6012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0"/>
          <p:cNvSpPr/>
          <p:nvPr/>
        </p:nvSpPr>
        <p:spPr>
          <a:xfrm>
            <a:off x="6014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1"/>
          <p:cNvSpPr/>
          <p:nvPr/>
        </p:nvSpPr>
        <p:spPr>
          <a:xfrm>
            <a:off x="67374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2"/>
          <p:cNvSpPr/>
          <p:nvPr/>
        </p:nvSpPr>
        <p:spPr>
          <a:xfrm>
            <a:off x="74581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3"/>
          <p:cNvSpPr/>
          <p:nvPr/>
        </p:nvSpPr>
        <p:spPr>
          <a:xfrm>
            <a:off x="8120160" y="0"/>
            <a:ext cx="11880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4"/>
          <p:cNvSpPr/>
          <p:nvPr/>
        </p:nvSpPr>
        <p:spPr>
          <a:xfrm>
            <a:off x="8901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5"/>
          <p:cNvSpPr/>
          <p:nvPr/>
        </p:nvSpPr>
        <p:spPr>
          <a:xfrm>
            <a:off x="603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6"/>
          <p:cNvSpPr/>
          <p:nvPr/>
        </p:nvSpPr>
        <p:spPr>
          <a:xfrm>
            <a:off x="303120" y="5894280"/>
            <a:ext cx="85978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7"/>
          <p:cNvSpPr/>
          <p:nvPr/>
        </p:nvSpPr>
        <p:spPr>
          <a:xfrm>
            <a:off x="13255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8"/>
          <p:cNvSpPr/>
          <p:nvPr/>
        </p:nvSpPr>
        <p:spPr>
          <a:xfrm>
            <a:off x="70977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9"/>
          <p:cNvSpPr/>
          <p:nvPr/>
        </p:nvSpPr>
        <p:spPr>
          <a:xfrm>
            <a:off x="20462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0"/>
          <p:cNvSpPr/>
          <p:nvPr/>
        </p:nvSpPr>
        <p:spPr>
          <a:xfrm>
            <a:off x="27687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1"/>
          <p:cNvSpPr/>
          <p:nvPr/>
        </p:nvSpPr>
        <p:spPr>
          <a:xfrm flipH="1">
            <a:off x="342900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2"/>
          <p:cNvSpPr/>
          <p:nvPr/>
        </p:nvSpPr>
        <p:spPr>
          <a:xfrm>
            <a:off x="41511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3"/>
          <p:cNvSpPr/>
          <p:nvPr/>
        </p:nvSpPr>
        <p:spPr>
          <a:xfrm>
            <a:off x="4871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4"/>
          <p:cNvSpPr/>
          <p:nvPr/>
        </p:nvSpPr>
        <p:spPr>
          <a:xfrm flipV="1">
            <a:off x="243000" y="5232240"/>
            <a:ext cx="859788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5"/>
          <p:cNvSpPr/>
          <p:nvPr/>
        </p:nvSpPr>
        <p:spPr>
          <a:xfrm>
            <a:off x="243000" y="4451400"/>
            <a:ext cx="865800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6"/>
          <p:cNvSpPr/>
          <p:nvPr/>
        </p:nvSpPr>
        <p:spPr>
          <a:xfrm>
            <a:off x="250920" y="3716280"/>
            <a:ext cx="865800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7"/>
          <p:cNvSpPr/>
          <p:nvPr/>
        </p:nvSpPr>
        <p:spPr>
          <a:xfrm>
            <a:off x="243000" y="3008160"/>
            <a:ext cx="865800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8"/>
          <p:cNvSpPr/>
          <p:nvPr/>
        </p:nvSpPr>
        <p:spPr>
          <a:xfrm flipV="1">
            <a:off x="250920" y="2276280"/>
            <a:ext cx="865800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9"/>
          <p:cNvSpPr/>
          <p:nvPr/>
        </p:nvSpPr>
        <p:spPr>
          <a:xfrm flipV="1">
            <a:off x="250920" y="1557360"/>
            <a:ext cx="8742240" cy="71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0"/>
          <p:cNvSpPr/>
          <p:nvPr/>
        </p:nvSpPr>
        <p:spPr>
          <a:xfrm flipV="1">
            <a:off x="303120" y="842760"/>
            <a:ext cx="859788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1"/>
          <p:cNvSpPr/>
          <p:nvPr/>
        </p:nvSpPr>
        <p:spPr>
          <a:xfrm flipV="1">
            <a:off x="243000" y="242640"/>
            <a:ext cx="8658000" cy="586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2"/>
          <p:cNvSpPr/>
          <p:nvPr/>
        </p:nvSpPr>
        <p:spPr>
          <a:xfrm>
            <a:off x="56545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3"/>
          <p:cNvSpPr/>
          <p:nvPr/>
        </p:nvSpPr>
        <p:spPr>
          <a:xfrm>
            <a:off x="637524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44"/>
          <p:cNvSpPr/>
          <p:nvPr/>
        </p:nvSpPr>
        <p:spPr>
          <a:xfrm>
            <a:off x="775800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5"/>
          <p:cNvSpPr/>
          <p:nvPr/>
        </p:nvSpPr>
        <p:spPr>
          <a:xfrm>
            <a:off x="854064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10916E-006 L -0.78264 -0.784 E">
                                      <p:cBhvr>
                                        <p:cTn id="8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-0.784 L -0.78264 0.0481 E">
                                      <p:cBhvr>
                                        <p:cTn id="84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0.06563 -0.80157 E">
                                      <p:cBhvr>
                                        <p:cTn id="88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81 -0.80157 L 0.03281 -0.01318 E">
                                      <p:cBhvr>
                                        <p:cTn id="92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-0.0592 0.03931 E">
                                      <p:cBhvr>
                                        <p:cTn id="96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0.03281 -0.80157 E">
                                      <p:cBhvr>
                                        <p:cTn id="10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63 -0.80157 L -0.77604 -0.81036 E">
                                      <p:cBhvr>
                                        <p:cTn id="104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1866960" y="963720"/>
            <a:ext cx="4967280" cy="4966920"/>
            <a:chOff x="1866960" y="963720"/>
            <a:chExt cx="4967280" cy="4966920"/>
          </a:xfrm>
        </p:grpSpPr>
        <p:sp>
          <p:nvSpPr>
            <p:cNvPr id="110" name="Oval 3"/>
            <p:cNvSpPr/>
            <p:nvPr/>
          </p:nvSpPr>
          <p:spPr>
            <a:xfrm rot="16200000">
              <a:off x="5142960" y="22957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4"/>
            <p:cNvSpPr/>
            <p:nvPr/>
          </p:nvSpPr>
          <p:spPr>
            <a:xfrm rot="16200000">
              <a:off x="2550600" y="22957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5"/>
            <p:cNvSpPr/>
            <p:nvPr/>
          </p:nvSpPr>
          <p:spPr>
            <a:xfrm>
              <a:off x="3882960" y="355608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fb53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6"/>
            <p:cNvSpPr/>
            <p:nvPr/>
          </p:nvSpPr>
          <p:spPr>
            <a:xfrm>
              <a:off x="3882960" y="96372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4bfb53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7"/>
            <p:cNvSpPr/>
            <p:nvPr/>
          </p:nvSpPr>
          <p:spPr>
            <a:xfrm>
              <a:off x="3954600" y="3051000"/>
              <a:ext cx="865080" cy="8650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Oval 8"/>
          <p:cNvSpPr/>
          <p:nvPr/>
        </p:nvSpPr>
        <p:spPr>
          <a:xfrm>
            <a:off x="4282920" y="836640"/>
            <a:ext cx="287640" cy="287280"/>
          </a:xfrm>
          <a:prstGeom prst="ellipse">
            <a:avLst/>
          </a:prstGeom>
          <a:solidFill>
            <a:srgbClr val="ffff00"/>
          </a:solidFill>
          <a:ln cap="rnd" w="57240">
            <a:solidFill>
              <a:srgbClr val="cc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1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5.18519E-006 C 0.00416 -0.00092 0.01232 -0.00208 0.01666 0.00186 C 0.021 0.00579 0.02135 0.01297 0.02638 0.02408 C 0.03142 0.03519 0.04235 0.05001 0.04722 0.06853 C 0.05208 0.08704 0.05416 0.11089 0.05555 0.13519 C 0.05694 0.1595 0.05711 0.19144 0.05555 0.21482 C 0.05399 0.23797 0.05017 0.25834 0.04583 0.27593 C 0.04149 0.29353 0.0276 0.31413 0.02916 0.32038 C 0.03072 0.3264 0.04322 0.31644 0.05555 0.31297 C 0.06788 0.30927 0.08541 0.30255 0.10277 0.29978 C 0.12013 0.29746 0.14235 0.29723 0.15972 0.29792 C 0.17708 0.29908 0.19322 0.30093 0.20694 0.30533 C 0.22065 0.31019 0.23107 0.31853 0.24166 0.32593 C 0.25225 0.33334 0.26683 0.33982 0.27083 0.34978 C 0.27482 0.35973 0.271 0.37408 0.26527 0.38519 C 0.25954 0.3963 0.24722 0.40857 0.2361 0.41667 C 0.22499 0.42478 0.21406 0.42871 0.1986 0.43334 C 0.18315 0.43797 0.16024 0.44422 0.14305 0.44445 C 0.12586 0.44468 0.11128 0.43866 0.09583 0.43519 C 0.08038 0.43172 0.05954 0.42686 0.04999 0.42408 C 0.04044 0.4213 0.03906 0.41459 0.03888 0.41853 C 0.03871 0.42246 0.04531 0.43218 0.0486 0.44816 C 0.0519 0.46413 0.05711 0.49561 0.05833 0.51482 C 0.05954 0.53404 0.05572 0.54723 0.05555 0.56274 C 0.05538 0.57825 0.05885 0.58913 0.05694 0.60741 C 0.05503 0.62547 0.04999 0.65487 0.04444 0.672 C 0.03888 0.68959 0.02933 0.70232 0.0236 0.71112 C 0.01788 0.71968 0.01614 0.72292 0.00972 0.72408 C 0.00329 0.72501 -0.00747 0.72501 -0.01528 0.71829 C -0.0231 0.71181 -0.03126 0.70024 -0.03751 0.68311 C -0.04376 0.66644 -0.04983 0.63612 -0.05278 0.61644 C -0.05574 0.597 -0.05539 0.58195 -0.05556 0.56482 C -0.05574 0.54723 -0.05608 0.53033 -0.05417 0.51274 C -0.05226 0.49561 -0.04844 0.47663 -0.04445 0.46112 C -0.04046 0.44561 -0.03247 0.42894 -0.03056 0.42038 C -0.02865 0.41181 -0.03108 0.4095 -0.03334 0.40927 C -0.0356 0.40904 -0.03403 0.41297 -0.04445 0.41853 C -0.05487 0.42408 -0.07726 0.43866 -0.09584 0.4426 C -0.11442 0.44654 -0.13942 0.44353 -0.15556 0.4426 C -0.17171 0.44167 -0.17969 0.44052 -0.19306 0.43704 C -0.20643 0.43357 -0.22553 0.42802 -0.23612 0.42223 C -0.24671 0.41644 -0.25087 0.40927 -0.25695 0.40186 C -0.26303 0.39445 -0.27101 0.3882 -0.27223 0.37779 C -0.27344 0.36737 -0.27153 0.34931 -0.2639 0.33866 C -0.25626 0.32825 -0.2389 0.32084 -0.2264 0.31482 C -0.2139 0.30857 -0.20018 0.30441 -0.1889 0.30163 C -0.17761 0.29931 -0.17084 0.30001 -0.15834 0.29978 C -0.14584 0.29954 -0.12553 0.29954 -0.1139 0.29978 C -0.10226 0.30001 -0.09844 0.29908 -0.0889 0.30163 C -0.07935 0.30464 -0.06615 0.31204 -0.05695 0.31667 C -0.04775 0.32107 -0.03664 0.33218 -0.03334 0.32964 C -0.03004 0.32686 -0.03421 0.31899 -0.03751 0.30163 C -0.04081 0.28427 -0.05001 0.24538 -0.05278 0.22593 C -0.05556 0.20626 -0.05417 0.19885 -0.05417 0.18334 C -0.05417 0.16783 -0.05365 0.14885 -0.05278 0.13334 C -0.05192 0.11783 -0.05087 0.10348 -0.04862 0.09075 C -0.04636 0.07802 -0.04237 0.06691 -0.0389 0.05741 C -0.03542 0.04792 -0.03178 0.04052 -0.02778 0.03334 C -0.02379 0.02616 -0.01858 0.01922 -0.01528 0.01482 C -0.01199 0.01042 -0.01112 0.00996 -0.00834 0.00741 C -0.00556 0.00487 -0.00417 0.00093 -6.66667E-006 5.18519E-006 Z">
                                      <p:cBhvr>
                                        <p:cTn id="113" dur="5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Ols" descr="butterfly13"/>
          <p:cNvPicPr/>
          <p:nvPr/>
        </p:nvPicPr>
        <p:blipFill>
          <a:blip r:embed="rId2"/>
          <a:stretch/>
        </p:blipFill>
        <p:spPr>
          <a:xfrm rot="20139000">
            <a:off x="1056960" y="687240"/>
            <a:ext cx="799920" cy="792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Роза открываеися"/>
          <p:cNvPicPr/>
          <p:nvPr/>
        </p:nvPicPr>
        <p:blipFill>
          <a:blip r:embed="rId3"/>
          <a:stretch/>
        </p:blipFill>
        <p:spPr>
          <a:xfrm>
            <a:off x="3708360" y="3573360"/>
            <a:ext cx="216072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 -0.08395 C 0.54931 -0.08395 0.71216 0.09945 0.71216 0.32493 C 0.71216 0.55042 0.54931 0.73427 0.35 0.73427 C 0.15018 0.73427 -0.01215 0.55042 -0.01215 0.32493 C -0.01215 0.09945 0.15018 -0.08395 0.35 -0.08395 Z">
                                      <p:cBhvr>
                                        <p:cTn id="121" dur="5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21924E-006 L 0.09444 0.57702 E">
                                      <p:cBhvr>
                                        <p:cTn id="12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7136 -0.0148 L 0.42726 0.34182 E">
                                      <p:cBhvr>
                                        <p:cTn id="133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2-04T17:54:57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