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FFF-52CB-4BC9-AEEB-62AD01F0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3BA-46E9-475F-81DB-DED36CA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090-6669-46FC-ABA9-7D8B9B46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57-2619-49C3-AA34-1083244E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DBB-F3FD-4D9E-B060-1370302B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F4B-C2D3-43D9-AF54-A988B541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E5A7-82F1-4E1D-A954-9697434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05D-96CD-404D-BD19-449EE21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FF0-496C-440B-9522-8DA0A7A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E35-4760-432A-BB79-C24476DC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6AE-7A88-4960-8536-5460787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E9D-E1FC-4CB9-B79D-503FB16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9F90-23E2-4BC8-9A6E-139685D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3DFD-B5AA-4E3A-83EE-9CEA7E8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E2B8-A731-44BA-92D1-0257FE3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E31E-559A-4B4B-9255-96B8E9FD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DC4C-8148-46C1-9454-E9B5F148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B102-FCC7-46E5-A6E4-20D0EA06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7193-EC3E-49E6-AABC-F1C90AF4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D871-11D3-4AAD-BE1A-450E728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54F4-D6CA-49D0-AAE3-C42FFD00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30AA-88DF-4D75-B9A6-2C13574A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01-B4D6-42BD-934D-934F8FE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9990-F9AD-400C-A345-0593C8EB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CFAE-086C-4992-B793-E2EEB537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F959-37E5-414D-A41F-47409CF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AB64-CFE0-4EE7-A5EB-FF0E686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B31A-8432-47E0-B07F-B2819D1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BD7C-091F-4412-90BF-DC203E7E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E9AA-F91A-490A-955B-CC77279A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E626-8A60-4BD4-AEDA-217DC2F1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A3B0-5580-4590-BB58-0D122CC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7241-0020-4FBB-AFAA-A4767B5A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02D-8B7B-4140-B38D-A7097C32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4371-6668-4AD6-B858-5389F942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E1A3-F585-490D-99E1-6A57B57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8796-1142-438F-8CFC-829FD09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DF4B-4A36-4252-844A-0583026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9DE1-9C45-4B4A-B0CC-86C2A81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1B78-A48D-41E3-A75F-59B58A5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349C-C1DF-4AE3-AA75-E29193EF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A42C-3DAB-48D7-8DDB-ABCA7E23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F306-D7E6-4F42-9DC7-BDD00D27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CEAA0-CD87-4226-B059-551746D3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9B9-1930-4B54-8B85-1FB7FCFA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83FF-DCB0-4F49-8032-80665693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A769-628F-4C82-AB0E-E7E8FF45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6535-1B88-4378-A018-B8A86CC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43BCA-5046-477A-8EC4-ABA74CC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0814-2E46-4FC8-88BE-1C5E83CC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4195-B15D-4DAD-B08C-D2580EB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2F5B-BF96-484A-BD37-DCCC01C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A84A-65A9-452E-83C3-3D9CE96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C58A-984E-458B-A61C-61A7EE5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233D-E8C8-4BEC-A34B-1006358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57F-40AB-4684-8828-E0D4AC5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2579-A082-457A-834F-7E6205F9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F3A-1777-442D-AF57-54450931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A22-554D-4999-A3C5-19DC0437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26E-E5AB-425F-929E-B06734C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AB8-9134-44D2-AFDF-4979ACD2037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F767-C19B-4C00-8C16-6278D80B7EA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8838-8FE0-44FE-8B38-9AE202A1A4E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19CF-AB26-402E-95FB-1D543D00BC1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819-AD57-4B76-8E32-9D5D424FA10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Школа молодого родителя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сихологическая подготовка к школ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5444640"/>
            <a:ext cx="81835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 развитие гибкости у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ребенку назвать как можно больше слов, обозначающих какое-либо понят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бозначающие деревья (береза, сосна, ель, дуб и т.д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бозначающие звер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бозначающие овощ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бозначающие фрук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бозначающие транспо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слова, относящиеся к искусств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на развитие мыслительных процес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йди лишнее сло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читайте ребенку серию слов. Каждая серия состоит из 4 слов; 3 слова в каждой серии являются однородными и могут быть объединены по общему для них признаку, а одно слово отличается от них и должно быть исключе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300640"/>
            <a:ext cx="81835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5444640"/>
            <a:ext cx="81835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Содержимое 6" descr="лиш.bmp"/>
          <p:cNvPicPr/>
          <p:nvPr/>
        </p:nvPicPr>
        <p:blipFill>
          <a:blip r:embed="rId1"/>
          <a:stretch/>
        </p:blipFill>
        <p:spPr>
          <a:xfrm>
            <a:off x="2340000" y="1341360"/>
            <a:ext cx="4680000" cy="38988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7"/>
          <p:cNvSpPr/>
          <p:nvPr/>
        </p:nvSpPr>
        <p:spPr>
          <a:xfrm>
            <a:off x="2050920" y="404640"/>
            <a:ext cx="54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Найди лишнее сло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Содержимое 3" descr="activexpo15-31.png"/>
          <p:cNvPicPr/>
          <p:nvPr/>
        </p:nvPicPr>
        <p:blipFill>
          <a:blip r:embed="rId1"/>
          <a:stretch/>
        </p:blipFill>
        <p:spPr>
          <a:xfrm>
            <a:off x="2340000" y="1773360"/>
            <a:ext cx="4753080" cy="3611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539640" y="549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изация пальцев рук на зонах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03280" y="530280"/>
            <a:ext cx="818352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тонкой моторики ру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 и т.д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«Лабиринт», «Соедини точк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ние и разгибание пальцев. Поочередно каждой рукой. Можно сопровождать эти действия стишк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дони лежат на столе. Задача ребенка – поочередно поднимать пальцы сразу обеих рук, начиная с мизинц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ь пальцы в кулак и вращать кисть в разных направ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те ребенку такое упражнение: быстро касаться кончиками пальцев большого пальца. В одну сторону, начиная с мизинца. В другую сторону, от указательного пальц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444640"/>
            <a:ext cx="81835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1196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ребенку два небольших шарика или грецких ореха и попросите его покатать между ладонями (пальцы прямые) в одну и в другую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попросите его перекатывать пальцами одной руки, вращая то в одну сторону, то в другу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5444640"/>
            <a:ext cx="81835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826920" y="476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тонкой моторики р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Содержимое 3" descr="руки.bmp"/>
          <p:cNvPicPr/>
          <p:nvPr/>
        </p:nvPicPr>
        <p:blipFill>
          <a:blip r:embed="rId1"/>
          <a:stretch/>
        </p:blipFill>
        <p:spPr>
          <a:xfrm>
            <a:off x="2411280" y="1484280"/>
            <a:ext cx="4897440" cy="3413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4"/>
          <p:cNvSpPr/>
          <p:nvPr/>
        </p:nvSpPr>
        <p:spPr>
          <a:xfrm>
            <a:off x="826920" y="476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тонкой моторики р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1835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4" descr="image614.jpg"/>
          <p:cNvPicPr/>
          <p:nvPr/>
        </p:nvPicPr>
        <p:blipFill>
          <a:blip r:embed="rId1"/>
          <a:stretch/>
        </p:blipFill>
        <p:spPr>
          <a:xfrm>
            <a:off x="1908000" y="1916280"/>
            <a:ext cx="5688360" cy="3457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5373360"/>
            <a:ext cx="81835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826920" y="476280"/>
            <a:ext cx="756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вития тонкой моторики р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оедини точ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03280" y="529920"/>
            <a:ext cx="8183520" cy="477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правил формирования положительной, объективной, здоровой самооценк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юбите ребенка!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льше поощряйте ребенка, хвалите его!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оставляйте ребенку самостоятельность!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ньше критикуйте ребенка!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требуйте от ребенка невозможного!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5589720"/>
            <a:ext cx="8183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03280" y="530280"/>
            <a:ext cx="8183520" cy="511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льность повед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йтесь точного распорядка дня и терпеливо требуйте его соблюдения, особенно режима с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день ставьте перед ребенком определенную и совершенно конкретную цель, которую он должен достичь. Обязательно похвалите его за э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те крайност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йте те виды деятельности, требующие усидчивости и сосредоточе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5428800"/>
            <a:ext cx="8183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373360"/>
            <a:ext cx="81835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691920"/>
            <a:ext cx="818352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ка постоянн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ик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ужд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ку говори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правд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р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растет сред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смеше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станов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стенчивы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ка постоянн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авнива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другими, он уч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вид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растет в атмосфер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бы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веренным в себ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растет в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хвал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бы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лагодарны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растет в атмосфер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пим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быт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рпеливы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растет в атмосфер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добр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уч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равиться себ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окруже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ужелюбие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н знает, ч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ир – прекрасное мес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03280" y="530280"/>
            <a:ext cx="8183520" cy="511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дня шк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е полноценное пит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айте ребенка к занятиям физкультурой, спортом, прогулкам на свежем воздухе, подвижным игр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умственной и физической деятельности (работы и отдых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вайте пребывание ребенка а больших шумных комп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еделы выносливости ребенка и увеличивайте длительность занятий каждый раз на небольшой отрезок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5428800"/>
            <a:ext cx="8183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состоит психологическая готовность ребенка к школ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к обучению в шко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ая социальная позиция школьн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е развит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льность повед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интересов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йте больше самосто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казать необходимость каждого знания, приводите прим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ывайте новые знания с уже имеющимися, усвое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сильные за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 проявляйте интерес к занятиям, урокам, создавайте эмоционально положительный ф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интересов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йте старание и терпение ребе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он ощущает свои успехи, дости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не сравнивать его с другими детьми, а только с самим собой. Воспользуйтесь фразой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годня ты выполнил это задание быстрее, чем вчера!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предлагаем материал развивающих игр, по содержанию и целям они направлены на развитие познавательных, творческих и коммуникативных способностей детей дошкольного возраста, необходимых для успешной адаптации к обучению в начальной шко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5373360"/>
            <a:ext cx="81835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5444640"/>
            <a:ext cx="81835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619280" y="1197000"/>
            <a:ext cx="5545080" cy="4176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1258920" y="5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гра «Перепутанные лин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7" descr="дев.bmp"/>
          <p:cNvPicPr/>
          <p:nvPr/>
        </p:nvPicPr>
        <p:blipFill>
          <a:blip r:embed="rId1"/>
          <a:stretch/>
        </p:blipFill>
        <p:spPr>
          <a:xfrm>
            <a:off x="900000" y="1413000"/>
            <a:ext cx="7359840" cy="4187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8"/>
          <p:cNvSpPr/>
          <p:nvPr/>
        </p:nvSpPr>
        <p:spPr>
          <a:xfrm>
            <a:off x="1258920" y="5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гра «Найди отлич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771640" y="2060640"/>
          <a:ext cx="3456000" cy="201600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480"/>
                <a:gridCol w="692280"/>
                <a:gridCol w="6904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Психологическая подготовка 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1403280" y="476280"/>
            <a:ext cx="65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8d3e"/>
                </a:solidFill>
                <a:latin typeface="Verdana"/>
              </a:rPr>
              <a:t>Тест «Цифровая табл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3"/>
          <p:cNvSpPr/>
          <p:nvPr/>
        </p:nvSpPr>
        <p:spPr>
          <a:xfrm>
            <a:off x="468360" y="1052640"/>
            <a:ext cx="8183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sp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: Постарайся как можно быстрее находить, показывать и называть вслух цифры от 1 до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0"/>
          <p:cNvSpPr/>
          <p:nvPr/>
        </p:nvSpPr>
        <p:spPr>
          <a:xfrm>
            <a:off x="684360" y="4724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детей 6-7 лет выполняют это задание з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2 мину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чти без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5:20:27Z</dcterms:created>
  <dc:creator>OEM</dc:creator>
  <dc:description/>
  <dc:language>en-US</dc:language>
  <cp:lastModifiedBy>1</cp:lastModifiedBy>
  <dcterms:modified xsi:type="dcterms:W3CDTF">2016-12-03T15:41:38Z</dcterms:modified>
  <cp:revision>14</cp:revision>
  <dc:subject/>
  <dc:title>Школа молодого родителя</dc:title>
</cp:coreProperties>
</file>