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56C-DF4D-4CC9-9BA1-6E045C86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78C-E7E5-4D5A-AB9B-DEDAAFF0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681-1516-41AE-9DCD-4DEF6F2F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C0B-CAB7-42B8-A0E9-0E9CA4C7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985D-C301-4A77-A952-FE545479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E226-6090-488C-A82E-1EA2BB7B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CC76-F9A2-4F44-932E-B494C91A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2836-2BD4-460C-95E6-CAE0952E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F5A9-ACE5-43C5-8EA7-287EB4AB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95B0-EF4A-4BC4-AFC3-0B1A5EBD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1252-E9F6-4C38-B879-D7891B2F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D75-ED16-41F7-BA00-ED00D026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64E7-2DC9-46D9-B4DF-98E0238A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824F-C29C-4378-B0A4-60CE025A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445B-E4D2-4C7B-BC5F-5B6BB6FE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5DE4-E9CB-4505-8BB8-EB13166F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72BD-3ACA-44F4-8871-8F56C12F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7C8-42E8-4266-A470-870A2F64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C4B-BE5A-47E7-85CC-6AB4D6C8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27C-407F-41C2-A75C-BA88B137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147-D78F-4B40-B37E-C341D429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40D-DDB1-4415-A976-B1F882D0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3CA-719D-414A-94BB-546A455D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B88-4EE5-44B4-9688-1C5A8CF0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DBA6-91D7-49F1-9443-6D06A15F5B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88AF-D7D8-4661-B6FB-976D8EC319D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120080" cy="3311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ook Antiqua"/>
              </a:rPr>
              <a:t>СПОСОБЫ РЕШЕНИЯ КВАДРАТНОГО УРАВНЕНИЯ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рафическое решение квадратного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ойства коэффициентов квадратного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шение уравнения способом «переброс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етод выделения полного квадра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4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14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458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ГРАФИЧЕСКОЕ РЕШЕНИЕ КВАДРАТНОГО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Записать уравнение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+с=0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виде  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=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-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Построить парабол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=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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прямую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-с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Найти точки пересечен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82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82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82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782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БРАЗЕЦ РЕШЕНИЯ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7989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-х-6=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=х+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=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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тви ввер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y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+6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ям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635280" y="3141720"/>
          <a:ext cx="1649520" cy="1035000"/>
        </p:xfrm>
        <a:graphic>
          <a:graphicData uri="http://schemas.openxmlformats.org/drawingml/2006/table">
            <a:tbl>
              <a:tblPr/>
              <a:tblGrid>
                <a:gridCol w="549360"/>
                <a:gridCol w="550800"/>
                <a:gridCol w="549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95280" y="3141720"/>
          <a:ext cx="2736720" cy="1035000"/>
        </p:xfrm>
        <a:graphic>
          <a:graphicData uri="http://schemas.openxmlformats.org/drawingml/2006/table">
            <a:tbl>
              <a:tblPr/>
              <a:tblGrid>
                <a:gridCol w="360360"/>
                <a:gridCol w="431640"/>
                <a:gridCol w="432000"/>
                <a:gridCol w="433440"/>
                <a:gridCol w="50328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7308720" y="2060640"/>
            <a:ext cx="9720" cy="3803760"/>
          </a:xfrm>
          <a:custGeom>
            <a:avLst/>
            <a:gdLst/>
            <a:ahLst/>
            <a:rect l="l" t="t" r="r" b="b"/>
            <a:pathLst>
              <a:path w="6" h="2396">
                <a:moveTo>
                  <a:pt x="6" y="239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450864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414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450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600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6000" y="342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0" y="47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36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36000" y="54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4836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800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0072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9636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78600" y="4419720"/>
            <a:ext cx="1800" cy="122040"/>
          </a:xfrm>
          <a:custGeom>
            <a:avLst/>
            <a:gdLst/>
            <a:ahLst/>
            <a:rect l="l" t="t" r="r" b="b"/>
            <a:pathLst>
              <a:path w="1" h="77">
                <a:moveTo>
                  <a:pt x="0" y="0"/>
                </a:moveTo>
                <a:lnTo>
                  <a:pt x="0" y="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1708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45964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56360" y="1341360"/>
            <a:ext cx="1152360" cy="3167280"/>
          </a:xfrm>
          <a:custGeom>
            <a:avLst/>
            <a:gdLst/>
            <a:ahLst/>
            <a:rect l="l" t="t" r="r" b="b"/>
            <a:pathLst>
              <a:path w="610" h="1429">
                <a:moveTo>
                  <a:pt x="610" y="1429"/>
                </a:moveTo>
                <a:cubicBezTo>
                  <a:pt x="528" y="1370"/>
                  <a:pt x="450" y="1310"/>
                  <a:pt x="377" y="1195"/>
                </a:cubicBezTo>
                <a:cubicBezTo>
                  <a:pt x="304" y="1080"/>
                  <a:pt x="235" y="938"/>
                  <a:pt x="172" y="739"/>
                </a:cubicBezTo>
                <a:cubicBezTo>
                  <a:pt x="109" y="540"/>
                  <a:pt x="36" y="154"/>
                  <a:pt x="0" y="0"/>
                </a:cubicBezTo>
              </a:path>
            </a:pathLst>
          </a:custGeom>
          <a:noFill/>
          <a:ln w="284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08720" y="1052640"/>
            <a:ext cx="1008360" cy="3456000"/>
          </a:xfrm>
          <a:custGeom>
            <a:avLst/>
            <a:gdLst/>
            <a:ahLst/>
            <a:rect l="l" t="t" r="r" b="b"/>
            <a:pathLst>
              <a:path w="503" h="1390">
                <a:moveTo>
                  <a:pt x="0" y="1390"/>
                </a:moveTo>
                <a:cubicBezTo>
                  <a:pt x="34" y="1362"/>
                  <a:pt x="143" y="1329"/>
                  <a:pt x="206" y="1219"/>
                </a:cubicBezTo>
                <a:cubicBezTo>
                  <a:pt x="269" y="1109"/>
                  <a:pt x="329" y="932"/>
                  <a:pt x="378" y="729"/>
                </a:cubicBezTo>
                <a:cubicBezTo>
                  <a:pt x="427" y="526"/>
                  <a:pt x="477" y="152"/>
                  <a:pt x="503" y="0"/>
                </a:cubicBezTo>
              </a:path>
            </a:pathLst>
          </a:custGeom>
          <a:noFill/>
          <a:ln w="284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1557360"/>
            <a:ext cx="3168720" cy="3360600"/>
          </a:xfrm>
          <a:custGeom>
            <a:avLst/>
            <a:gdLst/>
            <a:ahLst/>
            <a:rect l="l" t="t" r="r" b="b"/>
            <a:pathLst>
              <a:path w="1728" h="1891">
                <a:moveTo>
                  <a:pt x="1728" y="0"/>
                </a:moveTo>
                <a:lnTo>
                  <a:pt x="0" y="189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62400" y="1357200"/>
            <a:ext cx="4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429264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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ресекается с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+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 С(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3;9)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тсюда следуе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х=-2 и х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3280" y="558972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: х=-2;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8360" y="450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8360" y="45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4836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СВОЙСТВА КОЭФФИЦЕНТОВ КВАДРАТНОГО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х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²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+с=0, где а≠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. Если а+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+с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=0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о х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=1, х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=с: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. Если а-в+с=0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о 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=-1, 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=-с: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БРАЗЕЦ РЕШЕНИЯ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 5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-7х+2=0 , так ка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+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то  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1, 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с:а=0,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: 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1, 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0,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6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+9х+3=0, так ка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-в+с=0, то 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-1, 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-с:а=-0,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: х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-1, 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-0,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х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²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+с=0 , где а≠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множаем уравнение на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²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²+ab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+ac=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уст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=y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 тогда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y²+by+a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вносильны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=&g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х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 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: а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,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 х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 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2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: 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323640" y="301320"/>
            <a:ext cx="85690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ЕШЕНИЕ УРАВНЕНИЯ СПОСОБОМ «ПЕРЕБРОСК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БРАЗЕЦ РЕШЕНИЯ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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9х+9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-9y+18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*y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8,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3,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1,5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y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9 ;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6;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3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вет: 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1,5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х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1006560" y="3008160"/>
            <a:ext cx="258840" cy="1316160"/>
          </a:xfrm>
          <a:custGeom>
            <a:avLst/>
            <a:gdLst/>
            <a:ahLst/>
            <a:rect l="l" t="t" r="r" b="b"/>
            <a:pathLst>
              <a:path w="163" h="829">
                <a:moveTo>
                  <a:pt x="153" y="25"/>
                </a:moveTo>
                <a:cubicBezTo>
                  <a:pt x="137" y="31"/>
                  <a:pt x="81" y="0"/>
                  <a:pt x="67" y="63"/>
                </a:cubicBezTo>
                <a:cubicBezTo>
                  <a:pt x="53" y="126"/>
                  <a:pt x="80" y="337"/>
                  <a:pt x="69" y="401"/>
                </a:cubicBezTo>
                <a:cubicBezTo>
                  <a:pt x="58" y="465"/>
                  <a:pt x="0" y="432"/>
                  <a:pt x="0" y="447"/>
                </a:cubicBezTo>
                <a:cubicBezTo>
                  <a:pt x="0" y="462"/>
                  <a:pt x="55" y="438"/>
                  <a:pt x="69" y="492"/>
                </a:cubicBezTo>
                <a:cubicBezTo>
                  <a:pt x="83" y="546"/>
                  <a:pt x="70" y="719"/>
                  <a:pt x="86" y="774"/>
                </a:cubicBezTo>
                <a:cubicBezTo>
                  <a:pt x="102" y="829"/>
                  <a:pt x="147" y="812"/>
                  <a:pt x="163" y="8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08360" y="3068640"/>
            <a:ext cx="258840" cy="1316160"/>
          </a:xfrm>
          <a:custGeom>
            <a:avLst/>
            <a:gdLst/>
            <a:ahLst/>
            <a:rect l="l" t="t" r="r" b="b"/>
            <a:pathLst>
              <a:path w="163" h="829">
                <a:moveTo>
                  <a:pt x="153" y="25"/>
                </a:moveTo>
                <a:cubicBezTo>
                  <a:pt x="137" y="31"/>
                  <a:pt x="81" y="0"/>
                  <a:pt x="67" y="63"/>
                </a:cubicBezTo>
                <a:cubicBezTo>
                  <a:pt x="53" y="126"/>
                  <a:pt x="80" y="337"/>
                  <a:pt x="69" y="401"/>
                </a:cubicBezTo>
                <a:cubicBezTo>
                  <a:pt x="58" y="465"/>
                  <a:pt x="0" y="432"/>
                  <a:pt x="0" y="447"/>
                </a:cubicBezTo>
                <a:cubicBezTo>
                  <a:pt x="0" y="462"/>
                  <a:pt x="55" y="438"/>
                  <a:pt x="69" y="492"/>
                </a:cubicBezTo>
                <a:cubicBezTo>
                  <a:pt x="83" y="546"/>
                  <a:pt x="70" y="719"/>
                  <a:pt x="86" y="774"/>
                </a:cubicBezTo>
                <a:cubicBezTo>
                  <a:pt x="102" y="829"/>
                  <a:pt x="147" y="812"/>
                  <a:pt x="163" y="8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3068640"/>
            <a:ext cx="258840" cy="1316160"/>
          </a:xfrm>
          <a:custGeom>
            <a:avLst/>
            <a:gdLst/>
            <a:ahLst/>
            <a:rect l="l" t="t" r="r" b="b"/>
            <a:pathLst>
              <a:path w="163" h="829">
                <a:moveTo>
                  <a:pt x="153" y="25"/>
                </a:moveTo>
                <a:cubicBezTo>
                  <a:pt x="137" y="31"/>
                  <a:pt x="81" y="0"/>
                  <a:pt x="67" y="63"/>
                </a:cubicBezTo>
                <a:cubicBezTo>
                  <a:pt x="53" y="126"/>
                  <a:pt x="80" y="337"/>
                  <a:pt x="69" y="401"/>
                </a:cubicBezTo>
                <a:cubicBezTo>
                  <a:pt x="58" y="465"/>
                  <a:pt x="0" y="432"/>
                  <a:pt x="0" y="447"/>
                </a:cubicBezTo>
                <a:cubicBezTo>
                  <a:pt x="0" y="462"/>
                  <a:pt x="55" y="438"/>
                  <a:pt x="69" y="492"/>
                </a:cubicBezTo>
                <a:cubicBezTo>
                  <a:pt x="83" y="546"/>
                  <a:pt x="70" y="719"/>
                  <a:pt x="86" y="774"/>
                </a:cubicBezTo>
                <a:cubicBezTo>
                  <a:pt x="102" y="829"/>
                  <a:pt x="147" y="812"/>
                  <a:pt x="163" y="8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920"/>
                            </p:stCondLst>
                            <p:childTnLst>
                              <p:par>
                                <p:cTn id="1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92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192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92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1920"/>
                            </p:stCondLst>
                            <p:childTnLst>
                              <p:par>
                                <p:cTn id="2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7770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МЕТОД ВЫДЕЛЕНИЯ ПОЛНОГО КВАДРА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20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+6х-7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им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+6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виде квадратов суммы двух выражений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+6х=х+2х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+2х3+3=(х+3)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+6х-7=х+2*х*3+3-3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х+3)-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13:13Z</dcterms:created>
  <dc:creator>admin</dc:creator>
  <dc:description/>
  <dc:language>en-US</dc:language>
  <cp:lastModifiedBy>Саша</cp:lastModifiedBy>
  <dcterms:modified xsi:type="dcterms:W3CDTF">2006-12-11T15:19:37Z</dcterms:modified>
  <cp:revision>19</cp:revision>
  <dc:subject/>
  <dc:title>СПОСОБЫ РЕШЕНИЯ КВАДРАТНОГО УРАВНЕНИЯ</dc:title>
</cp:coreProperties>
</file>