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26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1.png" ContentType="image/pn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</p:sldIdLst>
  <p:sldSz cx="9144000" cy="6858000"/>
  <p:notesSz cx="9921875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2FE-AFE4-4CB3-B254-A7D7A020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305-3ACE-45E5-9529-36192590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D24CA-8B6A-42A4-8122-DE305DDA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36C69-DC22-456F-832B-539689C4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D40D6-0822-4274-A9FB-CEB508BF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15482-876C-4B69-A1AB-7D89B374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E2712-3B55-4D30-BDD5-10243C9A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F3E79-D6ED-4441-908E-E7193655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B1918-903E-461F-AFD8-0B40A0EA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207C3-4769-4617-ADB0-0FD542BF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4F714-2218-40B0-8137-8095F44F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EB024-3147-446C-B963-A968320C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5BC-1305-4891-B359-5462A9D8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9D413-6CC0-4A7C-968D-9514ED03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C104B-8F88-4180-B4E9-1DFE5AB2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D194E-3A56-43A2-AFC2-53BF1945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CAFAB-394F-46E1-8F02-FB6BDD17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7A78A-BD58-4960-B474-80853B03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2B1F1-ECA4-4EA5-9D9A-952F22FA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51F11-3CBB-46E9-BABD-3148CFE6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73543-5A74-42E3-BA6F-E3760C4C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A018E-D32C-46E2-A425-FFE41DA6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0B859-C1FE-413E-B003-61204DD8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034-F773-4CFA-A64A-52175C86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F7212-BD6F-43FF-A41A-09F072DE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A4D7E-CD2C-4002-80C7-5A08A4FC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DFDD1-C2C8-4D4A-8664-1585956A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5FFB6-9FB6-41F7-9A06-C1CF4CB8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6F8FE-0A2F-4BE9-A3FE-46FB4B30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1281B-C07C-4163-86A9-05C7FEA6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249E6-EFD8-4952-B2F9-D190B098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D0CEF-1822-48C8-ACA7-E0B68811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6B9BE-BC25-4D75-95DF-1DE78BA2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E5FE3-333C-48D8-9124-5180F60E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95BE-C148-4429-BE02-3E325543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098C2-147E-4764-AFFF-9E9B501F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5664E-AE11-42D4-BC8F-316205C7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D0B86-1367-421C-A60B-6297EDD0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6B12E-66D5-472E-BA4A-2E6E9068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10E39-5517-447C-B778-F11FADE3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7E00B-AE66-4752-BE6A-F9A5AC9B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99A39-FE3B-45CF-AF08-BAA18820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06FBA-6434-4B50-80D4-20777328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2D0C9-E78C-4713-AD1C-28F13770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ED911-ADE7-4DCB-AF12-D465EA13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C63E-BEDA-4728-A723-5BC3D6F0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96E71-F2C0-42F6-B5B3-63D6B30E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C67CE-A209-4D9B-923A-53520155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A0316-677A-4939-AE0E-4B4BDBB3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8E958-17F3-476B-BD01-AE51CC4C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D5158-F5C5-41FD-B320-99FFE6D9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5EC7-B0BA-4663-B4AC-CBCB3E38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0814-C6F5-49FB-9A8C-4AEC1707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3B71-26E9-4B6D-B04A-36C53D72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945C-99B8-4AB0-87E8-93463085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9550-A8F3-4780-9E13-B645E840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890-F152-46D6-97B6-2466503A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F243-3395-44D1-843E-241E7FB6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2C79-25E0-4FCB-9BC3-04969239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1574-288F-4233-8B5B-D6882FA2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0EFA-601A-4123-B3EC-98B6DD7A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894D-7697-4652-859F-E205AE71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E491A-1167-4409-A04B-B9FC0C04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501B-3E26-4E7D-9088-8D4880C5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FB6A3-8C35-4770-BE23-A0BF9B44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DB40F-27AA-4D33-BC8F-F543FB73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65F4-1B89-4DC7-9F7C-6F337404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976-5DC9-421A-99EF-338C05E1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9D85B-DB8C-4F56-A577-BABED51F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99F71-887F-4A46-8460-B963CF15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440A5-5FD8-4E47-961C-DE5A1736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4D17D-5568-48C6-98A4-99813A7C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93CC5-9D20-4ABD-ACA3-B0C79836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88C2-AD58-478C-90EA-6414149B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B9FB-B94A-4E3A-87DE-1518213B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CBFDE-AA1B-44D7-B269-A1976B26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BA48-8E7A-4D79-8000-55CB830F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6136C-4A51-4A7A-B4F7-BC4872B9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4AE-2E35-498C-AFA6-E3E86152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E4998-5904-4F75-A756-37180798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66651-988C-4DB7-86C7-6DF5FA0D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9BDBA-4A72-4DC2-9786-BD8029EC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015D8-8416-4DA8-B05C-DD1BB5B0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F2D86-CFE1-4854-A4E9-DFB04E91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59131-75D2-4611-BCDE-65DA7F5D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F995D-B847-4353-9ED2-0B627ADA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11984-019D-40FD-A791-74054B50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756F8-6795-4230-8F76-57D7836F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10330-D340-4069-B50C-EE3A47BB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356-43A0-4963-A17D-CDB5B3C5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4FAE1-D008-408B-BA6D-F2B883B1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0D762-FC2B-4BAA-9577-9F2E1091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CA785-8EBE-4BFC-806A-F8E03CE0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3F1E5-A602-4E78-8337-A5B0E74E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82825-877C-4386-A03F-F58AD5B9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62AFC-047E-49DF-9F18-B7A1A928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CB503-AC51-4338-803A-EB5D6790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D703C-17D2-4E85-B40C-240DEA8A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0381A-BC3E-4FFC-BF24-F13F650C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5E864-D025-40ED-82F3-BD57352A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D35-2122-4022-AE5B-00CF3D5F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6D57E-3ECC-4E4E-AA1C-FB350B89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F1F56-87B1-4D3C-9388-D183AE51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81720-DB10-44F2-BA48-6E2BAFDB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4BA43-AE7B-42BA-8221-2F6F82C2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DB4EE-0C00-4BE5-BB84-FF396CFC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1640E-C905-4FB0-AC54-1819D381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7D2E4-E7D7-4CCE-BFCA-66D15036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EBE40-F629-45E2-8DFA-BF46A109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39F1D-AC6A-4EBD-9AA7-E6877234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B557F-2CA4-4ABB-B99C-1AC1769F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850-94C2-43A1-8F8A-989A8F26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CD301-E471-4F29-A050-52E4DC64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E6A06-A4B3-403B-9EA4-48282BB8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D1051-DF1D-4643-9FD1-E2B24273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28FED-5D92-4E48-B765-29B4312D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38F58-6C9B-4DBA-9D7B-78CD992A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7B128-F128-46BE-A19F-E204EC8B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E44D3-5E7A-49C5-BE9A-0EE42FA0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8EFC7-B25E-4303-A15D-BEDE80AA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2BBEE-556F-4AE2-B6C3-AD1CEED8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C1E94-AEE9-44D1-9526-548ABCC4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6A2-E0C6-4207-B673-7CD2BF45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47758-7E21-4DF8-9BF6-036B1B10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763D5-3C93-4EA9-9D62-8CE9CA76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05C8E-CE82-4E60-AE71-2CE8591B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1648E-79E4-4A83-9D1C-6CBFF492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0A2C5-C861-41B0-BAB8-FCDE9DE1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30EE1-2A6B-4271-A50E-48B5280B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2D065-980A-4499-94BA-0436EC3B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3A1B1-3784-4052-8BB9-FA40C418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20BE5-22B7-42BB-A7E3-3423FF56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20608-5485-4F10-8E94-C72EDEDC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091-F2B4-4443-9BA2-C44465CD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DD57C-D886-4CB4-9EC7-B2381393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5628F-780E-427D-8D85-7284A8E0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73916-23F1-4692-BD78-0271943B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F737D-C55D-4F31-B9C5-547B53B6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77436-9D5D-4C2B-99AD-61613788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6CD43-3A4A-4D88-B7D4-23D9F97F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BA5A8-5E8C-4EAD-BC9C-1D410DA3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01FBC-FC46-4187-B8CF-ABAAF696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E6671-F0E0-4E81-B90D-69A70705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6B170-6EB1-4773-8C7C-1208E2E1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2456-FAAE-4221-B733-06A6AC66FE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357D-4584-4293-A3AD-E6CC08C374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FF39-97E5-4C48-8E08-C57288FE19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4813-72CB-4956-8FA3-AC2F7D9B358A}" type="slidenum">
              <a:rPr b="0" lang="ru-RU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C810-6BCD-457E-AD0F-C0DAD9528F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4DDC-3039-46D0-9D47-93B35A5BC2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953A-1A41-4B0F-8062-1372F4306C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0E06-8EFD-4949-8A1E-1837BB4FD2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5BF1-E2B3-4AF0-8F5B-02F9424DE2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C084-DC6F-4084-AC4B-D32E86C376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1185-BDE8-4F1F-9DD1-939598DE27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0502-230A-465B-A70C-2D7A4A3AA1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1.xml"/><Relationship Id="rId12" Type="http://schemas.openxmlformats.org/officeDocument/2006/relationships/slide" Target="slide21.xml"/><Relationship Id="rId13" Type="http://schemas.openxmlformats.org/officeDocument/2006/relationships/slide" Target="slide23.xml"/><Relationship Id="rId14" Type="http://schemas.openxmlformats.org/officeDocument/2006/relationships/slide" Target="slide23.xml"/><Relationship Id="rId15" Type="http://schemas.openxmlformats.org/officeDocument/2006/relationships/slide" Target="slide25.xml"/><Relationship Id="rId16" Type="http://schemas.openxmlformats.org/officeDocument/2006/relationships/slide" Target="slide25.xml"/><Relationship Id="rId17" Type="http://schemas.openxmlformats.org/officeDocument/2006/relationships/slide" Target="slide27.xml"/><Relationship Id="rId18" Type="http://schemas.openxmlformats.org/officeDocument/2006/relationships/slide" Target="slide27.xml"/><Relationship Id="rId19" Type="http://schemas.openxmlformats.org/officeDocument/2006/relationships/slide" Target="slide29.xml"/><Relationship Id="rId20" Type="http://schemas.openxmlformats.org/officeDocument/2006/relationships/slide" Target="slide29.xml"/><Relationship Id="rId21" Type="http://schemas.openxmlformats.org/officeDocument/2006/relationships/slide" Target="slide31.xml"/><Relationship Id="rId22" Type="http://schemas.openxmlformats.org/officeDocument/2006/relationships/slide" Target="slide31.xml"/><Relationship Id="rId23" Type="http://schemas.openxmlformats.org/officeDocument/2006/relationships/slide" Target="slide33.xml"/><Relationship Id="rId24" Type="http://schemas.openxmlformats.org/officeDocument/2006/relationships/slide" Target="slide33.xml"/><Relationship Id="rId25" Type="http://schemas.openxmlformats.org/officeDocument/2006/relationships/slide" Target="slide35.xml"/><Relationship Id="rId26" Type="http://schemas.openxmlformats.org/officeDocument/2006/relationships/slide" Target="slide35.xml"/><Relationship Id="rId27" Type="http://schemas.openxmlformats.org/officeDocument/2006/relationships/slide" Target="slide37.xml"/><Relationship Id="rId28" Type="http://schemas.openxmlformats.org/officeDocument/2006/relationships/slide" Target="slide37.xml"/><Relationship Id="rId29" Type="http://schemas.openxmlformats.org/officeDocument/2006/relationships/slide" Target="slide39.xml"/><Relationship Id="rId30" Type="http://schemas.openxmlformats.org/officeDocument/2006/relationships/slide" Target="slide39.xml"/><Relationship Id="rId31" Type="http://schemas.openxmlformats.org/officeDocument/2006/relationships/slide" Target="slide41.xml"/><Relationship Id="rId32" Type="http://schemas.openxmlformats.org/officeDocument/2006/relationships/slide" Target="slide41.xml"/><Relationship Id="rId33" Type="http://schemas.openxmlformats.org/officeDocument/2006/relationships/slide" Target="slide43.xml"/><Relationship Id="rId34" Type="http://schemas.openxmlformats.org/officeDocument/2006/relationships/slide" Target="slide43.xml"/><Relationship Id="rId35" Type="http://schemas.openxmlformats.org/officeDocument/2006/relationships/slide" Target="slide45.xml"/><Relationship Id="rId36" Type="http://schemas.openxmlformats.org/officeDocument/2006/relationships/slide" Target="slide45.xml"/><Relationship Id="rId37" Type="http://schemas.openxmlformats.org/officeDocument/2006/relationships/slide" Target="slide47.xml"/><Relationship Id="rId38" Type="http://schemas.openxmlformats.org/officeDocument/2006/relationships/slide" Target="slide47.xml"/><Relationship Id="rId39" Type="http://schemas.openxmlformats.org/officeDocument/2006/relationships/slide" Target="slide19.xml"/><Relationship Id="rId40" Type="http://schemas.openxmlformats.org/officeDocument/2006/relationships/slide" Target="slide9.xml"/><Relationship Id="rId4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15920"/>
            <a:ext cx="8350200" cy="16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Викторина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«Знатоки естественных наук»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MPj04003790000[1]"/>
          <p:cNvPicPr/>
          <p:nvPr/>
        </p:nvPicPr>
        <p:blipFill>
          <a:blip r:embed="rId2"/>
          <a:stretch/>
        </p:blipFill>
        <p:spPr>
          <a:xfrm>
            <a:off x="1116000" y="2060640"/>
            <a:ext cx="68086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44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bffff"/>
                </a:solidFill>
                <a:uFillTx/>
                <a:latin typeface="Times New Roman"/>
                <a:hlinkClick r:id="rId2" action="ppaction://hlinksldjump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45" name="WordArt 9"/>
          <p:cNvSpPr txBox="1"/>
          <p:nvPr/>
        </p:nvSpPr>
        <p:spPr>
          <a:xfrm>
            <a:off x="611280" y="404640"/>
            <a:ext cx="79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ческие величины 1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684360" y="1773360"/>
            <a:ext cx="71276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634"/>
                </a:solidFill>
                <a:latin typeface="Times New Roman"/>
              </a:rPr>
              <a:t>Единица количества вещества – 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моль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47" name="Picture 7" descr="n = \frac{m}{M} = \frac{N}{N_A} = \frac{V}{V_m}"/>
          <p:cNvPicPr/>
          <p:nvPr/>
        </p:nvPicPr>
        <p:blipFill>
          <a:blip r:embed="rId3"/>
          <a:stretch/>
        </p:blipFill>
        <p:spPr>
          <a:xfrm>
            <a:off x="900000" y="4678200"/>
            <a:ext cx="6696360" cy="17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609480" y="1752480"/>
            <a:ext cx="777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остоянная Авогадро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0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1" name="WordArt 9"/>
          <p:cNvSpPr txBox="1"/>
          <p:nvPr/>
        </p:nvSpPr>
        <p:spPr>
          <a:xfrm>
            <a:off x="468360" y="404640"/>
            <a:ext cx="79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ческие величины 2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2" name="Picture 7" descr="Avogadro Amedeo.jpg"/>
          <p:cNvPicPr/>
          <p:nvPr/>
        </p:nvPicPr>
        <p:blipFill>
          <a:blip r:embed="rId2"/>
          <a:stretch/>
        </p:blipFill>
        <p:spPr>
          <a:xfrm>
            <a:off x="3492360" y="2852640"/>
            <a:ext cx="228600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609480" y="1752480"/>
            <a:ext cx="69868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Постоянная Авогадро –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5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6" name="WordArt 9"/>
          <p:cNvSpPr txBox="1"/>
          <p:nvPr/>
        </p:nvSpPr>
        <p:spPr>
          <a:xfrm>
            <a:off x="468360" y="404640"/>
            <a:ext cx="79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ческие величины 2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Прямоугольник 8"/>
          <p:cNvSpPr/>
          <p:nvPr/>
        </p:nvSpPr>
        <p:spPr>
          <a:xfrm>
            <a:off x="539640" y="27082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6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,02х10</a:t>
            </a:r>
            <a:r>
              <a:rPr b="1" lang="en-US" sz="4000" spc="-1" strike="noStrike" baseline="30000">
                <a:solidFill>
                  <a:srgbClr val="c00000"/>
                </a:solidFill>
                <a:latin typeface="Times New Roman"/>
                <a:ea typeface="Calibri"/>
              </a:rPr>
              <a:t>23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 молекул/моль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762120" y="2362320"/>
            <a:ext cx="733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олярный объём газов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0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1" name="WordArt 10"/>
          <p:cNvSpPr txBox="1"/>
          <p:nvPr/>
        </p:nvSpPr>
        <p:spPr>
          <a:xfrm>
            <a:off x="468360" y="404640"/>
            <a:ext cx="79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ческие величины 3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762120" y="2362320"/>
            <a:ext cx="6905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Молярный объём газов –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22,4 л/моль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4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5" name="WordArt 10"/>
          <p:cNvSpPr txBox="1"/>
          <p:nvPr/>
        </p:nvSpPr>
        <p:spPr>
          <a:xfrm>
            <a:off x="468360" y="404640"/>
            <a:ext cx="79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ческие величины 3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Rectangle 8"/>
          <p:cNvSpPr/>
          <p:nvPr/>
        </p:nvSpPr>
        <p:spPr>
          <a:xfrm>
            <a:off x="3457080" y="-252360"/>
            <a:ext cx="2229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Times New Roman"/>
              </a:rPr>
              <a:t> </a:t>
            </a:r>
            <a:r>
              <a:rPr b="0" lang="ru-RU" sz="9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252525"/>
                </a:solidFill>
                <a:latin typeface="Times New Roman"/>
                <a:ea typeface="Arial"/>
              </a:rPr>
              <a:t> 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  <a:ea typeface="Arial"/>
              </a:rPr>
              <a:t>используя </a:t>
            </a:r>
            <a:r>
              <a:rPr b="0" lang="ru-RU" sz="1000" spc="-1" strike="noStrike">
                <a:solidFill>
                  <a:srgbClr val="252525"/>
                </a:solidFill>
                <a:latin typeface="Times New Roman"/>
                <a:ea typeface="Arial"/>
              </a:rPr>
              <a:t>   </a:t>
            </a:r>
            <a:r>
              <a:rPr b="0" lang="ru-RU" sz="9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ru-RU" sz="2100" spc="-1" strike="noStrike">
                <a:solidFill>
                  <a:srgbClr val="252525"/>
                </a:solidFill>
                <a:latin typeface="Arial"/>
                <a:ea typeface="Arial"/>
              </a:rPr>
              <a:t>,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  <a:ea typeface="Arial"/>
              </a:rPr>
              <a:t> приходим к: </a:t>
            </a:r>
            <a:r>
              <a:rPr b="0" lang="ru-RU" sz="1000" spc="-1" strike="noStrike">
                <a:solidFill>
                  <a:srgbClr val="252525"/>
                </a:solidFill>
                <a:latin typeface="Times New Roman"/>
                <a:ea typeface="Arial"/>
              </a:rPr>
              <a:t>  </a:t>
            </a:r>
            <a:r>
              <a:rPr b="0" lang="ru-RU" sz="9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ru-RU" sz="27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67" name="Picture 9" descr="{V\over V_{\rm m}} = {m\over M}"/>
          <p:cNvPicPr/>
          <p:nvPr/>
        </p:nvPicPr>
        <p:blipFill>
          <a:blip r:embed="rId2"/>
          <a:stretch/>
        </p:blipFill>
        <p:spPr>
          <a:xfrm>
            <a:off x="539640" y="4941720"/>
            <a:ext cx="1695600" cy="9939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0" descr="\rho = {m\over V} "/>
          <p:cNvPicPr/>
          <p:nvPr/>
        </p:nvPicPr>
        <p:blipFill>
          <a:blip r:embed="rId3"/>
          <a:stretch/>
        </p:blipFill>
        <p:spPr>
          <a:xfrm>
            <a:off x="3132000" y="4653000"/>
            <a:ext cx="1824120" cy="11732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1" descr="V_{\rm m} = {M\over\rho}"/>
          <p:cNvPicPr/>
          <p:nvPr/>
        </p:nvPicPr>
        <p:blipFill>
          <a:blip r:embed="rId4"/>
          <a:stretch/>
        </p:blipFill>
        <p:spPr>
          <a:xfrm>
            <a:off x="5796000" y="5084640"/>
            <a:ext cx="1608120" cy="10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762120" y="236232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бъемная доля кислорода в воздухе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2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3" name="WordArt 9"/>
          <p:cNvSpPr txBox="1"/>
          <p:nvPr/>
        </p:nvSpPr>
        <p:spPr>
          <a:xfrm>
            <a:off x="468360" y="404640"/>
            <a:ext cx="79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ческие величины 4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762120" y="23623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Объемная доля кислорода в воздухе –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21%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6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7" name="WordArt 9"/>
          <p:cNvSpPr txBox="1"/>
          <p:nvPr/>
        </p:nvSpPr>
        <p:spPr>
          <a:xfrm>
            <a:off x="468360" y="404640"/>
            <a:ext cx="79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ческие величины 4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8" name="Picture 7" descr="Файл:Himr8 24 6.jpg"/>
          <p:cNvPicPr/>
          <p:nvPr/>
        </p:nvPicPr>
        <p:blipFill>
          <a:blip r:embed="rId2"/>
          <a:stretch/>
        </p:blipFill>
        <p:spPr>
          <a:xfrm>
            <a:off x="2268360" y="4724280"/>
            <a:ext cx="356256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395280" y="236232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тношение молярной массы вещества к молярной массе какого-то газа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1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2" name="WordArt 11"/>
          <p:cNvSpPr txBox="1"/>
          <p:nvPr/>
        </p:nvSpPr>
        <p:spPr>
          <a:xfrm>
            <a:off x="468360" y="404640"/>
            <a:ext cx="79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ческие величины 5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50920" y="2362320"/>
            <a:ext cx="8497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Отношение молярной массы вещества к молярной массе какого-то газа –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относительная плотность 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(D)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5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6" name="WordArt 11"/>
          <p:cNvSpPr txBox="1"/>
          <p:nvPr/>
        </p:nvSpPr>
        <p:spPr>
          <a:xfrm>
            <a:off x="468360" y="404640"/>
            <a:ext cx="79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ческие величины 5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7" name="Прямоугольник 5"/>
          <p:cNvSpPr/>
          <p:nvPr/>
        </p:nvSpPr>
        <p:spPr>
          <a:xfrm>
            <a:off x="3419640" y="5516640"/>
            <a:ext cx="34383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463634"/>
                </a:solidFill>
                <a:latin typeface="Times New Roman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D = ——</a:t>
            </a:r>
            <a:br>
              <a:rPr sz="2400"/>
            </a:b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      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463634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609480" y="1752480"/>
            <a:ext cx="76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Самое распространённое вещество на Земле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90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91" name="WordArt 8"/>
          <p:cNvSpPr txBox="1"/>
          <p:nvPr/>
        </p:nvSpPr>
        <p:spPr>
          <a:xfrm>
            <a:off x="468360" y="620640"/>
            <a:ext cx="799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е , самые   1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Что такое игра?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Игра – это среда, под воздействием которой людская масса диссоциирует на игроков и болельщиков.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Игроки выигравшей команды заряжены положительно, проигравшей  - отрицательно</a:t>
            </a:r>
            <a:r>
              <a:rPr b="0" lang="ru-RU" sz="32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97" name="Picture 4" descr="MPj04026960000[1]"/>
          <p:cNvPicPr/>
          <p:nvPr/>
        </p:nvPicPr>
        <p:blipFill>
          <a:blip r:embed="rId1"/>
          <a:stretch/>
        </p:blipFill>
        <p:spPr>
          <a:xfrm>
            <a:off x="6372360" y="142920"/>
            <a:ext cx="2228760" cy="22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609480" y="1752480"/>
            <a:ext cx="720252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Самое распространённое вещество на Земле –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вода</a:t>
            </a:r>
            <a:endParaRPr b="0" lang="en-US" sz="7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94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95" name="WordArt 8"/>
          <p:cNvSpPr txBox="1"/>
          <p:nvPr/>
        </p:nvSpPr>
        <p:spPr>
          <a:xfrm>
            <a:off x="755640" y="620640"/>
            <a:ext cx="727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е , самые  1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6" name="Picture 7" descr="Вода"/>
          <p:cNvPicPr/>
          <p:nvPr/>
        </p:nvPicPr>
        <p:blipFill>
          <a:blip r:embed="rId2"/>
          <a:stretch/>
        </p:blipFill>
        <p:spPr>
          <a:xfrm>
            <a:off x="406440" y="3429000"/>
            <a:ext cx="2182680" cy="28368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Вода"/>
          <p:cNvPicPr/>
          <p:nvPr/>
        </p:nvPicPr>
        <p:blipFill>
          <a:blip r:embed="rId3"/>
          <a:stretch/>
        </p:blipFill>
        <p:spPr>
          <a:xfrm>
            <a:off x="5219640" y="4005360"/>
            <a:ext cx="302436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762120" y="1600200"/>
            <a:ext cx="6324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0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1" name="WordArt 8"/>
          <p:cNvSpPr txBox="1"/>
          <p:nvPr/>
        </p:nvSpPr>
        <p:spPr>
          <a:xfrm>
            <a:off x="755640" y="620640"/>
            <a:ext cx="78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е , самые   2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2" name="Прямоугольник 6"/>
          <p:cNvSpPr/>
          <p:nvPr/>
        </p:nvSpPr>
        <p:spPr>
          <a:xfrm>
            <a:off x="817920" y="3198960"/>
            <a:ext cx="750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63634"/>
                </a:solidFill>
                <a:latin typeface="Times New Roman"/>
              </a:rPr>
              <a:t>Самый лёгкий металл?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4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5" name="WordArt 8"/>
          <p:cNvSpPr txBox="1"/>
          <p:nvPr/>
        </p:nvSpPr>
        <p:spPr>
          <a:xfrm>
            <a:off x="755640" y="620640"/>
            <a:ext cx="727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е , самые   2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6" name="Прямоугольник 5"/>
          <p:cNvSpPr/>
          <p:nvPr/>
        </p:nvSpPr>
        <p:spPr>
          <a:xfrm>
            <a:off x="2484360" y="1700280"/>
            <a:ext cx="43736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634"/>
                </a:solidFill>
                <a:latin typeface="Times New Roman"/>
              </a:rPr>
              <a:t>Самый лёгкий металл – 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литий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07" name="Picture 7" descr="Кусочки лития в керосине"/>
          <p:cNvPicPr/>
          <p:nvPr/>
        </p:nvPicPr>
        <p:blipFill>
          <a:blip r:embed="rId2"/>
          <a:stretch/>
        </p:blipFill>
        <p:spPr>
          <a:xfrm>
            <a:off x="2987640" y="4581360"/>
            <a:ext cx="32353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9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0" name="WordArt 8"/>
          <p:cNvSpPr txBox="1"/>
          <p:nvPr/>
        </p:nvSpPr>
        <p:spPr>
          <a:xfrm>
            <a:off x="755640" y="620640"/>
            <a:ext cx="71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е , самые   3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1" name="Прямоугольник 5"/>
          <p:cNvSpPr/>
          <p:nvPr/>
        </p:nvSpPr>
        <p:spPr>
          <a:xfrm>
            <a:off x="395280" y="301320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Самый смертельный газ, встречаемый в обиходе?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3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4" name="WordArt 8"/>
          <p:cNvSpPr txBox="1"/>
          <p:nvPr/>
        </p:nvSpPr>
        <p:spPr>
          <a:xfrm>
            <a:off x="755640" y="620640"/>
            <a:ext cx="741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е , самые  3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5" name="Прямоугольник 5"/>
          <p:cNvSpPr/>
          <p:nvPr/>
        </p:nvSpPr>
        <p:spPr>
          <a:xfrm>
            <a:off x="250920" y="1844640"/>
            <a:ext cx="8424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Самый смертельный газ, встречаемый в обиходе –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угарный газ (СО)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16" name="Picture 7" descr="Монооксид углерода"/>
          <p:cNvPicPr/>
          <p:nvPr/>
        </p:nvPicPr>
        <p:blipFill>
          <a:blip r:embed="rId2"/>
          <a:stretch/>
        </p:blipFill>
        <p:spPr>
          <a:xfrm>
            <a:off x="3492360" y="4653000"/>
            <a:ext cx="247968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1258920" y="191628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Самый тугоплавкий металл?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0" name="WordArt 8"/>
          <p:cNvSpPr txBox="1"/>
          <p:nvPr/>
        </p:nvSpPr>
        <p:spPr>
          <a:xfrm>
            <a:off x="755640" y="620640"/>
            <a:ext cx="756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е , самые   4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838080" y="1371600"/>
            <a:ext cx="63248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Самый тугоплавкий металл –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вольфрам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3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4" name="WordArt 8"/>
          <p:cNvSpPr txBox="1"/>
          <p:nvPr/>
        </p:nvSpPr>
        <p:spPr>
          <a:xfrm>
            <a:off x="755640" y="620640"/>
            <a:ext cx="748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е , самые   4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5" name="Picture 9" descr="Вольфрам"/>
          <p:cNvPicPr/>
          <p:nvPr/>
        </p:nvPicPr>
        <p:blipFill>
          <a:blip r:embed="rId1"/>
          <a:stretch/>
        </p:blipFill>
        <p:spPr>
          <a:xfrm rot="2694000">
            <a:off x="2752200" y="2654280"/>
            <a:ext cx="2946600" cy="52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685800" y="1371600"/>
            <a:ext cx="6324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8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9" name="WordArt 8"/>
          <p:cNvSpPr txBox="1"/>
          <p:nvPr/>
        </p:nvSpPr>
        <p:spPr>
          <a:xfrm>
            <a:off x="755640" y="620640"/>
            <a:ext cx="763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е , самые   5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0" name="Прямоугольник 6"/>
          <p:cNvSpPr/>
          <p:nvPr/>
        </p:nvSpPr>
        <p:spPr>
          <a:xfrm>
            <a:off x="943560" y="3198960"/>
            <a:ext cx="725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634"/>
                </a:solidFill>
                <a:latin typeface="Times New Roman"/>
              </a:rPr>
              <a:t>Самый тяжёлый металл?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685800" y="1371600"/>
            <a:ext cx="6324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3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4" name="WordArt 8"/>
          <p:cNvSpPr txBox="1"/>
          <p:nvPr/>
        </p:nvSpPr>
        <p:spPr>
          <a:xfrm>
            <a:off x="755640" y="620640"/>
            <a:ext cx="71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е , самые   5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5" name="Rectangle 10"/>
          <p:cNvSpPr/>
          <p:nvPr/>
        </p:nvSpPr>
        <p:spPr>
          <a:xfrm>
            <a:off x="684360" y="1628640"/>
            <a:ext cx="6840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634"/>
                </a:solidFill>
                <a:latin typeface="Times New Roman"/>
              </a:rPr>
              <a:t>Самый тяжелый металл – </a:t>
            </a:r>
            <a:r>
              <a:rPr b="1" lang="ru-RU" sz="6600" spc="-1" strike="noStrike">
                <a:solidFill>
                  <a:srgbClr val="c00000"/>
                </a:solidFill>
                <a:latin typeface="Times New Roman"/>
              </a:rPr>
              <a:t>осмий</a:t>
            </a:r>
            <a:endParaRPr b="0" lang="en-US" sz="6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36" name="Picture 8" descr="Кристаллы осмия чистотой 99,99 %, выращенные методом химического транспорта"/>
          <p:cNvPicPr/>
          <p:nvPr/>
        </p:nvPicPr>
        <p:blipFill>
          <a:blip r:embed="rId1"/>
          <a:stretch/>
        </p:blipFill>
        <p:spPr>
          <a:xfrm>
            <a:off x="1763640" y="3429000"/>
            <a:ext cx="496908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838080" y="213372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9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0" name="WordArt 8"/>
          <p:cNvSpPr txBox="1"/>
          <p:nvPr/>
        </p:nvSpPr>
        <p:spPr>
          <a:xfrm>
            <a:off x="611280" y="476280"/>
            <a:ext cx="7705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   10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1" name="Прямоугольник 5"/>
          <p:cNvSpPr/>
          <p:nvPr/>
        </p:nvSpPr>
        <p:spPr>
          <a:xfrm>
            <a:off x="324000" y="21337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Самый легкий орган человека?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Наш первый закон –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закон сохранения успеха: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Полный запас успеха всех команд постоянен, он может только переходить от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одной команды к другой.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00" name="Picture 5" descr="MPj02876410000[1]"/>
          <p:cNvPicPr/>
          <p:nvPr/>
        </p:nvPicPr>
        <p:blipFill>
          <a:blip r:embed="rId1"/>
          <a:stretch/>
        </p:blipFill>
        <p:spPr>
          <a:xfrm>
            <a:off x="7093080" y="4005360"/>
            <a:ext cx="195408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8080" y="213372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4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5" name="WordArt 8"/>
          <p:cNvSpPr txBox="1"/>
          <p:nvPr/>
        </p:nvSpPr>
        <p:spPr>
          <a:xfrm>
            <a:off x="611280" y="476280"/>
            <a:ext cx="7489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   10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6" name="Прямоугольник 5"/>
          <p:cNvSpPr/>
          <p:nvPr/>
        </p:nvSpPr>
        <p:spPr>
          <a:xfrm>
            <a:off x="539640" y="1628640"/>
            <a:ext cx="80647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Самый легкий орган человека-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легкие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47" name="Picture 8" descr="http://upload.wikimedia.org/wikipedia/commons/thumb/c/c7/Lungs_Ru.gif/300px-Lungs_Ru.gif"/>
          <p:cNvPicPr/>
          <p:nvPr/>
        </p:nvPicPr>
        <p:blipFill>
          <a:blip r:embed="rId1"/>
          <a:stretch/>
        </p:blipFill>
        <p:spPr>
          <a:xfrm>
            <a:off x="3132000" y="4149720"/>
            <a:ext cx="2857680" cy="23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4"/>
          <p:cNvSpPr/>
          <p:nvPr/>
        </p:nvSpPr>
        <p:spPr>
          <a:xfrm>
            <a:off x="762120" y="1628640"/>
            <a:ext cx="6324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9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0" name="WordArt 9"/>
          <p:cNvSpPr txBox="1"/>
          <p:nvPr/>
        </p:nvSpPr>
        <p:spPr>
          <a:xfrm>
            <a:off x="826920" y="692280"/>
            <a:ext cx="7705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   20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Прямоугольник 5"/>
          <p:cNvSpPr/>
          <p:nvPr/>
        </p:nvSpPr>
        <p:spPr>
          <a:xfrm>
            <a:off x="611280" y="3013200"/>
            <a:ext cx="77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Отдел нервной системы, координирующий движение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4"/>
          <p:cNvSpPr/>
          <p:nvPr/>
        </p:nvSpPr>
        <p:spPr>
          <a:xfrm>
            <a:off x="762120" y="1628640"/>
            <a:ext cx="6324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3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4" name="WordArt 9"/>
          <p:cNvSpPr txBox="1"/>
          <p:nvPr/>
        </p:nvSpPr>
        <p:spPr>
          <a:xfrm>
            <a:off x="826920" y="69228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   20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5" name="Прямоугольник 5"/>
          <p:cNvSpPr/>
          <p:nvPr/>
        </p:nvSpPr>
        <p:spPr>
          <a:xfrm>
            <a:off x="468360" y="1773360"/>
            <a:ext cx="79200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Отдел нервной системы, координирующий движение –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мозжечок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56" name="Picture 7" descr="Cerebellum NIH.png"/>
          <p:cNvPicPr/>
          <p:nvPr/>
        </p:nvPicPr>
        <p:blipFill>
          <a:blip r:embed="rId1"/>
          <a:stretch/>
        </p:blipFill>
        <p:spPr>
          <a:xfrm>
            <a:off x="2771640" y="4221000"/>
            <a:ext cx="3173400" cy="23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8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9" name="WordArt 8"/>
          <p:cNvSpPr txBox="1"/>
          <p:nvPr/>
        </p:nvSpPr>
        <p:spPr>
          <a:xfrm>
            <a:off x="611280" y="476280"/>
            <a:ext cx="75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  30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0" name="Прямоугольник 5"/>
          <p:cNvSpPr/>
          <p:nvPr/>
        </p:nvSpPr>
        <p:spPr>
          <a:xfrm>
            <a:off x="684360" y="1628640"/>
            <a:ext cx="799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Какой орган организма человека является «химической лабораторией»?</a:t>
            </a:r>
            <a:r>
              <a:rPr b="0" lang="ru-RU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2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3" name="WordArt 8"/>
          <p:cNvSpPr txBox="1"/>
          <p:nvPr/>
        </p:nvSpPr>
        <p:spPr>
          <a:xfrm>
            <a:off x="611280" y="476280"/>
            <a:ext cx="734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  30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4" name="Прямоугольник 5"/>
          <p:cNvSpPr/>
          <p:nvPr/>
        </p:nvSpPr>
        <p:spPr>
          <a:xfrm>
            <a:off x="684360" y="1628640"/>
            <a:ext cx="79912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Какой орган организма человека является «химической лабораторией»?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печень</a:t>
            </a:r>
            <a:r>
              <a:rPr b="0" lang="ru-RU" sz="6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65" name="Picture 7" descr="http://upload.wikimedia.org/wikipedia/commons/thumb/b/be/Anatomy_of_liver_and_gall_bladder.png/250px-Anatomy_of_liver_and_gall_bladder.png"/>
          <p:cNvPicPr/>
          <p:nvPr/>
        </p:nvPicPr>
        <p:blipFill>
          <a:blip r:embed="rId1"/>
          <a:stretch/>
        </p:blipFill>
        <p:spPr>
          <a:xfrm>
            <a:off x="3492360" y="4653000"/>
            <a:ext cx="238140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7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8" name="WordArt 8"/>
          <p:cNvSpPr txBox="1"/>
          <p:nvPr/>
        </p:nvSpPr>
        <p:spPr>
          <a:xfrm>
            <a:off x="611280" y="476280"/>
            <a:ext cx="7921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  40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9" name="Прямоугольник 5"/>
          <p:cNvSpPr/>
          <p:nvPr/>
        </p:nvSpPr>
        <p:spPr>
          <a:xfrm>
            <a:off x="395280" y="282888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Часть тела, количество которой не знает ни один владелец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1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2" name="WordArt 8"/>
          <p:cNvSpPr txBox="1"/>
          <p:nvPr/>
        </p:nvSpPr>
        <p:spPr>
          <a:xfrm>
            <a:off x="611280" y="476280"/>
            <a:ext cx="7489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  40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3" name="Прямоугольник 5"/>
          <p:cNvSpPr/>
          <p:nvPr/>
        </p:nvSpPr>
        <p:spPr>
          <a:xfrm>
            <a:off x="971640" y="1413000"/>
            <a:ext cx="6696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Часть тела, количество которой не знает ни один владелец –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волосы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74" name="Picture 7" descr="http://upload.wikimedia.org/wikipedia/commons/thumb/b/be/Anderson_Sophie_Young_Girl_Fixing_Her_Hair.jpg/220px-Anderson_Sophie_Young_Girl_Fixing_Her_Hair.jpg"/>
          <p:cNvPicPr/>
          <p:nvPr/>
        </p:nvPicPr>
        <p:blipFill>
          <a:blip r:embed="rId1"/>
          <a:stretch/>
        </p:blipFill>
        <p:spPr>
          <a:xfrm>
            <a:off x="3059280" y="3789360"/>
            <a:ext cx="2304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7" name="WordArt 8"/>
          <p:cNvSpPr txBox="1"/>
          <p:nvPr/>
        </p:nvSpPr>
        <p:spPr>
          <a:xfrm>
            <a:off x="611280" y="476280"/>
            <a:ext cx="7921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  50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8" name="Прямоугольник 5"/>
          <p:cNvSpPr/>
          <p:nvPr/>
        </p:nvSpPr>
        <p:spPr>
          <a:xfrm>
            <a:off x="755640" y="301320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634"/>
                </a:solidFill>
                <a:latin typeface="Times New Roman"/>
              </a:rPr>
              <a:t>Место «работы» бактерии кишечной палочки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0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1" name="WordArt 8"/>
          <p:cNvSpPr txBox="1"/>
          <p:nvPr/>
        </p:nvSpPr>
        <p:spPr>
          <a:xfrm>
            <a:off x="611280" y="476280"/>
            <a:ext cx="734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  50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2" name="Прямоугольник 5"/>
          <p:cNvSpPr/>
          <p:nvPr/>
        </p:nvSpPr>
        <p:spPr>
          <a:xfrm>
            <a:off x="826920" y="177336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634"/>
                </a:solidFill>
                <a:latin typeface="Times New Roman"/>
              </a:rPr>
              <a:t>Место «работы» бактерии кишечной палочки – 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аппендикс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83" name="Picture 7" descr="http://upload.wikimedia.org/wikipedia/commons/thumb/a/ad/Gray536.png/220px-Gray536.png"/>
          <p:cNvPicPr/>
          <p:nvPr/>
        </p:nvPicPr>
        <p:blipFill>
          <a:blip r:embed="rId1"/>
          <a:stretch/>
        </p:blipFill>
        <p:spPr>
          <a:xfrm>
            <a:off x="3276720" y="4221000"/>
            <a:ext cx="2827080" cy="22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1071720" y="1714680"/>
            <a:ext cx="64008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6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7" name="WordArt 8"/>
          <p:cNvSpPr txBox="1"/>
          <p:nvPr/>
        </p:nvSpPr>
        <p:spPr>
          <a:xfrm>
            <a:off x="611280" y="549360"/>
            <a:ext cx="7777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имические вещества10</a:t>
            </a:r>
            <a:endParaRPr b="1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8" name="TextBox 6"/>
          <p:cNvSpPr/>
          <p:nvPr/>
        </p:nvSpPr>
        <p:spPr>
          <a:xfrm>
            <a:off x="324000" y="227664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Научное название пищевой соды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торой закон –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Когда игроки тянут время, зрителей тянет к выходу.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Третий закон –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Наука + юмор = 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onst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. Чем больше науки, тем меньше юмора и наоборот.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03" name="Picture 6" descr="MPj04278210000[1]"/>
          <p:cNvPicPr/>
          <p:nvPr/>
        </p:nvPicPr>
        <p:blipFill>
          <a:blip r:embed="rId1"/>
          <a:stretch/>
        </p:blipFill>
        <p:spPr>
          <a:xfrm>
            <a:off x="647640" y="4869000"/>
            <a:ext cx="2590920" cy="17287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8" descr="MPj04073420000[1]"/>
          <p:cNvPicPr/>
          <p:nvPr/>
        </p:nvPicPr>
        <p:blipFill>
          <a:blip r:embed="rId2"/>
          <a:stretch/>
        </p:blipFill>
        <p:spPr>
          <a:xfrm>
            <a:off x="1979640" y="4869000"/>
            <a:ext cx="1339920" cy="17334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ak8927-001"/>
          <p:cNvPicPr/>
          <p:nvPr/>
        </p:nvPicPr>
        <p:blipFill>
          <a:blip r:embed="rId3"/>
          <a:stretch/>
        </p:blipFill>
        <p:spPr>
          <a:xfrm>
            <a:off x="7110360" y="4221000"/>
            <a:ext cx="1782720" cy="22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324000" y="1714680"/>
            <a:ext cx="7561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Научное название пищевой соды –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гидрокарбонат натрия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(NaHCO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1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2" name="WordArt 8"/>
          <p:cNvSpPr txBox="1"/>
          <p:nvPr/>
        </p:nvSpPr>
        <p:spPr>
          <a:xfrm>
            <a:off x="684360" y="549360"/>
            <a:ext cx="75596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имические вещества  10</a:t>
            </a:r>
            <a:endParaRPr b="1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3" name="TextBox 6"/>
          <p:cNvSpPr/>
          <p:nvPr/>
        </p:nvSpPr>
        <p:spPr>
          <a:xfrm>
            <a:off x="285840" y="1571760"/>
            <a:ext cx="8572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94" name="Picture 10" descr="soda_plastic"/>
          <p:cNvPicPr/>
          <p:nvPr/>
        </p:nvPicPr>
        <p:blipFill>
          <a:blip r:embed="rId1"/>
          <a:stretch/>
        </p:blipFill>
        <p:spPr>
          <a:xfrm>
            <a:off x="2843280" y="4581360"/>
            <a:ext cx="259236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3"/>
          <p:cNvSpPr/>
          <p:nvPr/>
        </p:nvSpPr>
        <p:spPr>
          <a:xfrm>
            <a:off x="838080" y="1600200"/>
            <a:ext cx="6400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6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7" name="WordArt 9"/>
          <p:cNvSpPr txBox="1"/>
          <p:nvPr/>
        </p:nvSpPr>
        <p:spPr>
          <a:xfrm>
            <a:off x="324000" y="549360"/>
            <a:ext cx="8424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имические вещества 20</a:t>
            </a:r>
            <a:endParaRPr b="1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1332000" y="1844640"/>
            <a:ext cx="6192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395280" y="196092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Самая легкая жидкость на свете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1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02" name="WordArt 9" descr=""/>
          <p:cNvPicPr/>
          <p:nvPr/>
        </p:nvPicPr>
        <p:blipFill>
          <a:blip r:embed="rId1"/>
          <a:stretch/>
        </p:blipFill>
        <p:spPr>
          <a:xfrm>
            <a:off x="536400" y="549360"/>
            <a:ext cx="7748640" cy="72540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10"/>
          <p:cNvSpPr/>
          <p:nvPr/>
        </p:nvSpPr>
        <p:spPr>
          <a:xfrm>
            <a:off x="1332000" y="1844640"/>
            <a:ext cx="6192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4" name="Прямоугольник 7"/>
          <p:cNvSpPr/>
          <p:nvPr/>
        </p:nvSpPr>
        <p:spPr>
          <a:xfrm>
            <a:off x="684360" y="1628640"/>
            <a:ext cx="712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Самая легкая жидкость 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на свете -  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идкий водород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05" name="Picture 8" descr="http://upload.wikimedia.org/wikipedia/commons/thumb/6/69/Linde-Wasserstofftank.JPG/240px-Linde-Wasserstofftank.JPG"/>
          <p:cNvPicPr/>
          <p:nvPr/>
        </p:nvPicPr>
        <p:blipFill>
          <a:blip r:embed="rId2"/>
          <a:stretch/>
        </p:blipFill>
        <p:spPr>
          <a:xfrm>
            <a:off x="2556000" y="409896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1258920" y="1413000"/>
            <a:ext cx="66657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8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9" name="WordArt 8"/>
          <p:cNvSpPr txBox="1"/>
          <p:nvPr/>
        </p:nvSpPr>
        <p:spPr>
          <a:xfrm>
            <a:off x="324000" y="549360"/>
            <a:ext cx="83516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имические вещества 30</a:t>
            </a:r>
            <a:endParaRPr b="1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0" name="Прямоугольник 6"/>
          <p:cNvSpPr/>
          <p:nvPr/>
        </p:nvSpPr>
        <p:spPr>
          <a:xfrm>
            <a:off x="900000" y="242100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634"/>
                </a:solidFill>
                <a:latin typeface="Times New Roman"/>
              </a:rPr>
              <a:t>Сплав меди с цинком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1219320" y="1413000"/>
            <a:ext cx="66657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3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4" name="WordArt 8"/>
          <p:cNvSpPr txBox="1"/>
          <p:nvPr/>
        </p:nvSpPr>
        <p:spPr>
          <a:xfrm>
            <a:off x="539640" y="549360"/>
            <a:ext cx="7632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имические вещества 30</a:t>
            </a:r>
            <a:endParaRPr b="1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Прямоугольник 6"/>
          <p:cNvSpPr/>
          <p:nvPr/>
        </p:nvSpPr>
        <p:spPr>
          <a:xfrm>
            <a:off x="755640" y="2133720"/>
            <a:ext cx="7272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Сплав меди с цинком –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латунь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16" name="Picture 8" descr="http://upload.wikimedia.org/wikipedia/commons/thumb/9/95/Brass.jpg/220px-Brass.jpg"/>
          <p:cNvPicPr/>
          <p:nvPr/>
        </p:nvPicPr>
        <p:blipFill>
          <a:blip r:embed="rId1"/>
          <a:stretch/>
        </p:blipFill>
        <p:spPr>
          <a:xfrm>
            <a:off x="2535120" y="3933720"/>
            <a:ext cx="390852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1143000" y="2057400"/>
            <a:ext cx="6705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Назовите жидкий металл и жидкий неметалл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(при обычных условиях)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9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0" name="WordArt 8"/>
          <p:cNvSpPr txBox="1"/>
          <p:nvPr/>
        </p:nvSpPr>
        <p:spPr>
          <a:xfrm>
            <a:off x="826920" y="549360"/>
            <a:ext cx="7417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имические вещества  40</a:t>
            </a:r>
            <a:endParaRPr b="1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1187280" y="1773360"/>
            <a:ext cx="6705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634"/>
                </a:solidFill>
                <a:latin typeface="Times New Roman"/>
              </a:rPr>
              <a:t>Жидкий металл –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туть (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Hg)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Жидкий неметалл –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бром (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Br)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3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4" name="WordArt 8"/>
          <p:cNvSpPr txBox="1"/>
          <p:nvPr/>
        </p:nvSpPr>
        <p:spPr>
          <a:xfrm>
            <a:off x="826920" y="549360"/>
            <a:ext cx="7417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имические вещества  40</a:t>
            </a:r>
            <a:endParaRPr b="1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5" name="Picture 7" descr="Жидкая ртуть в ампуле"/>
          <p:cNvPicPr/>
          <p:nvPr/>
        </p:nvPicPr>
        <p:blipFill>
          <a:blip r:embed="rId1"/>
          <a:stretch/>
        </p:blipFill>
        <p:spPr>
          <a:xfrm>
            <a:off x="324000" y="2492280"/>
            <a:ext cx="1904760" cy="14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6" name=""/>
          <p:cNvGraphicFramePr/>
          <p:nvPr/>
        </p:nvGraphicFramePr>
        <p:xfrm>
          <a:off x="6732720" y="2644920"/>
          <a:ext cx="1152360" cy="1544400"/>
        </p:xfrm>
        <a:graphic>
          <a:graphicData uri="http://schemas.openxmlformats.org/drawingml/2006/table">
            <a:tbl>
              <a:tblPr/>
              <a:tblGrid>
                <a:gridCol w="438120"/>
                <a:gridCol w="714240"/>
              </a:tblGrid>
              <a:tr h="4597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Ртуть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c0"/>
                    </a:solidFill>
                  </a:tcPr>
                </a:tc>
              </a:tr>
              <a:tr h="625320"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63634"/>
                          </a:solidFill>
                          <a:latin typeface="Georgia"/>
                        </a:rPr>
                        <a:t>Hg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00,59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360">
                <a:tc gridSpan="2">
                  <a:txBody>
                    <a:bodyPr lIns="38160" rIns="38160" tIns="38160" bIns="381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f</a:t>
                      </a:r>
                      <a:r>
                        <a:rPr b="0" lang="en-US" sz="1800" spc="-1" strike="noStrike" baseline="30000">
                          <a:solidFill>
                            <a:srgbClr val="463634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en-US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5d</a:t>
                      </a:r>
                      <a:r>
                        <a:rPr b="0" lang="en-US" sz="1800" spc="-1" strike="noStrike" baseline="30000">
                          <a:solidFill>
                            <a:srgbClr val="463634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6s</a:t>
                      </a:r>
                      <a:r>
                        <a:rPr b="0" lang="en-US" sz="1800" spc="-1" strike="noStrike" baseline="30000">
                          <a:solidFill>
                            <a:srgbClr val="463634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b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7" name="Picture 9" descr="Бром"/>
          <p:cNvPicPr/>
          <p:nvPr/>
        </p:nvPicPr>
        <p:blipFill>
          <a:blip r:embed="rId2"/>
          <a:stretch/>
        </p:blipFill>
        <p:spPr>
          <a:xfrm>
            <a:off x="1835280" y="4869000"/>
            <a:ext cx="1116000" cy="184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8" name=""/>
          <p:cNvGraphicFramePr/>
          <p:nvPr/>
        </p:nvGraphicFramePr>
        <p:xfrm>
          <a:off x="6227640" y="4983120"/>
          <a:ext cx="1368720" cy="1511280"/>
        </p:xfrm>
        <a:graphic>
          <a:graphicData uri="http://schemas.openxmlformats.org/drawingml/2006/table">
            <a:tbl>
              <a:tblPr/>
              <a:tblGrid>
                <a:gridCol w="506520"/>
                <a:gridCol w="862200"/>
              </a:tblGrid>
              <a:tr h="4428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Бром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625680"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63634"/>
                          </a:solidFill>
                          <a:latin typeface="Georgia"/>
                        </a:rPr>
                        <a:t>Br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79,904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800">
                <a:tc gridSpan="2">
                  <a:txBody>
                    <a:bodyPr lIns="38160" rIns="38160" tIns="38160" bIns="381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d</a:t>
                      </a:r>
                      <a:r>
                        <a:rPr b="0" lang="en-US" sz="1800" spc="-1" strike="noStrike" baseline="30000">
                          <a:solidFill>
                            <a:srgbClr val="463634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s</a:t>
                      </a:r>
                      <a:r>
                        <a:rPr b="0" lang="en-US" sz="1800" spc="-1" strike="noStrike" baseline="30000">
                          <a:solidFill>
                            <a:srgbClr val="463634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p</a:t>
                      </a:r>
                      <a:r>
                        <a:rPr b="0" lang="en-US" sz="1800" spc="-1" strike="noStrike" baseline="30000">
                          <a:solidFill>
                            <a:srgbClr val="463634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b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0" name="Text Box 4"/>
          <p:cNvSpPr/>
          <p:nvPr/>
        </p:nvSpPr>
        <p:spPr>
          <a:xfrm>
            <a:off x="1219320" y="1828800"/>
            <a:ext cx="5790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1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2" name="WordArt 8"/>
          <p:cNvSpPr txBox="1"/>
          <p:nvPr/>
        </p:nvSpPr>
        <p:spPr>
          <a:xfrm>
            <a:off x="755640" y="549360"/>
            <a:ext cx="7777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имические вещества  50</a:t>
            </a:r>
            <a:endParaRPr b="1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3" name="Прямоугольник 6"/>
          <p:cNvSpPr/>
          <p:nvPr/>
        </p:nvSpPr>
        <p:spPr>
          <a:xfrm>
            <a:off x="684360" y="2133720"/>
            <a:ext cx="799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634"/>
                </a:solidFill>
                <a:latin typeface="Times New Roman"/>
              </a:rPr>
              <a:t>Вещество, замедляющее реакцию 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1219320" y="1828800"/>
            <a:ext cx="5790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6" name="AutoShape 5"/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7" name="WordArt 8"/>
          <p:cNvSpPr txBox="1"/>
          <p:nvPr/>
        </p:nvSpPr>
        <p:spPr>
          <a:xfrm>
            <a:off x="611280" y="549360"/>
            <a:ext cx="7777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имические вещества  50</a:t>
            </a:r>
            <a:endParaRPr b="1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8" name="Прямоугольник 7"/>
          <p:cNvSpPr/>
          <p:nvPr/>
        </p:nvSpPr>
        <p:spPr>
          <a:xfrm>
            <a:off x="395280" y="1989000"/>
            <a:ext cx="79218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634"/>
                </a:solidFill>
                <a:latin typeface="Times New Roman"/>
              </a:rPr>
              <a:t>Вещество, замедляющее реакцию –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ингибитор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Девиз: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«На нашем турнире, друзья, инертным газом быть нельзя!»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08" name="Picture 7" descr="MPj04004250000[1]"/>
          <p:cNvPicPr/>
          <p:nvPr/>
        </p:nvPicPr>
        <p:blipFill>
          <a:blip r:embed="rId1"/>
          <a:stretch/>
        </p:blipFill>
        <p:spPr>
          <a:xfrm>
            <a:off x="5508720" y="3218040"/>
            <a:ext cx="3348000" cy="33098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2" descr="MPj04276010000[1]"/>
          <p:cNvPicPr/>
          <p:nvPr/>
        </p:nvPicPr>
        <p:blipFill>
          <a:blip r:embed="rId2"/>
          <a:stretch/>
        </p:blipFill>
        <p:spPr>
          <a:xfrm>
            <a:off x="179280" y="3500280"/>
            <a:ext cx="2090880" cy="31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3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Times New Roman"/>
              </a:rPr>
              <a:t>Представление команд</a:t>
            </a:r>
            <a:endParaRPr b="0" i="1" lang="en-US" sz="7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i="1" lang="ru-RU" sz="7200" spc="-1" strike="noStrike">
                <a:solidFill>
                  <a:srgbClr val="c00000"/>
                </a:solidFill>
                <a:latin typeface="Times New Roman"/>
              </a:rPr>
              <a:t>Правила игры: </a:t>
            </a:r>
            <a:br>
              <a:rPr sz="7200"/>
            </a:br>
            <a:endParaRPr b="0" i="1" lang="en-US" sz="7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42920" y="1267920"/>
            <a:ext cx="83152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3634"/>
                </a:solidFill>
                <a:latin typeface="Times New Roman"/>
              </a:rPr>
              <a:t>Команде на обсуждение ответа дается 30 секунд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63634"/>
                </a:solidFill>
                <a:latin typeface="Times New Roman"/>
              </a:rPr>
              <a:t>Если у членов команды нет ответа или дан неправильный ответ, у других команд появляется возможность зарабатывать баллы. Но при этом можно отвечать только один раз.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3"/>
          <p:cNvSpPr/>
          <p:nvPr/>
        </p:nvSpPr>
        <p:spPr>
          <a:xfrm>
            <a:off x="250920" y="1484280"/>
            <a:ext cx="3722760" cy="905040"/>
          </a:xfrm>
          <a:custGeom>
            <a:avLst/>
            <a:gdLst>
              <a:gd name="textAreaLeft" fmla="*/ 58680 w 3722760"/>
              <a:gd name="textAreaRight" fmla="*/ 3664080 w 3722760"/>
              <a:gd name="textAreaTop" fmla="*/ 58680 h 905040"/>
              <a:gd name="textAreaBottom" fmla="*/ 846360 h 905040"/>
            </a:gdLst>
            <a:ahLst/>
            <a:rect l="textAreaLeft" t="textAreaTop" r="textAreaRight" b="textAreaBottom"/>
            <a:pathLst>
              <a:path w="88822" h="21600">
                <a:moveTo>
                  <a:pt x="0" y="0"/>
                </a:moveTo>
                <a:lnTo>
                  <a:pt x="88822" y="0"/>
                </a:lnTo>
                <a:lnTo>
                  <a:pt x="88822" y="21600"/>
                </a:lnTo>
                <a:lnTo>
                  <a:pt x="0" y="21600"/>
                </a:lnTo>
                <a:close/>
              </a:path>
              <a:path fill="lightenLess" w="88822" h="21600">
                <a:moveTo>
                  <a:pt x="0" y="0"/>
                </a:moveTo>
                <a:lnTo>
                  <a:pt x="88822" y="0"/>
                </a:lnTo>
                <a:lnTo>
                  <a:pt x="87422" y="1400"/>
                </a:lnTo>
                <a:lnTo>
                  <a:pt x="1400" y="1400"/>
                </a:lnTo>
                <a:close/>
              </a:path>
              <a:path fill="darken" w="88822" h="21600">
                <a:moveTo>
                  <a:pt x="88822" y="0"/>
                </a:moveTo>
                <a:lnTo>
                  <a:pt x="88822" y="21600"/>
                </a:lnTo>
                <a:lnTo>
                  <a:pt x="87422" y="20200"/>
                </a:lnTo>
                <a:lnTo>
                  <a:pt x="87422" y="1400"/>
                </a:lnTo>
                <a:close/>
              </a:path>
              <a:path fill="darkenLess" w="88822" h="21600">
                <a:moveTo>
                  <a:pt x="88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422" y="20200"/>
                </a:lnTo>
                <a:close/>
              </a:path>
              <a:path fill="lighten" w="88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имические величин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5" name="AutoShape 6"/>
          <p:cNvSpPr/>
          <p:nvPr/>
        </p:nvSpPr>
        <p:spPr>
          <a:xfrm>
            <a:off x="250920" y="2637000"/>
            <a:ext cx="3722760" cy="995040"/>
          </a:xfrm>
          <a:custGeom>
            <a:avLst/>
            <a:gdLst>
              <a:gd name="textAreaLeft" fmla="*/ 64440 w 3722760"/>
              <a:gd name="textAreaRight" fmla="*/ 3658320 w 3722760"/>
              <a:gd name="textAreaTop" fmla="*/ 64440 h 995040"/>
              <a:gd name="textAreaBottom" fmla="*/ 930600 h 995040"/>
            </a:gdLst>
            <a:ahLst/>
            <a:rect l="textAreaLeft" t="textAreaTop" r="textAreaRight" b="textAreaBottom"/>
            <a:pathLst>
              <a:path w="80791" h="21600">
                <a:moveTo>
                  <a:pt x="0" y="0"/>
                </a:moveTo>
                <a:lnTo>
                  <a:pt x="80791" y="0"/>
                </a:lnTo>
                <a:lnTo>
                  <a:pt x="80791" y="21600"/>
                </a:lnTo>
                <a:lnTo>
                  <a:pt x="0" y="21600"/>
                </a:lnTo>
                <a:close/>
              </a:path>
              <a:path fill="lightenLess" w="80791" h="21600">
                <a:moveTo>
                  <a:pt x="0" y="0"/>
                </a:moveTo>
                <a:lnTo>
                  <a:pt x="80791" y="0"/>
                </a:lnTo>
                <a:lnTo>
                  <a:pt x="79391" y="1400"/>
                </a:lnTo>
                <a:lnTo>
                  <a:pt x="1400" y="1400"/>
                </a:lnTo>
                <a:close/>
              </a:path>
              <a:path fill="darken" w="80791" h="21600">
                <a:moveTo>
                  <a:pt x="80791" y="0"/>
                </a:moveTo>
                <a:lnTo>
                  <a:pt x="80791" y="21600"/>
                </a:lnTo>
                <a:lnTo>
                  <a:pt x="79391" y="20200"/>
                </a:lnTo>
                <a:lnTo>
                  <a:pt x="79391" y="1400"/>
                </a:lnTo>
                <a:close/>
              </a:path>
              <a:path fill="darkenLess" w="80791" h="21600">
                <a:moveTo>
                  <a:pt x="80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391" y="20200"/>
                </a:lnTo>
                <a:close/>
              </a:path>
              <a:path fill="lighten" w="80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Самые, самые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6" name="AutoShape 7"/>
          <p:cNvSpPr/>
          <p:nvPr/>
        </p:nvSpPr>
        <p:spPr>
          <a:xfrm>
            <a:off x="250920" y="3789360"/>
            <a:ext cx="3722760" cy="1084320"/>
          </a:xfrm>
          <a:custGeom>
            <a:avLst/>
            <a:gdLst>
              <a:gd name="textAreaLeft" fmla="*/ 70200 w 3722760"/>
              <a:gd name="textAreaRight" fmla="*/ 3652560 w 3722760"/>
              <a:gd name="textAreaTop" fmla="*/ 70200 h 1084320"/>
              <a:gd name="textAreaBottom" fmla="*/ 1014120 h 1084320"/>
            </a:gdLst>
            <a:ahLst/>
            <a:rect l="textAreaLeft" t="textAreaTop" r="textAreaRight" b="textAreaBottom"/>
            <a:pathLst>
              <a:path w="74141" h="21600">
                <a:moveTo>
                  <a:pt x="0" y="0"/>
                </a:moveTo>
                <a:lnTo>
                  <a:pt x="74141" y="0"/>
                </a:lnTo>
                <a:lnTo>
                  <a:pt x="74141" y="21600"/>
                </a:lnTo>
                <a:lnTo>
                  <a:pt x="0" y="21600"/>
                </a:lnTo>
                <a:close/>
              </a:path>
              <a:path fill="lightenLess" w="74141" h="21600">
                <a:moveTo>
                  <a:pt x="0" y="0"/>
                </a:moveTo>
                <a:lnTo>
                  <a:pt x="74141" y="0"/>
                </a:lnTo>
                <a:lnTo>
                  <a:pt x="72741" y="1400"/>
                </a:lnTo>
                <a:lnTo>
                  <a:pt x="1400" y="1400"/>
                </a:lnTo>
                <a:close/>
              </a:path>
              <a:path fill="darken" w="74141" h="21600">
                <a:moveTo>
                  <a:pt x="74141" y="0"/>
                </a:moveTo>
                <a:lnTo>
                  <a:pt x="74141" y="21600"/>
                </a:lnTo>
                <a:lnTo>
                  <a:pt x="72741" y="20200"/>
                </a:lnTo>
                <a:lnTo>
                  <a:pt x="72741" y="1400"/>
                </a:lnTo>
                <a:close/>
              </a:path>
              <a:path fill="darkenLess" w="74141" h="21600">
                <a:moveTo>
                  <a:pt x="74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741" y="20200"/>
                </a:lnTo>
                <a:close/>
              </a:path>
              <a:path fill="lighten" w="74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еловек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7" name="AutoShape 9"/>
          <p:cNvSpPr/>
          <p:nvPr/>
        </p:nvSpPr>
        <p:spPr>
          <a:xfrm>
            <a:off x="250920" y="5013360"/>
            <a:ext cx="3711600" cy="1082520"/>
          </a:xfrm>
          <a:custGeom>
            <a:avLst/>
            <a:gdLst>
              <a:gd name="textAreaLeft" fmla="*/ 69840 w 3711600"/>
              <a:gd name="textAreaRight" fmla="*/ 3641760 w 3711600"/>
              <a:gd name="textAreaTop" fmla="*/ 69840 h 1082520"/>
              <a:gd name="textAreaBottom" fmla="*/ 1012680 h 1082520"/>
            </a:gdLst>
            <a:ahLst/>
            <a:rect l="textAreaLeft" t="textAreaTop" r="textAreaRight" b="textAreaBottom"/>
            <a:pathLst>
              <a:path w="74042" h="21600">
                <a:moveTo>
                  <a:pt x="0" y="0"/>
                </a:moveTo>
                <a:lnTo>
                  <a:pt x="74042" y="0"/>
                </a:lnTo>
                <a:lnTo>
                  <a:pt x="74042" y="21600"/>
                </a:lnTo>
                <a:lnTo>
                  <a:pt x="0" y="21600"/>
                </a:lnTo>
                <a:close/>
              </a:path>
              <a:path fill="lightenLess" w="74042" h="21600">
                <a:moveTo>
                  <a:pt x="0" y="0"/>
                </a:moveTo>
                <a:lnTo>
                  <a:pt x="74042" y="0"/>
                </a:lnTo>
                <a:lnTo>
                  <a:pt x="72642" y="1400"/>
                </a:lnTo>
                <a:lnTo>
                  <a:pt x="1400" y="1400"/>
                </a:lnTo>
                <a:close/>
              </a:path>
              <a:path fill="darken" w="74042" h="21600">
                <a:moveTo>
                  <a:pt x="74042" y="0"/>
                </a:moveTo>
                <a:lnTo>
                  <a:pt x="74042" y="21600"/>
                </a:lnTo>
                <a:lnTo>
                  <a:pt x="72642" y="20200"/>
                </a:lnTo>
                <a:lnTo>
                  <a:pt x="72642" y="1400"/>
                </a:lnTo>
                <a:close/>
              </a:path>
              <a:path fill="darkenLess" w="74042" h="21600">
                <a:moveTo>
                  <a:pt x="74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42" y="20200"/>
                </a:lnTo>
                <a:close/>
              </a:path>
              <a:path fill="lighten" w="74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имические вещества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8" name="AutoShape 13">
            <a:hlinkClick r:id="rId1" action="ppaction://hlinksldjump"/>
          </p:cNvPr>
          <p:cNvSpPr/>
          <p:nvPr/>
        </p:nvSpPr>
        <p:spPr>
          <a:xfrm>
            <a:off x="5335560" y="1557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2" action="ppaction://hlinksldjump"/>
              </a:rPr>
              <a:t>2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9" name="AutoShape 14">
            <a:hlinkClick r:id="rId3" action="ppaction://hlinksldjump"/>
          </p:cNvPr>
          <p:cNvSpPr/>
          <p:nvPr/>
        </p:nvSpPr>
        <p:spPr>
          <a:xfrm>
            <a:off x="6249960" y="1557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4" action="ppaction://hlinksldjump"/>
              </a:rPr>
              <a:t>3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0" name="AutoShape 15">
            <a:hlinkClick r:id="rId5" action="ppaction://hlinksldjump"/>
          </p:cNvPr>
          <p:cNvSpPr/>
          <p:nvPr/>
        </p:nvSpPr>
        <p:spPr>
          <a:xfrm>
            <a:off x="8078760" y="1557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6" action="ppaction://hlinksldjump"/>
              </a:rPr>
              <a:t>5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1" name="AutoShape 16">
            <a:hlinkClick r:id="rId7" action="ppaction://hlinksldjump"/>
          </p:cNvPr>
          <p:cNvSpPr/>
          <p:nvPr/>
        </p:nvSpPr>
        <p:spPr>
          <a:xfrm>
            <a:off x="7164360" y="1557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8" action="ppaction://hlinksldjump"/>
              </a:rPr>
              <a:t>4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2" name="AutoShape 17">
            <a:hlinkClick r:id="rId9" action="ppaction://hlinksldjump"/>
          </p:cNvPr>
          <p:cNvSpPr/>
          <p:nvPr/>
        </p:nvSpPr>
        <p:spPr>
          <a:xfrm>
            <a:off x="4427640" y="2781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10" action="ppaction://hlinksldjump"/>
              </a:rPr>
              <a:t>1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3" name="AutoShape 19">
            <a:hlinkClick r:id="rId11" action="ppaction://hlinksldjump"/>
          </p:cNvPr>
          <p:cNvSpPr/>
          <p:nvPr/>
        </p:nvSpPr>
        <p:spPr>
          <a:xfrm>
            <a:off x="5342040" y="2781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12" action="ppaction://hlinksldjump"/>
              </a:rPr>
              <a:t>2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4" name="AutoShape 20">
            <a:hlinkClick r:id="rId13" action="ppaction://hlinksldjump"/>
          </p:cNvPr>
          <p:cNvSpPr/>
          <p:nvPr/>
        </p:nvSpPr>
        <p:spPr>
          <a:xfrm>
            <a:off x="6256440" y="2781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14" action="ppaction://hlinksldjump"/>
              </a:rPr>
              <a:t>3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5" name="AutoShape 21">
            <a:hlinkClick r:id="rId15" action="ppaction://hlinksldjump"/>
          </p:cNvPr>
          <p:cNvSpPr/>
          <p:nvPr/>
        </p:nvSpPr>
        <p:spPr>
          <a:xfrm>
            <a:off x="7170840" y="2781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16" action="ppaction://hlinksldjump"/>
              </a:rPr>
              <a:t>4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6" name="AutoShape 22">
            <a:hlinkClick r:id="rId17" action="ppaction://hlinksldjump"/>
          </p:cNvPr>
          <p:cNvSpPr/>
          <p:nvPr/>
        </p:nvSpPr>
        <p:spPr>
          <a:xfrm>
            <a:off x="8085240" y="2781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18" action="ppaction://hlinksldjump"/>
              </a:rPr>
              <a:t>5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7" name="AutoShape 23">
            <a:hlinkClick r:id="rId19" action="ppaction://hlinksldjump"/>
          </p:cNvPr>
          <p:cNvSpPr/>
          <p:nvPr/>
        </p:nvSpPr>
        <p:spPr>
          <a:xfrm>
            <a:off x="4427640" y="393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20" action="ppaction://hlinksldjump"/>
              </a:rPr>
              <a:t>1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8" name="AutoShape 24">
            <a:hlinkClick r:id="rId21" action="ppaction://hlinksldjump"/>
          </p:cNvPr>
          <p:cNvSpPr/>
          <p:nvPr/>
        </p:nvSpPr>
        <p:spPr>
          <a:xfrm>
            <a:off x="5292720" y="393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22" action="ppaction://hlinksldjump"/>
              </a:rPr>
              <a:t>2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9" name="AutoShape 25">
            <a:hlinkClick r:id="rId23" action="ppaction://hlinksldjump"/>
          </p:cNvPr>
          <p:cNvSpPr/>
          <p:nvPr/>
        </p:nvSpPr>
        <p:spPr>
          <a:xfrm>
            <a:off x="6227640" y="393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24" action="ppaction://hlinksldjump"/>
              </a:rPr>
              <a:t>3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0" name="AutoShape 26">
            <a:hlinkClick r:id="rId25" action="ppaction://hlinksldjump"/>
          </p:cNvPr>
          <p:cNvSpPr/>
          <p:nvPr/>
        </p:nvSpPr>
        <p:spPr>
          <a:xfrm>
            <a:off x="7236000" y="393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26" action="ppaction://hlinksldjump"/>
              </a:rPr>
              <a:t>4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1" name="AutoShape 27">
            <a:hlinkClick r:id="rId27" action="ppaction://hlinksldjump"/>
          </p:cNvPr>
          <p:cNvSpPr/>
          <p:nvPr/>
        </p:nvSpPr>
        <p:spPr>
          <a:xfrm>
            <a:off x="8101080" y="3933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28" action="ppaction://hlinksldjump"/>
              </a:rPr>
              <a:t>5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2" name="AutoShape 33">
            <a:hlinkClick r:id="rId29" action="ppaction://hlinksldjump"/>
          </p:cNvPr>
          <p:cNvSpPr/>
          <p:nvPr/>
        </p:nvSpPr>
        <p:spPr>
          <a:xfrm>
            <a:off x="4427640" y="5157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30" action="ppaction://hlinksldjump"/>
              </a:rPr>
              <a:t>1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3" name="AutoShape 34">
            <a:hlinkClick r:id="rId31" action="ppaction://hlinksldjump"/>
          </p:cNvPr>
          <p:cNvSpPr/>
          <p:nvPr/>
        </p:nvSpPr>
        <p:spPr>
          <a:xfrm>
            <a:off x="5342040" y="5157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32" action="ppaction://hlinksldjump"/>
              </a:rPr>
              <a:t>2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4" name="AutoShape 35">
            <a:hlinkClick r:id="rId33" action="ppaction://hlinksldjump"/>
          </p:cNvPr>
          <p:cNvSpPr/>
          <p:nvPr/>
        </p:nvSpPr>
        <p:spPr>
          <a:xfrm>
            <a:off x="6256440" y="5157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34" action="ppaction://hlinksldjump"/>
              </a:rPr>
              <a:t>3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5" name="AutoShape 36">
            <a:hlinkClick r:id="rId35" action="ppaction://hlinksldjump"/>
          </p:cNvPr>
          <p:cNvSpPr/>
          <p:nvPr/>
        </p:nvSpPr>
        <p:spPr>
          <a:xfrm>
            <a:off x="7170840" y="5157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36" action="ppaction://hlinksldjump"/>
              </a:rPr>
              <a:t>4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6" name="AutoShape 37">
            <a:hlinkClick r:id="rId37" action="ppaction://hlinksldjump"/>
          </p:cNvPr>
          <p:cNvSpPr/>
          <p:nvPr/>
        </p:nvSpPr>
        <p:spPr>
          <a:xfrm>
            <a:off x="8085240" y="5157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38" action="ppaction://hlinksldjump"/>
              </a:rPr>
              <a:t>5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7" name="Text Box 38"/>
          <p:cNvSpPr/>
          <p:nvPr/>
        </p:nvSpPr>
        <p:spPr>
          <a:xfrm>
            <a:off x="1295280" y="3808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Своя игра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8" name="AutoShape 17">
            <a:hlinkClick r:id="rId39" action="ppaction://hlinksldjump"/>
          </p:cNvPr>
          <p:cNvSpPr/>
          <p:nvPr/>
        </p:nvSpPr>
        <p:spPr>
          <a:xfrm>
            <a:off x="4427640" y="155736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bffff"/>
                </a:solidFill>
                <a:uFillTx/>
                <a:latin typeface="Times New Roman"/>
                <a:hlinkClick r:id="rId40" action="ppaction://hlinksldjump"/>
              </a:rPr>
              <a:t>10</a:t>
            </a:r>
            <a:endParaRPr b="0" lang="en-US" sz="3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3"/>
          <p:cNvSpPr/>
          <p:nvPr/>
        </p:nvSpPr>
        <p:spPr>
          <a:xfrm>
            <a:off x="8380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40" name="AutoShape 5">
            <a:hlinkClick r:id="rId1" action="ppaction://hlinksldjump"/>
          </p:cNvPr>
          <p:cNvSpPr/>
          <p:nvPr/>
        </p:nvSpPr>
        <p:spPr>
          <a:xfrm>
            <a:off x="792468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bffff"/>
                </a:solidFill>
                <a:uFillTx/>
                <a:latin typeface="Times New Roman"/>
                <a:hlinkClick r:id="rId2" action="ppaction://hlinksldjump"/>
              </a:rPr>
              <a:t>Мен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41" name="WordArt 9"/>
          <p:cNvSpPr txBox="1"/>
          <p:nvPr/>
        </p:nvSpPr>
        <p:spPr>
          <a:xfrm>
            <a:off x="611280" y="404640"/>
            <a:ext cx="79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ческие величины 1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684360" y="1773360"/>
            <a:ext cx="71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Единица количества вещества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10:43:04Z</dcterms:created>
  <dc:creator>Евдокимов</dc:creator>
  <dc:description/>
  <dc:language>en-US</dc:language>
  <cp:lastModifiedBy>Ришат</cp:lastModifiedBy>
  <dcterms:modified xsi:type="dcterms:W3CDTF">2016-12-03T09:53:49Z</dcterms:modified>
  <cp:revision>65</cp:revision>
  <dc:subject/>
  <dc:title>Презентация PowerPoint</dc:title>
</cp:coreProperties>
</file>