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17.jpeg" ContentType="image/jpeg"/>
  <Override PartName="/ppt/media/image23.gif" ContentType="image/gif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F58-2BC7-474E-9F98-1171A566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039C-D992-4ACA-B149-346D6D00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68CB8-E73A-4A55-B959-0362AD69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6B567-BA11-480B-8C76-C2BE48CA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92FA3-725F-4311-80BC-76E7311A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685F2-421C-4501-8EB4-E37529CA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9F27E-E349-4984-9B7D-6EB0EF0A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8AD54-749B-486C-AF66-9C35A5FF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7FFA1-F144-486F-B4E2-701E29A7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B6ECC-8D18-4C4E-BC30-2FD4D012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90C75-2C44-47A1-AD5C-71612A53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B5F64-E1AE-4B73-9E1B-7FE9823A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237-9FED-433F-BFB7-FD2FDAC8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CA232-AEC7-409B-9E06-975F010F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95C64-21AB-4057-A982-77673F15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BE9F3-DEFC-4F05-9D0F-D5917C77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512EA-6959-48FD-9E4A-9638F805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E3B29-6521-4FF3-A262-A000D241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8D635-99FC-49A8-8030-49D719E5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2050A-EFDF-40EB-95AD-FDAF349B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508FF-354B-4044-97F7-A18E387E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73805-F100-493F-8700-31D4FF9F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ECBD1-9131-4DA4-A398-F7E3208A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FC2-DAC3-4D91-A8BD-BF754CF6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FE9C6-7B0F-4868-AF7C-E6EE5C8D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BE4C6-6381-44C4-A5BB-320A5DC8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7331E-87FF-4769-899B-D9929696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570D7-FDD7-46F9-AC0A-41399E28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7E763-FB7B-421A-9F7E-08D1990D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B6689-8D2B-4DFF-84BF-BCEA1460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CE0E5-7CBE-451D-B00A-9089EBD1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76362-5711-4FED-8092-94C28A90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54AEF-959B-4817-8FBE-D67A1B6A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31728-32F6-4835-A301-DAE97DB6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6781-2883-421A-9DEF-6B8F70E8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BD1EF-7D0C-4D92-86B8-34C01FF6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3E8BC-6E12-4184-8A61-EAB6C062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51A4D-5F20-4A1A-B997-2B9229BA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69DC9-39AA-4F4E-8881-2D695866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61B6E-46CB-42D5-B9DF-5E2D0246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5DE5E-B773-407F-8DB1-DE726D18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0783B-469B-4551-85A9-283FFD7D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AF020-A460-44EB-8A59-C8364ED7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65A93-D4C7-4371-B9EB-4D2934EA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8891D-7C09-4AE5-A37D-98F49140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D6D1-9D32-4793-86E3-1EA7F4A3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3D121-FB9B-4C90-BB7F-B0D679B9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5E203-C520-40BF-801E-C2109BC6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E795A-4839-4658-B451-DA46D894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049D1-7F0D-4756-AFAC-80614BD9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D1D33-D9AE-45FB-83FE-4AADAF5A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0B65-FBA9-4DBE-89C0-DCDF7139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E318-7CBC-4D88-936F-CF11BA6D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D590-6E8A-41B1-A96F-51717D03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2174-93DE-49BD-AEBC-2DFCC362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FEFB-6E58-44BD-A325-0BE809E9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2EE-7109-41E5-A899-848929C8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9CE8-F4F7-48F1-AA07-D706846F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7220-A2FF-4E28-A3D7-84F2ADB3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EC43-377D-4758-92C7-7FB71EE4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A2D7-7815-4750-9F90-F9C8FF5A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7545-86B6-4B49-8EDA-5BE412B7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31858-6930-4B5C-9B2A-B2D6D7CD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0DED0-028B-4A06-ADBF-3838782E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B7452-57B4-4E8F-ADB0-5B226F2A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E3B02-2D90-45FC-A1F4-382C4464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91FF5-B166-44AB-BE92-0EE4ACC3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4E19-F219-4EC3-840A-64DD7B63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5BB62-E0B2-4137-AB2F-65EA0004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F271D-6295-4952-A004-AC08E0EF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5AC19-E98B-41F7-83A6-C2E92615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2200F-DB4C-45DB-A188-F3310E5F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2FC0F-34AD-4E6D-B145-0670414F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EFC71-3C8D-4A83-A2B4-E3A8A061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B9D99-B4E4-458A-87B4-A136EB54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35129-00CB-4451-A43E-C7FD36E0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46CD0-40BD-49D8-9BFC-87A48FD2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15187-DC0B-400C-8B1F-543F92C6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6526-C57E-4723-B862-9285B5E1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A8938-832E-4963-B39B-BECB8082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EB626-F436-45A6-A8D7-9FD01797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946E4-5E8A-4864-8D8D-9D4DFD0D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F1486-B571-470B-8737-5FE02F82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6714A-91E6-4CBA-B524-C665C970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90BE4-F5B8-4B24-92DC-B6370EEA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80BCC-A31A-4C0B-8BC3-88839FA4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267C2-9AC5-40A7-B748-B576A2B9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66273-6578-41A4-AE4E-AE6AA49F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E581B-7559-4818-8EFE-063033A0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761-337C-45D4-BCA6-F13BF5A1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9FF34-9342-410B-9F1C-0AB70187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2E38F-BDE6-41F8-876A-CE576978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5B05B-CF06-4A40-9444-8E724981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46CBB-0A1C-441E-AD7B-852CCD15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D875E-FE5B-4209-849C-E2FF3FD8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014A6-1785-448E-AC18-4C3CD65C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E38E8-C34E-46E4-8EEB-2344C6B3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D8EF6-BBAE-4DCF-8A7B-1FF01BE6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4D63B-ABA7-4371-A403-7863FB5B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14E9D-6EF5-4600-AD5B-69E1F299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F42D-B897-462E-96EE-7B973FDA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9E29C-073A-49FD-A48E-D9EA01E5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94520-91A1-484F-8504-9176626A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D2C11-6753-4A17-8C63-B39E3EEE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96B11-4611-4EE6-8A17-CE76B8E5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0BCDE-244C-4F72-84FE-358EA79C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203A7-77D8-47E2-8750-556AF54B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36611-3E79-4989-A62A-8E69DF18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6B08E-B7C3-4730-84D4-E03A3E56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437D3-FA71-4C79-AC18-EA4A1090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A449F-0163-4CCA-8F4A-40E7A431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7E0E-B1F9-43D8-9798-E429D0A8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D704E-5F08-4316-A3FE-50122A9B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7AABA-E634-4053-A003-9720E5F4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93761-7477-45D3-B43C-6580B217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BF395-72A8-41AE-9D97-1A9C558B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08988-FED3-45DF-A754-43D95FB3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8C983-C654-4517-A848-0840352E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9C70A-B865-4F62-88BC-935636BF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01168-A2A9-4575-B5C6-0B8498D1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68EE4-E992-4F51-9804-A956A55F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9C008-6A40-4E04-89A5-DC9C671C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F2F-15E3-4FAB-B32A-0B211F8F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A63B4-D614-448A-A951-32272CF6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CA10E-4176-43C0-9A34-50E8273A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D142E-A088-47B6-91CE-70552429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66C24-0C0A-447D-AA58-68E494AE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1948D-8889-4BE9-8686-84AC8881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11D9D-9EA8-4B19-B3B5-1F53475E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4BF16-D5E0-46E9-A8BC-77238B54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149BE-EB5F-4EDD-A242-1DFE7F54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0613B-6EEF-4CBA-A7C5-09637F4D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BBE90-FF76-486A-A5D3-2A5C6505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7C0-5F66-4952-85BE-AE0EE722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F9E6F-13B6-4C1B-B18B-20ACE521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2AEAF-5499-4D71-957F-642C9C9B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F8218-430A-4E4E-BFCB-983F7241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6F581-D204-48B8-B5D2-BAEFF91F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CFBD1-DCB5-49DF-AB57-49214266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E14A7-4A3F-43F6-9522-04736C33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82D07-270E-4E83-B6D5-7E1D516E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50E51-B0CD-407D-B415-0721DEF2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328DB-E6A5-44E8-BFDC-3700FF8F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7FA4D-1324-47F3-A9B2-C2456F98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3BB3-D374-4443-9B71-55E20A1A2E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64F3-7973-4682-8E75-E13138112F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448A-FFE1-4EF4-BBDD-871B228C2E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5823-48EE-498F-A391-EF0B072A714B}" type="slidenum">
              <a:rPr b="0" lang="ru-RU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9DA8-550E-4526-91D5-EBAFC1FF97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7520-EBA9-4A95-945E-955890A951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1848-15D7-45D8-853F-B6983B9308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705B-C75C-47ED-87A8-9B34D51E92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7E12-7365-48AD-942E-25473CD963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3818-DBA5-4B58-84C8-0BE6D87BFF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DB1A-63D2-4DBA-BF13-984DE95BE4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DEDF-934B-44FF-A12E-53C17FA252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32.xml"/><Relationship Id="rId12" Type="http://schemas.openxmlformats.org/officeDocument/2006/relationships/slide" Target="slide32.xml"/><Relationship Id="rId13" Type="http://schemas.openxmlformats.org/officeDocument/2006/relationships/slide" Target="slide34.xml"/><Relationship Id="rId14" Type="http://schemas.openxmlformats.org/officeDocument/2006/relationships/slide" Target="slide34.xml"/><Relationship Id="rId15" Type="http://schemas.openxmlformats.org/officeDocument/2006/relationships/slide" Target="slide36.xml"/><Relationship Id="rId16" Type="http://schemas.openxmlformats.org/officeDocument/2006/relationships/slide" Target="slide36.xml"/><Relationship Id="rId17" Type="http://schemas.openxmlformats.org/officeDocument/2006/relationships/slide" Target="slide38.xml"/><Relationship Id="rId18" Type="http://schemas.openxmlformats.org/officeDocument/2006/relationships/slide" Target="slide38.xml"/><Relationship Id="rId19" Type="http://schemas.openxmlformats.org/officeDocument/2006/relationships/slide" Target="slide40.xml"/><Relationship Id="rId20" Type="http://schemas.openxmlformats.org/officeDocument/2006/relationships/slide" Target="slide40.xml"/><Relationship Id="rId21" Type="http://schemas.openxmlformats.org/officeDocument/2006/relationships/slide" Target="slide22.xml"/><Relationship Id="rId22" Type="http://schemas.openxmlformats.org/officeDocument/2006/relationships/slide" Target="slide22.xml"/><Relationship Id="rId23" Type="http://schemas.openxmlformats.org/officeDocument/2006/relationships/slide" Target="slide24.xml"/><Relationship Id="rId24" Type="http://schemas.openxmlformats.org/officeDocument/2006/relationships/slide" Target="slide24.xml"/><Relationship Id="rId25" Type="http://schemas.openxmlformats.org/officeDocument/2006/relationships/slide" Target="slide26.xml"/><Relationship Id="rId26" Type="http://schemas.openxmlformats.org/officeDocument/2006/relationships/slide" Target="slide26.xml"/><Relationship Id="rId27" Type="http://schemas.openxmlformats.org/officeDocument/2006/relationships/slide" Target="slide28.xml"/><Relationship Id="rId28" Type="http://schemas.openxmlformats.org/officeDocument/2006/relationships/slide" Target="slide28.xml"/><Relationship Id="rId29" Type="http://schemas.openxmlformats.org/officeDocument/2006/relationships/slide" Target="slide30.xml"/><Relationship Id="rId30" Type="http://schemas.openxmlformats.org/officeDocument/2006/relationships/slide" Target="slide30.xml"/><Relationship Id="rId31" Type="http://schemas.openxmlformats.org/officeDocument/2006/relationships/slide" Target="slide22.xml"/><Relationship Id="rId32" Type="http://schemas.openxmlformats.org/officeDocument/2006/relationships/slide" Target="slide12.xml"/><Relationship Id="rId33" Type="http://schemas.openxmlformats.org/officeDocument/2006/relationships/slide" Target="slide24.xml"/><Relationship Id="rId34" Type="http://schemas.openxmlformats.org/officeDocument/2006/relationships/slide" Target="slide14.xml"/><Relationship Id="rId35" Type="http://schemas.openxmlformats.org/officeDocument/2006/relationships/slide" Target="slide26.xml"/><Relationship Id="rId36" Type="http://schemas.openxmlformats.org/officeDocument/2006/relationships/slide" Target="slide16.xml"/><Relationship Id="rId37" Type="http://schemas.openxmlformats.org/officeDocument/2006/relationships/slide" Target="slide28.xml"/><Relationship Id="rId38" Type="http://schemas.openxmlformats.org/officeDocument/2006/relationships/slide" Target="slide18.xml"/><Relationship Id="rId39" Type="http://schemas.openxmlformats.org/officeDocument/2006/relationships/slide" Target="slide30.xml"/><Relationship Id="rId40" Type="http://schemas.openxmlformats.org/officeDocument/2006/relationships/slide" Target="slide20.xml"/><Relationship Id="rId4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AutoShape 3"/>
          <p:cNvSpPr/>
          <p:nvPr/>
        </p:nvSpPr>
        <p:spPr>
          <a:xfrm>
            <a:off x="457200" y="1371600"/>
            <a:ext cx="3322800" cy="1120680"/>
          </a:xfrm>
          <a:custGeom>
            <a:avLst/>
            <a:gdLst>
              <a:gd name="textAreaLeft" fmla="*/ 72360 w 3322800"/>
              <a:gd name="textAreaRight" fmla="*/ 3250440 w 3322800"/>
              <a:gd name="textAreaTop" fmla="*/ 72360 h 1120680"/>
              <a:gd name="textAreaBottom" fmla="*/ 1048320 h 1120680"/>
            </a:gdLst>
            <a:ahLst/>
            <a:rect l="textAreaLeft" t="textAreaTop" r="textAreaRight" b="textAreaBottom"/>
            <a:pathLst>
              <a:path w="64030" h="21600">
                <a:moveTo>
                  <a:pt x="0" y="0"/>
                </a:moveTo>
                <a:lnTo>
                  <a:pt x="64030" y="0"/>
                </a:lnTo>
                <a:lnTo>
                  <a:pt x="64030" y="21600"/>
                </a:lnTo>
                <a:lnTo>
                  <a:pt x="0" y="21600"/>
                </a:lnTo>
                <a:close/>
              </a:path>
              <a:path fill="lightenLess" w="64030" h="21600">
                <a:moveTo>
                  <a:pt x="0" y="0"/>
                </a:moveTo>
                <a:lnTo>
                  <a:pt x="64030" y="0"/>
                </a:lnTo>
                <a:lnTo>
                  <a:pt x="62630" y="1400"/>
                </a:lnTo>
                <a:lnTo>
                  <a:pt x="1400" y="1400"/>
                </a:lnTo>
                <a:close/>
              </a:path>
              <a:path fill="darken" w="64030" h="21600">
                <a:moveTo>
                  <a:pt x="64030" y="0"/>
                </a:moveTo>
                <a:lnTo>
                  <a:pt x="64030" y="21600"/>
                </a:lnTo>
                <a:lnTo>
                  <a:pt x="62630" y="20200"/>
                </a:lnTo>
                <a:lnTo>
                  <a:pt x="62630" y="1400"/>
                </a:lnTo>
                <a:close/>
              </a:path>
              <a:path fill="darkenLess" w="64030" h="21600">
                <a:moveTo>
                  <a:pt x="64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630" y="20200"/>
                </a:lnTo>
                <a:close/>
              </a:path>
              <a:path fill="lighten" w="64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Химические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элементы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93" name="AutoShape 6"/>
          <p:cNvSpPr/>
          <p:nvPr/>
        </p:nvSpPr>
        <p:spPr>
          <a:xfrm>
            <a:off x="395280" y="2708280"/>
            <a:ext cx="3456000" cy="1368360"/>
          </a:xfrm>
          <a:custGeom>
            <a:avLst/>
            <a:gdLst>
              <a:gd name="textAreaLeft" fmla="*/ 88560 w 3456000"/>
              <a:gd name="textAreaRight" fmla="*/ 3367440 w 3456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54545" h="21600">
                <a:moveTo>
                  <a:pt x="0" y="0"/>
                </a:moveTo>
                <a:lnTo>
                  <a:pt x="54545" y="0"/>
                </a:lnTo>
                <a:lnTo>
                  <a:pt x="54545" y="21600"/>
                </a:lnTo>
                <a:lnTo>
                  <a:pt x="0" y="21600"/>
                </a:lnTo>
                <a:close/>
              </a:path>
              <a:path fill="lightenLess" w="54545" h="21600">
                <a:moveTo>
                  <a:pt x="0" y="0"/>
                </a:moveTo>
                <a:lnTo>
                  <a:pt x="54545" y="0"/>
                </a:lnTo>
                <a:lnTo>
                  <a:pt x="53145" y="1400"/>
                </a:lnTo>
                <a:lnTo>
                  <a:pt x="1400" y="1400"/>
                </a:lnTo>
                <a:close/>
              </a:path>
              <a:path fill="darken" w="54545" h="21600">
                <a:moveTo>
                  <a:pt x="54545" y="0"/>
                </a:moveTo>
                <a:lnTo>
                  <a:pt x="54545" y="21600"/>
                </a:lnTo>
                <a:lnTo>
                  <a:pt x="53145" y="20200"/>
                </a:lnTo>
                <a:lnTo>
                  <a:pt x="53145" y="1400"/>
                </a:lnTo>
                <a:close/>
              </a:path>
              <a:path fill="darkenLess" w="54545" h="21600">
                <a:moveTo>
                  <a:pt x="54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145" y="20200"/>
                </a:lnTo>
                <a:close/>
              </a:path>
              <a:path fill="lighten" w="54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 вам слабо?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94" name="AutoShape 7"/>
          <p:cNvSpPr/>
          <p:nvPr/>
        </p:nvSpPr>
        <p:spPr>
          <a:xfrm>
            <a:off x="395280" y="4149720"/>
            <a:ext cx="3456000" cy="973080"/>
          </a:xfrm>
          <a:custGeom>
            <a:avLst/>
            <a:gdLst>
              <a:gd name="textAreaLeft" fmla="*/ 63000 w 3456000"/>
              <a:gd name="textAreaRight" fmla="*/ 3393000 w 3456000"/>
              <a:gd name="textAreaTop" fmla="*/ 63000 h 973080"/>
              <a:gd name="textAreaBottom" fmla="*/ 910080 h 973080"/>
            </a:gdLst>
            <a:ahLst/>
            <a:rect l="textAreaLeft" t="textAreaTop" r="textAreaRight" b="textAreaBottom"/>
            <a:pathLst>
              <a:path w="76694" h="21600">
                <a:moveTo>
                  <a:pt x="0" y="0"/>
                </a:moveTo>
                <a:lnTo>
                  <a:pt x="76694" y="0"/>
                </a:lnTo>
                <a:lnTo>
                  <a:pt x="76694" y="21600"/>
                </a:lnTo>
                <a:lnTo>
                  <a:pt x="0" y="21600"/>
                </a:lnTo>
                <a:close/>
              </a:path>
              <a:path fill="lightenLess" w="76694" h="21600">
                <a:moveTo>
                  <a:pt x="0" y="0"/>
                </a:moveTo>
                <a:lnTo>
                  <a:pt x="76694" y="0"/>
                </a:lnTo>
                <a:lnTo>
                  <a:pt x="75294" y="1400"/>
                </a:lnTo>
                <a:lnTo>
                  <a:pt x="1400" y="1400"/>
                </a:lnTo>
                <a:close/>
              </a:path>
              <a:path fill="darken" w="76694" h="21600">
                <a:moveTo>
                  <a:pt x="76694" y="0"/>
                </a:moveTo>
                <a:lnTo>
                  <a:pt x="76694" y="21600"/>
                </a:lnTo>
                <a:lnTo>
                  <a:pt x="75294" y="20200"/>
                </a:lnTo>
                <a:lnTo>
                  <a:pt x="75294" y="1400"/>
                </a:lnTo>
                <a:close/>
              </a:path>
              <a:path fill="darkenLess" w="76694" h="21600">
                <a:moveTo>
                  <a:pt x="766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294" y="20200"/>
                </a:lnTo>
                <a:close/>
              </a:path>
              <a:path fill="lighten" w="766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А все таки , ЧТО?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95" name="AutoShape 9"/>
          <p:cNvSpPr/>
          <p:nvPr/>
        </p:nvSpPr>
        <p:spPr>
          <a:xfrm>
            <a:off x="324000" y="5300640"/>
            <a:ext cx="3504960" cy="866880"/>
          </a:xfrm>
          <a:custGeom>
            <a:avLst/>
            <a:gdLst>
              <a:gd name="textAreaLeft" fmla="*/ 56160 w 3504960"/>
              <a:gd name="textAreaRight" fmla="*/ 3448800 w 3504960"/>
              <a:gd name="textAreaTop" fmla="*/ 56160 h 866880"/>
              <a:gd name="textAreaBottom" fmla="*/ 810720 h 866880"/>
            </a:gdLst>
            <a:ahLst/>
            <a:rect l="textAreaLeft" t="textAreaTop" r="textAreaRight" b="textAreaBottom"/>
            <a:pathLst>
              <a:path w="87306" h="21600">
                <a:moveTo>
                  <a:pt x="0" y="0"/>
                </a:moveTo>
                <a:lnTo>
                  <a:pt x="87306" y="0"/>
                </a:lnTo>
                <a:lnTo>
                  <a:pt x="87306" y="21600"/>
                </a:lnTo>
                <a:lnTo>
                  <a:pt x="0" y="21600"/>
                </a:lnTo>
                <a:close/>
              </a:path>
              <a:path fill="lightenLess" w="87306" h="21600">
                <a:moveTo>
                  <a:pt x="0" y="0"/>
                </a:moveTo>
                <a:lnTo>
                  <a:pt x="87306" y="0"/>
                </a:lnTo>
                <a:lnTo>
                  <a:pt x="85906" y="1400"/>
                </a:lnTo>
                <a:lnTo>
                  <a:pt x="1400" y="1400"/>
                </a:lnTo>
                <a:close/>
              </a:path>
              <a:path fill="darken" w="87306" h="21600">
                <a:moveTo>
                  <a:pt x="87306" y="0"/>
                </a:moveTo>
                <a:lnTo>
                  <a:pt x="87306" y="21600"/>
                </a:lnTo>
                <a:lnTo>
                  <a:pt x="85906" y="20200"/>
                </a:lnTo>
                <a:lnTo>
                  <a:pt x="85906" y="1400"/>
                </a:lnTo>
                <a:close/>
              </a:path>
              <a:path fill="darkenLess" w="87306" h="21600">
                <a:moveTo>
                  <a:pt x="87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906" y="20200"/>
                </a:lnTo>
                <a:close/>
              </a:path>
              <a:path fill="lighten" w="87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Пища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96" name="AutoShape 11">
            <a:hlinkClick r:id="rId1" action="ppaction://hlinksldjump"/>
          </p:cNvPr>
          <p:cNvSpPr/>
          <p:nvPr/>
        </p:nvSpPr>
        <p:spPr>
          <a:xfrm>
            <a:off x="4356000" y="1557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2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97" name="AutoShape 13">
            <a:hlinkClick r:id="rId3" action="ppaction://hlinksldjump"/>
          </p:cNvPr>
          <p:cNvSpPr/>
          <p:nvPr/>
        </p:nvSpPr>
        <p:spPr>
          <a:xfrm>
            <a:off x="5270400" y="1557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4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98" name="AutoShape 14">
            <a:hlinkClick r:id="rId5" action="ppaction://hlinksldjump"/>
          </p:cNvPr>
          <p:cNvSpPr/>
          <p:nvPr/>
        </p:nvSpPr>
        <p:spPr>
          <a:xfrm>
            <a:off x="6184800" y="1557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6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99" name="AutoShape 15">
            <a:hlinkClick r:id="rId7" action="ppaction://hlinksldjump"/>
          </p:cNvPr>
          <p:cNvSpPr/>
          <p:nvPr/>
        </p:nvSpPr>
        <p:spPr>
          <a:xfrm>
            <a:off x="8013600" y="1557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10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0" name="AutoShape 16">
            <a:hlinkClick r:id="rId9" action="ppaction://hlinksldjump"/>
          </p:cNvPr>
          <p:cNvSpPr/>
          <p:nvPr/>
        </p:nvSpPr>
        <p:spPr>
          <a:xfrm>
            <a:off x="7099200" y="1557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8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1" name="AutoShape 33">
            <a:hlinkClick r:id="rId11" action="ppaction://hlinksldjump"/>
          </p:cNvPr>
          <p:cNvSpPr/>
          <p:nvPr/>
        </p:nvSpPr>
        <p:spPr>
          <a:xfrm>
            <a:off x="4356000" y="5373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2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2" name="AutoShape 34">
            <a:hlinkClick r:id="rId13" action="ppaction://hlinksldjump"/>
          </p:cNvPr>
          <p:cNvSpPr/>
          <p:nvPr/>
        </p:nvSpPr>
        <p:spPr>
          <a:xfrm>
            <a:off x="5270400" y="5373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4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3" name="AutoShape 35">
            <a:hlinkClick r:id="rId15" action="ppaction://hlinksldjump"/>
          </p:cNvPr>
          <p:cNvSpPr/>
          <p:nvPr/>
        </p:nvSpPr>
        <p:spPr>
          <a:xfrm>
            <a:off x="6184800" y="5373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6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4" name="AutoShape 36">
            <a:hlinkClick r:id="rId17" action="ppaction://hlinksldjump"/>
          </p:cNvPr>
          <p:cNvSpPr/>
          <p:nvPr/>
        </p:nvSpPr>
        <p:spPr>
          <a:xfrm>
            <a:off x="7099200" y="5373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8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5" name="AutoShape 37">
            <a:hlinkClick r:id="rId19" action="ppaction://hlinksldjump"/>
          </p:cNvPr>
          <p:cNvSpPr/>
          <p:nvPr/>
        </p:nvSpPr>
        <p:spPr>
          <a:xfrm>
            <a:off x="8013600" y="5373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100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6" name="Text Box 38"/>
          <p:cNvSpPr/>
          <p:nvPr/>
        </p:nvSpPr>
        <p:spPr>
          <a:xfrm>
            <a:off x="1295280" y="3808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Своя игра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7" name="AutoShape 40">
            <a:hlinkClick r:id="rId21" action="ppaction://hlinksldjump"/>
          </p:cNvPr>
          <p:cNvSpPr/>
          <p:nvPr/>
        </p:nvSpPr>
        <p:spPr>
          <a:xfrm>
            <a:off x="4356000" y="429264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2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8" name="AutoShape 41">
            <a:hlinkClick r:id="rId23" action="ppaction://hlinksldjump"/>
          </p:cNvPr>
          <p:cNvSpPr/>
          <p:nvPr/>
        </p:nvSpPr>
        <p:spPr>
          <a:xfrm>
            <a:off x="5270400" y="429264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9" name="AutoShape 42">
            <a:hlinkClick r:id="rId25" action="ppaction://hlinksldjump"/>
          </p:cNvPr>
          <p:cNvSpPr/>
          <p:nvPr/>
        </p:nvSpPr>
        <p:spPr>
          <a:xfrm>
            <a:off x="6184800" y="429264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6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0" name="AutoShape 43">
            <a:hlinkClick r:id="rId27" action="ppaction://hlinksldjump"/>
          </p:cNvPr>
          <p:cNvSpPr/>
          <p:nvPr/>
        </p:nvSpPr>
        <p:spPr>
          <a:xfrm>
            <a:off x="7099200" y="429264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8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1" name="AutoShape 44">
            <a:hlinkClick r:id="rId29" action="ppaction://hlinksldjump"/>
          </p:cNvPr>
          <p:cNvSpPr/>
          <p:nvPr/>
        </p:nvSpPr>
        <p:spPr>
          <a:xfrm>
            <a:off x="8013600" y="429264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100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2" name="AutoShape 45">
            <a:hlinkClick r:id="rId31" action="ppaction://hlinksldjump"/>
          </p:cNvPr>
          <p:cNvSpPr/>
          <p:nvPr/>
        </p:nvSpPr>
        <p:spPr>
          <a:xfrm>
            <a:off x="4284720" y="2997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2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3" name="AutoShape 46">
            <a:hlinkClick r:id="rId33" action="ppaction://hlinksldjump"/>
          </p:cNvPr>
          <p:cNvSpPr/>
          <p:nvPr/>
        </p:nvSpPr>
        <p:spPr>
          <a:xfrm>
            <a:off x="5199120" y="2997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4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4" name="AutoShape 47">
            <a:hlinkClick r:id="rId35" action="ppaction://hlinksldjump"/>
          </p:cNvPr>
          <p:cNvSpPr/>
          <p:nvPr/>
        </p:nvSpPr>
        <p:spPr>
          <a:xfrm>
            <a:off x="6280200" y="2997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hlinkClick r:id="rId36" action="ppaction://hlinksldjump"/>
              </a:rPr>
              <a:t>6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5" name="AutoShape 48">
            <a:hlinkClick r:id="rId37" action="ppaction://hlinksldjump"/>
          </p:cNvPr>
          <p:cNvSpPr/>
          <p:nvPr/>
        </p:nvSpPr>
        <p:spPr>
          <a:xfrm>
            <a:off x="7215120" y="2997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hlinkClick r:id="rId38" action="ppaction://hlinksldjump"/>
              </a:rPr>
              <a:t>8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6" name="AutoShape 49">
            <a:hlinkClick r:id="rId39" action="ppaction://hlinksldjump"/>
          </p:cNvPr>
          <p:cNvSpPr/>
          <p:nvPr/>
        </p:nvSpPr>
        <p:spPr>
          <a:xfrm>
            <a:off x="8151840" y="2997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ca9c"/>
            </a:gs>
            <a:gs pos="50000">
              <a:srgbClr val="ffffff"/>
            </a:gs>
            <a:gs pos="100000">
              <a:srgbClr val="daca9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762120" y="2362320"/>
            <a:ext cx="6324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52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53" name="WordArt 8"/>
          <p:cNvSpPr txBox="1"/>
          <p:nvPr/>
        </p:nvSpPr>
        <p:spPr>
          <a:xfrm>
            <a:off x="468360" y="620640"/>
            <a:ext cx="7991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Химические  элементы 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554" name="Прямоугольник 5"/>
          <p:cNvSpPr/>
          <p:nvPr/>
        </p:nvSpPr>
        <p:spPr>
          <a:xfrm>
            <a:off x="468360" y="282888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Избыток ионов этого элемента может вызвать жажду и даже обезвоживание организма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762120" y="2362320"/>
            <a:ext cx="6324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57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58" name="WordArt 8"/>
          <p:cNvSpPr txBox="1"/>
          <p:nvPr/>
        </p:nvSpPr>
        <p:spPr>
          <a:xfrm>
            <a:off x="468360" y="620640"/>
            <a:ext cx="7991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Химические  элементы 10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559" name="Прямоугольник 5"/>
          <p:cNvSpPr/>
          <p:nvPr/>
        </p:nvSpPr>
        <p:spPr>
          <a:xfrm>
            <a:off x="1042920" y="1700280"/>
            <a:ext cx="6985080" cy="37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Избыток ионов этого элемента может вызвать жажду и даже обезвоживание </a:t>
            </a:r>
            <a:r>
              <a:rPr b="1" lang="en-US" sz="4000" spc="-1" strike="noStrike">
                <a:solidFill>
                  <a:srgbClr val="463634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организма –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       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натрий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60" name="Picture 8" descr="http://upload.wikimedia.org/wikipedia/commons/thumb/b/bb/Sodium_metal_chunks_in_oil.jpg/250px-Sodium_metal_chunks_in_oil.jpg"/>
          <p:cNvPicPr/>
          <p:nvPr/>
        </p:nvPicPr>
        <p:blipFill>
          <a:blip r:embed="rId2"/>
          <a:stretch/>
        </p:blipFill>
        <p:spPr>
          <a:xfrm>
            <a:off x="1187280" y="3789360"/>
            <a:ext cx="180504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2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3" name="WordArt 8"/>
          <p:cNvSpPr txBox="1"/>
          <p:nvPr/>
        </p:nvSpPr>
        <p:spPr>
          <a:xfrm>
            <a:off x="395280" y="476280"/>
            <a:ext cx="8353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Impact"/>
              </a:rPr>
              <a:t>А вам слабо? 2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Impact"/>
              <a:ea typeface="Impact"/>
            </a:endParaRPr>
          </a:p>
        </p:txBody>
      </p:sp>
      <p:sp>
        <p:nvSpPr>
          <p:cNvPr id="564" name="Прямоугольник 5"/>
          <p:cNvSpPr/>
          <p:nvPr/>
        </p:nvSpPr>
        <p:spPr>
          <a:xfrm>
            <a:off x="395280" y="191628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634"/>
                </a:solidFill>
                <a:latin typeface="Times New Roman"/>
              </a:rPr>
              <a:t>Если верить древнему историку, то во время походов Александра Македонского в Индию офицеры его армии болели желудочно-кишечными заболеваниями гораздо реже, чем солдаты. Пища у них была одинаковая, а вот посуда для готовки разная. Из какого металла изготавливали офицерскую посуду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6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7" name="WordArt 8"/>
          <p:cNvSpPr txBox="1"/>
          <p:nvPr/>
        </p:nvSpPr>
        <p:spPr>
          <a:xfrm>
            <a:off x="395280" y="476280"/>
            <a:ext cx="8353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Impact"/>
              </a:rPr>
              <a:t>А вам слабо? 2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Impact"/>
              <a:ea typeface="Impact"/>
            </a:endParaRPr>
          </a:p>
        </p:txBody>
      </p:sp>
      <p:sp>
        <p:nvSpPr>
          <p:cNvPr id="568" name="Прямоугольник 5"/>
          <p:cNvSpPr/>
          <p:nvPr/>
        </p:nvSpPr>
        <p:spPr>
          <a:xfrm>
            <a:off x="468360" y="1700280"/>
            <a:ext cx="828036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Из какого металла изготавливали офицерскую посуду?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9" name="Прямоугольник 6"/>
          <p:cNvSpPr/>
          <p:nvPr/>
        </p:nvSpPr>
        <p:spPr>
          <a:xfrm>
            <a:off x="826920" y="3013200"/>
            <a:ext cx="68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Из серебра, обладающего бактерицидными свойствами.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0" name="Picture 8" descr="TWO Wallace Silver Company Sterling Silver Lucerne Teaspoons"/>
          <p:cNvPicPr/>
          <p:nvPr/>
        </p:nvPicPr>
        <p:blipFill>
          <a:blip r:embed="rId2"/>
          <a:stretch/>
        </p:blipFill>
        <p:spPr>
          <a:xfrm rot="19917600">
            <a:off x="1181160" y="4435200"/>
            <a:ext cx="1147680" cy="21603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0" descr="Vintage 1847 Rogers. Bros XS Triple Silverplate Grapes Pattern Meat Serving Fork"/>
          <p:cNvPicPr/>
          <p:nvPr/>
        </p:nvPicPr>
        <p:blipFill>
          <a:blip r:embed="rId3"/>
          <a:stretch/>
        </p:blipFill>
        <p:spPr>
          <a:xfrm rot="12104400">
            <a:off x="6070320" y="4525200"/>
            <a:ext cx="14288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3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4" name="WordArt 8"/>
          <p:cNvSpPr txBox="1"/>
          <p:nvPr/>
        </p:nvSpPr>
        <p:spPr>
          <a:xfrm>
            <a:off x="250920" y="476280"/>
            <a:ext cx="871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Impact"/>
              </a:rPr>
              <a:t>А вам слабо?  4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Impact"/>
              <a:ea typeface="Impact"/>
            </a:endParaRPr>
          </a:p>
        </p:txBody>
      </p:sp>
      <p:sp>
        <p:nvSpPr>
          <p:cNvPr id="575" name="Прямоугольник 5"/>
          <p:cNvSpPr/>
          <p:nvPr/>
        </p:nvSpPr>
        <p:spPr>
          <a:xfrm>
            <a:off x="468360" y="2060640"/>
            <a:ext cx="8351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В отваре этого растения купают младенцев. Его называют: золотушная трава, козьи рожки, стрелка, а каково научное название растения?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7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8" name="WordArt 8"/>
          <p:cNvSpPr txBox="1"/>
          <p:nvPr/>
        </p:nvSpPr>
        <p:spPr>
          <a:xfrm>
            <a:off x="250920" y="476280"/>
            <a:ext cx="871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Impact"/>
              </a:rPr>
              <a:t>А вам слабо?  4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Impact"/>
              <a:ea typeface="Impact"/>
            </a:endParaRPr>
          </a:p>
        </p:txBody>
      </p:sp>
      <p:sp>
        <p:nvSpPr>
          <p:cNvPr id="579" name="Прямоугольник 5"/>
          <p:cNvSpPr/>
          <p:nvPr/>
        </p:nvSpPr>
        <p:spPr>
          <a:xfrm>
            <a:off x="468360" y="1557360"/>
            <a:ext cx="835164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В отваре этого растения купают младенцев. Его называют: золотушная трава, козьи рожки, стрелка, а каково научное название растения?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Череда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80" name="Picture 7" descr="Череда трёхраздельная"/>
          <p:cNvPicPr/>
          <p:nvPr/>
        </p:nvPicPr>
        <p:blipFill>
          <a:blip r:embed="rId2"/>
          <a:stretch/>
        </p:blipFill>
        <p:spPr>
          <a:xfrm>
            <a:off x="250920" y="4221000"/>
            <a:ext cx="1822320" cy="24260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9" descr="Череда трёхраздельная"/>
          <p:cNvPicPr/>
          <p:nvPr/>
        </p:nvPicPr>
        <p:blipFill>
          <a:blip r:embed="rId3"/>
          <a:stretch/>
        </p:blipFill>
        <p:spPr>
          <a:xfrm>
            <a:off x="6443640" y="4869000"/>
            <a:ext cx="1252440" cy="176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250920" y="1413000"/>
            <a:ext cx="8281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634"/>
                </a:solidFill>
                <a:latin typeface="Times New Roman"/>
              </a:rPr>
              <a:t>В 1845 году немецкий химик Христофор Шенбейн нечаянно пролил на пол смесь серной и азотной кислот. Он машинально вытер пол хлопчатобумажным фартуком жены, прополоскал его и повесил сушиться над печкой. Фартук подсох, но затем раздался не очень громкий взрыв и фартука не стало. Какое вещество разрушило фартук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4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5" name="WordArt 8"/>
          <p:cNvSpPr txBox="1"/>
          <p:nvPr/>
        </p:nvSpPr>
        <p:spPr>
          <a:xfrm>
            <a:off x="395280" y="476280"/>
            <a:ext cx="8353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Impact"/>
              </a:rPr>
              <a:t>А вам слабо? 6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250920" y="1413000"/>
            <a:ext cx="82818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3634"/>
                </a:solidFill>
                <a:latin typeface="Times New Roman"/>
              </a:rPr>
              <a:t>В 1845 году немецкий химик Христофор Шенбейн нечаянно пролил на пол смесь серной и азотной кислот. Он машинально вытер пол хлопчатобумажным фартуком жены, прополоскал его и повесил сушиться над печкой. Фартук подсох, но затем раздался не очень громкий взрыв и фартука не стало. Какое вещество разрушило фартук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8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9" name="WordArt 8"/>
          <p:cNvSpPr txBox="1"/>
          <p:nvPr/>
        </p:nvSpPr>
        <p:spPr>
          <a:xfrm>
            <a:off x="395280" y="476280"/>
            <a:ext cx="8353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Impact"/>
              </a:rPr>
              <a:t>А вам слабо? 6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Impact"/>
              <a:ea typeface="Impact"/>
            </a:endParaRPr>
          </a:p>
        </p:txBody>
      </p:sp>
      <p:sp>
        <p:nvSpPr>
          <p:cNvPr id="590" name="Прямоугольник 5"/>
          <p:cNvSpPr/>
          <p:nvPr/>
        </p:nvSpPr>
        <p:spPr>
          <a:xfrm>
            <a:off x="468360" y="3198960"/>
            <a:ext cx="82072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тринитроцеллюлоза - порох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91" name="Picture 8" descr="Пироксилин"/>
          <p:cNvPicPr/>
          <p:nvPr/>
        </p:nvPicPr>
        <p:blipFill>
          <a:blip r:embed="rId2"/>
          <a:stretch/>
        </p:blipFill>
        <p:spPr>
          <a:xfrm>
            <a:off x="3203640" y="5445000"/>
            <a:ext cx="1904760" cy="12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324000" y="1371600"/>
            <a:ext cx="84960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634"/>
                </a:solidFill>
                <a:latin typeface="Times New Roman"/>
              </a:rPr>
              <a:t>Этот путешественник совершил великое открытие, которое потрясло весь мир. Со вторым открытием люди борются до сих пор во всем мире.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634"/>
                </a:solidFill>
                <a:latin typeface="Times New Roman"/>
              </a:rPr>
              <a:t>Вопрос</a:t>
            </a:r>
            <a:r>
              <a:rPr b="1" lang="ru-RU" sz="3200" spc="-1" strike="noStrike">
                <a:solidFill>
                  <a:srgbClr val="463634"/>
                </a:solidFill>
                <a:latin typeface="Times New Roman"/>
              </a:rPr>
              <a:t>: назовите имя этого путешественника и два открытия, о которых знает весь мир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94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95" name="WordArt 8"/>
          <p:cNvSpPr txBox="1"/>
          <p:nvPr/>
        </p:nvSpPr>
        <p:spPr>
          <a:xfrm>
            <a:off x="324000" y="476280"/>
            <a:ext cx="8424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Impact"/>
              </a:rPr>
              <a:t>А вам слабо?  8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Impact"/>
              <a:ea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324000" y="1371600"/>
            <a:ext cx="849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98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99" name="WordArt 8"/>
          <p:cNvSpPr txBox="1"/>
          <p:nvPr/>
        </p:nvSpPr>
        <p:spPr>
          <a:xfrm>
            <a:off x="324000" y="476280"/>
            <a:ext cx="8424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Impact"/>
              </a:rPr>
              <a:t>А вам слабо?  8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Impact"/>
              <a:ea typeface="Impact"/>
            </a:endParaRPr>
          </a:p>
        </p:txBody>
      </p:sp>
      <p:sp>
        <p:nvSpPr>
          <p:cNvPr id="600" name="Прямоугольник 6"/>
          <p:cNvSpPr/>
          <p:nvPr/>
        </p:nvSpPr>
        <p:spPr>
          <a:xfrm>
            <a:off x="1547640" y="1700280"/>
            <a:ext cx="720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Колумб является первооткрывателем нового материка, но именно с его экспедицией в Европу был завезен табак.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 курением люди борются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о сей день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01" name="Picture 8" descr="Портрет"/>
          <p:cNvPicPr/>
          <p:nvPr/>
        </p:nvPicPr>
        <p:blipFill>
          <a:blip r:embed="rId2"/>
          <a:stretch/>
        </p:blipFill>
        <p:spPr>
          <a:xfrm>
            <a:off x="179280" y="1773360"/>
            <a:ext cx="1905120" cy="22953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0" descr="Табак (Tobacco). История табака."/>
          <p:cNvPicPr/>
          <p:nvPr/>
        </p:nvPicPr>
        <p:blipFill>
          <a:blip r:embed="rId3"/>
          <a:stretch/>
        </p:blipFill>
        <p:spPr>
          <a:xfrm>
            <a:off x="179280" y="4365720"/>
            <a:ext cx="2046240" cy="2232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2" descr="Lady Smoking Edo Period Egoyomi 18th century"/>
          <p:cNvPicPr/>
          <p:nvPr/>
        </p:nvPicPr>
        <p:blipFill>
          <a:blip r:embed="rId4"/>
          <a:stretch/>
        </p:blipFill>
        <p:spPr>
          <a:xfrm>
            <a:off x="6443640" y="5157720"/>
            <a:ext cx="1428840" cy="15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aca9c"/>
            </a:gs>
            <a:gs pos="50000">
              <a:srgbClr val="ffffff"/>
            </a:gs>
            <a:gs pos="100000">
              <a:srgbClr val="daca9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755640" y="184464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Металл, необходимый в составе костей скелета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9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0" name="WordArt 9"/>
          <p:cNvSpPr txBox="1"/>
          <p:nvPr/>
        </p:nvSpPr>
        <p:spPr>
          <a:xfrm>
            <a:off x="539640" y="404640"/>
            <a:ext cx="7848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Химические элементы 2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pic>
        <p:nvPicPr>
          <p:cNvPr id="521" name="Picture 7" descr="http://upload.wikimedia.org/wikipedia/commons/thumb/8/89/Human_skeleton_front_ru.svg/436px-Human_skeleton_front_ru.svg.png"/>
          <p:cNvPicPr/>
          <p:nvPr/>
        </p:nvPicPr>
        <p:blipFill>
          <a:blip r:embed="rId2"/>
          <a:stretch/>
        </p:blipFill>
        <p:spPr>
          <a:xfrm>
            <a:off x="1187280" y="3290760"/>
            <a:ext cx="20894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108000" y="1371600"/>
            <a:ext cx="85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7" name="WordArt 8"/>
          <p:cNvSpPr txBox="1"/>
          <p:nvPr/>
        </p:nvSpPr>
        <p:spPr>
          <a:xfrm>
            <a:off x="324000" y="476280"/>
            <a:ext cx="8424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Impact"/>
              </a:rPr>
              <a:t>А вам слабо? 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Impact"/>
              <a:ea typeface="Impact"/>
            </a:endParaRPr>
          </a:p>
        </p:txBody>
      </p:sp>
      <p:sp>
        <p:nvSpPr>
          <p:cNvPr id="608" name="Прямоугольник 5"/>
          <p:cNvSpPr/>
          <p:nvPr/>
        </p:nvSpPr>
        <p:spPr>
          <a:xfrm>
            <a:off x="539640" y="2274840"/>
            <a:ext cx="79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Сердце – двигатель огромной работоспособности. В сутки оно делает около 100 тысяч ударов. А сколько времени сердце отдыхает у 60-летнего человека?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108000" y="1371600"/>
            <a:ext cx="85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1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2" name="WordArt 8"/>
          <p:cNvSpPr txBox="1"/>
          <p:nvPr/>
        </p:nvSpPr>
        <p:spPr>
          <a:xfrm>
            <a:off x="324000" y="476280"/>
            <a:ext cx="8424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Impact"/>
              </a:rPr>
              <a:t>А вам слабо? 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Impact"/>
              <a:ea typeface="Impact"/>
            </a:endParaRPr>
          </a:p>
        </p:txBody>
      </p:sp>
      <p:sp>
        <p:nvSpPr>
          <p:cNvPr id="613" name="Прямоугольник 6"/>
          <p:cNvSpPr/>
          <p:nvPr/>
        </p:nvSpPr>
        <p:spPr>
          <a:xfrm>
            <a:off x="539640" y="1628640"/>
            <a:ext cx="77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Можно сказать, что у человека в возрасте 60 лет сердце 30 лет отдыхало, так как из 0,8 секунд  сердечного цикла, 0,4 секунды  приходится на его расслабление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14" name="Picture 8" descr="http://upload.wikimedia.org/wikipedia/commons/thumb/5/58/Heart_ru.svg/250px-Heart_ru.svg.png"/>
          <p:cNvPicPr/>
          <p:nvPr/>
        </p:nvPicPr>
        <p:blipFill>
          <a:blip r:embed="rId1"/>
          <a:stretch/>
        </p:blipFill>
        <p:spPr>
          <a:xfrm>
            <a:off x="3492360" y="4695840"/>
            <a:ext cx="238140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826920" y="213372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Какое вещество гасят водой, хотя оно не горит?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7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8" name="WordArt 8"/>
          <p:cNvSpPr txBox="1"/>
          <p:nvPr/>
        </p:nvSpPr>
        <p:spPr>
          <a:xfrm>
            <a:off x="539640" y="765000"/>
            <a:ext cx="813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все таки что?  2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324000" y="2133720"/>
            <a:ext cx="7920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Какое вещество гасят водой, хотя оно не горит?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1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2" name="WordArt 8"/>
          <p:cNvSpPr txBox="1"/>
          <p:nvPr/>
        </p:nvSpPr>
        <p:spPr>
          <a:xfrm>
            <a:off x="539640" y="765000"/>
            <a:ext cx="7345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все таки что?  2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3" name="Прямоугольник 5"/>
          <p:cNvSpPr/>
          <p:nvPr/>
        </p:nvSpPr>
        <p:spPr>
          <a:xfrm>
            <a:off x="826920" y="3198960"/>
            <a:ext cx="7345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Негашеную известь (СаО)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24" name="Picture 8" descr="Значок видео"/>
          <p:cNvPicPr/>
          <p:nvPr/>
        </p:nvPicPr>
        <p:blipFill>
          <a:blip r:embed="rId1"/>
          <a:stretch/>
        </p:blipFill>
        <p:spPr>
          <a:xfrm>
            <a:off x="611280" y="4653000"/>
            <a:ext cx="2800080" cy="21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762120" y="1844640"/>
            <a:ext cx="7697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Какая кислота всегда находится в желудке человека?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7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8" name="WordArt 8"/>
          <p:cNvSpPr txBox="1"/>
          <p:nvPr/>
        </p:nvSpPr>
        <p:spPr>
          <a:xfrm>
            <a:off x="611280" y="765000"/>
            <a:ext cx="79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все таки что?  4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762120" y="1844640"/>
            <a:ext cx="712296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Какая кислота всегда находится в желудке человека?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Соляная </a:t>
            </a:r>
            <a:r>
              <a:rPr b="1" lang="tt-RU" sz="6000" spc="-1" strike="noStrike">
                <a:solidFill>
                  <a:srgbClr val="c00000"/>
                </a:solidFill>
                <a:latin typeface="Times New Roman"/>
              </a:rPr>
              <a:t>- 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</a:rPr>
              <a:t>HCl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32" name="WordArt 8"/>
          <p:cNvSpPr txBox="1"/>
          <p:nvPr/>
        </p:nvSpPr>
        <p:spPr>
          <a:xfrm>
            <a:off x="539640" y="765000"/>
            <a:ext cx="806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все таки что?  4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3" name="Picture 7" descr="http://upload.wikimedia.org/wikipedia/commons/thumb/8/88/HCl_molecule_model-VdW_surface.svg/100px-HCl_molecule_model-VdW_surface.svg.png"/>
          <p:cNvPicPr/>
          <p:nvPr/>
        </p:nvPicPr>
        <p:blipFill>
          <a:blip r:embed="rId1"/>
          <a:stretch/>
        </p:blipFill>
        <p:spPr>
          <a:xfrm>
            <a:off x="0" y="4357800"/>
            <a:ext cx="230364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35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36" name="WordArt 8"/>
          <p:cNvSpPr txBox="1"/>
          <p:nvPr/>
        </p:nvSpPr>
        <p:spPr>
          <a:xfrm>
            <a:off x="468360" y="765000"/>
            <a:ext cx="7991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все таки что?  6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7" name="Прямоугольник 6"/>
          <p:cNvSpPr/>
          <p:nvPr/>
        </p:nvSpPr>
        <p:spPr>
          <a:xfrm>
            <a:off x="324000" y="172080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Император Наполеон </a:t>
            </a:r>
            <a:r>
              <a:rPr b="1" lang="be-BY" sz="36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III</a:t>
            </a:r>
            <a:r>
              <a:rPr b="1" lang="ru-RU" sz="36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на банкете велел подать для почетных гостей приборы из очень дорогого серебристого металла. А всем прочим было обидно до слез: пришлось пользоваться  обычной золотой и серебряной посудой. Из чего были изготовлены вилки ?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39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0" name="WordArt 8"/>
          <p:cNvSpPr txBox="1"/>
          <p:nvPr/>
        </p:nvSpPr>
        <p:spPr>
          <a:xfrm>
            <a:off x="468360" y="765000"/>
            <a:ext cx="7991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все таки что?  6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1" name="Прямоугольник 6"/>
          <p:cNvSpPr/>
          <p:nvPr/>
        </p:nvSpPr>
        <p:spPr>
          <a:xfrm>
            <a:off x="324000" y="1720800"/>
            <a:ext cx="8424720" cy="43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Император Наполеон </a:t>
            </a:r>
            <a:r>
              <a:rPr b="1" lang="be-BY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III</a:t>
            </a:r>
            <a:r>
              <a:rPr b="1" lang="ru-RU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на банкете велел подать для почетных гостей приборы из очень дорогого серебристого металла. А всем прочим было обидно до слез: пришлось пользоваться  обычной золотой и серебряной посудой. Из чего были изготовлены вилки ?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 алюминия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3"/>
          <p:cNvSpPr/>
          <p:nvPr/>
        </p:nvSpPr>
        <p:spPr>
          <a:xfrm>
            <a:off x="179280" y="1600200"/>
            <a:ext cx="842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Лекарственное растение, называемое американскими индейцами «следом белого человека»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3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4" name="WordArt 8"/>
          <p:cNvSpPr txBox="1"/>
          <p:nvPr/>
        </p:nvSpPr>
        <p:spPr>
          <a:xfrm>
            <a:off x="250920" y="765000"/>
            <a:ext cx="842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все таки что?  8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3"/>
          <p:cNvSpPr/>
          <p:nvPr/>
        </p:nvSpPr>
        <p:spPr>
          <a:xfrm>
            <a:off x="179280" y="1600200"/>
            <a:ext cx="842508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Лекарственное растение, называемое американскими индейцами «следом белого человека» -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Times New Roman"/>
              </a:rPr>
              <a:t>        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Подорожник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7" name="WordArt 8"/>
          <p:cNvSpPr txBox="1"/>
          <p:nvPr/>
        </p:nvSpPr>
        <p:spPr>
          <a:xfrm>
            <a:off x="250920" y="765000"/>
            <a:ext cx="777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все таки что?  8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8" name="Picture 6" descr="Подорожник большой"/>
          <p:cNvPicPr/>
          <p:nvPr/>
        </p:nvPicPr>
        <p:blipFill>
          <a:blip r:embed="rId1"/>
          <a:stretch/>
        </p:blipFill>
        <p:spPr>
          <a:xfrm>
            <a:off x="179280" y="4292640"/>
            <a:ext cx="279720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762120" y="2362320"/>
            <a:ext cx="6905520" cy="28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Металл, необходимый в составе костей скелета</a:t>
            </a:r>
            <a:r>
              <a:rPr b="1" lang="en-US" sz="4400" spc="-1" strike="noStrike">
                <a:solidFill>
                  <a:srgbClr val="463634"/>
                </a:solidFill>
                <a:latin typeface="Times New Roman"/>
              </a:rPr>
              <a:t> –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кальций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4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5" name="WordArt 9"/>
          <p:cNvSpPr txBox="1"/>
          <p:nvPr/>
        </p:nvSpPr>
        <p:spPr>
          <a:xfrm>
            <a:off x="539640" y="404640"/>
            <a:ext cx="7848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Химические элементы 2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0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1" name="WordArt 8"/>
          <p:cNvSpPr txBox="1"/>
          <p:nvPr/>
        </p:nvSpPr>
        <p:spPr>
          <a:xfrm>
            <a:off x="539640" y="765000"/>
            <a:ext cx="820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все таки что?  10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2" name="Прямоугольник 5"/>
          <p:cNvSpPr/>
          <p:nvPr/>
        </p:nvSpPr>
        <p:spPr>
          <a:xfrm>
            <a:off x="468360" y="2736720"/>
            <a:ext cx="8136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Какой царский напиток не пил ни один царь?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Почему его так назвали? Назовите его состав.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4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5" name="WordArt 8"/>
          <p:cNvSpPr txBox="1"/>
          <p:nvPr/>
        </p:nvSpPr>
        <p:spPr>
          <a:xfrm>
            <a:off x="611280" y="260280"/>
            <a:ext cx="763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все таки что?  10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6" name="Прямоугольник 6"/>
          <p:cNvSpPr/>
          <p:nvPr/>
        </p:nvSpPr>
        <p:spPr>
          <a:xfrm>
            <a:off x="539640" y="1413000"/>
            <a:ext cx="80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Царская водка»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остоит из 1 объёма азотной кислоты и 3 объёмов соляной кислоты - кислоты концентрированные.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ак назвали, потому что растворяет царя металлов - золото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57" name="Picture 7" descr="Царская водка"/>
          <p:cNvPicPr/>
          <p:nvPr/>
        </p:nvPicPr>
        <p:blipFill>
          <a:blip r:embed="rId1"/>
          <a:stretch/>
        </p:blipFill>
        <p:spPr>
          <a:xfrm>
            <a:off x="3708360" y="50133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1066680" y="2057400"/>
            <a:ext cx="6400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0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1" name="WordArt 8"/>
          <p:cNvSpPr txBox="1"/>
          <p:nvPr/>
        </p:nvSpPr>
        <p:spPr>
          <a:xfrm>
            <a:off x="611280" y="620640"/>
            <a:ext cx="7705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ща 20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2" name="Прямоугольник 5"/>
          <p:cNvSpPr/>
          <p:nvPr/>
        </p:nvSpPr>
        <p:spPr>
          <a:xfrm>
            <a:off x="684360" y="301320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В каком молоке не содержится молока ?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1066680" y="2057400"/>
            <a:ext cx="6400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5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6" name="WordArt 8"/>
          <p:cNvSpPr txBox="1"/>
          <p:nvPr/>
        </p:nvSpPr>
        <p:spPr>
          <a:xfrm>
            <a:off x="684360" y="620640"/>
            <a:ext cx="7127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ща 20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7" name="Прямоугольник 5"/>
          <p:cNvSpPr/>
          <p:nvPr/>
        </p:nvSpPr>
        <p:spPr>
          <a:xfrm>
            <a:off x="684360" y="3013200"/>
            <a:ext cx="76327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В каком молоке не содержится молока ?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В известковом (Са(ОН)2)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3"/>
          <p:cNvSpPr/>
          <p:nvPr/>
        </p:nvSpPr>
        <p:spPr>
          <a:xfrm>
            <a:off x="755640" y="2523960"/>
            <a:ext cx="648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1258920" y="292428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70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71" name="WordArt 8"/>
          <p:cNvSpPr txBox="1"/>
          <p:nvPr/>
        </p:nvSpPr>
        <p:spPr>
          <a:xfrm>
            <a:off x="684360" y="620640"/>
            <a:ext cx="7920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ща 40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2" name="Прямоугольник 5"/>
          <p:cNvSpPr/>
          <p:nvPr/>
        </p:nvSpPr>
        <p:spPr>
          <a:xfrm>
            <a:off x="468360" y="2643120"/>
            <a:ext cx="777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Какая мука несъедобная?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3"/>
          <p:cNvSpPr/>
          <p:nvPr/>
        </p:nvSpPr>
        <p:spPr>
          <a:xfrm>
            <a:off x="755640" y="2523960"/>
            <a:ext cx="648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1258920" y="292428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75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76" name="WordArt 8"/>
          <p:cNvSpPr txBox="1"/>
          <p:nvPr/>
        </p:nvSpPr>
        <p:spPr>
          <a:xfrm>
            <a:off x="611280" y="260280"/>
            <a:ext cx="7561080" cy="16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ща 40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7" name="Прямоугольник 7"/>
          <p:cNvSpPr/>
          <p:nvPr/>
        </p:nvSpPr>
        <p:spPr>
          <a:xfrm>
            <a:off x="928800" y="3198960"/>
            <a:ext cx="657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Какая мука несъедобная?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Фосфоритная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0" name="WordArt 8"/>
          <p:cNvSpPr txBox="1"/>
          <p:nvPr/>
        </p:nvSpPr>
        <p:spPr>
          <a:xfrm>
            <a:off x="539640" y="620640"/>
            <a:ext cx="8136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ща 60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1" name="Прямоугольник 5"/>
          <p:cNvSpPr/>
          <p:nvPr/>
        </p:nvSpPr>
        <p:spPr>
          <a:xfrm>
            <a:off x="826920" y="2459160"/>
            <a:ext cx="7561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Поджаренные корни какого растения из семейства астровых (сложноцветных) могут в походе заменить кофе? </a:t>
            </a:r>
            <a:br>
              <a:rPr sz="4000"/>
            </a:b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179280" y="2421000"/>
            <a:ext cx="8353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4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5" name="WordArt 8"/>
          <p:cNvSpPr txBox="1"/>
          <p:nvPr/>
        </p:nvSpPr>
        <p:spPr>
          <a:xfrm>
            <a:off x="611280" y="620640"/>
            <a:ext cx="7561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ща 60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6" name="Прямоугольник 7"/>
          <p:cNvSpPr/>
          <p:nvPr/>
        </p:nvSpPr>
        <p:spPr>
          <a:xfrm>
            <a:off x="539640" y="2060640"/>
            <a:ext cx="770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634"/>
                </a:solidFill>
                <a:latin typeface="Times New Roman"/>
              </a:rPr>
              <a:t>Поджаренные корни какого растения из семейства астровых (сложноцветных) могут в походе заменить кофе?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Одуванчика</a:t>
            </a: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87" name="Picture 8" descr="Цветение одуванчиков в мае"/>
          <p:cNvPicPr/>
          <p:nvPr/>
        </p:nvPicPr>
        <p:blipFill>
          <a:blip r:embed="rId1"/>
          <a:stretch/>
        </p:blipFill>
        <p:spPr>
          <a:xfrm>
            <a:off x="3059280" y="4581360"/>
            <a:ext cx="266508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9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0" name="WordArt 8"/>
          <p:cNvSpPr txBox="1"/>
          <p:nvPr/>
        </p:nvSpPr>
        <p:spPr>
          <a:xfrm>
            <a:off x="539640" y="620640"/>
            <a:ext cx="8064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ща 80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1" name="Прямоугольник 5"/>
          <p:cNvSpPr/>
          <p:nvPr/>
        </p:nvSpPr>
        <p:spPr>
          <a:xfrm>
            <a:off x="539640" y="282888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3634"/>
                </a:solidFill>
                <a:latin typeface="Times New Roman"/>
              </a:rPr>
              <a:t>Лапша из какой крупяной культуры является у японцев национальным блюдом? 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3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4" name="WordArt 8"/>
          <p:cNvSpPr txBox="1"/>
          <p:nvPr/>
        </p:nvSpPr>
        <p:spPr>
          <a:xfrm>
            <a:off x="684360" y="620640"/>
            <a:ext cx="7343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ща 80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5" name="Прямоугольник 5"/>
          <p:cNvSpPr/>
          <p:nvPr/>
        </p:nvSpPr>
        <p:spPr>
          <a:xfrm>
            <a:off x="539640" y="2133720"/>
            <a:ext cx="799308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634"/>
                </a:solidFill>
                <a:latin typeface="Times New Roman"/>
              </a:rPr>
              <a:t>Лапша из какой крупяной культуры является у японцев национальным блюдом?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Гречихи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96" name="Picture 7" descr="Гречиха посевная, Карлсруэ"/>
          <p:cNvPicPr/>
          <p:nvPr/>
        </p:nvPicPr>
        <p:blipFill>
          <a:blip r:embed="rId1"/>
          <a:stretch/>
        </p:blipFill>
        <p:spPr>
          <a:xfrm>
            <a:off x="468360" y="3284640"/>
            <a:ext cx="252396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ca9c"/>
            </a:gs>
            <a:gs pos="50000">
              <a:srgbClr val="ffffff"/>
            </a:gs>
            <a:gs pos="100000">
              <a:srgbClr val="daca9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609480" y="1752480"/>
            <a:ext cx="777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Дезинфектор ран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8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9" name="WordArt 8"/>
          <p:cNvSpPr txBox="1"/>
          <p:nvPr/>
        </p:nvSpPr>
        <p:spPr>
          <a:xfrm>
            <a:off x="900000" y="620640"/>
            <a:ext cx="748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Химические элементы 4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8" name="Text Box 4"/>
          <p:cNvSpPr/>
          <p:nvPr/>
        </p:nvSpPr>
        <p:spPr>
          <a:xfrm>
            <a:off x="1219320" y="1828800"/>
            <a:ext cx="57909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9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0" name="WordArt 8"/>
          <p:cNvSpPr txBox="1"/>
          <p:nvPr/>
        </p:nvSpPr>
        <p:spPr>
          <a:xfrm>
            <a:off x="539640" y="620640"/>
            <a:ext cx="8136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ща 100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1" name="Прямоугольник 5"/>
          <p:cNvSpPr/>
          <p:nvPr/>
        </p:nvSpPr>
        <p:spPr>
          <a:xfrm>
            <a:off x="468360" y="264492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Что получится если на «хлеб химической промышленности»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«намазать» «купоросное масло» ?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1219320" y="1828800"/>
            <a:ext cx="57909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4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5" name="WordArt 8"/>
          <p:cNvSpPr txBox="1"/>
          <p:nvPr/>
        </p:nvSpPr>
        <p:spPr>
          <a:xfrm>
            <a:off x="684360" y="620640"/>
            <a:ext cx="720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ща 100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6" name="Прямоугольник 5"/>
          <p:cNvSpPr/>
          <p:nvPr/>
        </p:nvSpPr>
        <p:spPr>
          <a:xfrm>
            <a:off x="179280" y="2133720"/>
            <a:ext cx="8785440" cy="58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634"/>
                </a:solidFill>
                <a:latin typeface="Times New Roman"/>
              </a:rPr>
              <a:t>Что получится если на «хлеб химической промышленности»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634"/>
                </a:solidFill>
                <a:latin typeface="Times New Roman"/>
              </a:rPr>
              <a:t>«намазать» «купоросное масло»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0" y="957600"/>
            <a:ext cx="914400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чего не произойдет. Это одно и тоже вещество –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08" name="Picture 9" descr="Серная кислота"/>
          <p:cNvPicPr/>
          <p:nvPr/>
        </p:nvPicPr>
        <p:blipFill>
          <a:blip r:embed="rId1"/>
          <a:stretch/>
        </p:blipFill>
        <p:spPr>
          <a:xfrm>
            <a:off x="3276720" y="5084640"/>
            <a:ext cx="190476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95241"/>
                </a:solidFill>
                <a:latin typeface="Times New Roman"/>
              </a:rPr>
              <a:t>Спасибо за хорошую игру!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" descr="C:\Users\3-05\Pictures\сп.gif"/>
          <p:cNvPicPr/>
          <p:nvPr/>
        </p:nvPicPr>
        <p:blipFill>
          <a:blip r:embed="rId2"/>
          <a:stretch/>
        </p:blipFill>
        <p:spPr>
          <a:xfrm>
            <a:off x="0" y="1630440"/>
            <a:ext cx="9144000" cy="47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1" name="WordArt 9"/>
          <p:cNvSpPr txBox="1"/>
          <p:nvPr/>
        </p:nvSpPr>
        <p:spPr>
          <a:xfrm>
            <a:off x="539640" y="404640"/>
            <a:ext cx="7848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Химические элементы 4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609480" y="1752480"/>
            <a:ext cx="7347240" cy="21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Дезинфектор ран –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йод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33" name="Picture 6" descr="Йод"/>
          <p:cNvPicPr/>
          <p:nvPr/>
        </p:nvPicPr>
        <p:blipFill>
          <a:blip r:embed="rId2"/>
          <a:stretch/>
        </p:blipFill>
        <p:spPr>
          <a:xfrm>
            <a:off x="1332000" y="3213000"/>
            <a:ext cx="16574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ca9c"/>
            </a:gs>
            <a:gs pos="50000">
              <a:srgbClr val="ffffff"/>
            </a:gs>
            <a:gs pos="100000">
              <a:srgbClr val="daca9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5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6" name="WordArt 8"/>
          <p:cNvSpPr txBox="1"/>
          <p:nvPr/>
        </p:nvSpPr>
        <p:spPr>
          <a:xfrm>
            <a:off x="684360" y="620640"/>
            <a:ext cx="727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Химические  элементы 6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537" name="Прямоугольник 5"/>
          <p:cNvSpPr/>
          <p:nvPr/>
        </p:nvSpPr>
        <p:spPr>
          <a:xfrm>
            <a:off x="684360" y="1989000"/>
            <a:ext cx="813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Химический элемент, открытый в Казани? Кем и когда открыт? С чем связано происхождение названия?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38" name="Picture 7" descr="Ruthenium crystals.jpg"/>
          <p:cNvPicPr/>
          <p:nvPr/>
        </p:nvPicPr>
        <p:blipFill>
          <a:blip r:embed="rId2"/>
          <a:stretch/>
        </p:blipFill>
        <p:spPr>
          <a:xfrm>
            <a:off x="1258920" y="4437000"/>
            <a:ext cx="190512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250920" y="1628640"/>
            <a:ext cx="8424720" cy="35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634"/>
                </a:solidFill>
                <a:latin typeface="Times New Roman"/>
              </a:rPr>
              <a:t>Химический элемент, открытый в Казани? Кем и когда открыт? С чем связано происхождение названия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Ru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 - рутений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41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42" name="WordArt 8"/>
          <p:cNvSpPr txBox="1"/>
          <p:nvPr/>
        </p:nvSpPr>
        <p:spPr>
          <a:xfrm>
            <a:off x="684360" y="620640"/>
            <a:ext cx="727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Химические  элементы 6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543" name="Прямоугольник 5"/>
          <p:cNvSpPr/>
          <p:nvPr/>
        </p:nvSpPr>
        <p:spPr>
          <a:xfrm>
            <a:off x="468360" y="4076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Открыт профессором Казанского университета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Карлом Клаусом в 1844 году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Назван в честь России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ca9c"/>
            </a:gs>
            <a:gs pos="50000">
              <a:srgbClr val="ffffff"/>
            </a:gs>
            <a:gs pos="100000">
              <a:srgbClr val="daca9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45" name="WordArt 8"/>
          <p:cNvSpPr txBox="1"/>
          <p:nvPr/>
        </p:nvSpPr>
        <p:spPr>
          <a:xfrm>
            <a:off x="468360" y="620640"/>
            <a:ext cx="806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Химические элементы 8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546" name="Прямоугольник 5"/>
          <p:cNvSpPr/>
          <p:nvPr/>
        </p:nvSpPr>
        <p:spPr>
          <a:xfrm>
            <a:off x="468360" y="1916280"/>
            <a:ext cx="8136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Млекопитающее животное – первый слог, тоже млекопитающее животное – второй слог. В целом химический элемент. Какой ?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48" name="WordArt 8"/>
          <p:cNvSpPr txBox="1"/>
          <p:nvPr/>
        </p:nvSpPr>
        <p:spPr>
          <a:xfrm>
            <a:off x="468360" y="620640"/>
            <a:ext cx="806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Химические элементы 8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549" name="Прямоугольник 6"/>
          <p:cNvSpPr/>
          <p:nvPr/>
        </p:nvSpPr>
        <p:spPr>
          <a:xfrm>
            <a:off x="900000" y="1773360"/>
            <a:ext cx="720108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Млекопитающее животное – первый слог, тоже млекопитающее животное – второй слог. В целом химический элемент. Какой ? 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Мышьяк (</a:t>
            </a: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As)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7T10:43:04Z</dcterms:created>
  <dc:creator>Евдокимов</dc:creator>
  <dc:description/>
  <dc:language>en-US</dc:language>
  <cp:lastModifiedBy>Ришат</cp:lastModifiedBy>
  <dcterms:modified xsi:type="dcterms:W3CDTF">2016-12-03T16:39:12Z</dcterms:modified>
  <cp:revision>64</cp:revision>
  <dc:subject/>
  <dc:title>Презентация PowerPoint</dc:title>
</cp:coreProperties>
</file>