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DB9-2624-4928-B730-9D79B7A5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FD0-75A1-4E66-9ABD-04FD7F13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336-6F19-453D-ABB6-16DC9269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37E-FB46-4D9F-B0E3-3B17161B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038-65A0-4144-8D30-32780F85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2FB-B0BC-476A-A207-9BC2C100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AF0-F18F-406A-A043-B9AB02F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801-2C5E-4344-9A3C-76FC7BC9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18D-EEDA-44BA-BC1A-F9DED5E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F8F-7533-416D-ABD0-C4D75C6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D90-85F0-4D24-A5A5-AF75CFD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F68-0BDE-452E-9F1D-8F27FBD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DCD-B42B-4BA6-A607-B955233E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4920" y="189000"/>
            <a:ext cx="563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езентация проекта в средней груп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Папа может всё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спитатель: Курбанова Г.Р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206080"/>
            <a:ext cx="47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он в футбол играть,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книжку мне читать, 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суп мне разогрет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мультик посмотрет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поиграть он в шашк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даже вымыть чашк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рисовать машинк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собирать картинк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прокатить мен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место быстрого кон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жет рыбу он ловит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ан на кухне починит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 меня всегда герой –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ый лучший ПАПА мой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3049560"/>
            <a:ext cx="4211640" cy="3808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4109760" cy="2687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64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8720" cy="674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36960" y="115920"/>
            <a:ext cx="4307040" cy="3230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56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5:03:32Z</dcterms:created>
  <dc:creator>дмитрий</dc:creator>
  <dc:description/>
  <dc:language>en-US</dc:language>
  <cp:lastModifiedBy>дмитрий</cp:lastModifiedBy>
  <dcterms:modified xsi:type="dcterms:W3CDTF">2016-12-03T07:27:17Z</dcterms:modified>
  <cp:revision>11</cp:revision>
  <dc:subject/>
  <dc:title>Слайд 1</dc:title>
</cp:coreProperties>
</file>