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ADA-1631-4599-9F31-9122E7E6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D77-6065-43A6-B802-54B55E0A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048-DB30-4564-AFF2-705A57B6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245-4D01-4F87-A418-09AD429C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084-4B65-42F0-8A47-7D4C096D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1B02-F16B-4F21-AF15-12354738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53C-2090-41F5-81C3-6BEF62E1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E7F-C5D8-4FB6-8886-4E51A424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DC2-42BF-4BD4-B621-1A4DA57F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232-F80F-4D3A-BFD6-6572AA08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EB2-3994-4523-BC54-969BF32F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14D9-0F10-4136-84BF-818BA689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 45, г. 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C7FB-D801-466C-B9AB-5A08C9B4F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оенные походы египетских фараон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28520" y="5000760"/>
            <a:ext cx="691524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 3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просы посл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9 – письм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удьте аккуратны при работе с контурной кар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 3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 работе над презентацией использов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и диска «Мировая художественная культура». Мультимедийное учебное пособие.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и диска «Искусство Древнего Египта». Фирм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medi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урная карта из пособия: Годер Г.И. Рабочая тетрадь по истории Древнего мира. 5 кл. ч.1. – М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 3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тветьте на 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жили вельможи в Древнем Егип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у подчинялись вельмож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оручения давал вельможам фара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подчинялся египетским вельмож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 3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00000" y="1557360"/>
          <a:ext cx="7417080" cy="4248000"/>
        </p:xfrm>
        <a:graphic>
          <a:graphicData uri="http://schemas.openxmlformats.org/drawingml/2006/table">
            <a:tbl>
              <a:tblPr/>
              <a:tblGrid>
                <a:gridCol w="3708360"/>
                <a:gridCol w="3708720"/>
              </a:tblGrid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евое воору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ное сна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" name="Group 13"/>
          <p:cNvGrpSpPr/>
          <p:nvPr/>
        </p:nvGrpSpPr>
        <p:grpSpPr>
          <a:xfrm>
            <a:off x="2340000" y="404640"/>
            <a:ext cx="4537080" cy="1079640"/>
            <a:chOff x="2340000" y="404640"/>
            <a:chExt cx="4537080" cy="1079640"/>
          </a:xfrm>
        </p:grpSpPr>
        <p:sp>
          <p:nvSpPr>
            <p:cNvPr id="49" name="Line 14"/>
            <p:cNvSpPr/>
            <p:nvPr/>
          </p:nvSpPr>
          <p:spPr>
            <a:xfrm flipH="1">
              <a:off x="2700360" y="1125360"/>
              <a:ext cx="287280" cy="35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5"/>
            <p:cNvSpPr/>
            <p:nvPr/>
          </p:nvSpPr>
          <p:spPr>
            <a:xfrm>
              <a:off x="5219640" y="1125360"/>
              <a:ext cx="360360" cy="35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WordArt 16"/>
            <p:cNvSpPr txBox="1"/>
            <p:nvPr/>
          </p:nvSpPr>
          <p:spPr>
            <a:xfrm>
              <a:off x="2340000" y="404640"/>
              <a:ext cx="45370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Египетский воин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2" name="Нижний колонтитул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 3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3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йско фараонов - пех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4827600" cy="353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02_123"/>
          <p:cNvPicPr/>
          <p:nvPr/>
        </p:nvPicPr>
        <p:blipFill>
          <a:blip r:embed="rId2"/>
          <a:stretch/>
        </p:blipFill>
        <p:spPr>
          <a:xfrm>
            <a:off x="4071960" y="3214800"/>
            <a:ext cx="4857840" cy="2960640"/>
          </a:xfrm>
          <a:prstGeom prst="rect">
            <a:avLst/>
          </a:prstGeom>
          <a:ln w="0">
            <a:noFill/>
          </a:ln>
        </p:spPr>
      </p:pic>
      <p:sp>
        <p:nvSpPr>
          <p:cNvPr id="56" name="WordArt 9"/>
          <p:cNvSpPr txBox="1"/>
          <p:nvPr/>
        </p:nvSpPr>
        <p:spPr>
          <a:xfrm>
            <a:off x="5724360" y="847800"/>
            <a:ext cx="3024360" cy="16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учники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ёгкая пехота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10"/>
          <p:cNvSpPr txBox="1"/>
          <p:nvPr/>
        </p:nvSpPr>
        <p:spPr>
          <a:xfrm>
            <a:off x="571680" y="4857840"/>
            <a:ext cx="302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пейщики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яжёлая пехота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 3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203640" y="260280"/>
            <a:ext cx="5695920" cy="3810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28760" y="2428920"/>
            <a:ext cx="3084480" cy="3651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55640" y="4581360"/>
            <a:ext cx="4465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йско фараонов - колес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 3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900000" y="1557360"/>
          <a:ext cx="7417080" cy="4491000"/>
        </p:xfrm>
        <a:graphic>
          <a:graphicData uri="http://schemas.openxmlformats.org/drawingml/2006/table">
            <a:tbl>
              <a:tblPr/>
              <a:tblGrid>
                <a:gridCol w="3708360"/>
                <a:gridCol w="3708720"/>
              </a:tblGrid>
              <a:tr h="148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евое воору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ное сна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евой топор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ое копь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нж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к со стрел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ое копье-дрот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ий щит из кож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щ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ный шл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нцирь из кож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26"/>
          <p:cNvGrpSpPr/>
          <p:nvPr/>
        </p:nvGrpSpPr>
        <p:grpSpPr>
          <a:xfrm>
            <a:off x="2340000" y="404640"/>
            <a:ext cx="4537080" cy="1079640"/>
            <a:chOff x="2340000" y="404640"/>
            <a:chExt cx="4537080" cy="1079640"/>
          </a:xfrm>
        </p:grpSpPr>
        <p:sp>
          <p:nvSpPr>
            <p:cNvPr id="65" name="Line 22"/>
            <p:cNvSpPr/>
            <p:nvPr/>
          </p:nvSpPr>
          <p:spPr>
            <a:xfrm flipH="1">
              <a:off x="2700360" y="1125360"/>
              <a:ext cx="287280" cy="35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3"/>
            <p:cNvSpPr/>
            <p:nvPr/>
          </p:nvSpPr>
          <p:spPr>
            <a:xfrm>
              <a:off x="5219640" y="1125360"/>
              <a:ext cx="360360" cy="35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WordArt 25"/>
            <p:cNvSpPr txBox="1"/>
            <p:nvPr/>
          </p:nvSpPr>
          <p:spPr>
            <a:xfrm>
              <a:off x="2340000" y="404640"/>
              <a:ext cx="45370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Египетский воин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8" name="Нижний колонтитул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 3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826920" y="549360"/>
            <a:ext cx="3240360" cy="532764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сканирование0001"/>
          <p:cNvPicPr/>
          <p:nvPr/>
        </p:nvPicPr>
        <p:blipFill>
          <a:blip r:embed="rId1"/>
          <a:stretch/>
        </p:blipFill>
        <p:spPr>
          <a:xfrm>
            <a:off x="857160" y="549360"/>
            <a:ext cx="3159360" cy="532764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sp>
        <p:nvSpPr>
          <p:cNvPr id="71" name="Text Box 8"/>
          <p:cNvSpPr/>
          <p:nvPr/>
        </p:nvSpPr>
        <p:spPr>
          <a:xfrm rot="3454800">
            <a:off x="2378520" y="400464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ое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902520" y="134136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зем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 flipH="1">
            <a:off x="1908000" y="4508640"/>
            <a:ext cx="503280" cy="93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900000" y="522936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б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 flipH="1" flipV="1">
            <a:off x="1116000" y="2565360"/>
            <a:ext cx="503280" cy="2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901800" y="2708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2050920" y="2492280"/>
            <a:ext cx="289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 rot="18691200">
            <a:off x="2068920" y="261864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V="1">
            <a:off x="2556000" y="1916280"/>
            <a:ext cx="287280" cy="57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V="1">
            <a:off x="2987640" y="980640"/>
            <a:ext cx="71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3112560" y="121608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 rot="18063000">
            <a:off x="1785960" y="182592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е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 rot="17739600">
            <a:off x="2266560" y="98064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ик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56000" y="333360"/>
            <a:ext cx="43308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военных пох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бия – зо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вия – скот и пл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ай – медная 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лестина, Финикия, Сирия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1333080" y="371628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2126880" y="414972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п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ижний колонтитул 2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 3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796000" y="404640"/>
            <a:ext cx="3019320" cy="3810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950760" y="27226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57120" y="214200"/>
            <a:ext cx="5256360" cy="583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коло 1500 г. до н.э.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вление Тутмоса III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мимо взятия Мегидд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араон совершил ещё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 военных поход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 3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28840" y="142920"/>
            <a:ext cx="6910200" cy="5097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6760" y="5357520"/>
            <a:ext cx="8301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египтяне так изображали фараона во время бо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СОШ № 3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8:37:37Z</dcterms:created>
  <dc:creator>Компьютер</dc:creator>
  <dc:description/>
  <dc:language>en-US</dc:language>
  <cp:lastModifiedBy>Марина Хасанова</cp:lastModifiedBy>
  <dcterms:modified xsi:type="dcterms:W3CDTF">2016-10-10T20:19:31Z</dcterms:modified>
  <cp:revision>13</cp:revision>
  <dc:subject/>
  <dc:title>Слайд 1</dc:title>
</cp:coreProperties>
</file>