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21C8-6C6A-4E20-95B9-0EA081AC6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A6C9-A39F-454B-8E63-FC3A388B5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69D5-4EA8-40D9-9D5C-A93707837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D15-2584-4240-AE31-279A1E3B6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64D-71CE-46AA-887D-95B7F625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642-0932-4A80-951B-470B7283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4D9-E314-4CF9-857E-9C413B46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31D-835B-4AC9-AAE6-E52058FA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3FDB-6C89-4475-858E-FA1E7EBD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7259-926D-4E71-AF06-AD40A6E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7057-17C7-45C8-B74A-A8104D4D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165-D3E5-4CEA-972A-0C5D2972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01FD-060E-4750-852D-3D97AE9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51BB-E169-4FB9-B045-D2B1BF55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4780-DB81-4177-8FC2-5CBD928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E9B-F6A7-42C6-AC38-5CF36C4A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5397-701E-4C5C-B26A-1DDAEF35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733E-A70B-444C-8D1C-7EFB8AD3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0BA-4C33-4EDF-BE6B-DEF02066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5788-7D1A-42AF-B26A-C42ED179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B532-BADC-40F3-8B7F-9325DC15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C63-E2F1-40C7-8297-F9EBE82B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5C3-32E9-4614-AB77-84C5B2A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4A4-696D-4949-9726-DF0EA321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A6D-21BC-45B1-A968-1ED30892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AFF-6FEC-4BD9-841C-F7ACEE68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C9F-0032-4E53-996D-59E712D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FFF-05A4-4B4D-9021-C872D4F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7655-9EBC-410C-9BDB-9857CFDB40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BAA-5499-48D7-BB90-39EEF62AC1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3b812f"/>
                </a:solidFill>
                <a:latin typeface="Garamond"/>
              </a:rPr>
              <a:t>Тема урока: </a:t>
            </a:r>
            <a:br>
              <a:rPr sz="5400"/>
            </a:br>
            <a:br>
              <a:rPr sz="54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c00000"/>
                </a:solidFill>
                <a:latin typeface="Garamond"/>
              </a:rPr>
              <a:t>Генетические ряды Fe</a:t>
            </a:r>
            <a:r>
              <a:rPr b="1" lang="ru-RU" sz="4200" spc="-1" strike="noStrike" baseline="30000">
                <a:solidFill>
                  <a:srgbClr val="c00000"/>
                </a:solidFill>
                <a:latin typeface="Garamond"/>
              </a:rPr>
              <a:t>2+</a:t>
            </a:r>
            <a:r>
              <a:rPr b="1" lang="ru-RU" sz="4200" spc="-1" strike="noStrike">
                <a:solidFill>
                  <a:srgbClr val="c00000"/>
                </a:solidFill>
                <a:latin typeface="Garamond"/>
              </a:rPr>
              <a:t> и Fе</a:t>
            </a:r>
            <a:r>
              <a:rPr b="1" lang="ru-RU" sz="4200" spc="-1" strike="noStrike" baseline="30000">
                <a:solidFill>
                  <a:srgbClr val="c00000"/>
                </a:solidFill>
                <a:latin typeface="Garamond"/>
              </a:rPr>
              <a:t>3+</a:t>
            </a:r>
            <a:r>
              <a:rPr b="1" lang="ru-RU" sz="4200" spc="-1" strike="noStrike">
                <a:solidFill>
                  <a:srgbClr val="c00000"/>
                </a:solidFill>
                <a:latin typeface="Garamond"/>
              </a:rPr>
              <a:t>. Качественные реакции на Fе</a:t>
            </a:r>
            <a:r>
              <a:rPr b="1" lang="ru-RU" sz="4200" spc="-1" strike="noStrike" baseline="30000">
                <a:solidFill>
                  <a:srgbClr val="c00000"/>
                </a:solidFill>
                <a:latin typeface="Garamond"/>
              </a:rPr>
              <a:t>2+</a:t>
            </a:r>
            <a:r>
              <a:rPr b="1" lang="ru-RU" sz="4200" spc="-1" strike="noStrike">
                <a:solidFill>
                  <a:srgbClr val="c00000"/>
                </a:solidFill>
                <a:latin typeface="Garamond"/>
              </a:rPr>
              <a:t> и Fе</a:t>
            </a:r>
            <a:r>
              <a:rPr b="1" lang="ru-RU" sz="4200" spc="-1" strike="noStrike" baseline="30000">
                <a:solidFill>
                  <a:srgbClr val="c00000"/>
                </a:solidFill>
                <a:latin typeface="Garamond"/>
              </a:rPr>
              <a:t>3+</a:t>
            </a: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2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99640" y="1557000"/>
            <a:ext cx="741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898560" y="1557360"/>
            <a:ext cx="7413480" cy="4322880"/>
            <a:chOff x="898560" y="1557360"/>
            <a:chExt cx="7413480" cy="4322880"/>
          </a:xfrm>
        </p:grpSpPr>
        <p:grpSp>
          <p:nvGrpSpPr>
            <p:cNvPr id="137" name="Group 6"/>
            <p:cNvGrpSpPr/>
            <p:nvPr/>
          </p:nvGrpSpPr>
          <p:grpSpPr>
            <a:xfrm>
              <a:off x="898560" y="1557360"/>
              <a:ext cx="7413480" cy="4322880"/>
              <a:chOff x="898560" y="1557360"/>
              <a:chExt cx="7413480" cy="4322880"/>
            </a:xfrm>
          </p:grpSpPr>
          <p:pic>
            <p:nvPicPr>
              <p:cNvPr id="138" name="Picture 7" descr="Рисунок3"/>
              <p:cNvPicPr/>
              <p:nvPr/>
            </p:nvPicPr>
            <p:blipFill>
              <a:blip r:embed="rId1"/>
              <a:srcRect l="7891" t="10521" r="5316" b="34250"/>
              <a:stretch/>
            </p:blipFill>
            <p:spPr>
              <a:xfrm>
                <a:off x="898560" y="1557360"/>
                <a:ext cx="7413480" cy="432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8" descr="Рисунок3"/>
              <p:cNvPicPr/>
              <p:nvPr/>
            </p:nvPicPr>
            <p:blipFill>
              <a:blip r:embed="rId2"/>
              <a:srcRect l="80880" t="49974" r="11234" b="42141"/>
              <a:stretch/>
            </p:blipFill>
            <p:spPr>
              <a:xfrm>
                <a:off x="1905840" y="3643560"/>
                <a:ext cx="936000" cy="586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Picture 9" descr="Рисунок3"/>
            <p:cNvPicPr/>
            <p:nvPr/>
          </p:nvPicPr>
          <p:blipFill>
            <a:blip r:embed="rId3"/>
            <a:srcRect l="45372" t="49974" r="44769" b="42141"/>
            <a:stretch/>
          </p:blipFill>
          <p:spPr>
            <a:xfrm>
              <a:off x="3274200" y="3709800"/>
              <a:ext cx="935640" cy="53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2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9640" y="159984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2"/>
          <p:cNvGrpSpPr/>
          <p:nvPr/>
        </p:nvGrpSpPr>
        <p:grpSpPr>
          <a:xfrm>
            <a:off x="898560" y="1557360"/>
            <a:ext cx="7413480" cy="4322880"/>
            <a:chOff x="898560" y="1557360"/>
            <a:chExt cx="7413480" cy="4322880"/>
          </a:xfrm>
        </p:grpSpPr>
        <p:grpSp>
          <p:nvGrpSpPr>
            <p:cNvPr id="144" name="Group 6"/>
            <p:cNvGrpSpPr/>
            <p:nvPr/>
          </p:nvGrpSpPr>
          <p:grpSpPr>
            <a:xfrm>
              <a:off x="898560" y="1557360"/>
              <a:ext cx="7413480" cy="4322880"/>
              <a:chOff x="898560" y="1557360"/>
              <a:chExt cx="7413480" cy="4322880"/>
            </a:xfrm>
          </p:grpSpPr>
          <p:grpSp>
            <p:nvGrpSpPr>
              <p:cNvPr id="145" name="Group 7"/>
              <p:cNvGrpSpPr/>
              <p:nvPr/>
            </p:nvGrpSpPr>
            <p:grpSpPr>
              <a:xfrm>
                <a:off x="898560" y="1557360"/>
                <a:ext cx="7413480" cy="4322880"/>
                <a:chOff x="898560" y="1557360"/>
                <a:chExt cx="7413480" cy="4322880"/>
              </a:xfrm>
            </p:grpSpPr>
            <p:pic>
              <p:nvPicPr>
                <p:cNvPr id="146" name="Picture 8" descr="Рисунок3"/>
                <p:cNvPicPr/>
                <p:nvPr/>
              </p:nvPicPr>
              <p:blipFill>
                <a:blip r:embed="rId1"/>
                <a:srcRect l="7891" t="10521" r="5316" b="34250"/>
                <a:stretch/>
              </p:blipFill>
              <p:spPr>
                <a:xfrm>
                  <a:off x="898560" y="1557360"/>
                  <a:ext cx="7413480" cy="432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9" descr="Рисунок3"/>
                <p:cNvPicPr/>
                <p:nvPr/>
              </p:nvPicPr>
              <p:blipFill>
                <a:blip r:embed="rId2"/>
                <a:srcRect l="80880" t="49974" r="11234" b="42141"/>
                <a:stretch/>
              </p:blipFill>
              <p:spPr>
                <a:xfrm>
                  <a:off x="1905840" y="3643560"/>
                  <a:ext cx="936000" cy="586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48" name="Picture 10" descr="Рисунок3"/>
              <p:cNvPicPr/>
              <p:nvPr/>
            </p:nvPicPr>
            <p:blipFill>
              <a:blip r:embed="rId3"/>
              <a:srcRect l="45372" t="49974" r="44769" b="42141"/>
              <a:stretch/>
            </p:blipFill>
            <p:spPr>
              <a:xfrm>
                <a:off x="3274200" y="3709800"/>
                <a:ext cx="935640" cy="534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9" name="Picture 11" descr="Рисунок3"/>
            <p:cNvPicPr/>
            <p:nvPr/>
          </p:nvPicPr>
          <p:blipFill>
            <a:blip r:embed="rId4"/>
            <a:srcRect l="57208" t="49974" r="32933" b="42141"/>
            <a:stretch/>
          </p:blipFill>
          <p:spPr>
            <a:xfrm>
              <a:off x="4713120" y="3709800"/>
              <a:ext cx="936000" cy="50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2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99640" y="1600200"/>
            <a:ext cx="7417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898560" y="1557360"/>
            <a:ext cx="7413480" cy="4322880"/>
            <a:chOff x="898560" y="1557360"/>
            <a:chExt cx="7413480" cy="4322880"/>
          </a:xfrm>
        </p:grpSpPr>
        <p:grpSp>
          <p:nvGrpSpPr>
            <p:cNvPr id="153" name="Group 6"/>
            <p:cNvGrpSpPr/>
            <p:nvPr/>
          </p:nvGrpSpPr>
          <p:grpSpPr>
            <a:xfrm>
              <a:off x="898560" y="1557360"/>
              <a:ext cx="7413480" cy="4322880"/>
              <a:chOff x="898560" y="1557360"/>
              <a:chExt cx="7413480" cy="4322880"/>
            </a:xfrm>
          </p:grpSpPr>
          <p:grpSp>
            <p:nvGrpSpPr>
              <p:cNvPr id="154" name="Group 7"/>
              <p:cNvGrpSpPr/>
              <p:nvPr/>
            </p:nvGrpSpPr>
            <p:grpSpPr>
              <a:xfrm>
                <a:off x="898560" y="1557360"/>
                <a:ext cx="7413480" cy="4322880"/>
                <a:chOff x="898560" y="1557360"/>
                <a:chExt cx="7413480" cy="4322880"/>
              </a:xfrm>
            </p:grpSpPr>
            <p:grpSp>
              <p:nvGrpSpPr>
                <p:cNvPr id="155" name="Group 8"/>
                <p:cNvGrpSpPr/>
                <p:nvPr/>
              </p:nvGrpSpPr>
              <p:grpSpPr>
                <a:xfrm>
                  <a:off x="898560" y="1557360"/>
                  <a:ext cx="7413480" cy="4322880"/>
                  <a:chOff x="898560" y="1557360"/>
                  <a:chExt cx="7413480" cy="4322880"/>
                </a:xfrm>
              </p:grpSpPr>
              <p:pic>
                <p:nvPicPr>
                  <p:cNvPr id="156" name="Picture 9" descr="Рисунок3"/>
                  <p:cNvPicPr/>
                  <p:nvPr/>
                </p:nvPicPr>
                <p:blipFill>
                  <a:blip r:embed="rId1"/>
                  <a:srcRect l="7891" t="10521" r="5316" b="34250"/>
                  <a:stretch/>
                </p:blipFill>
                <p:spPr>
                  <a:xfrm>
                    <a:off x="898560" y="1557360"/>
                    <a:ext cx="741348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7" name="Picture 10" descr="Рисунок3"/>
                  <p:cNvPicPr/>
                  <p:nvPr/>
                </p:nvPicPr>
                <p:blipFill>
                  <a:blip r:embed="rId2"/>
                  <a:srcRect l="80880" t="49974" r="11234" b="42141"/>
                  <a:stretch/>
                </p:blipFill>
                <p:spPr>
                  <a:xfrm>
                    <a:off x="1905840" y="3643560"/>
                    <a:ext cx="936000" cy="5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8" name="Picture 11" descr="Рисунок3"/>
                <p:cNvPicPr/>
                <p:nvPr/>
              </p:nvPicPr>
              <p:blipFill>
                <a:blip r:embed="rId3"/>
                <a:srcRect l="45372" t="49974" r="44769" b="42141"/>
                <a:stretch/>
              </p:blipFill>
              <p:spPr>
                <a:xfrm>
                  <a:off x="3274200" y="3709800"/>
                  <a:ext cx="935640" cy="534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9" name="Picture 12" descr="Рисунок3"/>
              <p:cNvPicPr/>
              <p:nvPr/>
            </p:nvPicPr>
            <p:blipFill>
              <a:blip r:embed="rId4"/>
              <a:srcRect l="57208" t="49974" r="32933" b="42141"/>
              <a:stretch/>
            </p:blipFill>
            <p:spPr>
              <a:xfrm>
                <a:off x="4713120" y="3709800"/>
                <a:ext cx="936000" cy="50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0" name="Picture 13" descr="Рисунок3"/>
            <p:cNvPicPr/>
            <p:nvPr/>
          </p:nvPicPr>
          <p:blipFill>
            <a:blip r:embed="rId5"/>
            <a:srcRect l="33535" t="49974" r="56605" b="42141"/>
            <a:stretch/>
          </p:blipFill>
          <p:spPr>
            <a:xfrm>
              <a:off x="6153840" y="3709800"/>
              <a:ext cx="934560" cy="50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Осуществить превращения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e → FeCl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→  Fe(OH)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→  F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755640" y="2859120"/>
            <a:ext cx="784872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e → FeCl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→  Fe(OH)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→ Fe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41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абораторная работа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I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уппа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рех пронумерованных пробирках выданы растворы со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робирке находится соль желез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выбрав для этого подходящий реактив из предлож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ь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определить соли желез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абораторная работа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II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уппа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рех пронумерованных пробирках выданы растворы со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робирке находится соль желез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выбрав для этого подходящий реактив из предлож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ь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улировать выво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определить соли желез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абораторная ра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III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 групп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ально определить реактивы для распознавания солей желез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желез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лнить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улировать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1"/>
          <a:srcRect l="15623" t="3130" r="9380" b="0"/>
          <a:stretch/>
        </p:blipFill>
        <p:spPr>
          <a:xfrm>
            <a:off x="2916360" y="1657440"/>
            <a:ext cx="2663640" cy="20653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5786280" y="74556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781680" y="6095880"/>
            <a:ext cx="533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Arial"/>
              <a:ea typeface="Arial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7391520" y="586728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468360" y="2602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812f"/>
                </a:solidFill>
                <a:latin typeface="Arial"/>
              </a:rPr>
              <a:t>Красная кровяная 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468360" y="9079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ксацианоферра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л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250920" y="3166920"/>
            <a:ext cx="8497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ть уравнение диссо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12500" t="0" r="8125" b="6251"/>
          <a:stretch/>
        </p:blipFill>
        <p:spPr>
          <a:xfrm>
            <a:off x="2987640" y="1770120"/>
            <a:ext cx="3456000" cy="2450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468360" y="1052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4[Fe(CN)6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6781680" y="6095880"/>
            <a:ext cx="533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Arial"/>
              <a:ea typeface="Arial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7391520" y="586728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995640" y="189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b812f"/>
                </a:solidFill>
                <a:latin typeface="Arial"/>
              </a:rPr>
              <a:t>Желтая кровяная 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995640" y="105264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ксацианоферрат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"/>
          <p:cNvSpPr/>
          <p:nvPr/>
        </p:nvSpPr>
        <p:spPr>
          <a:xfrm>
            <a:off x="324000" y="2693880"/>
            <a:ext cx="8496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ть уравнение диссо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Написать уравнения  качественных реакций на ионы </a:t>
            </a: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Fе</a:t>
            </a:r>
            <a:r>
              <a:rPr b="1" lang="ru-RU" sz="4000" spc="-1" strike="noStrike" baseline="30000">
                <a:solidFill>
                  <a:srgbClr val="c00000"/>
                </a:solidFill>
                <a:latin typeface="Garamond"/>
              </a:rPr>
              <a:t>2+</a:t>
            </a: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 и Fе</a:t>
            </a:r>
            <a:r>
              <a:rPr b="1" lang="ru-RU" sz="4000" spc="-1" strike="noStrike" baseline="30000">
                <a:solidFill>
                  <a:srgbClr val="c00000"/>
                </a:solidFill>
                <a:latin typeface="Garamond"/>
              </a:rPr>
              <a:t>3+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Fe S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+K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]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Цели: </a:t>
            </a:r>
            <a:br>
              <a:rPr sz="4400"/>
            </a:br>
            <a:r>
              <a:rPr b="1" lang="ru-RU" sz="4000" spc="-1" strike="noStrike">
                <a:solidFill>
                  <a:srgbClr val="3b812f"/>
                </a:solidFill>
                <a:latin typeface="Garamond"/>
              </a:rPr>
              <a:t>совершенствовать свои знания в умении составлять уравнения реакций с участием всех классов неорганических веществ;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b812f"/>
                </a:solidFill>
                <a:latin typeface="Garamond"/>
              </a:rPr>
              <a:t>экспериментально изучить качественные реакции на Fе</a:t>
            </a:r>
            <a:r>
              <a:rPr b="1" lang="ru-RU" sz="4000" spc="-1" strike="noStrike" baseline="30000">
                <a:solidFill>
                  <a:srgbClr val="3b812f"/>
                </a:solidFill>
                <a:latin typeface="Garamond"/>
              </a:rPr>
              <a:t>2+</a:t>
            </a:r>
            <a:r>
              <a:rPr b="1" lang="ru-RU" sz="4000" spc="-1" strike="noStrike">
                <a:solidFill>
                  <a:srgbClr val="3b812f"/>
                </a:solidFill>
                <a:latin typeface="Garamond"/>
              </a:rPr>
              <a:t> и Fе</a:t>
            </a:r>
            <a:r>
              <a:rPr b="1" lang="ru-RU" sz="4000" spc="-1" strike="noStrike" baseline="30000">
                <a:solidFill>
                  <a:srgbClr val="3b812f"/>
                </a:solidFill>
                <a:latin typeface="Garamond"/>
              </a:rPr>
              <a:t>3+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Написать уравнения  качественных реакций на ионы </a:t>
            </a: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Fе</a:t>
            </a:r>
            <a:r>
              <a:rPr b="1" lang="ru-RU" sz="4400" spc="-1" strike="noStrike" baseline="30000">
                <a:solidFill>
                  <a:srgbClr val="c00000"/>
                </a:solidFill>
                <a:latin typeface="Garamond"/>
              </a:rPr>
              <a:t>2+</a:t>
            </a: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 и Fе</a:t>
            </a:r>
            <a:r>
              <a:rPr b="1" lang="ru-RU" sz="4400" spc="-1" strike="noStrike" baseline="30000">
                <a:solidFill>
                  <a:srgbClr val="c00000"/>
                </a:solidFill>
                <a:latin typeface="Garamond"/>
              </a:rPr>
              <a:t>3+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42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Fe(CN)6 ]  + Fe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= K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e[Fe(CN)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↓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ая кровяная соль                         турнбуллева си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6 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]  +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e[Fe(CN)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↓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берлинская лазу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1403280" y="0"/>
            <a:ext cx="88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Arial"/>
              <a:ea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644880" y="822240"/>
            <a:ext cx="1932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67000" y="5637600"/>
            <a:ext cx="156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409080" y="4341960"/>
            <a:ext cx="15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440" y="2284920"/>
            <a:ext cx="21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344840" y="379800"/>
            <a:ext cx="21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373400" y="502812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>
            <a:hlinkClick r:id="rId1" action="ppaction://hlinksldjump"/>
          </p:cNvPr>
          <p:cNvSpPr/>
          <p:nvPr/>
        </p:nvSpPr>
        <p:spPr>
          <a:xfrm>
            <a:off x="4967280" y="2545200"/>
            <a:ext cx="307188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>
            <a:hlinkClick r:id="rId2" action="ppaction://hlinksldjump"/>
          </p:cNvPr>
          <p:cNvSpPr/>
          <p:nvPr/>
        </p:nvSpPr>
        <p:spPr>
          <a:xfrm>
            <a:off x="1081080" y="3808800"/>
            <a:ext cx="3071880" cy="764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28195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57150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28195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579132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8954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5791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23"/>
          <p:cNvSpPr txBox="1"/>
          <p:nvPr/>
        </p:nvSpPr>
        <p:spPr>
          <a:xfrm>
            <a:off x="2438280" y="5867280"/>
            <a:ext cx="885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Arial"/>
              </a:rPr>
              <a:t>Fe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Arial"/>
              <a:ea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4876920" y="57913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Fe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6763E-006 L 0.25417 -0.71029 E">
                                      <p:cBhvr>
                                        <p:cTn id="13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.00156 0.03953 L 0.14323 0.2615 E">
                                      <p:cBhvr>
                                        <p:cTn id="13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4167 -0.41064 E">
                                      <p:cBhvr>
                                        <p:cTn id="13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-0.21667 -0.21087 E">
                                      <p:cBhvr>
                                        <p:cTn id="14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8333 0.33295 E">
                                      <p:cBhvr>
                                        <p:cTn id="14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01371 0.61041 E">
                                      <p:cBhvr>
                                        <p:cTn id="14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62428E-006 L -0.13611 -0.53271 E">
                                      <p:cBhvr>
                                        <p:cTn id="14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6185E-006 L 0.12222 -0.34867 E">
                                      <p:cBhvr>
                                        <p:cTn id="14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граф 14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жнение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ить сообщение-презентацию (на выбор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«Роль химического элемента железа в современной техник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«Роль химического элемента железа в жизнедеятельности живых организм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3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6" descr="Рисунок2"/>
          <p:cNvPicPr/>
          <p:nvPr/>
        </p:nvPicPr>
        <p:blipFill>
          <a:blip r:embed="rId1"/>
          <a:stretch/>
        </p:blipFill>
        <p:spPr>
          <a:xfrm>
            <a:off x="898560" y="1557360"/>
            <a:ext cx="7413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3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900000" y="1557360"/>
            <a:ext cx="7413480" cy="4321080"/>
            <a:chOff x="900000" y="1557360"/>
            <a:chExt cx="7413480" cy="4321080"/>
          </a:xfrm>
        </p:grpSpPr>
        <p:pic>
          <p:nvPicPr>
            <p:cNvPr id="99" name="Picture 7" descr="Рисунок2"/>
            <p:cNvPicPr/>
            <p:nvPr/>
          </p:nvPicPr>
          <p:blipFill>
            <a:blip r:embed="rId1"/>
            <a:stretch/>
          </p:blipFill>
          <p:spPr>
            <a:xfrm>
              <a:off x="900000" y="1557360"/>
              <a:ext cx="7413480" cy="43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8" descr="Рисунок3"/>
            <p:cNvPicPr/>
            <p:nvPr/>
          </p:nvPicPr>
          <p:blipFill>
            <a:blip r:embed="rId2"/>
            <a:stretch/>
          </p:blipFill>
          <p:spPr>
            <a:xfrm>
              <a:off x="1845720" y="3716280"/>
              <a:ext cx="118044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3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71640" y="1600200"/>
            <a:ext cx="7416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898560" y="1557360"/>
            <a:ext cx="7414920" cy="4321080"/>
            <a:chOff x="898560" y="1557360"/>
            <a:chExt cx="7414920" cy="4321080"/>
          </a:xfrm>
        </p:grpSpPr>
        <p:grpSp>
          <p:nvGrpSpPr>
            <p:cNvPr id="104" name="Group 6"/>
            <p:cNvGrpSpPr/>
            <p:nvPr/>
          </p:nvGrpSpPr>
          <p:grpSpPr>
            <a:xfrm>
              <a:off x="898560" y="1557360"/>
              <a:ext cx="7414920" cy="4321080"/>
              <a:chOff x="898560" y="1557360"/>
              <a:chExt cx="7414920" cy="4321080"/>
            </a:xfrm>
          </p:grpSpPr>
          <p:pic>
            <p:nvPicPr>
              <p:cNvPr id="105" name="Picture 7" descr="Рисунок2"/>
              <p:cNvPicPr/>
              <p:nvPr/>
            </p:nvPicPr>
            <p:blipFill>
              <a:blip r:embed="rId1"/>
              <a:stretch/>
            </p:blipFill>
            <p:spPr>
              <a:xfrm>
                <a:off x="898560" y="1557360"/>
                <a:ext cx="7414920" cy="432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8" descr="Рисунок3"/>
              <p:cNvPicPr/>
              <p:nvPr/>
            </p:nvPicPr>
            <p:blipFill>
              <a:blip r:embed="rId2"/>
              <a:stretch/>
            </p:blipFill>
            <p:spPr>
              <a:xfrm>
                <a:off x="1988640" y="3684960"/>
                <a:ext cx="1090080" cy="497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7" name="Picture 10" descr="Рисунок3"/>
            <p:cNvPicPr/>
            <p:nvPr/>
          </p:nvPicPr>
          <p:blipFill>
            <a:blip r:embed="rId3"/>
            <a:stretch/>
          </p:blipFill>
          <p:spPr>
            <a:xfrm>
              <a:off x="3490920" y="3717720"/>
              <a:ext cx="936720" cy="56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3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71640" y="1599840"/>
            <a:ext cx="741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898560" y="1557360"/>
            <a:ext cx="7414920" cy="4321080"/>
            <a:chOff x="898560" y="1557360"/>
            <a:chExt cx="7414920" cy="4321080"/>
          </a:xfrm>
        </p:grpSpPr>
        <p:grpSp>
          <p:nvGrpSpPr>
            <p:cNvPr id="111" name="Group 6"/>
            <p:cNvGrpSpPr/>
            <p:nvPr/>
          </p:nvGrpSpPr>
          <p:grpSpPr>
            <a:xfrm>
              <a:off x="898560" y="1557360"/>
              <a:ext cx="7414920" cy="4321080"/>
              <a:chOff x="898560" y="1557360"/>
              <a:chExt cx="7414920" cy="4321080"/>
            </a:xfrm>
          </p:grpSpPr>
          <p:grpSp>
            <p:nvGrpSpPr>
              <p:cNvPr id="112" name="Group 7"/>
              <p:cNvGrpSpPr/>
              <p:nvPr/>
            </p:nvGrpSpPr>
            <p:grpSpPr>
              <a:xfrm>
                <a:off x="898560" y="1557360"/>
                <a:ext cx="7414920" cy="4321080"/>
                <a:chOff x="898560" y="1557360"/>
                <a:chExt cx="7414920" cy="4321080"/>
              </a:xfrm>
            </p:grpSpPr>
            <p:pic>
              <p:nvPicPr>
                <p:cNvPr id="113" name="Picture 8" descr="Рисунок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98560" y="1557360"/>
                  <a:ext cx="7414920" cy="4321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9" descr="Рисунок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88640" y="3684960"/>
                  <a:ext cx="1090080" cy="49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5" name="Picture 10" descr="Рисунок3"/>
              <p:cNvPicPr/>
              <p:nvPr/>
            </p:nvPicPr>
            <p:blipFill>
              <a:blip r:embed="rId3"/>
              <a:stretch/>
            </p:blipFill>
            <p:spPr>
              <a:xfrm>
                <a:off x="3490920" y="3717720"/>
                <a:ext cx="936720" cy="561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6" name="Picture 11" descr="Рисунок3"/>
            <p:cNvPicPr/>
            <p:nvPr/>
          </p:nvPicPr>
          <p:blipFill>
            <a:blip r:embed="rId4"/>
            <a:stretch/>
          </p:blipFill>
          <p:spPr>
            <a:xfrm>
              <a:off x="4859280" y="3717720"/>
              <a:ext cx="100656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9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3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600200"/>
            <a:ext cx="7345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4"/>
          <p:cNvGrpSpPr/>
          <p:nvPr/>
        </p:nvGrpSpPr>
        <p:grpSpPr>
          <a:xfrm>
            <a:off x="898560" y="1557360"/>
            <a:ext cx="7414920" cy="4321080"/>
            <a:chOff x="898560" y="1557360"/>
            <a:chExt cx="7414920" cy="4321080"/>
          </a:xfrm>
        </p:grpSpPr>
        <p:grpSp>
          <p:nvGrpSpPr>
            <p:cNvPr id="120" name="Group 6"/>
            <p:cNvGrpSpPr/>
            <p:nvPr/>
          </p:nvGrpSpPr>
          <p:grpSpPr>
            <a:xfrm>
              <a:off x="898560" y="1557360"/>
              <a:ext cx="7414920" cy="4321080"/>
              <a:chOff x="898560" y="1557360"/>
              <a:chExt cx="7414920" cy="4321080"/>
            </a:xfrm>
          </p:grpSpPr>
          <p:grpSp>
            <p:nvGrpSpPr>
              <p:cNvPr id="121" name="Group 7"/>
              <p:cNvGrpSpPr/>
              <p:nvPr/>
            </p:nvGrpSpPr>
            <p:grpSpPr>
              <a:xfrm>
                <a:off x="898560" y="1557360"/>
                <a:ext cx="7414920" cy="4321080"/>
                <a:chOff x="898560" y="1557360"/>
                <a:chExt cx="7414920" cy="4321080"/>
              </a:xfrm>
            </p:grpSpPr>
            <p:grpSp>
              <p:nvGrpSpPr>
                <p:cNvPr id="122" name="Group 8"/>
                <p:cNvGrpSpPr/>
                <p:nvPr/>
              </p:nvGrpSpPr>
              <p:grpSpPr>
                <a:xfrm>
                  <a:off x="898560" y="1557360"/>
                  <a:ext cx="7414920" cy="4321080"/>
                  <a:chOff x="898560" y="1557360"/>
                  <a:chExt cx="7414920" cy="4321080"/>
                </a:xfrm>
              </p:grpSpPr>
              <p:pic>
                <p:nvPicPr>
                  <p:cNvPr id="123" name="Picture 9" descr="Рисунок2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898560" y="1557360"/>
                    <a:ext cx="74149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4" name="Picture 10" descr="Рисунок3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8640" y="3684960"/>
                    <a:ext cx="1090080" cy="49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25" name="Picture 11" descr="Рисунок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90920" y="3717720"/>
                  <a:ext cx="936720" cy="56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6" name="Picture 12" descr="Рисунок3"/>
              <p:cNvPicPr/>
              <p:nvPr/>
            </p:nvPicPr>
            <p:blipFill>
              <a:blip r:embed="rId4"/>
              <a:stretch/>
            </p:blipFill>
            <p:spPr>
              <a:xfrm>
                <a:off x="4859280" y="3717720"/>
                <a:ext cx="1006560" cy="560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Picture 13" descr="Рисунок3"/>
            <p:cNvPicPr/>
            <p:nvPr/>
          </p:nvPicPr>
          <p:blipFill>
            <a:blip r:embed="rId5"/>
            <a:stretch/>
          </p:blipFill>
          <p:spPr>
            <a:xfrm>
              <a:off x="6227640" y="3717720"/>
              <a:ext cx="1079640" cy="53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2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Picture 6" descr="Рисунок3"/>
          <p:cNvPicPr/>
          <p:nvPr/>
        </p:nvPicPr>
        <p:blipFill>
          <a:blip r:embed="rId1"/>
          <a:stretch/>
        </p:blipFill>
        <p:spPr>
          <a:xfrm>
            <a:off x="898560" y="1557360"/>
            <a:ext cx="7413480" cy="432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Генетический ряд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Fe </a:t>
            </a:r>
            <a:r>
              <a:rPr b="1" lang="en-US" sz="3800" spc="-1" strike="noStrike" baseline="30000">
                <a:solidFill>
                  <a:srgbClr val="3b812f"/>
                </a:solidFill>
                <a:latin typeface="Garamond"/>
              </a:rPr>
              <a:t>2+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898560" y="1557360"/>
            <a:ext cx="7413480" cy="4322880"/>
            <a:chOff x="898560" y="1557360"/>
            <a:chExt cx="7413480" cy="4322880"/>
          </a:xfrm>
        </p:grpSpPr>
        <p:pic>
          <p:nvPicPr>
            <p:cNvPr id="132" name="Picture 7" descr="Рисунок3"/>
            <p:cNvPicPr/>
            <p:nvPr/>
          </p:nvPicPr>
          <p:blipFill>
            <a:blip r:embed="rId1"/>
            <a:srcRect l="7891" t="10521" r="5316" b="34250"/>
            <a:stretch/>
          </p:blipFill>
          <p:spPr>
            <a:xfrm>
              <a:off x="898560" y="1557360"/>
              <a:ext cx="7413480" cy="432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8" descr="Рисунок3"/>
            <p:cNvPicPr/>
            <p:nvPr/>
          </p:nvPicPr>
          <p:blipFill>
            <a:blip r:embed="rId2"/>
            <a:srcRect l="80880" t="49974" r="11234" b="42141"/>
            <a:stretch/>
          </p:blipFill>
          <p:spPr>
            <a:xfrm>
              <a:off x="1905840" y="3643560"/>
              <a:ext cx="936000" cy="58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4:00:57Z</dcterms:created>
  <dc:creator>Любовь Флерко</dc:creator>
  <dc:description/>
  <dc:language>en-US</dc:language>
  <cp:lastModifiedBy>Ришат</cp:lastModifiedBy>
  <dcterms:modified xsi:type="dcterms:W3CDTF">2016-12-03T09:38:05Z</dcterms:modified>
  <cp:revision>59</cp:revision>
  <dc:subject/>
  <dc:title>ЖЕЛЕЗО</dc:title>
</cp:coreProperties>
</file>