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106-E3C2-45C7-B568-1B4CDD8D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31A-F122-4126-990D-64FB5E0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0B5-5415-4A05-9E6C-EA3A83E5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2CA-D92C-4D1E-9A22-97A250DF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661-2DC2-4739-8AEC-5D612018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772-1476-4C7D-AD80-79B95C4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2CB-9A67-459E-A02E-5B2F5652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076D-CC5A-41B7-8A20-4D6AAE8D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7BA-007E-4F86-B1F7-D977765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437-E8CD-4DEA-A7A7-89016A7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D5EA-5F1C-4F56-B851-420DDFD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FD6-9682-41CE-B86B-1C23B38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852B-3426-47E1-ABEB-A18D8FC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9D29-A927-4C29-9B57-7984966C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E98C-85BB-4FD6-8E0B-CE6F62A4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5FF7-A6C4-4414-B9BC-ACBEC106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C4AF-265F-4484-B5D1-C3750B2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ECF-0619-4402-89F6-D65C353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E3B-6EDD-4BF2-99C4-2EEAA8E9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588-E177-427E-9700-EF86AE9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B18-F75B-478D-BC3C-10AAF83C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E35-E253-4E2B-8FA3-693157A8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E26-A7B7-4EA3-A8D4-B4BDA21B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88E-EA5A-44B1-8F9E-0312B95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AD9-57F8-4CFE-B8F9-9B1AC2C338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7B2-6547-40C4-A196-17B63CE6D14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28760" y="4500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Содержимое 6" descr="http://cs4162.vk.me/u12660247/148118022/z_469e42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7" name="Прямоугольник 7"/>
          <p:cNvSpPr/>
          <p:nvPr/>
        </p:nvSpPr>
        <p:spPr>
          <a:xfrm>
            <a:off x="2606760" y="28584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  <a:ea typeface="Aharoni"/>
              </a:rPr>
              <a:t>«Зимующие птиц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  <a:ea typeface="Aharon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  <a:ea typeface="Aharoni"/>
              </a:rPr>
              <a:t>Южного Урала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5715000" y="457200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  <a:ea typeface="Courier New"/>
              </a:rPr>
              <a:t>Воспитатель: Седова Валентина      Александро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4786200" y="57150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МКДОУ «Д/с № 17»  КОРКИ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pic>
        <p:nvPicPr>
          <p:cNvPr id="121" name="Рисунок 5" descr="http://fs00.infourok.ru/images/doc/216/246423/img19.jpg"/>
          <p:cNvPicPr/>
          <p:nvPr/>
        </p:nvPicPr>
        <p:blipFill>
          <a:blip r:embed="rId1"/>
          <a:srcRect l="2378" t="3018" r="65059" b="50740"/>
          <a:stretch/>
        </p:blipFill>
        <p:spPr>
          <a:xfrm>
            <a:off x="928800" y="3571920"/>
            <a:ext cx="2784240" cy="30114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http://fs00.infourok.ru/images/doc/216/246423/img19.jpg"/>
          <p:cNvPicPr/>
          <p:nvPr/>
        </p:nvPicPr>
        <p:blipFill>
          <a:blip r:embed="rId2"/>
          <a:srcRect l="56343" t="55281" r="3701" b="2761"/>
          <a:stretch/>
        </p:blipFill>
        <p:spPr>
          <a:xfrm>
            <a:off x="4857840" y="571680"/>
            <a:ext cx="3687840" cy="2636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http://fs00.infourok.ru/images/doc/106/125952/img8.jpg"/>
          <p:cNvPicPr/>
          <p:nvPr/>
        </p:nvPicPr>
        <p:blipFill>
          <a:blip r:embed="rId3"/>
          <a:srcRect l="49075" t="37176" r="3587" b="15066"/>
          <a:stretch/>
        </p:blipFill>
        <p:spPr>
          <a:xfrm>
            <a:off x="428760" y="500040"/>
            <a:ext cx="35100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http://fs00.infourok.ru/images/doc/110/129729/hello_html_m77f4108.jpg"/>
          <p:cNvPicPr/>
          <p:nvPr/>
        </p:nvPicPr>
        <p:blipFill>
          <a:blip r:embed="rId4"/>
          <a:stretch/>
        </p:blipFill>
        <p:spPr>
          <a:xfrm>
            <a:off x="4492800" y="3992400"/>
            <a:ext cx="36036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pic>
        <p:nvPicPr>
          <p:cNvPr id="126" name="Рисунок 2" descr="C:\Users\user 123\Desktop\МОЙ ПРОЭКТ\Покормите птиц\DSCN2623.jpg"/>
          <p:cNvPicPr/>
          <p:nvPr/>
        </p:nvPicPr>
        <p:blipFill>
          <a:blip r:embed="rId1"/>
          <a:srcRect l="0" t="0" r="32869" b="0"/>
          <a:stretch/>
        </p:blipFill>
        <p:spPr>
          <a:xfrm>
            <a:off x="5429160" y="785880"/>
            <a:ext cx="2530440" cy="5029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1000080" y="2928960"/>
            <a:ext cx="41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Мы кормушки смастерили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Мы столовую открыли.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оробей, снегирь – сосед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Будет вам зимой обед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Рисунок 4" descr="http://dovosp.ru/insertfiles/images/i_1a6cc5f1117f270c_html_m2fd83546.jpg"/>
          <p:cNvPicPr/>
          <p:nvPr/>
        </p:nvPicPr>
        <p:blipFill>
          <a:blip r:embed="rId2"/>
          <a:stretch/>
        </p:blipFill>
        <p:spPr>
          <a:xfrm>
            <a:off x="1071720" y="285840"/>
            <a:ext cx="371448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pic>
        <p:nvPicPr>
          <p:cNvPr id="130" name="Рисунок 4" descr="http://image.slidesharecdn.com/random-140101075223-phpapp02/95/-1-638.jpg?cb=1388562796"/>
          <p:cNvPicPr/>
          <p:nvPr/>
        </p:nvPicPr>
        <p:blipFill>
          <a:blip r:embed="rId1"/>
          <a:srcRect l="4544" t="32523" r="53365" b="14976"/>
          <a:stretch/>
        </p:blipFill>
        <p:spPr>
          <a:xfrm>
            <a:off x="428760" y="3929040"/>
            <a:ext cx="3678120" cy="2441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http://www.metod-kopilka.ru/images/doc/7/51085/img0.jpg"/>
          <p:cNvPicPr/>
          <p:nvPr/>
        </p:nvPicPr>
        <p:blipFill>
          <a:blip r:embed="rId2"/>
          <a:srcRect l="29504" t="4593" r="24480" b="28850"/>
          <a:stretch/>
        </p:blipFill>
        <p:spPr>
          <a:xfrm>
            <a:off x="642960" y="357120"/>
            <a:ext cx="3071880" cy="3214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http://fs00.infourok.ru/images/doc/110/129729/hello_html_m77f4108.jpg"/>
          <p:cNvPicPr/>
          <p:nvPr/>
        </p:nvPicPr>
        <p:blipFill>
          <a:blip r:embed="rId3"/>
          <a:srcRect l="75607" t="35575" r="4444" b="52526"/>
          <a:stretch/>
        </p:blipFill>
        <p:spPr>
          <a:xfrm>
            <a:off x="5143680" y="4214880"/>
            <a:ext cx="3466800" cy="2428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http://fs00.infourok.ru/images/doc/106/125952/img7.jpg"/>
          <p:cNvPicPr/>
          <p:nvPr/>
        </p:nvPicPr>
        <p:blipFill>
          <a:blip r:embed="rId4"/>
          <a:srcRect l="40413" t="36184" r="5429" b="19832"/>
          <a:stretch/>
        </p:blipFill>
        <p:spPr>
          <a:xfrm>
            <a:off x="4643280" y="142920"/>
            <a:ext cx="4044960" cy="24699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4500720" y="27860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Люди! Люди! Помогите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Птиц скорее покормите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user 123</cp:lastModifiedBy>
  <dcterms:modified xsi:type="dcterms:W3CDTF">2016-12-02T16:25:45Z</dcterms:modified>
  <cp:revision>141</cp:revision>
  <dc:subject/>
  <dc:title>Слайд 1</dc:title>
</cp:coreProperties>
</file>