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57B5-02E8-453B-AFC8-FC722AE3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95F-21C0-4295-B960-9812EFBD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2BB-1B7F-4B61-AB26-C83B5576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932-5953-45C3-94F4-AAB8B2D5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EAD4-5C40-49DD-B7E1-58B7D5A2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8A9-2870-46FE-B827-C06EF889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D32-91E1-4798-834A-669F47C7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EB7-D197-4915-B6FE-9E8C79C4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5DA-7A37-4A77-BE18-34E799B6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9A5-E9B5-423A-8B2E-8ED199D1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146-0999-4715-AF74-BB128926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C02-45E9-419C-953B-EA4C7EFA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f5bb"/>
            </a:gs>
            <a:gs pos="50000">
              <a:srgbClr val="cdcdcd"/>
            </a:gs>
            <a:gs pos="100000">
              <a:srgbClr val="adf5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DCEA-A5E9-4EB7-B9C3-A79BD49284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1628640"/>
            <a:ext cx="6985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юмин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n5112"/>
          <p:cNvPicPr/>
          <p:nvPr/>
        </p:nvPicPr>
        <p:blipFill>
          <a:blip r:embed="rId1"/>
          <a:stretch/>
        </p:blipFill>
        <p:spPr>
          <a:xfrm>
            <a:off x="971640" y="1798560"/>
            <a:ext cx="7319880" cy="3430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55640" y="5407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лавленный алюминий на дне емкости электролизера и является катодом. Как анод используются угольные стержни. Кислород реагирует с углеродом анода, образуя оксид углерода, т. е. анод надо постоянно возобновл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t51102"/>
          <p:cNvPicPr/>
          <p:nvPr/>
        </p:nvPicPr>
        <p:blipFill>
          <a:blip r:embed="rId2"/>
          <a:stretch/>
        </p:blipFill>
        <p:spPr>
          <a:xfrm>
            <a:off x="898560" y="260280"/>
            <a:ext cx="7345440" cy="1446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t51101d"/>
          <p:cNvPicPr/>
          <p:nvPr/>
        </p:nvPicPr>
        <p:blipFill>
          <a:blip r:embed="rId1"/>
          <a:stretch/>
        </p:blipFill>
        <p:spPr>
          <a:xfrm>
            <a:off x="611280" y="476280"/>
            <a:ext cx="7740720" cy="1797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n51101d"/>
          <p:cNvPicPr/>
          <p:nvPr/>
        </p:nvPicPr>
        <p:blipFill>
          <a:blip r:embed="rId2"/>
          <a:stretch/>
        </p:blipFill>
        <p:spPr>
          <a:xfrm>
            <a:off x="1258920" y="2781360"/>
            <a:ext cx="6985080" cy="34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4360" y="549360"/>
            <a:ext cx="7775280" cy="55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единения алюм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ксид алюми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это белое, очень твердое и тугоплавкое вещество, называемое карборундом. Прокаленный оксид алюминия нерастворим в воде, плохо растворяется в кислотах и щелочах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бладает амфотерными свойств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идроксид алюми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мфотерен. Его получают действием щелочей на растворы солей алюм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3ОН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Н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дроксид алюминия реагирует с кислотами и со щелочами (кроме раствора гидроксида аммония), хотя и кислотные, и основные свойства выражены у него слаб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= Al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NaOH = Na [Al 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ные растворы солей алюминия в сильной степени подвержены гидроли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8101080" y="587700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10800" y="498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976">
                <a:moveTo>
                  <a:pt x="10800" y="535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976">
                <a:moveTo>
                  <a:pt x="8224" y="9412"/>
                </a:moveTo>
                <a:lnTo>
                  <a:pt x="12088" y="9412"/>
                </a:lnTo>
                <a:lnTo>
                  <a:pt x="12088" y="16409"/>
                </a:lnTo>
                <a:lnTo>
                  <a:pt x="13376" y="16409"/>
                </a:lnTo>
                <a:lnTo>
                  <a:pt x="13376" y="17332"/>
                </a:lnTo>
                <a:lnTo>
                  <a:pt x="8224" y="17332"/>
                </a:lnTo>
                <a:lnTo>
                  <a:pt x="8224" y="16409"/>
                </a:lnTo>
                <a:lnTo>
                  <a:pt x="9512" y="16409"/>
                </a:lnTo>
                <a:lnTo>
                  <a:pt x="9512" y="10317"/>
                </a:lnTo>
                <a:lnTo>
                  <a:pt x="8224" y="103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g51103"/>
          <p:cNvPicPr/>
          <p:nvPr/>
        </p:nvPicPr>
        <p:blipFill>
          <a:blip r:embed="rId1"/>
          <a:stretch/>
        </p:blipFill>
        <p:spPr>
          <a:xfrm>
            <a:off x="108000" y="1506600"/>
            <a:ext cx="8893080" cy="3957480"/>
          </a:xfrm>
          <a:prstGeom prst="rect">
            <a:avLst/>
          </a:prstGeom>
          <a:ln w="0">
            <a:noFill/>
          </a:ln>
        </p:spPr>
      </p:pic>
      <p:sp>
        <p:nvSpPr>
          <p:cNvPr id="70" name="WordArt 3"/>
          <p:cNvSpPr txBox="1"/>
          <p:nvPr/>
        </p:nvSpPr>
        <p:spPr>
          <a:xfrm>
            <a:off x="2290680" y="260280"/>
            <a:ext cx="4562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менение алюми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Natural_0108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211640" y="549360"/>
            <a:ext cx="4681440" cy="3565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Natural_0226"/>
          <p:cNvPicPr/>
          <p:nvPr/>
        </p:nvPicPr>
        <p:blipFill>
          <a:blip r:embed="rId2"/>
          <a:stretch/>
        </p:blipFill>
        <p:spPr>
          <a:xfrm>
            <a:off x="250920" y="3429000"/>
            <a:ext cx="3865320" cy="2841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395280" y="40464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юминий и его сплавы широко применяют как конструкционный 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Natural_0207"/>
          <p:cNvPicPr/>
          <p:nvPr/>
        </p:nvPicPr>
        <p:blipFill>
          <a:blip r:embed="rId1"/>
          <a:stretch/>
        </p:blipFill>
        <p:spPr>
          <a:xfrm>
            <a:off x="4067280" y="260280"/>
            <a:ext cx="4572000" cy="3017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Natural_0208"/>
          <p:cNvPicPr/>
          <p:nvPr/>
        </p:nvPicPr>
        <p:blipFill>
          <a:blip r:embed="rId2"/>
          <a:stretch/>
        </p:blipFill>
        <p:spPr>
          <a:xfrm>
            <a:off x="250920" y="4149720"/>
            <a:ext cx="3779640" cy="249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Natural_0166"/>
          <p:cNvPicPr/>
          <p:nvPr/>
        </p:nvPicPr>
        <p:blipFill>
          <a:blip r:embed="rId3"/>
          <a:stretch/>
        </p:blipFill>
        <p:spPr>
          <a:xfrm>
            <a:off x="5219640" y="429264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корабль"/>
          <p:cNvPicPr/>
          <p:nvPr/>
        </p:nvPicPr>
        <p:blipFill>
          <a:blip r:embed="rId4"/>
          <a:stretch/>
        </p:blipFill>
        <p:spPr>
          <a:xfrm>
            <a:off x="395280" y="40464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324000" y="3500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ом числе при  изготовлении транспорт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самолёт"/>
          <p:cNvPicPr/>
          <p:nvPr/>
        </p:nvPicPr>
        <p:blipFill>
          <a:blip r:embed="rId1"/>
          <a:stretch/>
        </p:blipFill>
        <p:spPr>
          <a:xfrm>
            <a:off x="5651640" y="4329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Natural_0063"/>
          <p:cNvPicPr/>
          <p:nvPr/>
        </p:nvPicPr>
        <p:blipFill>
          <a:blip r:embed="rId2"/>
          <a:stretch/>
        </p:blipFill>
        <p:spPr>
          <a:xfrm>
            <a:off x="468360" y="476280"/>
            <a:ext cx="4170240" cy="2773440"/>
          </a:xfrm>
          <a:prstGeom prst="rect">
            <a:avLst/>
          </a:prstGeom>
          <a:ln w="0">
            <a:noFill/>
          </a:ln>
        </p:spPr>
      </p:pic>
      <p:sp>
        <p:nvSpPr>
          <p:cNvPr id="81" name="WordArt 5"/>
          <p:cNvSpPr txBox="1"/>
          <p:nvPr/>
        </p:nvSpPr>
        <p:spPr>
          <a:xfrm rot="20651400">
            <a:off x="1323720" y="3409920"/>
            <a:ext cx="64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юминий - крылатый металл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6" descr="L03p1p07"/>
          <p:cNvPicPr/>
          <p:nvPr/>
        </p:nvPicPr>
        <p:blipFill>
          <a:blip r:embed="rId3"/>
          <a:stretch/>
        </p:blipFill>
        <p:spPr>
          <a:xfrm>
            <a:off x="6012000" y="2602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Tranovice100"/>
          <p:cNvPicPr/>
          <p:nvPr/>
        </p:nvPicPr>
        <p:blipFill>
          <a:blip r:embed="rId1"/>
          <a:srcRect l="0" t="0" r="0" b="12159"/>
          <a:stretch/>
        </p:blipFill>
        <p:spPr>
          <a:xfrm>
            <a:off x="4859280" y="3429000"/>
            <a:ext cx="4049640" cy="284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Natural_0014"/>
          <p:cNvPicPr/>
          <p:nvPr/>
        </p:nvPicPr>
        <p:blipFill>
          <a:blip r:embed="rId2"/>
          <a:stretch/>
        </p:blipFill>
        <p:spPr>
          <a:xfrm>
            <a:off x="395280" y="333360"/>
            <a:ext cx="4457880" cy="2963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95280" y="40114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алюминия делают линии электропередач, ёмкости, цистерны, «серебряную» крас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Natural_0237"/>
          <p:cNvPicPr/>
          <p:nvPr/>
        </p:nvPicPr>
        <p:blipFill>
          <a:blip r:embed="rId1"/>
          <a:stretch/>
        </p:blipFill>
        <p:spPr>
          <a:xfrm>
            <a:off x="4500720" y="549360"/>
            <a:ext cx="4464000" cy="340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Natural_0028"/>
          <p:cNvPicPr/>
          <p:nvPr/>
        </p:nvPicPr>
        <p:blipFill>
          <a:blip r:embed="rId2"/>
          <a:stretch/>
        </p:blipFill>
        <p:spPr>
          <a:xfrm>
            <a:off x="250920" y="3357720"/>
            <a:ext cx="4105080" cy="2941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539640" y="620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трукционные сплавы в архитектуре гор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395280" y="134136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юминий входит в главную подгрупп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руппы. Встречается только в связанном состоянии, это самый распространенный металл в природе. В земной коре его 7,45% по ма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юминий - очень пластичный металл серебристо-белого цвета. Прекрасно проводит электрический ток и тепло. Алюминий является активным металлом. На внешнем электронном слое у атома алюминия три электрона, отдавая которые, проявляет восстановительные сво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лектрохимическом ряду напряжений алюминий стоит перед желез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13_1_1_L1"/>
          <p:cNvPicPr/>
          <p:nvPr/>
        </p:nvPicPr>
        <p:blipFill>
          <a:blip r:embed="rId1"/>
          <a:stretch/>
        </p:blipFill>
        <p:spPr>
          <a:xfrm>
            <a:off x="468360" y="260280"/>
            <a:ext cx="2413080" cy="939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3_1_1_L2"/>
          <p:cNvPicPr/>
          <p:nvPr/>
        </p:nvPicPr>
        <p:blipFill>
          <a:blip r:embed="rId2"/>
          <a:stretch/>
        </p:blipFill>
        <p:spPr>
          <a:xfrm>
            <a:off x="684360" y="4292640"/>
            <a:ext cx="2412720" cy="939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03p8p03"/>
          <p:cNvPicPr/>
          <p:nvPr/>
        </p:nvPicPr>
        <p:blipFill>
          <a:blip r:embed="rId3"/>
          <a:stretch/>
        </p:blipFill>
        <p:spPr>
          <a:xfrm>
            <a:off x="5508720" y="3645000"/>
            <a:ext cx="2873160" cy="215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3_1_1"/>
          <p:cNvPicPr/>
          <p:nvPr/>
        </p:nvPicPr>
        <p:blipFill>
          <a:blip r:embed="rId1"/>
          <a:srcRect l="45008" t="17861" r="12986" b="7835"/>
          <a:stretch/>
        </p:blipFill>
        <p:spPr>
          <a:xfrm>
            <a:off x="1692360" y="404640"/>
            <a:ext cx="5976720" cy="597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13_1_2_L2"/>
          <p:cNvPicPr/>
          <p:nvPr/>
        </p:nvPicPr>
        <p:blipFill>
          <a:blip r:embed="rId1"/>
          <a:stretch/>
        </p:blipFill>
        <p:spPr>
          <a:xfrm>
            <a:off x="4356000" y="1185840"/>
            <a:ext cx="3456000" cy="163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13_1_2_L1"/>
          <p:cNvPicPr/>
          <p:nvPr/>
        </p:nvPicPr>
        <p:blipFill>
          <a:blip r:embed="rId2"/>
          <a:stretch/>
        </p:blipFill>
        <p:spPr>
          <a:xfrm>
            <a:off x="828720" y="1182600"/>
            <a:ext cx="3527280" cy="1670040"/>
          </a:xfrm>
          <a:prstGeom prst="rect">
            <a:avLst/>
          </a:prstGeom>
          <a:ln w="0">
            <a:noFill/>
          </a:ln>
        </p:spPr>
      </p:pic>
      <p:sp>
        <p:nvSpPr>
          <p:cNvPr id="49" name="Line 6"/>
          <p:cNvSpPr/>
          <p:nvPr/>
        </p:nvSpPr>
        <p:spPr>
          <a:xfrm>
            <a:off x="3995640" y="184464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11280" y="333360"/>
            <a:ext cx="79214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рхность металла всегда покрыта химически инертной пленкой окси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торая не дает алюминию окисля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95280" y="3254400"/>
            <a:ext cx="813744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бавленные  соляная, серная и азотная кислоты легко растворяют алюминий вместе с его оксидной пленк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Al + 6HCl = 2Al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Al + 3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+ 4H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Al (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NO + 2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центрированные серная и азотная кислоты на холоде не действуют на алюминий, поэтому азотную кислоту хранят и перевозят в алюминиевых емкостях. При нагревании алюминий вступает в реакцию, восстанавливая серную кислоту до оксида сер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и азотную кислоту до низших оксидов аз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3_1_2"/>
          <p:cNvPicPr/>
          <p:nvPr/>
        </p:nvPicPr>
        <p:blipFill>
          <a:blip r:embed="rId1"/>
          <a:srcRect l="2609" t="7397" r="7827" b="3428"/>
          <a:stretch/>
        </p:blipFill>
        <p:spPr>
          <a:xfrm>
            <a:off x="395280" y="1563840"/>
            <a:ext cx="8424720" cy="47448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2457360" y="333360"/>
            <a:ext cx="422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имические свойств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24000" y="549360"/>
            <a:ext cx="8569080" cy="55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 нагревании  порошкообразный алюминий сгорает с ослепительной вспышкой, образуя окси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тсутствие оксидной пленки алюминий бурно взаимодействует с вод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юминий соединяется с галогенами – хлором, бромом, йодом, образуя галогени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сильном нагревании алюминий реагирует с серой, углеродом и азотом,  хорошо растворяется  в щелочах и растворах карбонатов щелочных металлов, образуя алюмин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NaOH + 2Al + 6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= 2Na [Al 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+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юминий способен отнимать кислород у оксидов многих металлов. Способность алюминия восстанавливать металлы из оксидов при высоких температурах называется алюмотермией и используется в промышле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13_2_1"/>
          <p:cNvPicPr/>
          <p:nvPr/>
        </p:nvPicPr>
        <p:blipFill>
          <a:blip r:embed="rId1"/>
          <a:srcRect l="21440" t="55773" r="16761" b="17448"/>
          <a:stretch/>
        </p:blipFill>
        <p:spPr>
          <a:xfrm>
            <a:off x="611280" y="3429000"/>
            <a:ext cx="7848360" cy="1924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68360" y="69228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юминий и его соединения проявляют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мфотерные свойс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Оксид и гидроксид алюминия реагируют и с кислотами , и со щелоч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68360" y="4700520"/>
            <a:ext cx="820728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ают алюминий прокаливанием боксит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х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, далее распла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подвергают электролизу, добавляя криолит для уменьшения температуры плавления. Суммарное уравнение реакции электролиз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4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3О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3514680" y="189000"/>
            <a:ext cx="211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уч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" name="Picture 5" descr="n511_1f"/>
          <p:cNvPicPr/>
          <p:nvPr/>
        </p:nvPicPr>
        <p:blipFill>
          <a:blip r:embed="rId1"/>
          <a:stretch/>
        </p:blipFill>
        <p:spPr>
          <a:xfrm>
            <a:off x="324000" y="1197000"/>
            <a:ext cx="6124320" cy="261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n5111f2"/>
          <p:cNvPicPr/>
          <p:nvPr/>
        </p:nvPicPr>
        <p:blipFill>
          <a:blip r:embed="rId2"/>
          <a:srcRect l="25390" t="0" r="20341" b="0"/>
          <a:stretch/>
        </p:blipFill>
        <p:spPr>
          <a:xfrm>
            <a:off x="6877080" y="1268280"/>
            <a:ext cx="2016000" cy="242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51101"/>
          <p:cNvPicPr/>
          <p:nvPr/>
        </p:nvPicPr>
        <p:blipFill>
          <a:blip r:embed="rId1"/>
          <a:stretch/>
        </p:blipFill>
        <p:spPr>
          <a:xfrm>
            <a:off x="250920" y="1787400"/>
            <a:ext cx="8569080" cy="33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7T05:42:25Z</dcterms:created>
  <dc:creator>Ахмедова Г.В.</dc:creator>
  <dc:description/>
  <dc:language>en-US</dc:language>
  <cp:lastModifiedBy>Tima</cp:lastModifiedBy>
  <dcterms:modified xsi:type="dcterms:W3CDTF">2016-12-04T17:01:29Z</dcterms:modified>
  <cp:revision>12</cp:revision>
  <dc:subject/>
  <dc:title>Слайд 1</dc:title>
</cp:coreProperties>
</file>