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C139-1B08-483B-9F6B-42A60CB71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5FA8-E401-47F0-A681-A7711E65C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F4B3-7811-4DC9-8062-77BA51A92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8C3E-ED9F-4414-A62C-BA9488992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E2B5-F2FC-4428-A8BA-C94314603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6F9F-0B0E-4A84-A16E-8FD20708B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C21A-0E60-4A81-89AF-AAAB92011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D355-2433-4E61-95D9-75ADB1D358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D99E-FE04-451E-AFC4-E9283C205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5B60-7198-43A0-A205-545599154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81B0-0687-4D41-B263-6770E1F4E6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568D-BA1E-415B-A03E-5A5AD4F15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787F-8492-407F-AFE7-D4294BCBF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87B2-B371-4054-BFBB-146E398A15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100E-E927-4411-A414-334A5BBF6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3DA-1894-4B4C-8671-97F967B1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FD4-4E7D-4F34-9953-D0132384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395-360C-4B1E-AF29-4645E3AF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83F-51AE-4BB8-BFB9-05139BEE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FD5C-14AE-43E7-A1AE-7CE20C6F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252F-0A38-4F67-928C-F49FE146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1702-BF39-47EB-BB30-4FCCDA9B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9B39-BBE0-43E7-91DB-3DE086D8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8CDF-FFF4-49BB-A948-416D22AF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8EE3-13A8-489B-83AD-EFC8C0FA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4B88-DC82-42D4-8A5B-88F2BDC3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51D-BA5D-45C1-A009-B0BFCB6A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6433-3D12-4759-812D-646AEFCB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093B-1F64-465E-8FA2-A9919B78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D626-5392-4EFB-B187-699F9A90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44DC-F1E1-44FB-8F39-14195C55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38D3-C442-401F-985D-07338F38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B4B-7384-45D6-97FB-C4CF245E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CC1-BE92-4AF7-BB68-082DF817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22F-5FAB-4B6D-A2B3-5C06219B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04F-CAE9-4C11-947C-E2A3465C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7A3-8011-4715-9B71-CA07F569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622-9F3F-4321-B188-C3CC772D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138-35EC-4E98-B24C-B7668150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8102-A8EA-4F77-91D1-1A540FB947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BE67-D81A-473F-A457-A7B9DF29D5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ysotskiy.lit-info.ru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ru.wikipedia.org/wiki/&#1060;&#1072;&#1081;&#1083;:Yuriy_Vizbor_with_pipe.jpg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ru.wikipedia.org/wiki/20_&#1080;&#1102;&#1085;&#1103;" TargetMode="External"/><Relationship Id="rId9" Type="http://schemas.openxmlformats.org/officeDocument/2006/relationships/hyperlink" Target="http://ru.wikipedia.org/wiki/1934_&#1075;&#1086;&#1076;" TargetMode="External"/><Relationship Id="rId10" Type="http://schemas.openxmlformats.org/officeDocument/2006/relationships/hyperlink" Target="http://ru.wikipedia.org/wiki/17_&#1089;&#1077;&#1085;&#1090;&#1103;&#1073;&#1088;&#1103;" TargetMode="External"/><Relationship Id="rId11" Type="http://schemas.openxmlformats.org/officeDocument/2006/relationships/hyperlink" Target="http://ru.wikipedia.org/wiki/1984_&#1075;&#1086;&#1076;" TargetMode="External"/><Relationship Id="rId12" Type="http://schemas.openxmlformats.org/officeDocument/2006/relationships/hyperlink" Target="http://ru.wikipedia.org/wiki/&#1060;&#1072;&#1081;&#1083;:Galich.jpg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ru.wikipedia.org/wiki/1918" TargetMode="External"/><Relationship Id="rId15" Type="http://schemas.openxmlformats.org/officeDocument/2006/relationships/hyperlink" Target="http://ru.wikipedia.org/wiki/1977" TargetMode="Externa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58;&#1072;&#1083;&#1100;&#1082;&#1086;&#1074;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4_&#1085;&#1086;&#1103;&#1073;&#1088;&#1103;" TargetMode="External"/><Relationship Id="rId4" Type="http://schemas.openxmlformats.org/officeDocument/2006/relationships/hyperlink" Target="http://ru.wikipedia.org/wiki/1956" TargetMode="External"/><Relationship Id="rId5" Type="http://schemas.openxmlformats.org/officeDocument/2006/relationships/hyperlink" Target="http://ru.wikipedia.org/wiki/6_&#1086;&#1082;&#1090;&#1103;&#1073;&#1088;&#1103;" TargetMode="External"/><Relationship Id="rId6" Type="http://schemas.openxmlformats.org/officeDocument/2006/relationships/hyperlink" Target="http://ru.wikipedia.org/wiki/1991" TargetMode="External"/><Relationship Id="rId7" Type="http://schemas.openxmlformats.org/officeDocument/2006/relationships/hyperlink" Target="http://ru.wikipedia.org/wiki/21_&#1080;&#1102;&#1085;&#1103;" TargetMode="External"/><Relationship Id="rId8" Type="http://schemas.openxmlformats.org/officeDocument/2006/relationships/hyperlink" Target="http://ru.wikipedia.org/wiki/1962_&#1074;_&#1084;&#1091;&#1079;&#1099;&#1082;&#1077;" TargetMode="External"/><Relationship Id="rId9" Type="http://schemas.openxmlformats.org/officeDocument/2006/relationships/hyperlink" Target="http://ru.wikipedia.org/wiki/15_&#1072;&#1074;&#1075;&#1091;&#1089;&#1090;&#1072;" TargetMode="External"/><Relationship Id="rId10" Type="http://schemas.openxmlformats.org/officeDocument/2006/relationships/hyperlink" Target="http://ru.wikipedia.org/wiki/15_&#1072;&#1074;&#1075;&#1091;&#1089;&#1090;&#1072;" TargetMode="External"/><Relationship Id="rId11" Type="http://schemas.openxmlformats.org/officeDocument/2006/relationships/hyperlink" Target="http://ru.wikipedia.org/wiki/15_&#1072;&#1074;&#1075;&#1091;&#1089;&#1090;&#1072;" TargetMode="External"/><Relationship Id="rId12" Type="http://schemas.openxmlformats.org/officeDocument/2006/relationships/hyperlink" Target="http://ru.wikipedia.org/wiki/1990_&#1074;_&#1084;&#1091;&#1079;&#1099;&#1082;&#1077;" TargetMode="External"/><Relationship Id="rId13" Type="http://schemas.openxmlformats.org/officeDocument/2006/relationships/hyperlink" Target="http://ru.wikipedia.org/wiki/&#1060;&#1072;&#1081;&#1083;:Viktor_Tsoy.jpg" TargetMode="External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u.wikipedia.org/wiki/19_&#1092;&#1077;&#1074;&#1088;&#1072;&#1083;&#1103;" TargetMode="External"/><Relationship Id="rId3" Type="http://schemas.openxmlformats.org/officeDocument/2006/relationships/hyperlink" Target="http://ru.wikipedia.org/wiki/1956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41;&#1072;&#1088;&#1076;" TargetMode="External"/><Relationship Id="rId6" Type="http://schemas.openxmlformats.org/officeDocument/2006/relationships/hyperlink" Target="http://ru.wikipedia.org/wiki/&#1052;&#1091;&#1079;&#1099;&#1082;&#1072;&#1085;&#1090;" TargetMode="External"/><Relationship Id="rId7" Type="http://schemas.openxmlformats.org/officeDocument/2006/relationships/hyperlink" Target="http://ru.wikipedia.org/wiki/&#1040;&#1082;&#1090;&#1105;&#1088;" TargetMode="External"/><Relationship Id="rId8" Type="http://schemas.openxmlformats.org/officeDocument/2006/relationships/hyperlink" Target="http://ru.wikipedia.org/wiki/&#1047;&#1072;&#1089;&#1083;&#1091;&#1078;&#1077;&#1085;&#1085;&#1099;&#1081;_&#1072;&#1088;&#1090;&#1080;&#1089;&#1090;_&#1056;&#1086;&#1089;&#1089;&#1080;&#1081;&#1089;&#1082;&#1086;&#1081;_&#1060;&#1077;&#1076;&#1077;&#1088;&#1072;&#1094;&#1080;&#1080;" TargetMode="External"/><Relationship Id="rId9" Type="http://schemas.openxmlformats.org/officeDocument/2006/relationships/hyperlink" Target="http://images.yandex.ru/yandsearch?p=5&amp;ed=1&amp;text=&#1041;.&#1043;&#1088;&#1077;&#1073;&#1077;&#1085;&#1097;&#1080;&#1082;&#1086;&#1074;&amp;spsite=www.newsland.ru&amp;img_url=images.km.ru/news/yegor/grebenshikov_250.jpg&amp;rpt=simage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ru.wikipedia.org/wiki/&#1060;&#1072;&#1081;&#1083;:Yuri_Shevchuk.20080315.jpg" TargetMode="External"/><Relationship Id="rId12" Type="http://schemas.openxmlformats.org/officeDocument/2006/relationships/image" Target="../media/image13.jpeg"/><Relationship Id="rId13" Type="http://schemas.openxmlformats.org/officeDocument/2006/relationships/hyperlink" Target="http://ru.wikipedia.org/wiki/16_&#1084;&#1072;&#1103;" TargetMode="External"/><Relationship Id="rId14" Type="http://schemas.openxmlformats.org/officeDocument/2006/relationships/hyperlink" Target="http://ru.wikipedia.org/wiki/1957" TargetMode="External"/><Relationship Id="rId15" Type="http://schemas.openxmlformats.org/officeDocument/2006/relationships/hyperlink" Target="http://ru.wikipedia.org/wiki/&#1056;&#1086;&#1089;&#1089;&#1080;&#1103;" TargetMode="External"/><Relationship Id="rId16" Type="http://schemas.openxmlformats.org/officeDocument/2006/relationships/hyperlink" Target="http://ru.wikipedia.org/wiki/DDT" TargetMode="External"/><Relationship Id="rId17" Type="http://schemas.openxmlformats.org/officeDocument/2006/relationships/hyperlink" Target="http://ru.wikipedia.org/wiki/27_&#1085;&#1086;&#1103;&#1073;&#1088;&#1103;" TargetMode="External"/><Relationship Id="rId18" Type="http://schemas.openxmlformats.org/officeDocument/2006/relationships/hyperlink" Target="http://ru.wikipedia.org/wiki/1953" TargetMode="External"/><Relationship Id="rId19" Type="http://schemas.openxmlformats.org/officeDocument/2006/relationships/hyperlink" Target="http://ru.wikipedia.org/wiki/&#1056;&#1086;&#1089;&#1089;&#1080;&#1103;" TargetMode="External"/><Relationship Id="rId20" Type="http://schemas.openxmlformats.org/officeDocument/2006/relationships/hyperlink" Target="http://ru.wikipedia.org/wiki/&#1055;&#1086;&#1101;&#1090;" TargetMode="External"/><Relationship Id="rId21" Type="http://schemas.openxmlformats.org/officeDocument/2006/relationships/hyperlink" Target="http://ru.wikipedia.org/wiki/&#1052;&#1091;&#1079;&#1099;&#1082;&#1072;&#1085;&#1090;" TargetMode="External"/><Relationship Id="rId22" Type="http://schemas.openxmlformats.org/officeDocument/2006/relationships/hyperlink" Target="http://ru.wikipedia.org/wiki/&#1040;&#1082;&#1074;&#1072;&#1088;&#1080;&#1091;&#1084;_(&#1088;&#1086;&#1082;-&#1075;&#1088;&#1091;&#1087;&#1087;&#1072;)" TargetMode="External"/><Relationship Id="rId23" Type="http://schemas.openxmlformats.org/officeDocument/2006/relationships/hyperlink" Target="http://ru.wikipedia.org/wiki/&#1057;&#1057;&#1057;&#1056;" TargetMode="External"/><Relationship Id="rId24" Type="http://schemas.openxmlformats.org/officeDocument/2006/relationships/hyperlink" Target="http://ru.wikipedia.org/wiki/&#1056;&#1086;&#1082;-&#1084;&#1091;&#1079;&#1099;&#1082;&#1072;" TargetMode="External"/><Relationship Id="rId2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ozenbaum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yandex.ru/yandsearch?p=14&amp;ed=1&amp;text=&#1040;%20&#1052;&#1072;&#1082;&#1072;&#1088;&#1077;&#1074;&#1080;&#1095;&amp;img_url=s42.radikal.ru/i095/0812/f6/ea8a54d88b4a.jpg&amp;rpt=simage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ru.wikipedia.org/wiki/11_&#1076;&#1077;&#1082;&#1072;&#1073;&#1088;&#1103;" TargetMode="External"/><Relationship Id="rId6" Type="http://schemas.openxmlformats.org/officeDocument/2006/relationships/hyperlink" Target="http://ru.wikipedia.org/wiki/&#1052;&#1072;&#1096;&#1080;&#1085;&#1072;_&#1074;&#1088;&#1077;&#1084;&#1077;&#1085;&#1080;_(&#1088;&#1086;&#1082;-&#1075;&#1088;&#1091;&#1087;&#1087;&#1072;)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«Авторская песня- прошлое и настоящее»</a:t>
            </a:r>
            <a:br>
              <a:rPr sz="51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762120" y="48769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457200" y="4343400"/>
            <a:ext cx="401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к уроку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header_bottom_image2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http://vysotskiy.lit-info.ru/images/tmpl/vysotski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428760"/>
            <a:ext cx="1523880" cy="21589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228600" y="264312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мир Высоцкий (25.01.193825.07.1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Булат Окуджава Шалвович"/>
          <p:cNvPicPr/>
          <p:nvPr/>
        </p:nvPicPr>
        <p:blipFill>
          <a:blip r:embed="rId3"/>
          <a:stretch/>
        </p:blipFill>
        <p:spPr>
          <a:xfrm>
            <a:off x="2571840" y="571680"/>
            <a:ext cx="1500120" cy="19285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2500200" y="2612160"/>
            <a:ext cx="19288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Булат Шалвович Oкуджава ( 9 мая 1924 - 12 июня 1997 ) Поэт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заик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, киносценарист. Основоположник направления авторской песни.</a:t>
            </a: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7" descr="http://apksp.narod.ru/kim133.jpg"/>
          <p:cNvPicPr/>
          <p:nvPr/>
        </p:nvPicPr>
        <p:blipFill>
          <a:blip r:embed="rId4"/>
          <a:stretch/>
        </p:blipFill>
        <p:spPr>
          <a:xfrm>
            <a:off x="4714920" y="50004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4786200" y="2500200"/>
            <a:ext cx="1643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лий Черсанович Ким родился 23 декабря 1936 г. в Моск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9" descr="http://gorodnit.bard.ru/bio/portr1.jpg"/>
          <p:cNvPicPr/>
          <p:nvPr/>
        </p:nvPicPr>
        <p:blipFill>
          <a:blip r:embed="rId5"/>
          <a:stretch/>
        </p:blipFill>
        <p:spPr>
          <a:xfrm>
            <a:off x="6929280" y="500040"/>
            <a:ext cx="1571760" cy="192888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0"/>
          <p:cNvSpPr/>
          <p:nvPr/>
        </p:nvSpPr>
        <p:spPr>
          <a:xfrm>
            <a:off x="6929280" y="2500200"/>
            <a:ext cx="17859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анд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 ородни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лся в 1934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 Ленинград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сновоположник направления авторской пес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1" descr="http://upload.wikimedia.org/wikipedia/commons/thumb/c/c7/Yuriy_Vizbor_with_pipe.jpg/200px-Yuriy_Vizbor_with_pip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4200" y="4429080"/>
            <a:ext cx="1643040" cy="2214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3"/>
          <p:cNvSpPr/>
          <p:nvPr/>
        </p:nvSpPr>
        <p:spPr>
          <a:xfrm flipV="1" rot="10800000">
            <a:off x="1999800" y="456444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рий Виз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4"/>
          <p:cNvSpPr/>
          <p:nvPr/>
        </p:nvSpPr>
        <p:spPr>
          <a:xfrm>
            <a:off x="1785960" y="5214960"/>
            <a:ext cx="32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20 ию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19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5"/>
          <p:cNvSpPr/>
          <p:nvPr/>
        </p:nvSpPr>
        <p:spPr>
          <a:xfrm>
            <a:off x="1928880" y="546084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17 сентябр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198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0 л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6" descr="Портрет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876920" y="4357800"/>
            <a:ext cx="1752480" cy="2214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7"/>
          <p:cNvSpPr/>
          <p:nvPr/>
        </p:nvSpPr>
        <p:spPr>
          <a:xfrm>
            <a:off x="6629400" y="4191120"/>
            <a:ext cx="2133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екса́ндр Арка́дьевич Га́л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стоящая фамилия Ги́нзбург; 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191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0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197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4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85840"/>
            <a:ext cx="1843200" cy="245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́горь Влади́мирович Талько́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4 ноябр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1956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6 октябр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1991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 Робертович Цой </a:t>
            </a:r>
            <a:r>
              <a:rPr b="0" lang="ru-RU" sz="3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                               (21 июн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1962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                 </a:t>
            </a:r>
            <a:r>
              <a:rPr b="0" lang="ru-RU" sz="32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 </a:t>
            </a:r>
            <a:r>
              <a:rPr b="0" lang="ru-RU" sz="32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15 авгу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199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фото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215040" y="3143160"/>
            <a:ext cx="1955880" cy="269244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274320"/>
            <a:ext cx="8229600" cy="58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ачала 90-х гг., после непродолжительного взрыва всеобщего интереса к авторской песне как ко всему, недавно еще запрещенному, ее развитие переходит 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койное ру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 числ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поющих поэтов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х исполнительское мастер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в творческом отношении не происходит ничего нового.  «Поющие поэты» покинули площади и стадионы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новь вернулис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родившую их интеллектуальн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Современные барды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3" descr="http://www.biograph.ru/images/mityaev.jpg"/>
          <p:cNvPicPr/>
          <p:nvPr/>
        </p:nvPicPr>
        <p:blipFill>
          <a:blip r:embed="rId1"/>
          <a:stretch/>
        </p:blipFill>
        <p:spPr>
          <a:xfrm>
            <a:off x="357120" y="928800"/>
            <a:ext cx="1828800" cy="2286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 flipV="1" rot="10800000">
            <a:off x="285840" y="2917800"/>
            <a:ext cx="20001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яев Олег Григор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.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Times New Roman"/>
                <a:ea typeface="Times New Roman"/>
                <a:hlinkClick r:id="rId2"/>
              </a:rPr>
              <a:t>19 феврал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Times New Roman"/>
                <a:ea typeface="Times New Roman"/>
                <a:hlinkClick r:id="rId3"/>
              </a:rPr>
              <a:t>195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1400"/>
            </a:br>
            <a:r>
              <a:rPr b="0" lang="ru-RU" sz="1400" spc="-1" strike="noStrike" u="sng">
                <a:solidFill>
                  <a:srgbClr val="6767ff"/>
                </a:solidFill>
                <a:uFillTx/>
                <a:latin typeface="Times New Roman"/>
                <a:ea typeface="Times New Roman"/>
                <a:hlinkClick r:id="rId4"/>
              </a:rPr>
              <a:t>рус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бар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музыка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актё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лен Союза писателей Ро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Заслуженный артист Российской Федер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ауреат песенных фестива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7" descr="http://im0-tub.yandex.net/i?id=56404067&amp;tov=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643120" y="12859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http://upload.wikimedia.org/wikipedia/commons/thumb/d/dd/Yuri_Shevchuk.20080315.jpg/200px-Yuri_Shevchuk.20080315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572080" y="928800"/>
            <a:ext cx="1857600" cy="24289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 flipH="1">
            <a:off x="5571360" y="3510360"/>
            <a:ext cx="207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́рий Юлиа́нович Шевчу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род.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ea typeface="Times New Roman"/>
                <a:hlinkClick r:id="rId13"/>
              </a:rPr>
              <a:t>16 м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ea typeface="Times New Roman"/>
                <a:hlinkClick r:id="rId14"/>
              </a:rPr>
              <a:t>195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 россий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э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озитор и продюсе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ссменный лидер группы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D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857680" y="3335760"/>
            <a:ext cx="18572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́с Бори́со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щико́в (БГ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род.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ea typeface="Times New Roman"/>
                <a:hlinkClick r:id="rId17"/>
              </a:rPr>
              <a:t>27 ноябр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ea typeface="Times New Roman"/>
                <a:hlinkClick r:id="rId18"/>
              </a:rPr>
              <a:t>195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hlinkClick r:id="rId19"/>
              </a:rPr>
              <a:t> рус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hlinkClick r:id="rId20"/>
              </a:rPr>
              <a:t>поэ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hlinkClick r:id="rId21"/>
              </a:rPr>
              <a:t>музыка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дер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hlinkClick r:id="rId22"/>
              </a:rPr>
              <a:t>рок-группы «Аквариум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«отцов-основателе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hlinkClick r:id="rId23"/>
              </a:rPr>
              <a:t>советск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Arial"/>
                <a:hlinkClick r:id="rId24"/>
              </a:rPr>
              <a:t>рок-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Современные бард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одержимое 3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928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285840" y="2940840"/>
            <a:ext cx="1857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Яковле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енбау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. 13 сентября 1951композито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-исполни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ых песе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5" descr="http://im7-tub.yandex.net/i?id=16432757&amp;tov=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14800" y="928800"/>
            <a:ext cx="1928880" cy="2000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3357720" y="3081600"/>
            <a:ext cx="2214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́й Вади́мо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аревич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.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Times New Roman"/>
                <a:ea typeface="Times New Roman"/>
                <a:hlinkClick r:id="rId5"/>
              </a:rPr>
              <a:t>11 дека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вец, поэт, композито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, художни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юсер, телеведущ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 рок-груп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400" spc="-1" strike="noStrike" u="sng">
                <a:solidFill>
                  <a:srgbClr val="6767ff"/>
                </a:solidFill>
                <a:uFillTx/>
                <a:latin typeface="Times New Roman"/>
                <a:ea typeface="Times New Roman"/>
                <a:hlinkClick r:id="rId6"/>
              </a:rPr>
              <a:t>Машина времен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й артист Росс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7" descr="http://im8-tub.yandex.net/i?id=553770&amp;tov=8"/>
          <p:cNvPicPr/>
          <p:nvPr/>
        </p:nvPicPr>
        <p:blipFill>
          <a:blip r:embed="rId7"/>
          <a:stretch/>
        </p:blipFill>
        <p:spPr>
          <a:xfrm>
            <a:off x="6572160" y="857160"/>
            <a:ext cx="1714680" cy="2000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6500880" y="3010320"/>
            <a:ext cx="207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и́н Евге́н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́нче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—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фи́л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́нче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милия де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музыкан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, композито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 группы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с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ладимир Высоцки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19720" y="762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РАТСКИЕ МОГ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ратских могилах не ставят крес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довы на них не рыдаю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ним кто-то приносит букеты цве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ечный огонь зажиг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 раньше вставала земля на дыб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нынче - гранитные пл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 нет ни одной персональной судьбы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судьбы в единую сл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в Вечном огне виден вспыхнувший тан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щие русские ха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щий Смоленск и горящий рейхста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ящее сердце солд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братских могил нет заплаканных в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юда ходят люди покрепч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ратских могилах не ставят крес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разве от этого легче?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2высоцкий"/>
          <p:cNvPicPr/>
          <p:nvPr/>
        </p:nvPicPr>
        <p:blipFill>
          <a:blip r:embed="rId1"/>
          <a:stretch/>
        </p:blipFill>
        <p:spPr>
          <a:xfrm>
            <a:off x="228600" y="137160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33160"/>
            <a:ext cx="40370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во всех концах держа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гнитной лентой шелест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ли песни Окуджав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а влюбилась в них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Окуджава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Булат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Окуджав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ше благородие, госпожа разлука,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е с тобою холодно, вот какая штука.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сьмецо в конверте  погоди -- не рви...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езет мне в смерти,  повезет в любви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ше благородие, госпожа чужбина,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арко обнимала ты, да мало любил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шелковые сети постой -- не лови...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езет мне в смерти,  повезет в люб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ше благородие, госпожа удач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кого ты добрая, а кому инач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вять граммов в сердце постой -- не зови..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езет мне в смерти, повезет в люб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ше благородие, госпожа побед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, моя песенка до конца не спета!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таньте, черти, клясться на крови..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езет мне в смерти, повезет в люб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Окуд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7840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лександр Галич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24280" y="114300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 авг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словенность одиночеств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йный хмель, и дождь, и сон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т - ни имени, ни отчеств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сплошная невесомость! Благословенность бесприютност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ругими в заспанной постел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 музыке, где мерой тру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шь только пальцы овла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о, что истинно, - в брож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мирает у пред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не имеет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ша - к преображенью тела!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этот день всеобщей низ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анья и жалких междомет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красно мне, что Вы поблиз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ять шагов, за пять столети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галич"/>
          <p:cNvPicPr/>
          <p:nvPr/>
        </p:nvPicPr>
        <p:blipFill>
          <a:blip r:embed="rId1"/>
          <a:stretch/>
        </p:blipFill>
        <p:spPr>
          <a:xfrm>
            <a:off x="457200" y="160020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Новелла Матвеев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91440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ви моей ты боялся зр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так я страшно люб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было довольно видеть тебя, Встречать улыбку тво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сли ты уходил к друг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просто был неизвестно г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было довольно того, что т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щ висит на гвоз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же, наш беспокойный г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умчался, новой судьбы ищ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было довольно того, что гвоз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лся после плащ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ченье лет, шелестенье д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нег, и ветер, и дождь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доме событья страш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стенки вынули гвоз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нег, и ветер, и шум дожд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ченье дней, шелестенье ле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новелла1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066680" y="609480"/>
            <a:ext cx="723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такая притч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ным-давно, ещё до Рождества Христова, жили люди, которые своих мудрых учителей называли друидами. Чтобы получить звание начальной степени друидов, избранные должны были 20 лет обучаться у жреца – друида. Пройдя испытания, обучение и посвящение, избранный назывался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еперь он имел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а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аво идти в народ и петь, нест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 и Истин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6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Юрий Визбор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2392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юльские снега - не спутай их с други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юльские снега, Памирское плат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тствую тебя! Твержу твое я им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ветры мне трубят типичное не 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мне твердят одно: ты должен быть, ты должен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зрачным, как стекло, и твердым, как нага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юле будет зной, а в январе - мороз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мне пример такой - июльские сн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роде хорошо, и все в порядке врод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там-то все прошел, я там-то не солг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т тебе, привет! Как памятник свобод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ылают в синеве июльские сн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висбор3"/>
          <p:cNvPicPr/>
          <p:nvPr/>
        </p:nvPicPr>
        <p:blipFill>
          <a:blip r:embed="rId1"/>
          <a:stretch/>
        </p:blipFill>
        <p:spPr>
          <a:xfrm>
            <a:off x="457200" y="1676520"/>
            <a:ext cx="4267080" cy="449568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лександр Городницк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1город"/>
          <p:cNvPicPr/>
          <p:nvPr/>
        </p:nvPicPr>
        <p:blipFill>
          <a:blip r:embed="rId2"/>
          <a:stretch/>
        </p:blipFill>
        <p:spPr>
          <a:xfrm>
            <a:off x="457200" y="1600200"/>
            <a:ext cx="4049640" cy="44956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4572000" y="1295280"/>
            <a:ext cx="4572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х, как стремительно мы убегаем вперед,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то нам теперь деревянных домишек облом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то доживает, само постепенно умр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о, что само не умрет, доломают потом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Годы уходят, состаримся скоро и мы,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мена идет нам, асфальтом на смену брусчатке,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ети скрипящей и снежной арбатской зи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ети исчезнувшей ныне собачьей площ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уду некстати теперь вспоминать перед с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лнечный мир тишины переулков, в котор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е уважают газеты и свой гастро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 уважают соседей, собак и акте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удет глаза мои радовать липовый цв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удут кругом улыбаться забытые ли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ет разрушенья в помине, и времени н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а и войны никакой, говорят, не случ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х, как у времени норов сегодня суро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ня не пройдет, чтобы что-нибудь в нас не разруш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коро не будет арбатских зеленых двор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коро не будет арбатских веселых старушек.       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Юлий Ки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манс Зи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елом платье с причудливым ба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окна, опустив жалюз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тояла с одним адъюта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ыхаясь, шептал он: Зиз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 чём-то настаивал мило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он в меру застенчив и храб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огда я сама потуш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евший уже канделяб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иятны интимные встре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иятна любезная речь!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тушите, пожалуйста, све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ламя хотите зажечь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ким2"/>
          <p:cNvPicPr/>
          <p:nvPr/>
        </p:nvPicPr>
        <p:blipFill>
          <a:blip r:embed="rId1"/>
          <a:stretch/>
        </p:blipFill>
        <p:spPr>
          <a:xfrm>
            <a:off x="304920" y="1523880"/>
            <a:ext cx="4190760" cy="441972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лег Митяев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0" y="990360"/>
            <a:ext cx="4037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поручика неважные де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поручика разорвана шинел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до Царского Села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ь-дорога весела,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тех пор, пока не выветрится хм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тех пор, пока валторн не стихнет мед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вообще не будет помнить ничего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 про драку, ни про пле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 про то, что смог посме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что мачеха Отчизна для н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поручика на ментике уз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латочек от одной мадемуаз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не помнит ни про спо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 про тихий разгово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 про то, что им назначена дуэ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 одном ему сегодня повез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-то молится за грешного и ждё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млет Царское С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пока одно ок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погаснет, он из жизни не уйд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митяй2"/>
          <p:cNvPicPr/>
          <p:nvPr/>
        </p:nvPicPr>
        <p:blipFill>
          <a:blip r:embed="rId1"/>
          <a:stretch/>
        </p:blipFill>
        <p:spPr>
          <a:xfrm>
            <a:off x="228600" y="137160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лександр Розенбау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19720" y="6854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льс 37-го Года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рогу, что вдали от Неглинк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лилась ко мне музыка синим дождем..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и Бога, не снимайте пластинк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вальс танцевали мы в тридцать седьм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ри счета вьюга кружит ночам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ри счета передернут затвор..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бываю... Это было не с нами..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ри счета звездой догорает костер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ьс старинный обнимает за плеч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нят все огрубелые руки мои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нят теплый можжевеловый вечер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звучала в нем музыка нашей любви..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ьс разлуки по стране носит письма..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сожаленью, в них обратного адреса н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летают по земле наши мысл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летает по всем лагерям вальс надежд..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рогу, что вдали от Неглинк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лилась ко мне музыка синим дождем..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и Бога, не снимайте пластинк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вальс танцевали мы в тридцать седьм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i?id=75596226&amp;tov=5"/>
          <p:cNvPicPr/>
          <p:nvPr/>
        </p:nvPicPr>
        <p:blipFill>
          <a:blip r:embed="rId1"/>
          <a:stretch/>
        </p:blipFill>
        <p:spPr>
          <a:xfrm>
            <a:off x="685800" y="14479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1219320" y="838080"/>
            <a:ext cx="5790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295280" y="1066680"/>
            <a:ext cx="6645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Пройдут десятилетия, нас не будет, историю нашего времени напишут по мемуарам, по газетам, по архив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ахочется потомку…познать не только факты и логику, но и дух, нерв отлетевшей эпохи, тогда, точно зн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ит правнук магнитофон…и услышит: «Не оставляйте надежду, маэстро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к   Эйдель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Высоцкий"/>
          <p:cNvPicPr/>
          <p:nvPr/>
        </p:nvPicPr>
        <p:blipFill>
          <a:blip r:embed="rId1"/>
          <a:srcRect l="211" t="211" r="211" b="211"/>
          <a:stretch/>
        </p:blipFill>
        <p:spPr>
          <a:xfrm>
            <a:off x="533520" y="1219320"/>
            <a:ext cx="3625560" cy="35049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114800" y="30492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вторская песня – тут уж без обмана, тут будет стоять перед вами весь вечер один человек с гитарой, глаза в глаза. И расчёт в авторской песне только на одно – на то, что вас беспокоят точно так же, как и меня, те же проблемы, судьбы человеческие, одни и те же мысли…Короче говоря, всё рассчитано на доверии. Вот что нужно для авторской песни: ваши глаза и уши, моё желание вам что-то рассказать, а ваше желание что-то услышать.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Высоц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66720" y="380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1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б авторской песн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ический «бум» времен «оттепели»,всплеск интереса к поэзии нашел выражение в явлении так называемой «авторской песни». Название это условно и подразумевает творчество « поющих поэтов», сочетающих в одном автора мелодии, автора стихов, исполнителя и аккомпани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б авторской песн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ая песня стала общественным движением 50-90-х годов ХХ века.Это были песни, соответствующие духу времени, духу романтики, воздуху свободы. Это песни Б.Окуджавы, А. Городницкого, А. Галича, Н.Матвеевой, Ю. Визбора, Ю. Кима, В.Высоцкого и др.Авторская песня обращена к каждому, и она про каждого, поэтому ее интимность не противоречит массовости. Авторская песня близка к городскому фолькл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м же ценна   авторская песня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имостью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искрен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доверительностью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аянием личности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демократич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исполн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ервые бар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Анч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.Виз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.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Матв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Городни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Окудж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haroni"/>
              </a:rPr>
              <a:t>Преимущество жан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Главны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являются стихи, т.е. 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отсутствие композиторского и исполнительского профессиона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стоки авторской пес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Блатной фолькл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Городской рома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уристическая пес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ероника</dc:creator>
  <dc:description/>
  <dc:language>en-US</dc:language>
  <cp:lastModifiedBy>Пользователь</cp:lastModifiedBy>
  <dcterms:modified xsi:type="dcterms:W3CDTF">2015-10-21T18:31:0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