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8C6-1432-4FA5-AAE3-448E8C72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63C-3455-4940-BC2D-B5B04FD0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899-8746-475C-834F-57F702F4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28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136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28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136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A43-12AD-4F1B-BB2C-829A6845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FB2F-4E34-4204-90AE-E3545BED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6BA2-B5F3-4E03-B8D1-70C0E32B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1D16-C07A-4014-9E94-F7E9902A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C6B6-8ECC-4296-8AC0-943A3EFA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E93F-64DB-4632-90D4-28132255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2360" cy="59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4DC6-4FB9-4A59-A57E-8B3ADA76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8BA5-5C6B-4877-AAEB-937A4C0A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24C-763E-42FB-AFFE-92FB8C0D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BBD3-B491-43F7-9136-1B093BB8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679A-2CFA-4642-990A-E2163806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059E-8AC3-4571-8469-879AC906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C09C-3E49-40E7-B46C-C5C2EF2E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28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136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28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136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BBEC-9D19-42B6-A500-100DCD9B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1C0-91EF-48CE-A397-EE060A29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E2D-9F9C-4209-AC02-B9A88F5D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74E-8FA3-43B3-B88F-46514F0C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2360" cy="59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C990-BB7C-4C31-9CEB-27731658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5EB-6A96-427B-A57E-73EA4EB6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AAE8-8DC7-4096-B25A-3C5E3479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95A4-A30B-4651-B7DA-A279A2FF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lnSpc>
                <a:spcPct val="93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91960">
              <a:lnSpc>
                <a:spcPct val="93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905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6960" indent="-31428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6960" indent="-3142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6960" indent="-3142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F01264-432E-4646-84E2-D639096864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0200" cy="1293480"/>
            <a:chOff x="8153280" y="152280"/>
            <a:chExt cx="790200" cy="12934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8800" y="15228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8800" y="32004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5120" y="32004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780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780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8800" y="48780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5120" y="48780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3240" y="48780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412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412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8800" y="65412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5120" y="65412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224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224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8800" y="82224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5120" y="82224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3240" y="822240"/>
              <a:ext cx="120240" cy="120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000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000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8800" y="99000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5120" y="990000"/>
              <a:ext cx="120240" cy="120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812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812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8800" y="1158120"/>
              <a:ext cx="120240" cy="120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5120" y="1158120"/>
              <a:ext cx="120240" cy="120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5520"/>
              <a:ext cx="120240" cy="120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5120" y="1325520"/>
              <a:ext cx="120240" cy="120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144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5720" y="464760"/>
            <a:ext cx="6779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719D565-158A-4F20-89EA-931F128FAC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6320" cy="2187360"/>
            <a:chOff x="7493040" y="2992320"/>
            <a:chExt cx="1336320" cy="21873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6720" y="299232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0760" y="299232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36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6720" y="327636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0760" y="327636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4440" y="3276360"/>
              <a:ext cx="20124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04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6720" y="356004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0760" y="3560040"/>
              <a:ext cx="20124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4440" y="3560040"/>
              <a:ext cx="20124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8120" y="356004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2640"/>
              <a:ext cx="201240" cy="2026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6720" y="3842640"/>
              <a:ext cx="201240" cy="2026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0760" y="3842640"/>
              <a:ext cx="201240" cy="2026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4440" y="3842640"/>
              <a:ext cx="201240" cy="2026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63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6720" y="41263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0760" y="412632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4440" y="412632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8120" y="4126320"/>
              <a:ext cx="20124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0720"/>
              <a:ext cx="20124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6720" y="441072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0760" y="441072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4440" y="441072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440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6720" y="469440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0760" y="469440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4440" y="469440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6720" y="497844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4440" y="497844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300" spc="-1" strike="noStrike">
                <a:solidFill>
                  <a:srgbClr val="330066"/>
                </a:solidFill>
                <a:latin typeface="Arial"/>
              </a:rPr>
              <a:t>УРОК – ИССЛЕДОВАНИЕ НА ТЕМУ:</a:t>
            </a:r>
            <a:br>
              <a:rPr sz="3300"/>
            </a:br>
            <a:r>
              <a:rPr b="1" lang="en-US" sz="3300" spc="-1" strike="noStrike">
                <a:solidFill>
                  <a:srgbClr val="330066"/>
                </a:solidFill>
                <a:latin typeface="Arial"/>
              </a:rPr>
              <a:t>« Изучение свойств азотной кислоты»</a:t>
            </a:r>
            <a:br>
              <a:rPr sz="3300"/>
            </a:br>
            <a:r>
              <a:rPr b="1" lang="en-US" sz="3300" spc="-1" strike="noStrike">
                <a:solidFill>
                  <a:srgbClr val="330066"/>
                </a:solidFill>
                <a:latin typeface="Arial"/>
              </a:rPr>
              <a:t>/для учащихся 9 классов/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51200" y="3362400"/>
            <a:ext cx="403560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Знание только тогда знание, когда оно приобретено усилиями своей мысли, а не памятью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. Н. Толст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011240" y="3429000"/>
            <a:ext cx="2465280" cy="266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ывод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очень реакционно-способное вещество. В химических реакциях проявляет себя как сильная кислота и как сильный окислител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619280" y="3278160"/>
            <a:ext cx="5616720" cy="331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ТРОЕНИЕ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алентность (N)=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епень окисления (N)=+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ординационное число (N)=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язь – ковалентная полярн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ристаллическая решетка – молекуляр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032000" cy="1871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3745080" cy="184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ХАРАКТЕРИСТ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Одноосно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содержа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таби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туч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ый электрол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ый окисл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610320" y="26748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102360" y="4000680"/>
                <a:ext cx="1127160" cy="21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изические свой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езводная H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обычной температуре – бесцветная летучая жидкость со специфическим запахом, 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кип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82,6°С, концентрированная «дымящая» H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меет желтый цвет, так как разлагается с выделением 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смешивается с водой в любых соотношениях, при t=-42°C застывает в белоснежные кристалл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. Общие с другими кислотам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Действие на индика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ий лакмус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иловый оранжевый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оз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ниверсальный (pH&lt;7)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тен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с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Химические свой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24000" y="4292640"/>
            <a:ext cx="3745080" cy="208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640" y="25992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Взаимодействие с основными 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мфотерными оксид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O+2H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(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O+2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Взаимодействие с основания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H+H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6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Взаимодействие с соля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2H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Na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+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2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+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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Взаимодействие с аммиак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H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84720" y="4487760"/>
            <a:ext cx="2737080" cy="1820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91520" cy="58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Б. Окислительные свой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) Взаимодействие с металлам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и взаимодействии с металлами образуются нитрат, вода и третий продукт по сх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+Me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тр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+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+Me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тр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+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+Me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тр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+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(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+Me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тр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+N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ированна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, Cr, Fe, Au, P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ействует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7920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+4H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(конц.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(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2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2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Cu+8H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(разб.) </a:t>
            </a:r>
            <a:r>
              <a:rPr b="0" lang="en-US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Cu(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2NO+4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6121440" cy="407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2) Взаимодействие с неметалла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и взаимодействии с неметаллами образуется  кислота, в которой у неметалла высшая степень  окисления, и продукт по сх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e + HNO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         NO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+5H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(к.)</a:t>
            </a:r>
            <a:r>
              <a:rPr b="0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5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P+5H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(р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5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364000" y="2997360"/>
                <a:ext cx="172908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конц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332000" y="2997360"/>
                <a:ext cx="16398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раз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ка</dc:creator>
  <dc:description/>
  <dc:language>en-US</dc:language>
  <cp:lastModifiedBy>Adel</cp:lastModifiedBy>
  <dcterms:modified xsi:type="dcterms:W3CDTF">2009-11-27T15:20:07Z</dcterms:modified>
  <cp:revision>12</cp:revision>
  <dc:subject/>
  <dc:title>УРОК – ИССЛЕДОВАНИЕ НА ТЕМУ:</dc:title>
</cp:coreProperties>
</file>