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483-DB96-48F5-9180-F17EADDD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CEB-F406-4248-AFCB-ED2CDF99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969-A329-4741-B933-84F3D6A1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28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136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28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136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CE6-51CA-4D95-AA3A-4226917D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E8ED-4E37-480A-A347-74E270F4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472E-79E2-4930-B467-E74F514E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A911-26E3-4B09-BD7E-18FC8E1A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B583-429B-4C8A-904B-E7A1C7F1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7EA0-F6B4-42CA-9234-FD2126FA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2360" cy="59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C14B-89BC-4EC5-BB38-0AB237DA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CF84-624D-44A5-97C5-232A2338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1CF-4EB4-45D5-A059-7121BD3A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3AC2-84D2-4681-944A-30F8A13A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1513-48E4-48B2-9F3D-03B15F1E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9E68-420D-4582-8A89-627058EF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A95D-2516-4020-A708-D08D0ADF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28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136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28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136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63EE-AD0C-4728-AC8C-D9B652CE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DC2-6F7B-44A6-A2B0-55705631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EE7-4E90-48C7-938C-F46FA016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BA6-4756-4C80-A397-9C289A41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2360" cy="59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EA9-A23C-40B4-937C-3AC90FCC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8D5-C9ED-4A97-9EAA-8DE6C302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0B7-D969-4363-B377-B3DADD8C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E7D-EDEB-4C40-AC5D-1FFC4203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3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lnSpc>
                <a:spcPct val="93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428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4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4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08074B-6322-420E-82A6-959302720B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0200" cy="1293480"/>
            <a:chOff x="8153280" y="152280"/>
            <a:chExt cx="790200" cy="12934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8800" y="15228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8800" y="32004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5120" y="32004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780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780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8800" y="48780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5120" y="48780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3240" y="48780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412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412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8800" y="65412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5120" y="65412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224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224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8800" y="82224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5120" y="82224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3240" y="82224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000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000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8800" y="99000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5120" y="99000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812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812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8800" y="115812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5120" y="115812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552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5120" y="132552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5720" y="464760"/>
            <a:ext cx="6779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D77213-FC08-4108-94BC-7D2D887797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6320" cy="2187360"/>
            <a:chOff x="7493040" y="2992320"/>
            <a:chExt cx="1336320" cy="21873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6720" y="299232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0760" y="299232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36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6720" y="327636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0760" y="327636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4440" y="327636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04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6720" y="356004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0760" y="356004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4440" y="356004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8120" y="356004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2640"/>
              <a:ext cx="201240" cy="2026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6720" y="3842640"/>
              <a:ext cx="20124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0760" y="3842640"/>
              <a:ext cx="20124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4440" y="3842640"/>
              <a:ext cx="201240" cy="202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63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6720" y="41263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0760" y="41263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4440" y="41263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126320"/>
              <a:ext cx="20124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072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6720" y="441072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0760" y="441072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4440" y="441072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440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6720" y="469440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0760" y="469440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4440" y="469440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6720" y="497844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4440" y="497844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УРОК – ИССЛЕДОВАНИЕ НА ТЕМУ:</a:t>
            </a:r>
            <a:br>
              <a:rPr sz="3300"/>
            </a:b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« Изучение свойств азотной кислоты»</a:t>
            </a:r>
            <a:br>
              <a:rPr sz="3300"/>
            </a:b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/для учащихся 9 классов/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51200" y="3362400"/>
            <a:ext cx="4035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Знание только тогда знание, когда оно приобретено усилиями своей мысли, а не памятью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. Н. Толст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11240" y="3429000"/>
            <a:ext cx="2465280" cy="26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вод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очень реакционно-способное вещество. В химических реакциях проявляет себя как сильная кислота и как сильный окислител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19280" y="3278160"/>
            <a:ext cx="5616720" cy="331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ТРОЕНИЕ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алентность (N)=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епень окисления (N)=+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ординационное число (N)=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язь – ковалентная полярн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ристаллическая решетка – молекуляр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32000" cy="1871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3745080" cy="184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Одноосно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содержа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таби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туч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ый электро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ый окисл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610320" y="26748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02360" y="4000680"/>
                <a:ext cx="1127160" cy="21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изические свой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езводная H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обычной температуре – бесцветная летучая жидкость со специфическим запахом,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кип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82,6°С, концентрированная «дымящая» H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меет желтый цвет, так как разлагается с выделением 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смешивается с водой в любых соотношениях, при t=-42°C застывает в белоснежные кристал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. Общие с другими кислота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Действие на индик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ий лакмус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иловый оранжевый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з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ниверсальный (pH&lt;7)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тен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Химические свой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24000" y="4292640"/>
            <a:ext cx="3745080" cy="208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640" y="25992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Взаимодействие с основными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мфотерными оксид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O+2H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(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O+2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Взаимодействие с основани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H+H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6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Взаимодействие с сол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2H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Na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+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2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+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Взаимодействие с аммиа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H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84720" y="4487760"/>
            <a:ext cx="2737080" cy="182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9152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Б. Окислительные свой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) Взаимодействие с металла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и взаимодействии с металлами образуются нитрат, вода и третий продукт по сх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Me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тр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+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Me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тр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+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Me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тр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+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(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Me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тр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+N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ированна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, Cr, Fe, Au, P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ействует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7920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+4H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(конц.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(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2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2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Cu+8H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(разб.) </a:t>
            </a:r>
            <a:r>
              <a:rPr b="0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Cu(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2NO+4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2) Взаимодействие с неметалл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и взаимодействии с неметаллами образуется  кислота, в которой у неметалла высшая степень  окисления, и продукт по сх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 + HNO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      NO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+5H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(к.)</a:t>
            </a:r>
            <a:r>
              <a:rPr b="0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5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P+5H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(р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5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364000" y="2997360"/>
                <a:ext cx="172908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конц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332000" y="2997360"/>
                <a:ext cx="1639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раз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</dc:creator>
  <dc:description/>
  <dc:language>en-US</dc:language>
  <cp:lastModifiedBy>Adel</cp:lastModifiedBy>
  <dcterms:modified xsi:type="dcterms:W3CDTF">2009-11-27T15:20:07Z</dcterms:modified>
  <cp:revision>12</cp:revision>
  <dc:subject/>
  <dc:title>УРОК – ИССЛЕДОВАНИЕ НА ТЕМУ:</dc:title>
</cp:coreProperties>
</file>