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0.jpeg" ContentType="image/jpeg"/>
  <Override PartName="/ppt/media/image27.jpeg" ContentType="image/jpeg"/>
  <Override PartName="/ppt/media/image5.wmf" ContentType="image/x-wmf"/>
  <Override PartName="/ppt/media/image39.jpeg" ContentType="image/jpeg"/>
  <Override PartName="/ppt/media/image17.jpeg" ContentType="image/jpeg"/>
  <Override PartName="/ppt/media/image4.jpeg" ContentType="image/jpeg"/>
  <Override PartName="/ppt/media/image40.png" ContentType="image/pn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1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4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50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CDD-441D-4F95-A242-8351E70F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C81-9034-4EA7-B9B2-7CE7DDED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AAD-A028-4EFC-B4CE-D6BD6793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0E2-83BF-4341-92C0-D81CEBC7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2F6-9F95-4A09-8958-2681F6DB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297-2D4D-4C7A-9ECD-B8D38789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078-30B2-443A-A50A-BE4446BE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346-90AC-47B9-94ED-59C306E2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13B-A97D-4FDF-84B9-B6C6EB66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193-745A-4F9A-B1F0-3717A363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2BC-86C6-46EA-A8EF-CCFFD2B1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465-831D-40E1-BA1E-0F23AEC2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4492-E331-4659-AC21-8E1EE7AC62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2840" y="213840"/>
            <a:ext cx="7807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72840" y="1906200"/>
            <a:ext cx="3809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214720" y="1143000"/>
            <a:ext cx="4572000" cy="4408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5500440"/>
            <a:ext cx="86043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учитель начальных классов Замалутдинова Г.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-720" y="26028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пустели цеха ленинградских заводов. Многие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ушли на фронт. К станкам встали их жёны и д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untitlкed"/>
          <p:cNvPicPr/>
          <p:nvPr/>
        </p:nvPicPr>
        <p:blipFill>
          <a:blip r:embed="rId1"/>
          <a:stretch/>
        </p:blipFill>
        <p:spPr>
          <a:xfrm>
            <a:off x="0" y="1143000"/>
            <a:ext cx="5386320" cy="3303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устели цеха ленинградских заводов. Многие рабочие ушли на фронт. К станкам встали их жёны и де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на заводе"/>
          <p:cNvPicPr/>
          <p:nvPr/>
        </p:nvPicPr>
        <p:blipFill>
          <a:blip r:embed="rId2"/>
          <a:stretch/>
        </p:blipFill>
        <p:spPr>
          <a:xfrm>
            <a:off x="4214880" y="3143160"/>
            <a:ext cx="474804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-3960" y="0"/>
            <a:ext cx="92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довольствие в Ленинграде закончилось. А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коло 2,5 млн. людей. Чем их кормить? Далеко за кольц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локады есть продовольствие – мука, мясо, масло.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х доставить? Только одна дорога связывала блок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род с Большой земл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та дорога шла по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3"/>
          <p:cNvPicPr/>
          <p:nvPr/>
        </p:nvPicPr>
        <p:blipFill>
          <a:blip r:embed="rId1"/>
          <a:stretch/>
        </p:blipFill>
        <p:spPr>
          <a:xfrm>
            <a:off x="1187280" y="3284640"/>
            <a:ext cx="3311640" cy="331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4"/>
          <p:cNvPicPr/>
          <p:nvPr/>
        </p:nvPicPr>
        <p:blipFill>
          <a:blip r:embed="rId2"/>
          <a:stretch/>
        </p:blipFill>
        <p:spPr>
          <a:xfrm>
            <a:off x="4500720" y="2421000"/>
            <a:ext cx="3435120" cy="3817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вольствие в Ленинграде закончилось. А в городе около 2,5 млн. людей. Чем их кормить? Далеко за кольцом блокады есть продовольствие – мука, мясо, масло. Как их доставить? Только одна дорога связывала блокадный город с Большой землёй. Эта дорога шла по в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6"/>
          <p:cNvPicPr/>
          <p:nvPr/>
        </p:nvPicPr>
        <p:blipFill>
          <a:blip r:embed="rId1"/>
          <a:stretch/>
        </p:blipFill>
        <p:spPr>
          <a:xfrm>
            <a:off x="395280" y="260280"/>
            <a:ext cx="4705200" cy="6405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5293080" y="1268280"/>
            <a:ext cx="361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город везли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д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льствие, а обра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тариков и гол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род везли продо – вольствие, а обратно стариков и голодных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0" y="260280"/>
            <a:ext cx="89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а Ленинград обрушилось свыше 100 тысяч фугас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 зажигательных авиабомб, фашисты выпуст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50 тысяч снаря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5"/>
          <p:cNvPicPr/>
          <p:nvPr/>
        </p:nvPicPr>
        <p:blipFill>
          <a:blip r:embed="rId1"/>
          <a:stretch/>
        </p:blipFill>
        <p:spPr>
          <a:xfrm>
            <a:off x="3708360" y="1341360"/>
            <a:ext cx="4908600" cy="5141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0" y="1628640"/>
            <a:ext cx="364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раги хотели об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а мучитель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мерть как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ольше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ставшихся в живых, вз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род голы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Ленинград обрушилось свыше 100 тысяч фугасных и зажигательных авиабомб, фашисты выпустили 150 тысяч снарядов. Враги хотели обречь на мучительную смерть как можно больше людей, остав- шихся в живых, взять город голыми ру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24"/>
          <p:cNvPicPr/>
          <p:nvPr/>
        </p:nvPicPr>
        <p:blipFill>
          <a:blip r:embed="rId1"/>
          <a:stretch/>
        </p:blipFill>
        <p:spPr>
          <a:xfrm>
            <a:off x="250920" y="189000"/>
            <a:ext cx="4314600" cy="6086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15нн"/>
          <p:cNvPicPr/>
          <p:nvPr/>
        </p:nvPicPr>
        <p:blipFill>
          <a:blip r:embed="rId2"/>
          <a:stretch/>
        </p:blipFill>
        <p:spPr>
          <a:xfrm>
            <a:off x="5003640" y="115920"/>
            <a:ext cx="3822840" cy="6048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3420360" y="623736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осле бомбёжк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 бомбёж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285840" y="1341360"/>
            <a:ext cx="4071960" cy="3411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-2880" y="0"/>
            <a:ext cx="85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амой страшной оказалась зима 1942 года.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енно- автомобильная дорога, проложенная по ль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адожского озера помогла выжить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й страшной оказалась зима 1942 года. Только военно- автомобильная дорога, проложенная по льду Ладожского озера помогла выжить людя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8"/>
          <p:cNvPicPr/>
          <p:nvPr/>
        </p:nvPicPr>
        <p:blipFill>
          <a:blip r:embed="rId2"/>
          <a:stretch/>
        </p:blipFill>
        <p:spPr>
          <a:xfrm>
            <a:off x="4572000" y="2500200"/>
            <a:ext cx="432432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x_68030bab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5457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610360" y="61117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орога на Лад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га на Ладо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93680" y="260280"/>
            <a:ext cx="89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30 км нужно проехать от Кобоны, чтобы оказать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падном берегу. Недалеко от трассы замаскиров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енитные установки, проволочные и минные загражд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ия, чтобы защищать дорогу от фашистских сол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28"/>
          <p:cNvPicPr/>
          <p:nvPr/>
        </p:nvPicPr>
        <p:blipFill>
          <a:blip r:embed="rId1"/>
          <a:stretch/>
        </p:blipFill>
        <p:spPr>
          <a:xfrm>
            <a:off x="1187280" y="1916280"/>
            <a:ext cx="6553440" cy="4027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466920" y="6035760"/>
            <a:ext cx="85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все машины доезжали  до берега, многие провал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ались под лёд вместе с проду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0 км нужно проехать от Кобоны, чтобы оказаться на западном берегу. Недалеко от трассы замаскированы зенитные установки, проволочные и минные загражде- ния, чтобы защищать дорогу от фашистских солдат. Не все машины доезжали до берега, многие провали- вались под лёд вместе с продук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dorogaжизни к блокадному Ленинграду"/>
          <p:cNvPicPr/>
          <p:nvPr/>
        </p:nvPicPr>
        <p:blipFill>
          <a:blip r:embed="rId1"/>
          <a:stretch/>
        </p:blipFill>
        <p:spPr>
          <a:xfrm>
            <a:off x="250920" y="504720"/>
            <a:ext cx="8713800" cy="485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465120" y="573408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Расчищали дорогу с помощью лошадей, по ко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шли машины с хле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ищали дорогу с помощью лошадей, по которой шли машины с хлеб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43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5796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617120" y="6021360"/>
            <a:ext cx="59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леб – в  Ленинград, а  детей – в ты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леб – в Ленинград, а детей – в ты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79920" y="189000"/>
            <a:ext cx="906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22 июня 1941 г. Германия пересекла границы на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траны. Темп наступления войск составлял 30 км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хвату города Ленинграда  отводилось особ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тивник хотел захватить побережье Балтийского мо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 уничтожить Балтийский флот. Немцы стрем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рывались к городу и с июля из Ленинграда 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ывозить жителей и расположенные в городе за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 фаб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poster-1941g"/>
          <p:cNvPicPr/>
          <p:nvPr/>
        </p:nvPicPr>
        <p:blipFill>
          <a:blip r:embed="rId1"/>
          <a:stretch/>
        </p:blipFill>
        <p:spPr>
          <a:xfrm>
            <a:off x="6084720" y="3068640"/>
            <a:ext cx="2495880" cy="36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"/>
          <p:cNvPicPr/>
          <p:nvPr/>
        </p:nvPicPr>
        <p:blipFill>
          <a:blip r:embed="rId2"/>
          <a:stretch/>
        </p:blipFill>
        <p:spPr>
          <a:xfrm>
            <a:off x="468360" y="335772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2 июня 1941 г. Германия пересекла границы нашей страны. Темп наступления войск составлял 30 км в сутки. Захвату города Ленинграда отводилось особое место. Противник хотел захватить побережье Балтийского моря и уничтожить Балтийский флот. Немцы стремительно прорывались к городу и с июля из Ленинграда стали вывозить жителей и расположенные в городе заводы и фабр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323280" y="404640"/>
            <a:ext cx="520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локада…. Далеко как это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т наших мирных светлы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изношу его и вижу снов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лодных умирающи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wVOV__14"/>
          <p:cNvPicPr/>
          <p:nvPr/>
        </p:nvPicPr>
        <p:blipFill>
          <a:blip r:embed="rId1"/>
          <a:stretch/>
        </p:blipFill>
        <p:spPr>
          <a:xfrm>
            <a:off x="5580000" y="1628640"/>
            <a:ext cx="3314880" cy="4972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33"/>
          <p:cNvPicPr/>
          <p:nvPr/>
        </p:nvPicPr>
        <p:blipFill>
          <a:blip r:embed="rId2"/>
          <a:stretch/>
        </p:blipFill>
        <p:spPr>
          <a:xfrm>
            <a:off x="539640" y="3254400"/>
            <a:ext cx="4103640" cy="30528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окада…. Далеко как это слово От наших мирных светлых дней. Произношу его и вижу снова – Голодных умирающих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880560" y="423720"/>
            <a:ext cx="515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ак опустели целые квартал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 как трамваи мёрзли на пут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 матерей, которые не в си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оих детей на кладбище 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8н"/>
          <p:cNvPicPr/>
          <p:nvPr/>
        </p:nvPicPr>
        <p:blipFill>
          <a:blip r:embed="rId1"/>
          <a:stretch/>
        </p:blipFill>
        <p:spPr>
          <a:xfrm>
            <a:off x="1187280" y="2133720"/>
            <a:ext cx="6480360" cy="4343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опустели целые кварталы, И как трамваи мёрзли на путях, И матерей, которые не в силах Своих детей на кладбище не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29"/>
          <p:cNvPicPr/>
          <p:nvPr/>
        </p:nvPicPr>
        <p:blipFill>
          <a:blip r:embed="rId1"/>
          <a:stretch/>
        </p:blipFill>
        <p:spPr>
          <a:xfrm>
            <a:off x="1187280" y="1197000"/>
            <a:ext cx="6767640" cy="48276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890000" y="618336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улице блокадного 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улице блокадного Ленингра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302760" y="423720"/>
            <a:ext cx="487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ез воды, без тепла, без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ень похож на чёрную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Может, в мире силы не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Чтобы всё это превозм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untitleшгd"/>
          <p:cNvPicPr/>
          <p:nvPr/>
        </p:nvPicPr>
        <p:blipFill>
          <a:blip r:embed="rId1"/>
          <a:stretch/>
        </p:blipFill>
        <p:spPr>
          <a:xfrm>
            <a:off x="2340000" y="2206800"/>
            <a:ext cx="6549840" cy="4411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 воды, без тепла, без света День похож на чёрную ночь. Может, в мире силы нету, Чтобы всё это превозмоч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446400" y="495360"/>
            <a:ext cx="430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Умирали – и говор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- Наши дети увидят с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о ворота они не откры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а колени не встали,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poster-1941j"/>
          <p:cNvPicPr/>
          <p:nvPr/>
        </p:nvPicPr>
        <p:blipFill>
          <a:blip r:embed="rId1"/>
          <a:stretch/>
        </p:blipFill>
        <p:spPr>
          <a:xfrm>
            <a:off x="4703760" y="907920"/>
            <a:ext cx="4186080" cy="57261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мирали – и говорили, - Наши дети увидят свет! Но ворота они не открыли, На колени не встали, не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044360" y="0"/>
            <a:ext cx="53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 листовки летели с н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а пороги замёрзших кварти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Будет хлеб! Вы хотите хлеба?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Будет мир! Вам не снится мир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untit7556led"/>
          <p:cNvPicPr/>
          <p:nvPr/>
        </p:nvPicPr>
        <p:blipFill>
          <a:blip r:embed="rId1"/>
          <a:stretch/>
        </p:blipFill>
        <p:spPr>
          <a:xfrm>
            <a:off x="1258920" y="1916280"/>
            <a:ext cx="6337440" cy="4754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листовки летели с неба На пороги замёрзших квартир: «Будет хлеб! Вы хотите хлеба?..» «Будет мир! Вам не снится мир!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302040" y="351000"/>
            <a:ext cx="491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ети, плача хлеба прос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т страшнее пытки та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енинграда ворот не откр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 не вышли к стене город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30"/>
          <p:cNvPicPr/>
          <p:nvPr/>
        </p:nvPicPr>
        <p:blipFill>
          <a:blip r:embed="rId1"/>
          <a:stretch/>
        </p:blipFill>
        <p:spPr>
          <a:xfrm>
            <a:off x="6307200" y="260280"/>
            <a:ext cx="2408040" cy="3240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untitl43ed"/>
          <p:cNvPicPr/>
          <p:nvPr/>
        </p:nvPicPr>
        <p:blipFill>
          <a:blip r:embed="rId2"/>
          <a:stretch/>
        </p:blipFill>
        <p:spPr>
          <a:xfrm>
            <a:off x="324000" y="23130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и, плача хлеба просили, Нет страшнее пытки такой. Ленинграда ворот не открыли И не вышли к стене городс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untitledпр"/>
          <p:cNvPicPr/>
          <p:nvPr/>
        </p:nvPicPr>
        <p:blipFill>
          <a:blip r:embed="rId1"/>
          <a:stretch/>
        </p:blipFill>
        <p:spPr>
          <a:xfrm>
            <a:off x="5219640" y="1341360"/>
            <a:ext cx="3692520" cy="47545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20920" y="279360"/>
            <a:ext cx="4524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осаждённом Ленингр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та девочка ж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ученической тет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ой дневник она в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дни войны погибла Та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аня в памяти ж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таив на миг дыха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лышит мир её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Женя умерла 28 декабр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2 часов 30 минут утра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ода. Бабушка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25 января в 3 часа 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942 года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осаждённом Ленинграде Эта девочка жила. В ученической тетради Свой дневник она вела. В дни войны погибла Таня, Таня в памяти жива: Затаив на миг дыханье, Слышит мир её слова: «Женя умерла 28 декабря в 12 часов 30 минут утра 1941 года. Бабушка умерла 25 ян- варя в 3 часа дня 1942 года..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ntitlввed"/>
          <p:cNvPicPr/>
          <p:nvPr/>
        </p:nvPicPr>
        <p:blipFill>
          <a:blip r:embed="rId1"/>
          <a:stretch/>
        </p:blipFill>
        <p:spPr>
          <a:xfrm>
            <a:off x="5148360" y="189000"/>
            <a:ext cx="3456000" cy="51562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252720" y="404640"/>
            <a:ext cx="580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в ночи пронзает не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стрый свет прож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ома нет ни крошки хле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найдёшь полена 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т коптилки не согре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арандаш дрожит в ру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о выводит кровью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сокровенном дневн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Лека умер 12 марта в 8 часов у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942 года. Дядя Вася умер 13 апр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2 часа дня 1942 года».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в ночи пронзает небо Острый свет прожекторов. Дома нет ни крошки хлеба, Не найдёшь полена дров. От коптилки не согреться Карандаш дрожит в руке, Но выводит кровью сердце В сокровенном дневнике: «Лека умер 12 марта в 8 часов утра 1942 года. Дядя Вася умер 13 апреля в 2 часа дня 1942 год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252360" y="981000"/>
            <a:ext cx="466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тшумела, отгрем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рудийная гр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олько память то и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мотрит пристально в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 солнцу тянутся берё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бивается тра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на скорбном Пискарёв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становят вдруг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Дядя Лёша умер 10 м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4 часа дня 194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Мама – 13 мая в 7 ча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30 минут утра 1942 го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36"/>
          <p:cNvPicPr/>
          <p:nvPr/>
        </p:nvPicPr>
        <p:blipFill>
          <a:blip r:embed="rId1"/>
          <a:stretch/>
        </p:blipFill>
        <p:spPr>
          <a:xfrm>
            <a:off x="5076720" y="189000"/>
            <a:ext cx="3818160" cy="4608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шумела, отгремела Орудийная гроза, Только память то и дело Смотрит пристально в глаза. К солнцу тянутся берёзки, Пробивается трава, А на скорбном Пискарёвском Остановят вдруг слова: «Дядя Лёша умер 10 мая в 4 часа дня 1942 года. Мама – 13 мая в 7 часов 30 минут утра 1942 год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02.mp3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673200" y="1906560"/>
            <a:ext cx="38098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9060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639720" y="2286000"/>
          <a:ext cx="3591000" cy="163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286000"/>
                    <a:ext cx="359100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1306440" y="2286000"/>
            <a:ext cx="6856560" cy="408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4"/>
          <p:cNvGraphicFramePr/>
          <p:nvPr/>
        </p:nvGraphicFramePr>
        <p:xfrm>
          <a:off x="816120" y="488880"/>
          <a:ext cx="7683480" cy="1631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6120" y="488880"/>
                    <a:ext cx="768348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untitлрled"/>
          <p:cNvPicPr/>
          <p:nvPr/>
        </p:nvPicPr>
        <p:blipFill>
          <a:blip r:embed="rId1"/>
          <a:stretch/>
        </p:blipFill>
        <p:spPr>
          <a:xfrm>
            <a:off x="1476360" y="3637080"/>
            <a:ext cx="6048360" cy="30938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250920" y="260280"/>
            <a:ext cx="856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У планеты нашей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ьётся гулко, как наб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забыть земле Освенц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ухенвальд и Ленин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етлый день встречайте, лю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юди, вслушайтесь в  днев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н звучит сильней оруд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от безмолвный детский к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Савичевы умерли. Умерли все. Осталась одна Тан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планеты нашей сердце Бьётся гулко, как набат. Не забыть земле Освенцим, Бухенвальд и Ленинград. Светлый день встречайте, люди, Люди, вслушайтесь в дневник: Он звучит сильней орудий, Тот безмолвный детский крик: «Савичевы умерли. Умерли все. Осталась одна Таня!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Т"/>
          <p:cNvPicPr/>
          <p:nvPr/>
        </p:nvPicPr>
        <p:blipFill>
          <a:blip r:embed="rId1"/>
          <a:stretch/>
        </p:blipFill>
        <p:spPr>
          <a:xfrm>
            <a:off x="826920" y="476280"/>
            <a:ext cx="7531200" cy="5648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110680" y="6205680"/>
            <a:ext cx="45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гила Тани Савичев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гила Тани Савичев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2840" y="326520"/>
            <a:ext cx="78073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ё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нингра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6880" y="1306080"/>
            <a:ext cx="381024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0040" indent="-204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м — 250 грамм хлеба в су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040" indent="-204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жащим и детям до 12 лет —  125 грамм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040" indent="-204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му составу военизированной охраны, пожарных команд, истребительных отрядов, ремесленных училищ и школ ФЗО — 300 грам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040" indent="-204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скам первой линии — 500 грам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0040" indent="-204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этом до 50 % хлеба составляли примеси, и он был почти несъедобным. Все остальные продукты почти перестали выда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79640" y="188568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9600" indent="-309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245120" y="1795320"/>
            <a:ext cx="4735440" cy="4246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untitledзщ"/>
          <p:cNvPicPr/>
          <p:nvPr/>
        </p:nvPicPr>
        <p:blipFill>
          <a:blip r:embed="rId1"/>
          <a:stretch/>
        </p:blipFill>
        <p:spPr>
          <a:xfrm>
            <a:off x="179280" y="260280"/>
            <a:ext cx="4286520" cy="5472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untitlитed"/>
          <p:cNvPicPr/>
          <p:nvPr/>
        </p:nvPicPr>
        <p:blipFill>
          <a:blip r:embed="rId2"/>
          <a:stretch/>
        </p:blipFill>
        <p:spPr>
          <a:xfrm>
            <a:off x="5076720" y="309600"/>
            <a:ext cx="3888000" cy="3006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4647600" y="3789360"/>
            <a:ext cx="449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глядись в эти фот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и ты поймёшь, как ж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енинградцы пер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локадной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562640" y="5589720"/>
            <a:ext cx="45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25 граммов хлеба на ц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глядись в эти фотографии и ты поймёшь, как жили ленинградцы первой блока- дной зимой. 125 граммов хлеба на целый д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360" y="6093000"/>
            <a:ext cx="89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ие объявления висели во всех булочных 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1245"/>
          <p:cNvPicPr/>
          <p:nvPr/>
        </p:nvPicPr>
        <p:blipFill>
          <a:blip r:embed="rId1"/>
          <a:stretch/>
        </p:blipFill>
        <p:spPr>
          <a:xfrm>
            <a:off x="971640" y="549360"/>
            <a:ext cx="7020000" cy="51339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кие объявления висели во всех булочных Ленингра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10"/>
          <p:cNvPicPr/>
          <p:nvPr/>
        </p:nvPicPr>
        <p:blipFill>
          <a:blip r:embed="rId1"/>
          <a:stretch/>
        </p:blipFill>
        <p:spPr>
          <a:xfrm>
            <a:off x="755640" y="260280"/>
            <a:ext cx="7345440" cy="5508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2124000" y="609300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ди умирали прямо на ул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умирали прямо на улиц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27"/>
          <p:cNvPicPr/>
          <p:nvPr/>
        </p:nvPicPr>
        <p:blipFill>
          <a:blip r:embed="rId1"/>
          <a:stretch/>
        </p:blipFill>
        <p:spPr>
          <a:xfrm>
            <a:off x="250920" y="836640"/>
            <a:ext cx="400032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4428360" y="765000"/>
            <a:ext cx="456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 хоронили ленинград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гибших от гол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битых при бомбё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му было делать гроб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не было машин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озить их на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упы складывал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ённых места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возили 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356000" y="400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к хоронили ленинград - цев, погибших от голода, убитых при бомбёжке. Некому было делать гробы, и не было машин, чтобы отвозить их на кладбище. Трупы складывали в опреде- лённых местах и увозили на кладбищ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Памятник блокадной кошке Василисе"/>
          <p:cNvPicPr/>
          <p:nvPr/>
        </p:nvPicPr>
        <p:blipFill>
          <a:blip r:embed="rId1"/>
          <a:stretch/>
        </p:blipFill>
        <p:spPr>
          <a:xfrm>
            <a:off x="179280" y="115920"/>
            <a:ext cx="2772000" cy="32846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2987640" y="0"/>
            <a:ext cx="6156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имой 1941-1942 г. в городе развелось много крыс. Они нападали на полуголодных  и обессилевших стариков и детей. Никаких кошек или собак в городе к этому времени уже не осталось - кто не погиб и не ушел, того съели. Крысы не только уничтожали и без того скудные запасы продоволь-ствия, они были и потенциальными разносчиками чу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83960" y="3500280"/>
            <a:ext cx="2352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Arial"/>
              </a:rPr>
              <a:t>памятник блокад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  <a:ea typeface="Arial"/>
              </a:rPr>
              <a:t>кошкам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611280" y="47530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539640" y="436572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3 декабря 1941 года. Сегодня съели жареную кошку. Очень вкусно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- записал в своем дневнике 10-летний мальчик. Тем не менее некоторые горожане, несмотря на жестокий голод, пожалели своих любим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ой 1941-1942 г. в городе развелось много крыс. Они нападали на полуголодных и обессилевших стариков и детей. Никаких кошек или собак в городе к этому времени уже не осталось - кто не погиб и не ушел, того съели. Крысы не только уничтожали и без того скудные запасы продоволь-ствия, они были и потенциальными разносчиками чумы. Памятник блокадным кошкам. «3 декабря 1941 года. Сегодня съели жареную кошку. Очень вкусно", - записал в своем дневнике 10-летний мальчик. Тем не менее некоторые горожане, несмотря на жестокий голод, пожалели своих любимце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539640" y="496800"/>
            <a:ext cx="7993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"Весной 1942 года полуживая от голода старушка вынесла своего кота на улицу погулять. К ней подходили люди, благодарили, что она его сохранил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"В марте 1942 года вдруг увидела на городской улице тощую кошку. Вокруг нее стояли несколько старушек и крестились, а исхудавший, похожий на скелет милиционер следил, чтобы никто не изловил зверьк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"В апреле 1942 года, проходя мимо кинотеатра «Баррикада», увидала толпу людей у окна одного из домов. Они дивились на необыкновенное зрелище: на ярко освещенном солнцем подоконнике лежала полосатая кошка с тремя котятами. Увидев ее, я поняла, что мы выжили"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"Весной 1942 года полуживая от голода старушка вынесла своего кота на улицу погулять. К ней подходили люди, благодарили, что она его сохранила". "В марте 1942 года вдруг увидела на городской улице тощую кошку. Вокруг нее стояли несколько старушек и крестились, а исхудавший, похожий на скелет милиционер следил, чтобы никто не изловил зверька". "В апреле 1942 года, проходя мимо кинотеатра «Баррикада», увидала толпу людей у окна одного из домов. Они дивились на необыкновенное зрелище: на ярко освещенном солнцем подоконнике лежала полосатая кошка с тремя котятами. Увидев ее, я поняла, что мы выжили"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88640" y="260280"/>
            <a:ext cx="89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а защиту города поднялись все его жители: 500 тыся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енинградцев строили оборонительные сооруж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300 тысяч ушли добровольцам  в народное ополч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а фронт и в партизанские от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Women_strelkiбатальон"/>
          <p:cNvPicPr/>
          <p:nvPr/>
        </p:nvPicPr>
        <p:blipFill>
          <a:blip r:embed="rId1"/>
          <a:stretch/>
        </p:blipFill>
        <p:spPr>
          <a:xfrm>
            <a:off x="1258920" y="1916280"/>
            <a:ext cx="6985080" cy="4365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3852360" y="6237360"/>
            <a:ext cx="50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Женский стрелковый баталь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защиту города поднялись все его жители: 500 тысяч ленинградцев строили оборонительные сооружения, 300 тысяч ушли добровольцам в народное ополчение, на фронт и в партизанские отряды. Женский стрелковый баталь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click?url=http%3A%2F%2Fwww"/>
          <p:cNvPicPr/>
          <p:nvPr/>
        </p:nvPicPr>
        <p:blipFill>
          <a:blip r:embed="rId1"/>
          <a:stretch/>
        </p:blipFill>
        <p:spPr>
          <a:xfrm>
            <a:off x="468360" y="333360"/>
            <a:ext cx="7488360" cy="58341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6300720" y="62373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 школ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школе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11"/>
          <p:cNvPicPr/>
          <p:nvPr/>
        </p:nvPicPr>
        <p:blipFill>
          <a:blip r:embed="rId1"/>
          <a:stretch/>
        </p:blipFill>
        <p:spPr>
          <a:xfrm>
            <a:off x="395280" y="476280"/>
            <a:ext cx="3313080" cy="2398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11е"/>
          <p:cNvPicPr/>
          <p:nvPr/>
        </p:nvPicPr>
        <p:blipFill>
          <a:blip r:embed="rId2"/>
          <a:stretch/>
        </p:blipFill>
        <p:spPr>
          <a:xfrm>
            <a:off x="4211640" y="404640"/>
            <a:ext cx="3965400" cy="2506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13"/>
          <p:cNvPicPr/>
          <p:nvPr/>
        </p:nvPicPr>
        <p:blipFill>
          <a:blip r:embed="rId3"/>
          <a:stretch/>
        </p:blipFill>
        <p:spPr>
          <a:xfrm>
            <a:off x="395280" y="3141720"/>
            <a:ext cx="4762440" cy="3085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4933440" y="616572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блокадном 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untitкled"/>
          <p:cNvPicPr/>
          <p:nvPr/>
        </p:nvPicPr>
        <p:blipFill>
          <a:blip r:embed="rId4"/>
          <a:stretch/>
        </p:blipFill>
        <p:spPr>
          <a:xfrm>
            <a:off x="5651640" y="3808440"/>
            <a:ext cx="2912760" cy="20239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блокадном гор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-1440" y="5734080"/>
            <a:ext cx="88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провод не работал. Люди ходили за водой на Н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untiваыtled"/>
          <p:cNvPicPr/>
          <p:nvPr/>
        </p:nvPicPr>
        <p:blipFill>
          <a:blip r:embed="rId1"/>
          <a:stretch/>
        </p:blipFill>
        <p:spPr>
          <a:xfrm>
            <a:off x="5130720" y="333360"/>
            <a:ext cx="3597480" cy="5040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voda 1942"/>
          <p:cNvPicPr/>
          <p:nvPr/>
        </p:nvPicPr>
        <p:blipFill>
          <a:blip r:embed="rId2"/>
          <a:stretch/>
        </p:blipFill>
        <p:spPr>
          <a:xfrm>
            <a:off x="684360" y="333360"/>
            <a:ext cx="3593880" cy="49784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опровод не работал. Люди ходили за водой на Нев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лед трасса"/>
          <p:cNvPicPr/>
          <p:nvPr/>
        </p:nvPicPr>
        <p:blipFill>
          <a:blip r:embed="rId1"/>
          <a:stretch/>
        </p:blipFill>
        <p:spPr>
          <a:xfrm>
            <a:off x="250920" y="836640"/>
            <a:ext cx="4163760" cy="5815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итtitled"/>
          <p:cNvPicPr/>
          <p:nvPr/>
        </p:nvPicPr>
        <p:blipFill>
          <a:blip r:embed="rId2"/>
          <a:stretch/>
        </p:blipFill>
        <p:spPr>
          <a:xfrm>
            <a:off x="4932360" y="620640"/>
            <a:ext cx="4006800" cy="25005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5581080" y="364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лизко 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изко ве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231120" y="63360"/>
            <a:ext cx="904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йскам Ленинградского и Волховского фронта 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иказ: перейти в наступление, пробиваясь навстреч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руг другу, разбить осаду города Ленина и соединить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8"/>
          <p:cNvPicPr/>
          <p:nvPr/>
        </p:nvPicPr>
        <p:blipFill>
          <a:blip r:embed="rId1"/>
          <a:stretch/>
        </p:blipFill>
        <p:spPr>
          <a:xfrm>
            <a:off x="1187280" y="1320840"/>
            <a:ext cx="7129800" cy="53481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йскам Ленинградского и Волховского фронта дан приказ: перейти в наступление, пробиваясь навстречу друг другу, разбить осаду города Ленина и соединит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наступление"/>
          <p:cNvPicPr/>
          <p:nvPr/>
        </p:nvPicPr>
        <p:blipFill>
          <a:blip r:embed="rId1"/>
          <a:stretch/>
        </p:blipFill>
        <p:spPr>
          <a:xfrm>
            <a:off x="611280" y="189000"/>
            <a:ext cx="7848360" cy="58863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5511600" y="623736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уп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ту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ночной бой"/>
          <p:cNvPicPr/>
          <p:nvPr/>
        </p:nvPicPr>
        <p:blipFill>
          <a:blip r:embed="rId1"/>
          <a:stretch/>
        </p:blipFill>
        <p:spPr>
          <a:xfrm>
            <a:off x="826920" y="18900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5940360" y="616572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очной 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чной б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p57"/>
          <p:cNvPicPr/>
          <p:nvPr/>
        </p:nvPicPr>
        <p:blipFill>
          <a:blip r:embed="rId1"/>
          <a:stretch/>
        </p:blipFill>
        <p:spPr>
          <a:xfrm>
            <a:off x="179280" y="3500280"/>
            <a:ext cx="4248360" cy="3187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kontrataka2"/>
          <p:cNvPicPr/>
          <p:nvPr/>
        </p:nvPicPr>
        <p:blipFill>
          <a:blip r:embed="rId2"/>
          <a:stretch/>
        </p:blipFill>
        <p:spPr>
          <a:xfrm>
            <a:off x="3995640" y="189000"/>
            <a:ext cx="4991040" cy="3330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079600" y="602136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йска соединили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йска соединили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14"/>
          <p:cNvPicPr/>
          <p:nvPr/>
        </p:nvPicPr>
        <p:blipFill>
          <a:blip r:embed="rId1"/>
          <a:stretch/>
        </p:blipFill>
        <p:spPr>
          <a:xfrm>
            <a:off x="179280" y="189000"/>
            <a:ext cx="4694400" cy="50353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4909680" y="4365720"/>
            <a:ext cx="423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осле 7- дневных бо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йска Волховск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енинградского фр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оединились и тем са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рорвали блокаду Лени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града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5202360" y="35100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8 января 194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 7- дневных боёв войска Волховского и Ленинградского фронтов соединились и тем самым прорвали блокаду Ленин- града. 18 января 1943 г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16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4612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179280" y="189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900 дней жил Ленинград в осаде. 900 дней и ночей шли на Ладоге смертельные бои.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00 дней жил Ленинград в осаде. 900 дней и ночей шли на Ладоге смертельные бо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карта23"/>
          <p:cNvPicPr/>
          <p:nvPr/>
        </p:nvPicPr>
        <p:blipFill>
          <a:blip r:embed="rId1"/>
          <a:stretch/>
        </p:blipFill>
        <p:spPr>
          <a:xfrm>
            <a:off x="1908000" y="189000"/>
            <a:ext cx="5545440" cy="5191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-2880" y="5305320"/>
            <a:ext cx="92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мотри на карту! Если земля нарисована коричнев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начит её, захватили фашисты. На коричневой зем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рисована фашистская свастика. А там где,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асная Армия, нарисованы красные звё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мотри на карту! Если земля нарисована коричневым, значит её, захватили фашисты. На коричневой земле нарисована фашистская свастика. А там где, стоит Красная Армия, нарисованы красные звёз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снятие блокады"/>
          <p:cNvPicPr/>
          <p:nvPr/>
        </p:nvPicPr>
        <p:blipFill>
          <a:blip r:embed="rId1"/>
          <a:stretch/>
        </p:blipFill>
        <p:spPr>
          <a:xfrm>
            <a:off x="250920" y="291960"/>
            <a:ext cx="8497800" cy="63723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окада снят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-25560" y="0"/>
            <a:ext cx="8966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 залпом залп, гремит сал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Ракеты в воздухе горя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Цветами пёстрыми цве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 ленинградцы тихо плач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 успокаивать п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утешать людей не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х радость слишком вели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мит салют над Ленингра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487"/>
          <p:cNvPicPr/>
          <p:nvPr/>
        </p:nvPicPr>
        <p:blipFill>
          <a:blip r:embed="rId1"/>
          <a:stretch/>
        </p:blipFill>
        <p:spPr>
          <a:xfrm>
            <a:off x="4788000" y="260280"/>
            <a:ext cx="4105080" cy="3565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42"/>
          <p:cNvPicPr/>
          <p:nvPr/>
        </p:nvPicPr>
        <p:blipFill>
          <a:blip r:embed="rId2"/>
          <a:stretch/>
        </p:blipFill>
        <p:spPr>
          <a:xfrm>
            <a:off x="179280" y="1989000"/>
            <a:ext cx="4537080" cy="30196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залпом залп, гремит салют. Ракеты в воздухе горячем Цветами пёстрыми цветут. А ленинградцы тихо плачут. Ни успокаивать пока, Не утешать людей не надо. Их радость слишком велика – Гремит салют над Ленингр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17"/>
          <p:cNvPicPr/>
          <p:nvPr/>
        </p:nvPicPr>
        <p:blipFill>
          <a:blip r:embed="rId1"/>
          <a:stretch/>
        </p:blipFill>
        <p:spPr>
          <a:xfrm>
            <a:off x="250920" y="1125360"/>
            <a:ext cx="4438440" cy="5328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5"/>
          <p:cNvSpPr/>
          <p:nvPr/>
        </p:nvSpPr>
        <p:spPr>
          <a:xfrm>
            <a:off x="332280" y="333360"/>
            <a:ext cx="8841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ти мальчики-ленинградцы. Они встретились на Дво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цовой площади. Два из них были на фронте и защищ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и  там свой город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 мужество и храброс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аградили медалями.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мальчика в кепке тоже м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али. Он голодал и мёр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 блокадном Ленингра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тушил вместе с бойц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жигательные бомбы, р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ботал на заводе – дел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наряды. За это его нагр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или медалью «За об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енинграда» и медалью 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« Доблестный труд в Вел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ой Отечественн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1941-1945гг..»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 мальчики-ленинградцы. Они встретились на Двор- цовой площади. Два из них были на фронте и защища- ли там свой город . За мужество и храбрость их наградили медалями. У мальчика в кепке тоже ме- дали. Он голодал и мёрз в блокадном Ленинграде, тушил вместе с бойцами зажигательные бомбы, ра- ботал на заводе – делал снаряды. За это его награ- дили медалью «За оборону Ленинграда» и медалью за « Доблестный труд в Вели- кой Отечественной войне 1941-1945гг..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0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177120" y="189000"/>
            <a:ext cx="64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вой город отстояв ценою б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Не сдали Ленинграда ленинградцы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а, в нём ключи чужих столиц хранятс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Ключей к нему в чужих столицах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за оборону"/>
          <p:cNvPicPr/>
          <p:nvPr/>
        </p:nvPicPr>
        <p:blipFill>
          <a:blip r:embed="rId1"/>
          <a:stretch/>
        </p:blipFill>
        <p:spPr>
          <a:xfrm>
            <a:off x="900000" y="1989000"/>
            <a:ext cx="7429680" cy="45054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 город отстояв ценою бед, Не сдали Ленинграда ленинградцы – Да, в нём ключи чужих столиц хранятся,- Ключей к нему в чужих столицах не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3"/>
          <p:cNvPicPr/>
          <p:nvPr/>
        </p:nvPicPr>
        <p:blipFill>
          <a:blip r:embed="rId1"/>
          <a:stretch/>
        </p:blipFill>
        <p:spPr>
          <a:xfrm>
            <a:off x="250920" y="260280"/>
            <a:ext cx="4824360" cy="3387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40"/>
          <p:cNvPicPr/>
          <p:nvPr/>
        </p:nvPicPr>
        <p:blipFill>
          <a:blip r:embed="rId2"/>
          <a:stretch/>
        </p:blipFill>
        <p:spPr>
          <a:xfrm>
            <a:off x="5148360" y="333360"/>
            <a:ext cx="3805200" cy="55720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6"/>
          <p:cNvSpPr/>
          <p:nvPr/>
        </p:nvSpPr>
        <p:spPr>
          <a:xfrm>
            <a:off x="268560" y="3860640"/>
            <a:ext cx="882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годы войны и блок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воды и фабрики на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рода отремонтиро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000 танков, 1500 самолё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готовили 12000 миномё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25000 автоматов, 10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арядов и мин, множество боевых судов и автомаш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годы войны и блокады заводы и фабрики нашего города отремонтировали 2000 танков, 1500 самолётов, изготовили 12000 миномётов, 225000 автоматов, 10 млн. снарядов и мин, множество боевых судов и автомаш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970200" y="189000"/>
            <a:ext cx="662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н встал, как страж на сумрачном залив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онзая шпили в огненный рас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Есть города богаче и счастлив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Есть и спокойней, но прекрасней –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spb_00035"/>
          <p:cNvPicPr/>
          <p:nvPr/>
        </p:nvPicPr>
        <p:blipFill>
          <a:blip r:embed="rId1"/>
          <a:stretch/>
        </p:blipFill>
        <p:spPr>
          <a:xfrm>
            <a:off x="1547640" y="1916280"/>
            <a:ext cx="6407280" cy="4806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н встал, как страж на сумрачном заливе, Вонзая шпили в огненный рассвет. Есть города богаче и счастливей, Есть и спокойней, но прекрасней – не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овоб от блок"/>
          <p:cNvPicPr/>
          <p:nvPr/>
        </p:nvPicPr>
        <p:blipFill>
          <a:blip r:embed="rId1"/>
          <a:stretch/>
        </p:blipFill>
        <p:spPr>
          <a:xfrm>
            <a:off x="539640" y="2719440"/>
            <a:ext cx="8334360" cy="4138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уу"/>
          <p:cNvPicPr/>
          <p:nvPr/>
        </p:nvPicPr>
        <p:blipFill>
          <a:blip r:embed="rId2"/>
          <a:stretch/>
        </p:blipFill>
        <p:spPr>
          <a:xfrm>
            <a:off x="3059280" y="115920"/>
            <a:ext cx="3313080" cy="25336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 этой плитой похоронены ленинградцы погибшие в 1942 г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x_7896c644"/>
          <p:cNvPicPr/>
          <p:nvPr/>
        </p:nvPicPr>
        <p:blipFill>
          <a:blip r:embed="rId1"/>
          <a:stretch/>
        </p:blipFill>
        <p:spPr>
          <a:xfrm>
            <a:off x="324000" y="333360"/>
            <a:ext cx="7019640" cy="52657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757080" y="609300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900 дней блокады – 900 берёз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x_93c6a7f2"/>
          <p:cNvPicPr/>
          <p:nvPr/>
        </p:nvPicPr>
        <p:blipFill>
          <a:blip r:embed="rId2"/>
          <a:stretch/>
        </p:blipFill>
        <p:spPr>
          <a:xfrm>
            <a:off x="5724360" y="3860640"/>
            <a:ext cx="3160800" cy="23702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00 дней блокады – 900 берё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12"/>
          <p:cNvPicPr/>
          <p:nvPr/>
        </p:nvPicPr>
        <p:blipFill>
          <a:blip r:embed="rId1"/>
          <a:stretch/>
        </p:blipFill>
        <p:spPr>
          <a:xfrm>
            <a:off x="539640" y="981000"/>
            <a:ext cx="7559640" cy="56707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5"/>
          <p:cNvSpPr/>
          <p:nvPr/>
        </p:nvSpPr>
        <p:spPr>
          <a:xfrm>
            <a:off x="92160" y="-21600"/>
            <a:ext cx="90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Санкт Петербург. Памятник Защитникам Ленингр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Площадь Победы на Московском проспе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 Петербург. Памятник Защитникам Ленинграда. Площадь Победы на Московском проспек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click?url=http%3A%2F%2Fwww"/>
          <p:cNvPicPr/>
          <p:nvPr/>
        </p:nvPicPr>
        <p:blipFill>
          <a:blip r:embed="rId1"/>
          <a:stretch/>
        </p:blipFill>
        <p:spPr>
          <a:xfrm>
            <a:off x="324000" y="333360"/>
            <a:ext cx="4194000" cy="6234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lick?url=http%3A%2F%2Funecha"/>
          <p:cNvPicPr/>
          <p:nvPr/>
        </p:nvPicPr>
        <p:blipFill>
          <a:blip r:embed="rId2"/>
          <a:stretch/>
        </p:blipFill>
        <p:spPr>
          <a:xfrm>
            <a:off x="4788000" y="40464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4547880" y="3573360"/>
            <a:ext cx="46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Санкт-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искарёвское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десь похоронены во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защищавшие город и жи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погибшие в блок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. Пискарёвское кладбище. Здесь похоронены воины, защищавшие город и жители, погибшие в блок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76760" y="189000"/>
            <a:ext cx="85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Враги подошли близко к Ленинграду и теперь мог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обстреливать из пушек все ленинградские у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11"/>
          <p:cNvPicPr/>
          <p:nvPr/>
        </p:nvPicPr>
        <p:blipFill>
          <a:blip r:embed="rId1"/>
          <a:stretch/>
        </p:blipFill>
        <p:spPr>
          <a:xfrm>
            <a:off x="1835280" y="1092240"/>
            <a:ext cx="5761080" cy="5443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аги подошли близко к Ленинграду и теперь могли обстреливать из пушек все ленинградские ул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x_153da10186 Пискар"/>
          <p:cNvPicPr/>
          <p:nvPr/>
        </p:nvPicPr>
        <p:blipFill>
          <a:blip r:embed="rId1"/>
          <a:stretch/>
        </p:blipFill>
        <p:spPr>
          <a:xfrm>
            <a:off x="1403280" y="189000"/>
            <a:ext cx="6121440" cy="56610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680400" y="5877000"/>
            <a:ext cx="726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 этой плитой похоронены ленинград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гибшие в 1942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 этой плитой похоронены ленинградцы погибшие в 1942 г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x_464725022d"/>
          <p:cNvPicPr/>
          <p:nvPr/>
        </p:nvPicPr>
        <p:blipFill>
          <a:blip r:embed="rId1"/>
          <a:stretch/>
        </p:blipFill>
        <p:spPr>
          <a:xfrm>
            <a:off x="736560" y="552600"/>
            <a:ext cx="7670880" cy="57528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кт-Петербург. Пискарёвское кладбище. Здесь похоронены воины, защищавшие город и жители, погибшие в блока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рабочий патруль 1941"/>
          <p:cNvPicPr/>
          <p:nvPr/>
        </p:nvPicPr>
        <p:blipFill>
          <a:blip r:embed="rId1"/>
          <a:stretch/>
        </p:blipFill>
        <p:spPr>
          <a:xfrm>
            <a:off x="684360" y="333360"/>
            <a:ext cx="8280360" cy="54514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626200" y="60930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Рабочие патрули  охраняют  г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чие патрули охраняют 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эвакуация госпиталя"/>
          <p:cNvPicPr/>
          <p:nvPr/>
        </p:nvPicPr>
        <p:blipFill>
          <a:blip r:embed="rId1"/>
          <a:stretch/>
        </p:blipFill>
        <p:spPr>
          <a:xfrm>
            <a:off x="684360" y="189000"/>
            <a:ext cx="8064360" cy="5591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556000" y="59500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Эвакуация госпитал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вакуация госпита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-47880" y="260280"/>
            <a:ext cx="89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Днём и ночью  немцы бомбили и обстрели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         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Ленин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untitlрлed"/>
          <p:cNvPicPr/>
          <p:nvPr/>
        </p:nvPicPr>
        <p:blipFill>
          <a:blip r:embed="rId1"/>
          <a:stretch/>
        </p:blipFill>
        <p:spPr>
          <a:xfrm>
            <a:off x="1116000" y="1214280"/>
            <a:ext cx="6696000" cy="5021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20319840" y="1523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нём и ночью немцы бомбили и обстреливали Ленингра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5:44:30Z</dcterms:created>
  <dc:creator>Admin</dc:creator>
  <dc:description/>
  <dc:language>en-US</dc:language>
  <cp:lastModifiedBy>Гузель</cp:lastModifiedBy>
  <dcterms:modified xsi:type="dcterms:W3CDTF">2016-12-04T17:51:09Z</dcterms:modified>
  <cp:revision>17</cp:revision>
  <dc:subject/>
  <dc:title>Слайд 1</dc:title>
</cp:coreProperties>
</file>