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24BD-55F1-421E-9EDD-B051371D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4224-9ABF-4E69-8ACE-3487F748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2471-761D-4D62-A21F-E8494A72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59E0-9DBF-41AE-A0F7-93CCB75A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D07B-A14D-407F-809C-B43798D4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E8B9-73A8-47B7-9247-BEF84FCF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8531-D439-42F0-8FF4-D976B7EA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FA2B-3CAC-4AEF-967A-15321BFB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C782-2D3A-40E9-B41E-32350A62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93BE-B837-49E5-98CF-20205820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8D2B-2F29-4934-94F6-97EBC04F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0BDC-DBC9-42B8-97B8-B6B3FE3C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2EEF-5F5E-4D68-9FDA-294F6CF2FE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§5 «Для чего нужна дисциплина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обществознания в 7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>
            <a:hlinkClick r:id="" action="ppaction://hlinkshowjump?jump=nextslide"/>
          </p:cNvPr>
          <p:cNvSpPr/>
          <p:nvPr/>
        </p:nvSpPr>
        <p:spPr>
          <a:xfrm>
            <a:off x="8244000" y="6021360"/>
            <a:ext cx="503280" cy="40500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837" h="21600">
                <a:moveTo>
                  <a:pt x="0" y="0"/>
                </a:moveTo>
                <a:lnTo>
                  <a:pt x="26837" y="0"/>
                </a:lnTo>
                <a:lnTo>
                  <a:pt x="26837" y="21600"/>
                </a:lnTo>
                <a:lnTo>
                  <a:pt x="0" y="21600"/>
                </a:lnTo>
                <a:close/>
              </a:path>
              <a:path fill="lightenLess" w="26837" h="21600">
                <a:moveTo>
                  <a:pt x="0" y="0"/>
                </a:moveTo>
                <a:lnTo>
                  <a:pt x="26837" y="0"/>
                </a:lnTo>
                <a:lnTo>
                  <a:pt x="25437" y="1400"/>
                </a:lnTo>
                <a:lnTo>
                  <a:pt x="1400" y="1400"/>
                </a:lnTo>
                <a:close/>
              </a:path>
              <a:path fill="darken" w="26837" h="21600">
                <a:moveTo>
                  <a:pt x="26837" y="0"/>
                </a:moveTo>
                <a:lnTo>
                  <a:pt x="26837" y="21600"/>
                </a:lnTo>
                <a:lnTo>
                  <a:pt x="25437" y="20200"/>
                </a:lnTo>
                <a:lnTo>
                  <a:pt x="25437" y="1400"/>
                </a:lnTo>
                <a:close/>
              </a:path>
              <a:path fill="darkenLess" w="26837" h="21600">
                <a:moveTo>
                  <a:pt x="26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37" y="20200"/>
                </a:lnTo>
                <a:close/>
              </a:path>
              <a:path fill="lighten" w="26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37" h="21600">
                <a:moveTo>
                  <a:pt x="6412" y="3794"/>
                </a:moveTo>
                <a:lnTo>
                  <a:pt x="20425" y="10800"/>
                </a:lnTo>
                <a:lnTo>
                  <a:pt x="6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3"/>
          <p:cNvSpPr/>
          <p:nvPr/>
        </p:nvSpPr>
        <p:spPr>
          <a:xfrm>
            <a:off x="3276720" y="422100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Группа 28"/>
          <p:cNvGrpSpPr/>
          <p:nvPr/>
        </p:nvGrpSpPr>
        <p:grpSpPr>
          <a:xfrm>
            <a:off x="214200" y="1143000"/>
            <a:ext cx="8713800" cy="5472000"/>
            <a:chOff x="214200" y="1143000"/>
            <a:chExt cx="8713800" cy="5472000"/>
          </a:xfrm>
        </p:grpSpPr>
        <p:sp>
          <p:nvSpPr>
            <p:cNvPr id="46" name="Rectangle 4"/>
            <p:cNvSpPr/>
            <p:nvPr/>
          </p:nvSpPr>
          <p:spPr>
            <a:xfrm>
              <a:off x="2663640" y="1143000"/>
              <a:ext cx="3600360" cy="71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5"/>
            <p:cNvSpPr/>
            <p:nvPr/>
          </p:nvSpPr>
          <p:spPr>
            <a:xfrm>
              <a:off x="214200" y="2582640"/>
              <a:ext cx="2881080" cy="71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5975280" y="2582640"/>
              <a:ext cx="2881080" cy="71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9"/>
            <p:cNvSpPr/>
            <p:nvPr/>
          </p:nvSpPr>
          <p:spPr>
            <a:xfrm>
              <a:off x="7488360" y="5318280"/>
              <a:ext cx="143964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>
              <a:off x="5688000" y="5391000"/>
              <a:ext cx="143964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>
              <a:off x="3887640" y="5391000"/>
              <a:ext cx="1081080" cy="1224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"/>
            <p:cNvSpPr/>
            <p:nvPr/>
          </p:nvSpPr>
          <p:spPr>
            <a:xfrm>
              <a:off x="2447640" y="5391000"/>
              <a:ext cx="1081080" cy="1224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8"/>
            <p:cNvSpPr/>
            <p:nvPr/>
          </p:nvSpPr>
          <p:spPr>
            <a:xfrm>
              <a:off x="1006200" y="5391000"/>
              <a:ext cx="1081080" cy="1224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9"/>
            <p:cNvSpPr/>
            <p:nvPr/>
          </p:nvSpPr>
          <p:spPr>
            <a:xfrm flipH="1">
              <a:off x="2806560" y="1861920"/>
              <a:ext cx="358560" cy="72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0"/>
            <p:cNvSpPr/>
            <p:nvPr/>
          </p:nvSpPr>
          <p:spPr>
            <a:xfrm>
              <a:off x="6048360" y="1861920"/>
              <a:ext cx="360360" cy="71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1"/>
            <p:cNvSpPr/>
            <p:nvPr/>
          </p:nvSpPr>
          <p:spPr>
            <a:xfrm flipH="1">
              <a:off x="4319280" y="3375000"/>
              <a:ext cx="172692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2"/>
            <p:cNvSpPr/>
            <p:nvPr/>
          </p:nvSpPr>
          <p:spPr>
            <a:xfrm flipH="1">
              <a:off x="1942920" y="4815000"/>
              <a:ext cx="720720" cy="57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4"/>
            <p:cNvSpPr/>
            <p:nvPr/>
          </p:nvSpPr>
          <p:spPr>
            <a:xfrm>
              <a:off x="7199280" y="3301920"/>
              <a:ext cx="360360" cy="71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25"/>
            <p:cNvSpPr/>
            <p:nvPr/>
          </p:nvSpPr>
          <p:spPr>
            <a:xfrm>
              <a:off x="7991640" y="4815000"/>
              <a:ext cx="21744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26"/>
            <p:cNvSpPr/>
            <p:nvPr/>
          </p:nvSpPr>
          <p:spPr>
            <a:xfrm>
              <a:off x="4319640" y="4815000"/>
              <a:ext cx="21744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27"/>
            <p:cNvSpPr/>
            <p:nvPr/>
          </p:nvSpPr>
          <p:spPr>
            <a:xfrm flipH="1">
              <a:off x="6335640" y="4815000"/>
              <a:ext cx="35856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oup 33"/>
            <p:cNvGrpSpPr/>
            <p:nvPr/>
          </p:nvGrpSpPr>
          <p:grpSpPr>
            <a:xfrm>
              <a:off x="6264360" y="4022640"/>
              <a:ext cx="2158920" cy="720720"/>
              <a:chOff x="6264360" y="4022640"/>
              <a:chExt cx="2158920" cy="720720"/>
            </a:xfrm>
          </p:grpSpPr>
          <p:sp>
            <p:nvSpPr>
              <p:cNvPr id="63" name="Rectangle 7"/>
              <p:cNvSpPr/>
              <p:nvPr/>
            </p:nvSpPr>
            <p:spPr>
              <a:xfrm>
                <a:off x="6264360" y="4022640"/>
                <a:ext cx="2158920" cy="720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Text Box 29"/>
              <p:cNvSpPr/>
              <p:nvPr/>
            </p:nvSpPr>
            <p:spPr>
              <a:xfrm>
                <a:off x="6408720" y="4095720"/>
                <a:ext cx="1943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По характеру контрол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32"/>
            <p:cNvGrpSpPr/>
            <p:nvPr/>
          </p:nvGrpSpPr>
          <p:grpSpPr>
            <a:xfrm>
              <a:off x="2447640" y="4094280"/>
              <a:ext cx="2158920" cy="720720"/>
              <a:chOff x="2447640" y="4094280"/>
              <a:chExt cx="2158920" cy="720720"/>
            </a:xfrm>
          </p:grpSpPr>
          <p:sp>
            <p:nvSpPr>
              <p:cNvPr id="66" name="Rectangle 30"/>
              <p:cNvSpPr/>
              <p:nvPr/>
            </p:nvSpPr>
            <p:spPr>
              <a:xfrm>
                <a:off x="2447640" y="4094280"/>
                <a:ext cx="2158920" cy="720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31"/>
              <p:cNvSpPr/>
              <p:nvPr/>
            </p:nvSpPr>
            <p:spPr>
              <a:xfrm>
                <a:off x="2590560" y="4094280"/>
                <a:ext cx="1873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По характеру деятель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AutoShape 34">
            <a:hlinkClick r:id="" action="ppaction://hlinkshowjump?jump=nextslide"/>
          </p:cNvPr>
          <p:cNvSpPr/>
          <p:nvPr/>
        </p:nvSpPr>
        <p:spPr>
          <a:xfrm>
            <a:off x="8643960" y="6357960"/>
            <a:ext cx="249120" cy="345960"/>
          </a:xfrm>
          <a:custGeom>
            <a:avLst/>
            <a:gdLst>
              <a:gd name="textAreaLeft" fmla="*/ 15840 w 249120"/>
              <a:gd name="textAreaRight" fmla="*/ 233280 w 249120"/>
              <a:gd name="textAreaTop" fmla="*/ 15840 h 345960"/>
              <a:gd name="textAreaBottom" fmla="*/ 330120 h 345960"/>
            </a:gdLst>
            <a:ahLst/>
            <a:rect l="textAreaLeft" t="textAreaTop" r="textAreaRight" b="textAreaBottom"/>
            <a:pathLst>
              <a:path w="21600" h="29984">
                <a:moveTo>
                  <a:pt x="0" y="0"/>
                </a:moveTo>
                <a:lnTo>
                  <a:pt x="21600" y="0"/>
                </a:lnTo>
                <a:lnTo>
                  <a:pt x="21600" y="29984"/>
                </a:lnTo>
                <a:lnTo>
                  <a:pt x="0" y="29984"/>
                </a:lnTo>
                <a:close/>
              </a:path>
              <a:path fill="lightenLess" w="21600" h="299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984">
                <a:moveTo>
                  <a:pt x="21600" y="0"/>
                </a:moveTo>
                <a:lnTo>
                  <a:pt x="21600" y="29984"/>
                </a:lnTo>
                <a:lnTo>
                  <a:pt x="20200" y="28584"/>
                </a:lnTo>
                <a:lnTo>
                  <a:pt x="20200" y="1400"/>
                </a:lnTo>
                <a:close/>
              </a:path>
              <a:path fill="darkenLess" w="21600" h="29984">
                <a:moveTo>
                  <a:pt x="21600" y="29984"/>
                </a:moveTo>
                <a:lnTo>
                  <a:pt x="0" y="29984"/>
                </a:lnTo>
                <a:lnTo>
                  <a:pt x="1400" y="28584"/>
                </a:lnTo>
                <a:lnTo>
                  <a:pt x="20200" y="28584"/>
                </a:lnTo>
                <a:close/>
              </a:path>
              <a:path fill="lighten" w="21600" h="29984">
                <a:moveTo>
                  <a:pt x="0" y="299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8584"/>
                </a:lnTo>
                <a:close/>
              </a:path>
              <a:path fill="darken" w="21600" h="29984">
                <a:moveTo>
                  <a:pt x="3794" y="7986"/>
                </a:moveTo>
                <a:lnTo>
                  <a:pt x="17806" y="14992"/>
                </a:lnTo>
                <a:lnTo>
                  <a:pt x="3794" y="2199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9"/>
          <p:cNvSpPr/>
          <p:nvPr/>
        </p:nvSpPr>
        <p:spPr>
          <a:xfrm>
            <a:off x="2025720" y="357120"/>
            <a:ext cx="49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читайте текст учебника на стр. 39 – 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ьте сх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23"/>
          <p:cNvSpPr/>
          <p:nvPr/>
        </p:nvSpPr>
        <p:spPr>
          <a:xfrm>
            <a:off x="3276720" y="422100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Группа 28"/>
          <p:cNvGrpSpPr/>
          <p:nvPr/>
        </p:nvGrpSpPr>
        <p:grpSpPr>
          <a:xfrm>
            <a:off x="214200" y="1143000"/>
            <a:ext cx="8713800" cy="5472000"/>
            <a:chOff x="214200" y="1143000"/>
            <a:chExt cx="8713800" cy="5472000"/>
          </a:xfrm>
        </p:grpSpPr>
        <p:sp>
          <p:nvSpPr>
            <p:cNvPr id="72" name="Rectangle 4"/>
            <p:cNvSpPr/>
            <p:nvPr/>
          </p:nvSpPr>
          <p:spPr>
            <a:xfrm>
              <a:off x="2663640" y="1143000"/>
              <a:ext cx="3600360" cy="71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исципли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5"/>
            <p:cNvSpPr/>
            <p:nvPr/>
          </p:nvSpPr>
          <p:spPr>
            <a:xfrm>
              <a:off x="214200" y="2582640"/>
              <a:ext cx="2881080" cy="71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бщеобязате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6"/>
            <p:cNvSpPr/>
            <p:nvPr/>
          </p:nvSpPr>
          <p:spPr>
            <a:xfrm>
              <a:off x="5975280" y="2582640"/>
              <a:ext cx="2881080" cy="71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пециа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7488360" y="5318280"/>
              <a:ext cx="143964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нешня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0"/>
            <p:cNvSpPr/>
            <p:nvPr/>
          </p:nvSpPr>
          <p:spPr>
            <a:xfrm>
              <a:off x="5688000" y="5391000"/>
              <a:ext cx="143964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1"/>
            <p:cNvSpPr/>
            <p:nvPr/>
          </p:nvSpPr>
          <p:spPr>
            <a:xfrm>
              <a:off x="3887640" y="5391000"/>
              <a:ext cx="1081080" cy="1224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учеб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2447640" y="5391000"/>
              <a:ext cx="1081080" cy="1224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оинск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1006200" y="5391000"/>
              <a:ext cx="1081080" cy="1224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трудов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9"/>
            <p:cNvSpPr/>
            <p:nvPr/>
          </p:nvSpPr>
          <p:spPr>
            <a:xfrm flipH="1">
              <a:off x="2806560" y="1861920"/>
              <a:ext cx="358560" cy="72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0"/>
            <p:cNvSpPr/>
            <p:nvPr/>
          </p:nvSpPr>
          <p:spPr>
            <a:xfrm>
              <a:off x="6048360" y="1861920"/>
              <a:ext cx="360360" cy="71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1"/>
            <p:cNvSpPr/>
            <p:nvPr/>
          </p:nvSpPr>
          <p:spPr>
            <a:xfrm flipH="1">
              <a:off x="4319280" y="3375000"/>
              <a:ext cx="172692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2"/>
            <p:cNvSpPr/>
            <p:nvPr/>
          </p:nvSpPr>
          <p:spPr>
            <a:xfrm flipH="1">
              <a:off x="1942920" y="4815000"/>
              <a:ext cx="720720" cy="57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4"/>
            <p:cNvSpPr/>
            <p:nvPr/>
          </p:nvSpPr>
          <p:spPr>
            <a:xfrm>
              <a:off x="7199280" y="3301920"/>
              <a:ext cx="360360" cy="71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5"/>
            <p:cNvSpPr/>
            <p:nvPr/>
          </p:nvSpPr>
          <p:spPr>
            <a:xfrm>
              <a:off x="7991640" y="4815000"/>
              <a:ext cx="21744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6"/>
            <p:cNvSpPr/>
            <p:nvPr/>
          </p:nvSpPr>
          <p:spPr>
            <a:xfrm>
              <a:off x="4319640" y="4815000"/>
              <a:ext cx="21744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7"/>
            <p:cNvSpPr/>
            <p:nvPr/>
          </p:nvSpPr>
          <p:spPr>
            <a:xfrm flipH="1">
              <a:off x="6335640" y="4815000"/>
              <a:ext cx="35856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33"/>
            <p:cNvGrpSpPr/>
            <p:nvPr/>
          </p:nvGrpSpPr>
          <p:grpSpPr>
            <a:xfrm>
              <a:off x="6264360" y="4022640"/>
              <a:ext cx="2158920" cy="720720"/>
              <a:chOff x="6264360" y="4022640"/>
              <a:chExt cx="2158920" cy="720720"/>
            </a:xfrm>
          </p:grpSpPr>
          <p:sp>
            <p:nvSpPr>
              <p:cNvPr id="89" name="Rectangle 7"/>
              <p:cNvSpPr/>
              <p:nvPr/>
            </p:nvSpPr>
            <p:spPr>
              <a:xfrm>
                <a:off x="6264360" y="4022640"/>
                <a:ext cx="2158920" cy="720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Text Box 29"/>
              <p:cNvSpPr/>
              <p:nvPr/>
            </p:nvSpPr>
            <p:spPr>
              <a:xfrm>
                <a:off x="6408720" y="4095720"/>
                <a:ext cx="1943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По характеру контрол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32"/>
            <p:cNvGrpSpPr/>
            <p:nvPr/>
          </p:nvGrpSpPr>
          <p:grpSpPr>
            <a:xfrm>
              <a:off x="2447640" y="4094280"/>
              <a:ext cx="2158920" cy="720720"/>
              <a:chOff x="2447640" y="4094280"/>
              <a:chExt cx="2158920" cy="720720"/>
            </a:xfrm>
          </p:grpSpPr>
          <p:sp>
            <p:nvSpPr>
              <p:cNvPr id="92" name="Rectangle 30"/>
              <p:cNvSpPr/>
              <p:nvPr/>
            </p:nvSpPr>
            <p:spPr>
              <a:xfrm>
                <a:off x="2447640" y="4094280"/>
                <a:ext cx="2158920" cy="720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 Box 31"/>
              <p:cNvSpPr/>
              <p:nvPr/>
            </p:nvSpPr>
            <p:spPr>
              <a:xfrm>
                <a:off x="2590560" y="4094280"/>
                <a:ext cx="1873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По характеру деятель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" name="AutoShape 34">
            <a:hlinkClick r:id="" action="ppaction://hlinkshowjump?jump=nextslide"/>
          </p:cNvPr>
          <p:cNvSpPr/>
          <p:nvPr/>
        </p:nvSpPr>
        <p:spPr>
          <a:xfrm>
            <a:off x="8643960" y="6357960"/>
            <a:ext cx="249120" cy="345960"/>
          </a:xfrm>
          <a:custGeom>
            <a:avLst/>
            <a:gdLst>
              <a:gd name="textAreaLeft" fmla="*/ 15840 w 249120"/>
              <a:gd name="textAreaRight" fmla="*/ 233280 w 249120"/>
              <a:gd name="textAreaTop" fmla="*/ 15840 h 345960"/>
              <a:gd name="textAreaBottom" fmla="*/ 330120 h 345960"/>
            </a:gdLst>
            <a:ahLst/>
            <a:rect l="textAreaLeft" t="textAreaTop" r="textAreaRight" b="textAreaBottom"/>
            <a:pathLst>
              <a:path w="21600" h="29984">
                <a:moveTo>
                  <a:pt x="0" y="0"/>
                </a:moveTo>
                <a:lnTo>
                  <a:pt x="21600" y="0"/>
                </a:lnTo>
                <a:lnTo>
                  <a:pt x="21600" y="29984"/>
                </a:lnTo>
                <a:lnTo>
                  <a:pt x="0" y="29984"/>
                </a:lnTo>
                <a:close/>
              </a:path>
              <a:path fill="lightenLess" w="21600" h="299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984">
                <a:moveTo>
                  <a:pt x="21600" y="0"/>
                </a:moveTo>
                <a:lnTo>
                  <a:pt x="21600" y="29984"/>
                </a:lnTo>
                <a:lnTo>
                  <a:pt x="20200" y="28584"/>
                </a:lnTo>
                <a:lnTo>
                  <a:pt x="20200" y="1400"/>
                </a:lnTo>
                <a:close/>
              </a:path>
              <a:path fill="darkenLess" w="21600" h="29984">
                <a:moveTo>
                  <a:pt x="21600" y="29984"/>
                </a:moveTo>
                <a:lnTo>
                  <a:pt x="0" y="29984"/>
                </a:lnTo>
                <a:lnTo>
                  <a:pt x="1400" y="28584"/>
                </a:lnTo>
                <a:lnTo>
                  <a:pt x="20200" y="28584"/>
                </a:lnTo>
                <a:close/>
              </a:path>
              <a:path fill="lighten" w="21600" h="29984">
                <a:moveTo>
                  <a:pt x="0" y="299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8584"/>
                </a:lnTo>
                <a:close/>
              </a:path>
              <a:path fill="darken" w="21600" h="29984">
                <a:moveTo>
                  <a:pt x="3794" y="7986"/>
                </a:moveTo>
                <a:lnTo>
                  <a:pt x="17806" y="14992"/>
                </a:lnTo>
                <a:lnTo>
                  <a:pt x="3794" y="2199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9"/>
          <p:cNvSpPr/>
          <p:nvPr/>
        </p:nvSpPr>
        <p:spPr>
          <a:xfrm>
            <a:off x="2025720" y="357120"/>
            <a:ext cx="49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читайте текст учебника на стр. 39 – 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ьте сх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7"/>
          <p:cNvSpPr/>
          <p:nvPr/>
        </p:nvSpPr>
        <p:spPr>
          <a:xfrm>
            <a:off x="5652720" y="550080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ен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лни таблицу. Запиши но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600200"/>
          <a:ext cx="8229600" cy="2760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76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поддерж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ей дисципл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ей дисципл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Text Box 25"/>
          <p:cNvSpPr/>
          <p:nvPr/>
        </p:nvSpPr>
        <p:spPr>
          <a:xfrm>
            <a:off x="357840" y="4797360"/>
            <a:ext cx="53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ь со стороны друг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Сов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Желание выиграть пр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Боязнь получить вы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) Стремление получить новую ра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) Чувство в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7">
            <a:hlinkClick r:id="" action="ppaction://hlinkshowjump?jump=nextslide"/>
          </p:cNvPr>
          <p:cNvSpPr/>
          <p:nvPr/>
        </p:nvSpPr>
        <p:spPr>
          <a:xfrm>
            <a:off x="8101080" y="5950080"/>
            <a:ext cx="682560" cy="61092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31" h="21600">
                <a:moveTo>
                  <a:pt x="0" y="0"/>
                </a:moveTo>
                <a:lnTo>
                  <a:pt x="24131" y="0"/>
                </a:lnTo>
                <a:lnTo>
                  <a:pt x="24131" y="21600"/>
                </a:lnTo>
                <a:lnTo>
                  <a:pt x="0" y="21600"/>
                </a:lnTo>
                <a:close/>
              </a:path>
              <a:path fill="lightenLess" w="24131" h="21600">
                <a:moveTo>
                  <a:pt x="0" y="0"/>
                </a:moveTo>
                <a:lnTo>
                  <a:pt x="24131" y="0"/>
                </a:lnTo>
                <a:lnTo>
                  <a:pt x="22731" y="1400"/>
                </a:lnTo>
                <a:lnTo>
                  <a:pt x="1400" y="1400"/>
                </a:lnTo>
                <a:close/>
              </a:path>
              <a:path fill="darken" w="24131" h="21600">
                <a:moveTo>
                  <a:pt x="24131" y="0"/>
                </a:moveTo>
                <a:lnTo>
                  <a:pt x="24131" y="21600"/>
                </a:lnTo>
                <a:lnTo>
                  <a:pt x="22731" y="20200"/>
                </a:lnTo>
                <a:lnTo>
                  <a:pt x="22731" y="1400"/>
                </a:lnTo>
                <a:close/>
              </a:path>
              <a:path fill="darkenLess" w="24131" h="21600">
                <a:moveTo>
                  <a:pt x="24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1" y="20200"/>
                </a:lnTo>
                <a:close/>
              </a:path>
              <a:path fill="lighten" w="24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31" h="21600">
                <a:moveTo>
                  <a:pt x="5059" y="3794"/>
                </a:moveTo>
                <a:lnTo>
                  <a:pt x="19072" y="10800"/>
                </a:lnTo>
                <a:lnTo>
                  <a:pt x="505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лни таблицу. Запиши но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2760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76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поддерж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ей дисципл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ей дисципл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 4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25"/>
          <p:cNvSpPr/>
          <p:nvPr/>
        </p:nvSpPr>
        <p:spPr>
          <a:xfrm>
            <a:off x="357840" y="4797360"/>
            <a:ext cx="53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ь со стороны друг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Сов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Желание выиграть пр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Боязнь получить вы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) Стремление получить новую ра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) Чувство в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7">
            <a:hlinkClick r:id="" action="ppaction://hlinkshowjump?jump=nextslide"/>
          </p:cNvPr>
          <p:cNvSpPr/>
          <p:nvPr/>
        </p:nvSpPr>
        <p:spPr>
          <a:xfrm>
            <a:off x="8101080" y="5950080"/>
            <a:ext cx="682560" cy="61092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31" h="21600">
                <a:moveTo>
                  <a:pt x="0" y="0"/>
                </a:moveTo>
                <a:lnTo>
                  <a:pt x="24131" y="0"/>
                </a:lnTo>
                <a:lnTo>
                  <a:pt x="24131" y="21600"/>
                </a:lnTo>
                <a:lnTo>
                  <a:pt x="0" y="21600"/>
                </a:lnTo>
                <a:close/>
              </a:path>
              <a:path fill="lightenLess" w="24131" h="21600">
                <a:moveTo>
                  <a:pt x="0" y="0"/>
                </a:moveTo>
                <a:lnTo>
                  <a:pt x="24131" y="0"/>
                </a:lnTo>
                <a:lnTo>
                  <a:pt x="22731" y="1400"/>
                </a:lnTo>
                <a:lnTo>
                  <a:pt x="1400" y="1400"/>
                </a:lnTo>
                <a:close/>
              </a:path>
              <a:path fill="darken" w="24131" h="21600">
                <a:moveTo>
                  <a:pt x="24131" y="0"/>
                </a:moveTo>
                <a:lnTo>
                  <a:pt x="24131" y="21600"/>
                </a:lnTo>
                <a:lnTo>
                  <a:pt x="22731" y="20200"/>
                </a:lnTo>
                <a:lnTo>
                  <a:pt x="22731" y="1400"/>
                </a:lnTo>
                <a:close/>
              </a:path>
              <a:path fill="darkenLess" w="24131" h="21600">
                <a:moveTo>
                  <a:pt x="24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1" y="20200"/>
                </a:lnTo>
                <a:close/>
              </a:path>
              <a:path fill="lighten" w="24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31" h="21600">
                <a:moveTo>
                  <a:pt x="5059" y="3794"/>
                </a:moveTo>
                <a:lnTo>
                  <a:pt x="19072" y="10800"/>
                </a:lnTo>
                <a:lnTo>
                  <a:pt x="505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группируйте нормы в таблиц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600200"/>
          <a:ext cx="8229600" cy="213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в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а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ования организац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24"/>
          <p:cNvSpPr/>
          <p:nvPr/>
        </p:nvSpPr>
        <p:spPr>
          <a:xfrm>
            <a:off x="668520" y="3952800"/>
            <a:ext cx="617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ходить дорогу на зелёный сигнал свето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Помогать старш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Заботится о младш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Голосовать за кандидата в президенты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Выполнять Устав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Иметь сменную обу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Добросовестно уч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группируйте нормы в таблиц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213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в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а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ования организац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4"/>
          <p:cNvSpPr/>
          <p:nvPr/>
        </p:nvSpPr>
        <p:spPr>
          <a:xfrm>
            <a:off x="668520" y="3952800"/>
            <a:ext cx="617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ходить дорогу на зелёный сигнал свето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Помогать старш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Заботится о младш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Голосовать за кандидата в президенты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Выполнять Устав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Иметь сменную обу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Добросовестно уч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9T20:07:34Z</dcterms:created>
  <dc:creator>1</dc:creator>
  <dc:description/>
  <dc:language>en-US</dc:language>
  <cp:lastModifiedBy>1</cp:lastModifiedBy>
  <dcterms:modified xsi:type="dcterms:W3CDTF">2016-12-04T16:38:26Z</dcterms:modified>
  <cp:revision>8</cp:revision>
  <dc:subject/>
  <dc:title>Дисциплина</dc:title>
</cp:coreProperties>
</file>