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299-69E5-4575-BAFD-3B6826E6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A48-8E6A-4932-BB20-B1F6F1FD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750-DCFB-42A5-8B76-08126A9F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70A-9469-444B-B08E-91AC31EC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267-C29F-4EB0-B3E0-385EFE6C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54D-7979-4141-AED5-1EF7E8B2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289-B050-45F5-A581-D16E9F9A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671-5071-4716-BF7E-C098D60F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9A5-074A-47A7-B589-8EFFA2DE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863-F469-460C-8A24-DFC6236E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778-C40E-4371-9B53-5873F194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3B8-1E4E-4E4E-8FF3-336F6C7F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DC39-1CC0-4EE3-B44F-A687300CB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§5 «Для чего нужна дисциплина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обществознания в 7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8244000" y="602136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20425" y="10800"/>
                </a:lnTo>
                <a:lnTo>
                  <a:pt x="6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3"/>
          <p:cNvSpPr/>
          <p:nvPr/>
        </p:nvSpPr>
        <p:spPr>
          <a:xfrm>
            <a:off x="3276720" y="42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Группа 28"/>
          <p:cNvGrpSpPr/>
          <p:nvPr/>
        </p:nvGrpSpPr>
        <p:grpSpPr>
          <a:xfrm>
            <a:off x="214200" y="1143000"/>
            <a:ext cx="8713800" cy="5472000"/>
            <a:chOff x="214200" y="1143000"/>
            <a:chExt cx="8713800" cy="5472000"/>
          </a:xfrm>
        </p:grpSpPr>
        <p:sp>
          <p:nvSpPr>
            <p:cNvPr id="46" name="Rectangle 4"/>
            <p:cNvSpPr/>
            <p:nvPr/>
          </p:nvSpPr>
          <p:spPr>
            <a:xfrm>
              <a:off x="2663640" y="1143000"/>
              <a:ext cx="360036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214200" y="2582640"/>
              <a:ext cx="288108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5975280" y="2582640"/>
              <a:ext cx="288108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7488360" y="5318280"/>
              <a:ext cx="1439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5688000" y="5391000"/>
              <a:ext cx="1439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3887640" y="5391000"/>
              <a:ext cx="108108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2447640" y="5391000"/>
              <a:ext cx="108108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8"/>
            <p:cNvSpPr/>
            <p:nvPr/>
          </p:nvSpPr>
          <p:spPr>
            <a:xfrm>
              <a:off x="1006200" y="5391000"/>
              <a:ext cx="108108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9"/>
            <p:cNvSpPr/>
            <p:nvPr/>
          </p:nvSpPr>
          <p:spPr>
            <a:xfrm flipH="1">
              <a:off x="2806560" y="1861920"/>
              <a:ext cx="35856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0"/>
            <p:cNvSpPr/>
            <p:nvPr/>
          </p:nvSpPr>
          <p:spPr>
            <a:xfrm>
              <a:off x="6048360" y="1861920"/>
              <a:ext cx="36036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1"/>
            <p:cNvSpPr/>
            <p:nvPr/>
          </p:nvSpPr>
          <p:spPr>
            <a:xfrm flipH="1">
              <a:off x="4319280" y="3375000"/>
              <a:ext cx="172692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2"/>
            <p:cNvSpPr/>
            <p:nvPr/>
          </p:nvSpPr>
          <p:spPr>
            <a:xfrm flipH="1">
              <a:off x="1942920" y="4815000"/>
              <a:ext cx="720720" cy="57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4"/>
            <p:cNvSpPr/>
            <p:nvPr/>
          </p:nvSpPr>
          <p:spPr>
            <a:xfrm>
              <a:off x="7199280" y="3301920"/>
              <a:ext cx="36036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5"/>
            <p:cNvSpPr/>
            <p:nvPr/>
          </p:nvSpPr>
          <p:spPr>
            <a:xfrm>
              <a:off x="7991640" y="4815000"/>
              <a:ext cx="217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6"/>
            <p:cNvSpPr/>
            <p:nvPr/>
          </p:nvSpPr>
          <p:spPr>
            <a:xfrm>
              <a:off x="4319640" y="4815000"/>
              <a:ext cx="217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7"/>
            <p:cNvSpPr/>
            <p:nvPr/>
          </p:nvSpPr>
          <p:spPr>
            <a:xfrm flipH="1">
              <a:off x="6335640" y="4815000"/>
              <a:ext cx="35856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33"/>
            <p:cNvGrpSpPr/>
            <p:nvPr/>
          </p:nvGrpSpPr>
          <p:grpSpPr>
            <a:xfrm>
              <a:off x="6264360" y="4022640"/>
              <a:ext cx="2158920" cy="720720"/>
              <a:chOff x="6264360" y="4022640"/>
              <a:chExt cx="2158920" cy="720720"/>
            </a:xfrm>
          </p:grpSpPr>
          <p:sp>
            <p:nvSpPr>
              <p:cNvPr id="63" name="Rectangle 7"/>
              <p:cNvSpPr/>
              <p:nvPr/>
            </p:nvSpPr>
            <p:spPr>
              <a:xfrm>
                <a:off x="6264360" y="4022640"/>
                <a:ext cx="2158920" cy="72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 Box 29"/>
              <p:cNvSpPr/>
              <p:nvPr/>
            </p:nvSpPr>
            <p:spPr>
              <a:xfrm>
                <a:off x="6408720" y="4095720"/>
                <a:ext cx="194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о характеру контрол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32"/>
            <p:cNvGrpSpPr/>
            <p:nvPr/>
          </p:nvGrpSpPr>
          <p:grpSpPr>
            <a:xfrm>
              <a:off x="2447640" y="4094280"/>
              <a:ext cx="2158920" cy="720720"/>
              <a:chOff x="2447640" y="4094280"/>
              <a:chExt cx="2158920" cy="720720"/>
            </a:xfrm>
          </p:grpSpPr>
          <p:sp>
            <p:nvSpPr>
              <p:cNvPr id="66" name="Rectangle 30"/>
              <p:cNvSpPr/>
              <p:nvPr/>
            </p:nvSpPr>
            <p:spPr>
              <a:xfrm>
                <a:off x="2447640" y="4094280"/>
                <a:ext cx="2158920" cy="72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31"/>
              <p:cNvSpPr/>
              <p:nvPr/>
            </p:nvSpPr>
            <p:spPr>
              <a:xfrm>
                <a:off x="2590560" y="4094280"/>
                <a:ext cx="187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о характеру деятель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AutoShape 34">
            <a:hlinkClick r:id="" action="ppaction://hlinkshowjump?jump=nextslide"/>
          </p:cNvPr>
          <p:cNvSpPr/>
          <p:nvPr/>
        </p:nvSpPr>
        <p:spPr>
          <a:xfrm>
            <a:off x="8643960" y="6357960"/>
            <a:ext cx="249120" cy="345960"/>
          </a:xfrm>
          <a:custGeom>
            <a:avLst/>
            <a:gdLst>
              <a:gd name="textAreaLeft" fmla="*/ 15840 w 249120"/>
              <a:gd name="textAreaRight" fmla="*/ 233280 w 249120"/>
              <a:gd name="textAreaTop" fmla="*/ 15840 h 345960"/>
              <a:gd name="textAreaBottom" fmla="*/ 330120 h 345960"/>
            </a:gdLst>
            <a:ahLst/>
            <a:rect l="textAreaLeft" t="textAreaTop" r="textAreaRight" b="textAreaBottom"/>
            <a:pathLst>
              <a:path w="21600" h="29984">
                <a:moveTo>
                  <a:pt x="0" y="0"/>
                </a:moveTo>
                <a:lnTo>
                  <a:pt x="21600" y="0"/>
                </a:lnTo>
                <a:lnTo>
                  <a:pt x="21600" y="29984"/>
                </a:lnTo>
                <a:lnTo>
                  <a:pt x="0" y="29984"/>
                </a:lnTo>
                <a:close/>
              </a:path>
              <a:path fill="lightenLess" w="21600" h="299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84">
                <a:moveTo>
                  <a:pt x="21600" y="0"/>
                </a:moveTo>
                <a:lnTo>
                  <a:pt x="21600" y="29984"/>
                </a:lnTo>
                <a:lnTo>
                  <a:pt x="20200" y="28584"/>
                </a:lnTo>
                <a:lnTo>
                  <a:pt x="20200" y="1400"/>
                </a:lnTo>
                <a:close/>
              </a:path>
              <a:path fill="darkenLess" w="21600" h="29984">
                <a:moveTo>
                  <a:pt x="21600" y="29984"/>
                </a:moveTo>
                <a:lnTo>
                  <a:pt x="0" y="29984"/>
                </a:lnTo>
                <a:lnTo>
                  <a:pt x="1400" y="28584"/>
                </a:lnTo>
                <a:lnTo>
                  <a:pt x="20200" y="28584"/>
                </a:lnTo>
                <a:close/>
              </a:path>
              <a:path fill="lighten" w="21600" h="29984">
                <a:moveTo>
                  <a:pt x="0" y="299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84"/>
                </a:lnTo>
                <a:close/>
              </a:path>
              <a:path fill="darken" w="21600" h="29984">
                <a:moveTo>
                  <a:pt x="3794" y="7986"/>
                </a:moveTo>
                <a:lnTo>
                  <a:pt x="17806" y="14992"/>
                </a:lnTo>
                <a:lnTo>
                  <a:pt x="3794" y="219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9"/>
          <p:cNvSpPr/>
          <p:nvPr/>
        </p:nvSpPr>
        <p:spPr>
          <a:xfrm>
            <a:off x="2025720" y="35712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читайте текст учебника на стр. 39 –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сх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3"/>
          <p:cNvSpPr/>
          <p:nvPr/>
        </p:nvSpPr>
        <p:spPr>
          <a:xfrm>
            <a:off x="3276720" y="42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28"/>
          <p:cNvGrpSpPr/>
          <p:nvPr/>
        </p:nvGrpSpPr>
        <p:grpSpPr>
          <a:xfrm>
            <a:off x="214200" y="1143000"/>
            <a:ext cx="8713800" cy="5472000"/>
            <a:chOff x="214200" y="1143000"/>
            <a:chExt cx="8713800" cy="5472000"/>
          </a:xfrm>
        </p:grpSpPr>
        <p:sp>
          <p:nvSpPr>
            <p:cNvPr id="72" name="Rectangle 4"/>
            <p:cNvSpPr/>
            <p:nvPr/>
          </p:nvSpPr>
          <p:spPr>
            <a:xfrm>
              <a:off x="2663640" y="1143000"/>
              <a:ext cx="360036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исцип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214200" y="2582640"/>
              <a:ext cx="288108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щеобязате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5975280" y="2582640"/>
              <a:ext cx="288108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пеци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7488360" y="5318280"/>
              <a:ext cx="1439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нешня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0"/>
            <p:cNvSpPr/>
            <p:nvPr/>
          </p:nvSpPr>
          <p:spPr>
            <a:xfrm>
              <a:off x="5688000" y="5391000"/>
              <a:ext cx="1439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3887640" y="5391000"/>
              <a:ext cx="108108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чеб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2447640" y="5391000"/>
              <a:ext cx="108108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оин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1006200" y="5391000"/>
              <a:ext cx="108108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трудов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9"/>
            <p:cNvSpPr/>
            <p:nvPr/>
          </p:nvSpPr>
          <p:spPr>
            <a:xfrm flipH="1">
              <a:off x="2806560" y="1861920"/>
              <a:ext cx="35856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0"/>
            <p:cNvSpPr/>
            <p:nvPr/>
          </p:nvSpPr>
          <p:spPr>
            <a:xfrm>
              <a:off x="6048360" y="1861920"/>
              <a:ext cx="36036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>
              <a:off x="4319280" y="3375000"/>
              <a:ext cx="172692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 flipH="1">
              <a:off x="1942920" y="4815000"/>
              <a:ext cx="720720" cy="57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4"/>
            <p:cNvSpPr/>
            <p:nvPr/>
          </p:nvSpPr>
          <p:spPr>
            <a:xfrm>
              <a:off x="7199280" y="3301920"/>
              <a:ext cx="36036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5"/>
            <p:cNvSpPr/>
            <p:nvPr/>
          </p:nvSpPr>
          <p:spPr>
            <a:xfrm>
              <a:off x="7991640" y="4815000"/>
              <a:ext cx="217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4319640" y="4815000"/>
              <a:ext cx="217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7"/>
            <p:cNvSpPr/>
            <p:nvPr/>
          </p:nvSpPr>
          <p:spPr>
            <a:xfrm flipH="1">
              <a:off x="6335640" y="4815000"/>
              <a:ext cx="35856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33"/>
            <p:cNvGrpSpPr/>
            <p:nvPr/>
          </p:nvGrpSpPr>
          <p:grpSpPr>
            <a:xfrm>
              <a:off x="6264360" y="4022640"/>
              <a:ext cx="2158920" cy="720720"/>
              <a:chOff x="6264360" y="4022640"/>
              <a:chExt cx="2158920" cy="720720"/>
            </a:xfrm>
          </p:grpSpPr>
          <p:sp>
            <p:nvSpPr>
              <p:cNvPr id="89" name="Rectangle 7"/>
              <p:cNvSpPr/>
              <p:nvPr/>
            </p:nvSpPr>
            <p:spPr>
              <a:xfrm>
                <a:off x="6264360" y="4022640"/>
                <a:ext cx="2158920" cy="72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29"/>
              <p:cNvSpPr/>
              <p:nvPr/>
            </p:nvSpPr>
            <p:spPr>
              <a:xfrm>
                <a:off x="6408720" y="4095720"/>
                <a:ext cx="194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о характеру контрол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32"/>
            <p:cNvGrpSpPr/>
            <p:nvPr/>
          </p:nvGrpSpPr>
          <p:grpSpPr>
            <a:xfrm>
              <a:off x="2447640" y="4094280"/>
              <a:ext cx="2158920" cy="720720"/>
              <a:chOff x="2447640" y="4094280"/>
              <a:chExt cx="2158920" cy="720720"/>
            </a:xfrm>
          </p:grpSpPr>
          <p:sp>
            <p:nvSpPr>
              <p:cNvPr id="92" name="Rectangle 30"/>
              <p:cNvSpPr/>
              <p:nvPr/>
            </p:nvSpPr>
            <p:spPr>
              <a:xfrm>
                <a:off x="2447640" y="4094280"/>
                <a:ext cx="2158920" cy="72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31"/>
              <p:cNvSpPr/>
              <p:nvPr/>
            </p:nvSpPr>
            <p:spPr>
              <a:xfrm>
                <a:off x="2590560" y="4094280"/>
                <a:ext cx="187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о характеру деятель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AutoShape 34">
            <a:hlinkClick r:id="" action="ppaction://hlinkshowjump?jump=nextslide"/>
          </p:cNvPr>
          <p:cNvSpPr/>
          <p:nvPr/>
        </p:nvSpPr>
        <p:spPr>
          <a:xfrm>
            <a:off x="8643960" y="6357960"/>
            <a:ext cx="249120" cy="345960"/>
          </a:xfrm>
          <a:custGeom>
            <a:avLst/>
            <a:gdLst>
              <a:gd name="textAreaLeft" fmla="*/ 15840 w 249120"/>
              <a:gd name="textAreaRight" fmla="*/ 233280 w 249120"/>
              <a:gd name="textAreaTop" fmla="*/ 15840 h 345960"/>
              <a:gd name="textAreaBottom" fmla="*/ 330120 h 345960"/>
            </a:gdLst>
            <a:ahLst/>
            <a:rect l="textAreaLeft" t="textAreaTop" r="textAreaRight" b="textAreaBottom"/>
            <a:pathLst>
              <a:path w="21600" h="29984">
                <a:moveTo>
                  <a:pt x="0" y="0"/>
                </a:moveTo>
                <a:lnTo>
                  <a:pt x="21600" y="0"/>
                </a:lnTo>
                <a:lnTo>
                  <a:pt x="21600" y="29984"/>
                </a:lnTo>
                <a:lnTo>
                  <a:pt x="0" y="29984"/>
                </a:lnTo>
                <a:close/>
              </a:path>
              <a:path fill="lightenLess" w="21600" h="299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84">
                <a:moveTo>
                  <a:pt x="21600" y="0"/>
                </a:moveTo>
                <a:lnTo>
                  <a:pt x="21600" y="29984"/>
                </a:lnTo>
                <a:lnTo>
                  <a:pt x="20200" y="28584"/>
                </a:lnTo>
                <a:lnTo>
                  <a:pt x="20200" y="1400"/>
                </a:lnTo>
                <a:close/>
              </a:path>
              <a:path fill="darkenLess" w="21600" h="29984">
                <a:moveTo>
                  <a:pt x="21600" y="29984"/>
                </a:moveTo>
                <a:lnTo>
                  <a:pt x="0" y="29984"/>
                </a:lnTo>
                <a:lnTo>
                  <a:pt x="1400" y="28584"/>
                </a:lnTo>
                <a:lnTo>
                  <a:pt x="20200" y="28584"/>
                </a:lnTo>
                <a:close/>
              </a:path>
              <a:path fill="lighten" w="21600" h="29984">
                <a:moveTo>
                  <a:pt x="0" y="299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84"/>
                </a:lnTo>
                <a:close/>
              </a:path>
              <a:path fill="darken" w="21600" h="29984">
                <a:moveTo>
                  <a:pt x="3794" y="7986"/>
                </a:moveTo>
                <a:lnTo>
                  <a:pt x="17806" y="14992"/>
                </a:lnTo>
                <a:lnTo>
                  <a:pt x="3794" y="219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9"/>
          <p:cNvSpPr/>
          <p:nvPr/>
        </p:nvSpPr>
        <p:spPr>
          <a:xfrm>
            <a:off x="2025720" y="35712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читайте текст учебника на стр. 39 –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сх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7"/>
          <p:cNvSpPr/>
          <p:nvPr/>
        </p:nvSpPr>
        <p:spPr>
          <a:xfrm>
            <a:off x="5652720" y="55008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и таблицу. Запиши но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276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поддерж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ей дисципл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й дисципл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25"/>
          <p:cNvSpPr/>
          <p:nvPr/>
        </p:nvSpPr>
        <p:spPr>
          <a:xfrm>
            <a:off x="357840" y="4797360"/>
            <a:ext cx="53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со стороны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Сов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Желание выиграть пр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Боязнь получить вы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Стремление получить нову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Чувство в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7">
            <a:hlinkClick r:id="" action="ppaction://hlinkshowjump?jump=nextslide"/>
          </p:cNvPr>
          <p:cNvSpPr/>
          <p:nvPr/>
        </p:nvSpPr>
        <p:spPr>
          <a:xfrm>
            <a:off x="8101080" y="595008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1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1" y="20200"/>
                </a:lnTo>
                <a:lnTo>
                  <a:pt x="22731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1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1" h="21600">
                <a:moveTo>
                  <a:pt x="5059" y="3794"/>
                </a:moveTo>
                <a:lnTo>
                  <a:pt x="19072" y="10800"/>
                </a:lnTo>
                <a:lnTo>
                  <a:pt x="50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и таблицу. Запиши но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276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поддерж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ей дисципл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й дисципл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 4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25"/>
          <p:cNvSpPr/>
          <p:nvPr/>
        </p:nvSpPr>
        <p:spPr>
          <a:xfrm>
            <a:off x="357840" y="4797360"/>
            <a:ext cx="53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со стороны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Сов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Желание выиграть пр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Боязнь получить вы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Стремление получить нову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Чувство в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7">
            <a:hlinkClick r:id="" action="ppaction://hlinkshowjump?jump=nextslide"/>
          </p:cNvPr>
          <p:cNvSpPr/>
          <p:nvPr/>
        </p:nvSpPr>
        <p:spPr>
          <a:xfrm>
            <a:off x="8101080" y="595008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1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1" y="20200"/>
                </a:lnTo>
                <a:lnTo>
                  <a:pt x="22731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1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1" h="21600">
                <a:moveTo>
                  <a:pt x="5059" y="3794"/>
                </a:moveTo>
                <a:lnTo>
                  <a:pt x="19072" y="10800"/>
                </a:lnTo>
                <a:lnTo>
                  <a:pt x="50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группируйте нормы в таб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213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организац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4"/>
          <p:cNvSpPr/>
          <p:nvPr/>
        </p:nvSpPr>
        <p:spPr>
          <a:xfrm>
            <a:off x="668520" y="3952800"/>
            <a:ext cx="61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ить дорогу на зелёный сигнал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омогать стар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Заботится о млад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Голосовать за кандидата в президенты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Выполнять Устав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Иметь сменную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Добросовестно уч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группируйте нормы в таб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213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организац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4"/>
          <p:cNvSpPr/>
          <p:nvPr/>
        </p:nvSpPr>
        <p:spPr>
          <a:xfrm>
            <a:off x="668520" y="3952800"/>
            <a:ext cx="61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ить дорогу на зелёный сигнал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омогать стар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Заботится о млад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Голосовать за кандидата в президенты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Выполнять Устав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Иметь сменную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Добросовестно уч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9T20:07:34Z</dcterms:created>
  <dc:creator>1</dc:creator>
  <dc:description/>
  <dc:language>en-US</dc:language>
  <cp:lastModifiedBy>1</cp:lastModifiedBy>
  <dcterms:modified xsi:type="dcterms:W3CDTF">2016-12-04T16:38:26Z</dcterms:modified>
  <cp:revision>8</cp:revision>
  <dc:subject/>
  <dc:title>Дисциплина</dc:title>
</cp:coreProperties>
</file>