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EC8-652D-4194-8C7F-E12C2DD2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B95-DFF2-49B3-A775-021FBC56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0F9-F7A0-4470-BF1B-2940ACC1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B52-3899-4528-8936-99F43772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08E-B91F-4CBE-BB8C-560BB4BC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619-253C-4552-B9E4-E84D94B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2E1-C833-4046-8395-7A8A959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829E-4FFD-4A10-B41C-561CE04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440A-1EB5-47E8-8248-31885C0E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095B-D335-41C8-A4C0-222E549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0F21-C565-400E-8265-B5D7B1F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4B7-AADD-4497-9707-603A096B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5D47-6BDB-433B-A4A2-4134BF6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D570-F33C-4A58-A918-290E124A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A111-A498-4656-85E9-C85C17E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EB0-2B8C-4EB8-8177-308DB864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2D9-9A9B-4406-9EDF-7D5360B5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B35-0763-4C9B-8E25-17F77DE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E73-6815-4290-ADAA-682A46A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AA8-98D1-43FA-BDB7-289C2918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075-BC2A-407D-932B-E7C9E85B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187-737D-4FFE-81F5-7EDB3EB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6BA-0266-4D63-B25C-AE21200E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4B0-3249-461C-BE3C-D3063E9F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9FB-3222-4880-8495-989550E5A2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7E9-5629-426C-80F5-9A4AFB14D08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Bernard MT Condensed"/>
              </a:rPr>
              <a:t>ДОСТОЙНЫЙ ТРУД В </a:t>
            </a:r>
            <a:r>
              <a:rPr b="0" lang="en-US" sz="4400" spc="-1" strike="noStrike">
                <a:solidFill>
                  <a:srgbClr val="420000"/>
                </a:solidFill>
                <a:latin typeface="Bernard MT Condensed"/>
              </a:rPr>
              <a:t>XXI</a:t>
            </a:r>
            <a:r>
              <a:rPr b="0" lang="ru-RU" sz="4400" spc="-1" strike="noStrike">
                <a:solidFill>
                  <a:srgbClr val="420000"/>
                </a:solidFill>
                <a:latin typeface="Bernard MT Condensed"/>
              </a:rPr>
              <a:t> ВЕК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820520"/>
            <a:ext cx="769608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профсоюзов в борьбе за достойные условия труда на примере Англии, Латвии и Ро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9608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андарты достойного тру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ойная заработная плата – заработная плата, обеспечивающая расширенное воспроизводство человеческого и трудового потенциала, экономическую свободу работающему человеку и его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андарты достойного тру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ая занятость – максимально возможная занятость на рабочих местах, обеспечивающая рациональное использование знаний, умений и навыков работника, достойную заработную плату, непрерывное профессиональное  развитие, возможность профессионального роста и повышение классификации, мотивацию работников к труду, грамотную организацию труда и отдыха работника, безопасные условия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андарты достойного тру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е социальное партнерство – система взаимоотношений работников, их представителей, работодателей, их представителей, органов государственной власти, органов местного самоуправления, позволяющая учитывать и согласовывать в равной и справедливой степени интересы каждой из сторон и обеспечивающая стабильное социально-экономическое развитие стра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тандарты достойного тру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страхование-высокоэффективный механизм социальной защиты работающих и регулирования качества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ак добиться достойных условий труда в современном мире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фсоюз - добровольное общественное объединение граждан, связанных общими производственными, профессиональными интересами по роду их деятельности, создаваемое в целях представительства и защиты их социально-трудовых прав и интере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з истории профсоюз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33520" y="19810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9966"/>
                </a:solidFill>
                <a:latin typeface="Times New Roman"/>
              </a:rPr>
              <a:t>По мере становления капиталистического общества в нем формировались два социально-экономических класс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9966"/>
                </a:solidFill>
                <a:latin typeface="Times New Roman"/>
              </a:rPr>
              <a:t>буржуазия и пролетари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4952880" y="2884320"/>
            <a:ext cx="3452760" cy="371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http://greetingsearthlings.files.wordpress.com/2008/02/fat-capitalist.jpg?w=450&amp;h=533"/>
          <p:cNvPicPr/>
          <p:nvPr/>
        </p:nvPicPr>
        <p:blipFill>
          <a:blip r:embed="rId2"/>
          <a:stretch/>
        </p:blipFill>
        <p:spPr>
          <a:xfrm>
            <a:off x="1143000" y="3075120"/>
            <a:ext cx="28954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з истории профсоюз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66"/>
                </a:solidFill>
                <a:latin typeface="Times New Roman"/>
              </a:rPr>
              <a:t>Конфликты между работодателем и работником были неизбежны. Это эпоха так называемого "дикого капитализма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743200" y="3209760"/>
            <a:ext cx="3562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00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514600" y="213372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огласно  правилам МОТ, все конфликты должны решаться путем переговоров. Если переговоры заходят в тупик, то тогда каждая из сторон демонстрирует свою силу: работники устраивают забастовки, а работодатели пытаются противостоять этому с помощью государства". Современное демократическое государство должно регулировать эти отношения с помощью законодательства и отстаивать интересы большинства населения (работников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Что делают профсоюзы в борьбе за достойный труд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2422440" y="4572000"/>
            <a:ext cx="4299120" cy="22003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" descr=""/>
          <p:cNvPicPr/>
          <p:nvPr/>
        </p:nvPicPr>
        <p:blipFill>
          <a:blip r:embed="rId2"/>
          <a:stretch/>
        </p:blipFill>
        <p:spPr>
          <a:xfrm>
            <a:off x="201600" y="1852560"/>
            <a:ext cx="4299120" cy="2646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3"/>
          <a:stretch/>
        </p:blipFill>
        <p:spPr>
          <a:xfrm>
            <a:off x="4343400" y="1749600"/>
            <a:ext cx="4114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Добиться достойных условий труда можно только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месте!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6156360" cy="31514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23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блема для обсужд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остойный труд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добиться достойных условий труда в современном мир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Труд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знанная, энергозатратная, общепризнанная целесообразной деятельность человека, требующая приложения усилий и осуществления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редством трудовой деятельности человек видоизменяет предметы природы и приспосабливает их для удовлетворения своих потреб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76197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23540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5158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533520" y="733320"/>
            <a:ext cx="82296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что такое д труд.wmv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остойный труд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3124080" y="2057400"/>
            <a:ext cx="3124440" cy="1295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ойный тру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5943600" y="3276720"/>
            <a:ext cx="2971800" cy="19047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або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228600" y="3276720"/>
            <a:ext cx="3124080" cy="1981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овы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х пр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3048120" y="4419720"/>
            <a:ext cx="3200400" cy="1828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 flipH="1">
            <a:off x="2666880" y="29718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46483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6095880" y="2971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6360" y="1752480"/>
          <a:ext cx="9144000" cy="3353040"/>
        </p:xfrm>
        <a:graphic>
          <a:graphicData uri="http://schemas.openxmlformats.org/drawingml/2006/table">
            <a:tbl>
              <a:tblPr/>
              <a:tblGrid>
                <a:gridCol w="3075120"/>
                <a:gridCol w="3021120"/>
                <a:gridCol w="3047760"/>
              </a:tblGrid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b050"/>
                          </a:solidFill>
                          <a:uFillTx/>
                          <a:latin typeface="Times New Roman"/>
                        </a:rPr>
                        <a:t>Международная организация труда  (МОТ) о понятии достойный тру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</a:rPr>
                        <a:t>Конституция РФ о понятии достойный тру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</a:rPr>
                        <a:t>Своя точка зр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1"/>
          <p:cNvSpPr/>
          <p:nvPr/>
        </p:nvSpPr>
        <p:spPr>
          <a:xfrm>
            <a:off x="590760" y="58672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Изложите свои выводы на бума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дготовьте презент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4:10:13Z</dcterms:created>
  <dc:creator>Lenovo</dc:creator>
  <dc:description/>
  <dc:language>en-US</dc:language>
  <cp:lastModifiedBy>Ольга</cp:lastModifiedBy>
  <dcterms:modified xsi:type="dcterms:W3CDTF">2016-12-04T18:55:1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