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30C-C290-473C-8D52-6E176B62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41F-6437-47AB-A9D8-4A23A792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2BD-8359-4F8A-B783-2B8A45C4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4CF-433A-4039-98FC-A883DCE9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639C-6E82-46A4-8436-A76816E0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0024-D026-4ABA-8953-C4DC7F35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2175-54CE-4882-88C9-3A2E25AB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90A5-6279-4D1F-9304-94DF1B6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61A5-1A78-4C53-B0FF-9A9A0B3A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8A25-AD32-4146-AAC5-BEBC4D8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0BD7-CBB5-43F9-860A-50A7B23E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FBD-AE93-4254-9FB8-7107E193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46F-781A-4AA0-98D5-CEE1E775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9864-CC15-4A64-BC65-55E23E50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AF09-A7E7-46CE-B8CD-7B523419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13C4-8008-48A3-A147-B2BF52EE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627F-9403-494F-81F9-E8E33BE1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A59-D87B-46B9-84D4-4E19F063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1F4-1248-47FC-8A36-75D5694F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6AC-B35F-48D7-869B-E4E19855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C55-7D5D-4889-82BE-E6E9E93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B53-3205-4411-BA6D-E5873939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8C0-7334-4CCE-B6C7-E512CFBA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E80-396D-4CF9-80A3-25D776C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0B1334-AF47-4FF3-AE5C-59027CA58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12F820-042D-439A-82CE-25E48811136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360360" y="466560"/>
            <a:ext cx="899964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3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Муниципальное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б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юджетное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о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бщеобразовательное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у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«Красноярская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с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редняя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общеобразовательная 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ш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кола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Segoe Script"/>
              </a:rPr>
              <a:t>Проект по теме: «Эксперимент в Космос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Работу выполнила ученица 8 «В» класса </a:t>
            </a: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Алханов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Руководитель:</a:t>
            </a:r>
            <a:r>
              <a:rPr b="0" lang="de-DE" sz="1800" spc="-1" strike="noStrike">
                <a:solidFill>
                  <a:srgbClr val="000000"/>
                </a:solidFill>
                <a:latin typeface="Segoe Script"/>
              </a:rPr>
              <a:t> Мухтарова Ирина Ал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720720" y="1079640"/>
            <a:ext cx="8280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4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6600" spc="-1" strike="noStrike">
                <a:solidFill>
                  <a:srgbClr val="3deb3d"/>
                </a:solidFill>
                <a:latin typeface="Segoe Print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539640" y="720720"/>
            <a:ext cx="89996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Comic Sans MS"/>
              </a:rPr>
              <a:t>Гипотеза: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после сравнения измерений роста ногтей на орбите и на Земле за определенный промежуток времени окажется, что рост ногтей на орбите замедл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419640" y="3240000"/>
            <a:ext cx="521964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file:///C:/Users/1/Desktop/spacegf10.jpg"/>
          <p:cNvPicPr/>
          <p:nvPr/>
        </p:nvPicPr>
        <p:blipFill>
          <a:blip r:embed="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"/>
          <p:cNvSpPr/>
          <p:nvPr/>
        </p:nvSpPr>
        <p:spPr>
          <a:xfrm>
            <a:off x="900000" y="3022560"/>
            <a:ext cx="8460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200" spc="-1" strike="noStrike">
                <a:solidFill>
                  <a:srgbClr val="ff3333"/>
                </a:solidFill>
                <a:latin typeface="Comic Sans MS"/>
              </a:rPr>
              <a:t>Значение:</a:t>
            </a:r>
            <a:r>
              <a:rPr b="0" lang="de-DE" sz="2600" spc="-1" strike="noStrike">
                <a:solidFill>
                  <a:srgbClr val="ff3333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3333"/>
                </a:solidFill>
                <a:latin typeface="Comic Sans MS"/>
              </a:rPr>
              <a:t>выведение витаминов для нормальной регуляции жизнедеятельности клеток организма для космонавтов на орб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900000" y="1440000"/>
            <a:ext cx="828036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egoe Print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egoe Print"/>
              </a:rPr>
              <a:t>1. Объяснить выбор своего экспери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egoe Print"/>
              </a:rPr>
              <a:t>2. Написать алгоритм действий для экспери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egoe Print"/>
              </a:rPr>
              <a:t>3. Сделать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720720" y="72072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Times New Roman"/>
              </a:rPr>
              <a:t>Значение и выбор эксперимен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Я предлагаю для исследования поведения организма в условиях невесомости измерить рост ногтей за определенный промеуток времени, а после окончания полета отдать кусочки ногтей для исследования химического состава ногтя в лабораторию. Почему именно ногтей? Ногти растут медленнее, чем волосы. Но волосы растут неравномерно, имеют несколько стадий (активный рост, промежуточная, когда волос перестает рости, но корень формируется, выпадение волос — полное прекращение роста) В среднем за неделю ногти рук отрастают на 1—2 мм, а ногти ног — на 0,25—1 мм. Полное обновление ногтевой пластинки происходит примерно за полгода. Замедляет рост ногтей чрезмерно строгая  диета и болезни, сопровождающиеся нарушением кровообращения и обмена веществ. Также по ногтям можно определить не менее 20 болезней (ногти несут информацию о будущих заболеваниях задолго до проявления их симпто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720720" y="900000"/>
            <a:ext cx="8640720" cy="73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Ногти часто являются показателями болезненных процессов, происходящих в нашем организме. Наприме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если вмятины и углубления придают ногтю вид наперстка— это сигнал, предупреждающий о псорио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ногти в форме часовых стрелок (выпуклые сферически) очень часто указывают на болезнь легких, туберкулез, бронхит или онкологические заболе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ложкообразные ногти свидетельствуют о дефиците железа, который следует лечить обязательно под контролем вр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изменение цвета ногтей позволяет сделать предварительный вывод о развитии патологии внутренних орг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При недостаточности кровообращения ногти становятся синеват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Желтая окраска ногтей указывает на больную печ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Бугорчатые желтоватые ногти бывают при сахарном диабете, а также грибковом пора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ломкость и расщепление ногтей, изменение их цвета свидетельствуют о чрезмерном курении, несбалансированном питании и прямом контакте с синтетическими моющими средствами. Расслаивание ногтей также происходит из-за недостатка в организме витамина Д, кремния или каль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1440000" y="2519280"/>
            <a:ext cx="701964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3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0" spc="-1" strike="noStrike">
                <a:solidFill>
                  <a:srgbClr val="ffffff"/>
                </a:solidFill>
                <a:latin typeface="Segoe Script"/>
              </a:rPr>
              <a:t>Ход рабо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720720" y="900000"/>
            <a:ext cx="845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Times New Roman"/>
              </a:rPr>
              <a:t>Алгоритм действий эксперимен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1. Измерить рост ногтей за 2, 3 недели на орб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. Сравнить эти измерения с измерениями нормального роста ногтей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3. Отдать кусочек ногтя этого же космонавта на исследование химического состава в лабораторию по окончании полё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Измерение роста волос лучше и удобнее проводить на самой орбите, так как срок прибывания космонавтов на орбите может быть долговременным, а иметь большие ногти не удобно. После получения этих измерений можно понять как протекают процессы жизнедеятельности организма в целом. После экспертизы в лаборотории можно узнать точно, каких витаминов не хватает для нормального роста ногтей космонавтов, какие болезни развиваются, и создать витамины для улучшения жизнедеятельности организм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360360" y="539640"/>
            <a:ext cx="9360000" cy="84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e6e64c"/>
                </a:solidFill>
                <a:latin typeface="Segoe Print"/>
              </a:rPr>
              <a:t>Вывод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e6e64c"/>
                </a:solidFill>
                <a:latin typeface="Segoe Print"/>
              </a:rPr>
              <a:t>По моей гипотeзе, процессы роста в организме замедлятся, что приведет к замедленной регуляции организма. Во избежании этого космонавтам нужно пить специальные витамины и заниматься спортом на орб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>эмиль</dc:creator>
  <dc:description/>
  <dc:language>en-US</dc:language>
  <cp:lastModifiedBy>эмиль</cp:lastModifiedBy>
  <cp:lastPrinted>2012-02-21T16:34:27Z</cp:lastPrinted>
  <dcterms:modified xsi:type="dcterms:W3CDTF">2016-12-04T15:48:32Z</dcterms:modified>
  <cp:revision>6</cp:revision>
  <dc:subject/>
  <dc:title>Слайд 1</dc:title>
</cp:coreProperties>
</file>