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A092-5DBE-4838-842C-0E9FB00E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EF3E-C6AD-47C9-96ED-CB85113B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A117-1B1B-47A5-BBDF-BACDE76C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5ABA-3614-4678-A653-64241EB0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133C-C395-43F3-8EC4-82E32BA6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83ED-7DF8-46A7-8232-572510DE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5682-2015-4D2A-A0A6-860FAF15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48B2-C0F4-4CBE-B2A8-2EDA9012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2A57-E772-4613-B244-F1E36F98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98A7-6120-4F86-9EEA-8CD4407E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5EE9-050C-42B2-9563-9F3CAACD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F0B3-6A71-4273-B7E6-61323845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EADF-D4FE-45F3-AB60-1F7417E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A09F-F223-4CF9-AD82-A04A8257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1ACC-7909-47F2-ACFF-7B2CC667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EAD9-DD44-44D5-B31D-B3F8D7AE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82E8-7D7E-406A-8F78-8A0D32C9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B3AF-C7C6-40B4-B522-6209E4F3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10C5-A7BC-42B1-8416-B1E9768D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1F95-6B43-4635-8052-15573869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07B5-50CE-4C62-B119-BA34A08A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E55B-38DB-4716-94B7-27A96E01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70B4-FAD4-46AB-8D9D-049D695B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5169-58E1-42B9-87FB-5EB19842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0259-248F-4883-9F86-CAFB3D61A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C1B3-FB65-4730-B66F-FABFEA7727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3" name=""/>
          <p:cNvGraphicFramePr/>
          <p:nvPr/>
        </p:nvGraphicFramePr>
        <p:xfrm>
          <a:off x="0" y="2286000"/>
          <a:ext cx="914400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0" y="2057400"/>
          <a:ext cx="914400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0" y="2590920"/>
          <a:ext cx="9144000" cy="15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1440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0" y="1981080"/>
          <a:ext cx="914400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0" y="2514600"/>
          <a:ext cx="914400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0" y="2438280"/>
          <a:ext cx="91440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0" y="2651040"/>
          <a:ext cx="9144000" cy="10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51040"/>
                    <a:ext cx="914400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3454560" y="276876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4560" y="27687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6:19:19Z</dcterms:created>
  <dc:creator>Ольга</dc:creator>
  <dc:description/>
  <dc:language>en-US</dc:language>
  <cp:lastModifiedBy>WiZaRd</cp:lastModifiedBy>
  <dcterms:modified xsi:type="dcterms:W3CDTF">2012-12-16T17:24:3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