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B99-38E0-42E4-94FB-A3527A99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E13-7CB0-4C62-AE16-1F778CC7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DDD-DEDB-4790-9739-49122CC0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FBD-D273-4294-9151-6F24A8A3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A3D-19D4-4B95-BE20-7EF61C69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CA3-E84D-4914-8CCE-47B7929B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012-6FC1-4FBB-93AE-5A1725C3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355-6546-4E84-8189-68CD7E12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90F-2F52-4867-9F5C-AB001464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BF4-D8B3-4F15-B30B-24C8DE43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AE9-B2F5-4FD2-8978-B63AE4E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FE0-0208-46BE-9693-BB75BD38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467E-3F8E-4DA3-BEF2-FD85ECC8D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8.xml"/><Relationship Id="rId9" Type="http://schemas.openxmlformats.org/officeDocument/2006/relationships/slide" Target="slide&#1084;...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40464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 flipV="1">
            <a:off x="324000" y="256680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256536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аколдованное место» Н.В.Гог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24000" y="260280"/>
            <a:ext cx="86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 учреждение города Ульяновска «Средняя школа № 5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384200" y="5877000"/>
            <a:ext cx="722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03120" y="609300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 Ульяновск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58760" y="5877000"/>
            <a:ext cx="898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55840" y="2924280"/>
            <a:ext cx="549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211640" y="328464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тьяна Ивановна Савельева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4149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новные мотивы пове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поиски заговоренного кл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- заколдованное 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gog06"/>
          <p:cNvPicPr/>
          <p:nvPr/>
        </p:nvPicPr>
        <p:blipFill>
          <a:blip r:embed="rId1"/>
          <a:stretch/>
        </p:blipFill>
        <p:spPr>
          <a:xfrm>
            <a:off x="2050920" y="1268280"/>
            <a:ext cx="5185080" cy="33386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2">
            <a:hlinkClick r:id="" action="ppaction://hlinkshowjump?jump=previousslide"/>
          </p:cNvPr>
          <p:cNvSpPr/>
          <p:nvPr/>
        </p:nvSpPr>
        <p:spPr>
          <a:xfrm>
            <a:off x="7524720" y="638172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5097" y="10800"/>
                </a:moveTo>
                <a:lnTo>
                  <a:pt x="19109" y="3794"/>
                </a:lnTo>
                <a:lnTo>
                  <a:pt x="191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>
            <a:hlinkClick r:id="" action="ppaction://hlinkshowjump?jump=firstslide"/>
          </p:cNvPr>
          <p:cNvSpPr/>
          <p:nvPr/>
        </p:nvSpPr>
        <p:spPr>
          <a:xfrm>
            <a:off x="7812000" y="6381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>
            <a:hlinkClick r:id="" action="ppaction://hlinkshowjump?jump=nextslide"/>
          </p:cNvPr>
          <p:cNvSpPr/>
          <p:nvPr/>
        </p:nvSpPr>
        <p:spPr>
          <a:xfrm>
            <a:off x="8172360" y="6381720"/>
            <a:ext cx="324000" cy="287280"/>
          </a:xfrm>
          <a:custGeom>
            <a:avLst/>
            <a:gdLst>
              <a:gd name="textAreaLeft" fmla="*/ 18360 w 324000"/>
              <a:gd name="textAreaRight" fmla="*/ 305640 w 3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357" h="21600">
                <a:moveTo>
                  <a:pt x="0" y="0"/>
                </a:moveTo>
                <a:lnTo>
                  <a:pt x="24357" y="0"/>
                </a:lnTo>
                <a:lnTo>
                  <a:pt x="24357" y="21600"/>
                </a:lnTo>
                <a:lnTo>
                  <a:pt x="0" y="21600"/>
                </a:lnTo>
                <a:close/>
              </a:path>
              <a:path fill="lightenLess" w="24357" h="21600">
                <a:moveTo>
                  <a:pt x="0" y="0"/>
                </a:moveTo>
                <a:lnTo>
                  <a:pt x="24357" y="0"/>
                </a:lnTo>
                <a:lnTo>
                  <a:pt x="22957" y="1400"/>
                </a:lnTo>
                <a:lnTo>
                  <a:pt x="1400" y="1400"/>
                </a:lnTo>
                <a:close/>
              </a:path>
              <a:path fill="darken" w="24357" h="21600">
                <a:moveTo>
                  <a:pt x="24357" y="0"/>
                </a:moveTo>
                <a:lnTo>
                  <a:pt x="24357" y="21600"/>
                </a:lnTo>
                <a:lnTo>
                  <a:pt x="22957" y="20200"/>
                </a:lnTo>
                <a:lnTo>
                  <a:pt x="22957" y="1400"/>
                </a:lnTo>
                <a:close/>
              </a:path>
              <a:path fill="darkenLess" w="24357" h="21600">
                <a:moveTo>
                  <a:pt x="24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7" y="20200"/>
                </a:lnTo>
                <a:close/>
              </a:path>
              <a:path fill="lighten" w="24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7" h="21600">
                <a:moveTo>
                  <a:pt x="5172" y="3794"/>
                </a:moveTo>
                <a:lnTo>
                  <a:pt x="19185" y="10800"/>
                </a:lnTo>
                <a:lnTo>
                  <a:pt x="51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едините слово с его знач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рбу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лороссияне, едущие за солью и рыбою, обыкновенно в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есто, засеянное арбузами и ды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Древней Руси: местность, область, подчиненная одно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иняный кув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ереговые лиственные леса, заливаемые в половодье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5097" y="10800"/>
                </a:moveTo>
                <a:lnTo>
                  <a:pt x="19109" y="3794"/>
                </a:lnTo>
                <a:lnTo>
                  <a:pt x="191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>
            <a:hlinkClick r:id="" action="ppaction://hlinkshowjump?jump=firstslide"/>
          </p:cNvPr>
          <p:cNvSpPr/>
          <p:nvPr/>
        </p:nvSpPr>
        <p:spPr>
          <a:xfrm>
            <a:off x="7740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2" y="4707"/>
                </a:lnTo>
                <a:lnTo>
                  <a:pt x="17812" y="8224"/>
                </a:lnTo>
                <a:lnTo>
                  <a:pt x="20423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2" y="4707"/>
                </a:lnTo>
                <a:lnTo>
                  <a:pt x="17812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>
            <a:hlinkClick r:id="" action="ppaction://hlinkshowjump?jump=nextslide"/>
          </p:cNvPr>
          <p:cNvSpPr/>
          <p:nvPr/>
        </p:nvSpPr>
        <p:spPr>
          <a:xfrm>
            <a:off x="8101080" y="630864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3794" y="7441"/>
                </a:moveTo>
                <a:lnTo>
                  <a:pt x="17806" y="14448"/>
                </a:lnTo>
                <a:lnTo>
                  <a:pt x="3794" y="2145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– место, засеянное арбузами и ды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– в Древней Руси: местность, область, подчиненная одной в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 – арбу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 – глиняный кув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– на Украине и на юге России: береговые лиственные леса, заливаемые в половодье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– тр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– лу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– баш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 – малороссияне, едущие за солью и рыбою, обыкновенно в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5097" y="10800"/>
                </a:moveTo>
                <a:lnTo>
                  <a:pt x="19109" y="3794"/>
                </a:lnTo>
                <a:lnTo>
                  <a:pt x="191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7812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2" y="4707"/>
                </a:lnTo>
                <a:lnTo>
                  <a:pt x="17812" y="8224"/>
                </a:lnTo>
                <a:lnTo>
                  <a:pt x="20423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2" y="4707"/>
                </a:lnTo>
                <a:lnTo>
                  <a:pt x="17812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>
            <a:hlinkClick r:id="" action="ppaction://hlinkshowjump?jump=nextslide"/>
          </p:cNvPr>
          <p:cNvSpPr/>
          <p:nvPr/>
        </p:nvSpPr>
        <p:spPr>
          <a:xfrm>
            <a:off x="81010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ссказчики в «Заколдованном мест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ьяк диканьской церкви Фома Григо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д Фомы Григорьевич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Макс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учно: рассказывай, да и рассказывай, и отвязаться нельзя! Ну, извольте, я расскажу, только, ей-ей, в последний раз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д мой (царство ему небесное!) умел чудно рассказывать. Бывало, поведет речь - целый день не подвинулся бы с места и все бы слуш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>
            <a:hlinkClick r:id="" action="ppaction://hlinkshowjump?jump=previousslide"/>
          </p:cNvPr>
          <p:cNvSpPr/>
          <p:nvPr/>
        </p:nvSpPr>
        <p:spPr>
          <a:xfrm>
            <a:off x="7596360" y="6308640"/>
            <a:ext cx="250560" cy="289080"/>
          </a:xfrm>
          <a:custGeom>
            <a:avLst/>
            <a:gdLst>
              <a:gd name="textAreaLeft" fmla="*/ 16200 w 250560"/>
              <a:gd name="textAreaRight" fmla="*/ 234360 w 250560"/>
              <a:gd name="textAreaTop" fmla="*/ 16200 h 289080"/>
              <a:gd name="textAreaBottom" fmla="*/ 272880 h 289080"/>
            </a:gdLst>
            <a:ahLst/>
            <a:rect l="textAreaLeft" t="textAreaTop" r="textAreaRight" b="textAreaBottom"/>
            <a:pathLst>
              <a:path w="21600" h="24916">
                <a:moveTo>
                  <a:pt x="0" y="0"/>
                </a:moveTo>
                <a:lnTo>
                  <a:pt x="21600" y="0"/>
                </a:lnTo>
                <a:lnTo>
                  <a:pt x="21600" y="24916"/>
                </a:lnTo>
                <a:lnTo>
                  <a:pt x="0" y="24916"/>
                </a:lnTo>
                <a:close/>
              </a:path>
              <a:path fill="lightenLess" w="21600" h="249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6">
                <a:moveTo>
                  <a:pt x="21600" y="0"/>
                </a:moveTo>
                <a:lnTo>
                  <a:pt x="21600" y="24916"/>
                </a:lnTo>
                <a:lnTo>
                  <a:pt x="20200" y="23516"/>
                </a:lnTo>
                <a:lnTo>
                  <a:pt x="20200" y="1400"/>
                </a:lnTo>
                <a:close/>
              </a:path>
              <a:path fill="darkenLess" w="21600" h="24916">
                <a:moveTo>
                  <a:pt x="21600" y="24916"/>
                </a:moveTo>
                <a:lnTo>
                  <a:pt x="0" y="24916"/>
                </a:lnTo>
                <a:lnTo>
                  <a:pt x="1400" y="23516"/>
                </a:lnTo>
                <a:lnTo>
                  <a:pt x="20200" y="23516"/>
                </a:lnTo>
                <a:close/>
              </a:path>
              <a:path fill="lighten" w="21600" h="24916">
                <a:moveTo>
                  <a:pt x="0" y="249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6"/>
                </a:lnTo>
                <a:close/>
              </a:path>
              <a:path fill="darken" w="21600" h="24916">
                <a:moveTo>
                  <a:pt x="3794" y="12458"/>
                </a:moveTo>
                <a:lnTo>
                  <a:pt x="17806" y="5451"/>
                </a:lnTo>
                <a:lnTo>
                  <a:pt x="17806" y="1946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>
            <a:hlinkClick r:id="" action="ppaction://hlinkshowjump?jump=firstslide"/>
          </p:cNvPr>
          <p:cNvSpPr/>
          <p:nvPr/>
        </p:nvSpPr>
        <p:spPr>
          <a:xfrm>
            <a:off x="7812000" y="6308640"/>
            <a:ext cx="322200" cy="289080"/>
          </a:xfrm>
          <a:custGeom>
            <a:avLst/>
            <a:gdLst>
              <a:gd name="textAreaLeft" fmla="*/ 18720 w 322200"/>
              <a:gd name="textAreaRight" fmla="*/ 303480 w 322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072" h="21600">
                <a:moveTo>
                  <a:pt x="0" y="0"/>
                </a:moveTo>
                <a:lnTo>
                  <a:pt x="24072" y="0"/>
                </a:lnTo>
                <a:lnTo>
                  <a:pt x="24072" y="21600"/>
                </a:lnTo>
                <a:lnTo>
                  <a:pt x="0" y="21600"/>
                </a:lnTo>
                <a:close/>
              </a:path>
              <a:path fill="lightenLess" w="24072" h="21600">
                <a:moveTo>
                  <a:pt x="0" y="0"/>
                </a:moveTo>
                <a:lnTo>
                  <a:pt x="24072" y="0"/>
                </a:lnTo>
                <a:lnTo>
                  <a:pt x="22672" y="1400"/>
                </a:lnTo>
                <a:lnTo>
                  <a:pt x="1400" y="1400"/>
                </a:lnTo>
                <a:close/>
              </a:path>
              <a:path fill="darken" w="24072" h="21600">
                <a:moveTo>
                  <a:pt x="24072" y="0"/>
                </a:moveTo>
                <a:lnTo>
                  <a:pt x="24072" y="21600"/>
                </a:lnTo>
                <a:lnTo>
                  <a:pt x="22672" y="20200"/>
                </a:lnTo>
                <a:lnTo>
                  <a:pt x="22672" y="1400"/>
                </a:lnTo>
                <a:close/>
              </a:path>
              <a:path fill="darkenLess" w="24072" h="21600">
                <a:moveTo>
                  <a:pt x="2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2" y="20200"/>
                </a:lnTo>
                <a:close/>
              </a:path>
              <a:path fill="lighten" w="2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2" h="21600">
                <a:moveTo>
                  <a:pt x="12036" y="3837"/>
                </a:moveTo>
                <a:lnTo>
                  <a:pt x="14612" y="6448"/>
                </a:lnTo>
                <a:lnTo>
                  <a:pt x="14612" y="4707"/>
                </a:lnTo>
                <a:lnTo>
                  <a:pt x="16388" y="4707"/>
                </a:lnTo>
                <a:lnTo>
                  <a:pt x="16388" y="8224"/>
                </a:lnTo>
                <a:lnTo>
                  <a:pt x="18999" y="10800"/>
                </a:lnTo>
                <a:lnTo>
                  <a:pt x="17345" y="10800"/>
                </a:lnTo>
                <a:lnTo>
                  <a:pt x="17345" y="17989"/>
                </a:lnTo>
                <a:lnTo>
                  <a:pt x="6727" y="17989"/>
                </a:lnTo>
                <a:lnTo>
                  <a:pt x="6727" y="10800"/>
                </a:lnTo>
                <a:lnTo>
                  <a:pt x="5073" y="10800"/>
                </a:lnTo>
                <a:close/>
              </a:path>
              <a:path fill="darkenLess" w="24072" h="21600">
                <a:moveTo>
                  <a:pt x="14612" y="6448"/>
                </a:moveTo>
                <a:lnTo>
                  <a:pt x="14612" y="4707"/>
                </a:lnTo>
                <a:lnTo>
                  <a:pt x="16388" y="4707"/>
                </a:lnTo>
                <a:lnTo>
                  <a:pt x="16388" y="8224"/>
                </a:lnTo>
                <a:close/>
              </a:path>
              <a:path fill="darkenLess" w="24072" h="21600">
                <a:moveTo>
                  <a:pt x="11113" y="14299"/>
                </a:moveTo>
                <a:lnTo>
                  <a:pt x="12958" y="14299"/>
                </a:lnTo>
                <a:lnTo>
                  <a:pt x="12958" y="17989"/>
                </a:lnTo>
                <a:lnTo>
                  <a:pt x="17345" y="17989"/>
                </a:lnTo>
                <a:lnTo>
                  <a:pt x="17345" y="10800"/>
                </a:lnTo>
                <a:lnTo>
                  <a:pt x="6727" y="10800"/>
                </a:lnTo>
                <a:lnTo>
                  <a:pt x="6727" y="17989"/>
                </a:lnTo>
                <a:lnTo>
                  <a:pt x="1111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>
            <a:hlinkClick r:id="" action="ppaction://hlinkshowjump?jump=nextslide"/>
          </p:cNvPr>
          <p:cNvSpPr/>
          <p:nvPr/>
        </p:nvSpPr>
        <p:spPr>
          <a:xfrm>
            <a:off x="8101080" y="630864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3794"/>
                </a:moveTo>
                <a:lnTo>
                  <a:pt x="20399" y="10800"/>
                </a:lnTo>
                <a:lnTo>
                  <a:pt x="6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 каким приметам узнаем, что история случилась в прошл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ем запомнился рассказчику де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83827_2"/>
          <p:cNvPicPr/>
          <p:nvPr/>
        </p:nvPicPr>
        <p:blipFill>
          <a:blip r:embed="rId1"/>
          <a:stretch/>
        </p:blipFill>
        <p:spPr>
          <a:xfrm>
            <a:off x="4643280" y="1773360"/>
            <a:ext cx="4038840" cy="41846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5097" y="10800"/>
                </a:moveTo>
                <a:lnTo>
                  <a:pt x="19109" y="3794"/>
                </a:lnTo>
                <a:lnTo>
                  <a:pt x="191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" action="ppaction://hlinkshowjump?jump=firstslide"/>
          </p:cNvPr>
          <p:cNvSpPr/>
          <p:nvPr/>
        </p:nvSpPr>
        <p:spPr>
          <a:xfrm>
            <a:off x="774072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50"/>
                </a:moveTo>
                <a:lnTo>
                  <a:pt x="13376" y="6462"/>
                </a:ln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3"/>
                </a:lnTo>
                <a:lnTo>
                  <a:pt x="5491" y="18003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7">
                <a:moveTo>
                  <a:pt x="13376" y="6462"/>
                </a:move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close/>
              </a:path>
              <a:path fill="darkenLess" w="21600" h="21627">
                <a:moveTo>
                  <a:pt x="9877" y="14312"/>
                </a:moveTo>
                <a:lnTo>
                  <a:pt x="11723" y="14312"/>
                </a:lnTo>
                <a:lnTo>
                  <a:pt x="11723" y="18003"/>
                </a:lnTo>
                <a:lnTo>
                  <a:pt x="16109" y="18003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3"/>
                </a:lnTo>
                <a:lnTo>
                  <a:pt x="9877" y="180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" action="ppaction://hlinkshowjump?jump=nextslide"/>
          </p:cNvPr>
          <p:cNvSpPr/>
          <p:nvPr/>
        </p:nvSpPr>
        <p:spPr>
          <a:xfrm>
            <a:off x="8028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чему дед попал в заколдованное место и каким образом это произош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колько раз дед оказывался в заколдованн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аковы особенности заколдованного ме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klodt"/>
          <p:cNvPicPr/>
          <p:nvPr/>
        </p:nvPicPr>
        <p:blipFill>
          <a:blip r:embed="rId1"/>
          <a:stretch/>
        </p:blipFill>
        <p:spPr>
          <a:xfrm>
            <a:off x="4572000" y="1773360"/>
            <a:ext cx="4392720" cy="338436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6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5097" y="10800"/>
                </a:moveTo>
                <a:lnTo>
                  <a:pt x="19109" y="3794"/>
                </a:lnTo>
                <a:lnTo>
                  <a:pt x="191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>
            <a:hlinkClick r:id="" action="ppaction://hlinkshowjump?jump=firstslide"/>
          </p:cNvPr>
          <p:cNvSpPr/>
          <p:nvPr/>
        </p:nvSpPr>
        <p:spPr>
          <a:xfrm>
            <a:off x="766764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12103" y="3837"/>
                </a:moveTo>
                <a:lnTo>
                  <a:pt x="14679" y="6448"/>
                </a:lnTo>
                <a:lnTo>
                  <a:pt x="14679" y="4707"/>
                </a:lnTo>
                <a:lnTo>
                  <a:pt x="16455" y="4707"/>
                </a:lnTo>
                <a:lnTo>
                  <a:pt x="16455" y="8224"/>
                </a:lnTo>
                <a:lnTo>
                  <a:pt x="19066" y="10800"/>
                </a:lnTo>
                <a:lnTo>
                  <a:pt x="17412" y="10800"/>
                </a:lnTo>
                <a:lnTo>
                  <a:pt x="17412" y="17989"/>
                </a:lnTo>
                <a:lnTo>
                  <a:pt x="6794" y="17989"/>
                </a:lnTo>
                <a:lnTo>
                  <a:pt x="6794" y="10800"/>
                </a:lnTo>
                <a:lnTo>
                  <a:pt x="5140" y="10800"/>
                </a:lnTo>
                <a:close/>
              </a:path>
              <a:path fill="darkenLess" w="24206" h="21600">
                <a:moveTo>
                  <a:pt x="14679" y="6448"/>
                </a:moveTo>
                <a:lnTo>
                  <a:pt x="14679" y="4707"/>
                </a:lnTo>
                <a:lnTo>
                  <a:pt x="16455" y="4707"/>
                </a:lnTo>
                <a:lnTo>
                  <a:pt x="16455" y="8224"/>
                </a:lnTo>
                <a:close/>
              </a:path>
              <a:path fill="darkenLess" w="24206" h="21600">
                <a:moveTo>
                  <a:pt x="11180" y="14299"/>
                </a:moveTo>
                <a:lnTo>
                  <a:pt x="13026" y="14299"/>
                </a:lnTo>
                <a:lnTo>
                  <a:pt x="13026" y="17989"/>
                </a:lnTo>
                <a:lnTo>
                  <a:pt x="17412" y="17989"/>
                </a:lnTo>
                <a:lnTo>
                  <a:pt x="17412" y="10800"/>
                </a:lnTo>
                <a:lnTo>
                  <a:pt x="6794" y="10800"/>
                </a:lnTo>
                <a:lnTo>
                  <a:pt x="6794" y="17989"/>
                </a:lnTo>
                <a:lnTo>
                  <a:pt x="111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>
            <a:hlinkClick r:id="" action="ppaction://hlinkshowjump?jump=nextslide"/>
          </p:cNvPr>
          <p:cNvSpPr/>
          <p:nvPr/>
        </p:nvSpPr>
        <p:spPr>
          <a:xfrm>
            <a:off x="7956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Особенности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 – место, где пересекаются волшебный и обыденный ми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азочный мир притворяется знакомым, но  пространство в нем искажается. В обычном месте возникают вдруг провалы, бездны и г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десь происходят странные явления, слышатся странн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сутствуют месяц и звезды, царит мрак,  источник света –  свеча на могиле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images (2)"/>
          <p:cNvPicPr/>
          <p:nvPr/>
        </p:nvPicPr>
        <p:blipFill>
          <a:blip r:embed="rId1"/>
          <a:srcRect l="0" t="0" r="0" b="5663"/>
          <a:stretch/>
        </p:blipFill>
        <p:spPr>
          <a:xfrm>
            <a:off x="5292720" y="1773360"/>
            <a:ext cx="2957400" cy="4105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8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5097" y="10800"/>
                </a:moveTo>
                <a:lnTo>
                  <a:pt x="19109" y="3794"/>
                </a:lnTo>
                <a:lnTo>
                  <a:pt x="191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>
            <a:hlinkClick r:id="" action="ppaction://hlinkshowjump?jump=firstslide"/>
          </p:cNvPr>
          <p:cNvSpPr/>
          <p:nvPr/>
        </p:nvSpPr>
        <p:spPr>
          <a:xfrm>
            <a:off x="774072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0800" y="3905"/>
                </a:moveTo>
                <a:lnTo>
                  <a:pt x="13376" y="6516"/>
                </a:ln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lnTo>
                  <a:pt x="17763" y="10868"/>
                </a:lnTo>
                <a:lnTo>
                  <a:pt x="16109" y="10868"/>
                </a:lnTo>
                <a:lnTo>
                  <a:pt x="16109" y="18057"/>
                </a:lnTo>
                <a:lnTo>
                  <a:pt x="5491" y="18057"/>
                </a:lnTo>
                <a:lnTo>
                  <a:pt x="5491" y="10868"/>
                </a:lnTo>
                <a:lnTo>
                  <a:pt x="3837" y="10868"/>
                </a:lnTo>
                <a:close/>
              </a:path>
              <a:path fill="darkenLess" w="21600" h="21735">
                <a:moveTo>
                  <a:pt x="13376" y="6516"/>
                </a:move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close/>
              </a:path>
              <a:path fill="darkenLess" w="21600" h="21735">
                <a:moveTo>
                  <a:pt x="9877" y="14366"/>
                </a:moveTo>
                <a:lnTo>
                  <a:pt x="11723" y="14366"/>
                </a:lnTo>
                <a:lnTo>
                  <a:pt x="11723" y="18057"/>
                </a:lnTo>
                <a:lnTo>
                  <a:pt x="16109" y="18057"/>
                </a:lnTo>
                <a:lnTo>
                  <a:pt x="16109" y="10868"/>
                </a:lnTo>
                <a:lnTo>
                  <a:pt x="5491" y="10868"/>
                </a:lnTo>
                <a:lnTo>
                  <a:pt x="5491" y="18057"/>
                </a:lnTo>
                <a:lnTo>
                  <a:pt x="9877" y="1805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>
            <a:hlinkClick r:id="" action="ppaction://hlinkshowjump?jump=nextslide"/>
          </p:cNvPr>
          <p:cNvSpPr/>
          <p:nvPr/>
        </p:nvSpPr>
        <p:spPr>
          <a:xfrm>
            <a:off x="802800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5097" y="3794"/>
                </a:moveTo>
                <a:lnTo>
                  <a:pt x="19109" y="10800"/>
                </a:lnTo>
                <a:lnTo>
                  <a:pt x="50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чему дед стремится попасть в заколдованное место? Что  там происходи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акие существа встретились деду в заколдованн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gog04"/>
          <p:cNvPicPr/>
          <p:nvPr/>
        </p:nvPicPr>
        <p:blipFill>
          <a:blip r:embed="rId1"/>
          <a:stretch/>
        </p:blipFill>
        <p:spPr>
          <a:xfrm>
            <a:off x="4427640" y="1700280"/>
            <a:ext cx="4537080" cy="41734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1">
            <a:hlinkClick r:id="" action="ppaction://hlinkshowjump?jump=previousslide"/>
          </p:cNvPr>
          <p:cNvSpPr/>
          <p:nvPr/>
        </p:nvSpPr>
        <p:spPr>
          <a:xfrm>
            <a:off x="7380360" y="6308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>
            <a:hlinkClick r:id="" action="ppaction://hlinkshowjump?jump=firstslide"/>
          </p:cNvPr>
          <p:cNvSpPr/>
          <p:nvPr/>
        </p:nvSpPr>
        <p:spPr>
          <a:xfrm>
            <a:off x="7667640" y="6308640"/>
            <a:ext cx="289080" cy="21744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8705" h="21600">
                <a:moveTo>
                  <a:pt x="0" y="0"/>
                </a:moveTo>
                <a:lnTo>
                  <a:pt x="28705" y="0"/>
                </a:lnTo>
                <a:lnTo>
                  <a:pt x="28705" y="21600"/>
                </a:lnTo>
                <a:lnTo>
                  <a:pt x="0" y="21600"/>
                </a:lnTo>
                <a:close/>
              </a:path>
              <a:path fill="lightenLess" w="28705" h="21600">
                <a:moveTo>
                  <a:pt x="0" y="0"/>
                </a:moveTo>
                <a:lnTo>
                  <a:pt x="28705" y="0"/>
                </a:lnTo>
                <a:lnTo>
                  <a:pt x="27305" y="1400"/>
                </a:lnTo>
                <a:lnTo>
                  <a:pt x="1400" y="1400"/>
                </a:lnTo>
                <a:close/>
              </a:path>
              <a:path fill="darken" w="28705" h="21600">
                <a:moveTo>
                  <a:pt x="28705" y="0"/>
                </a:moveTo>
                <a:lnTo>
                  <a:pt x="28705" y="21600"/>
                </a:lnTo>
                <a:lnTo>
                  <a:pt x="27305" y="20200"/>
                </a:lnTo>
                <a:lnTo>
                  <a:pt x="27305" y="1400"/>
                </a:lnTo>
                <a:close/>
              </a:path>
              <a:path fill="darkenLess" w="28705" h="21600">
                <a:moveTo>
                  <a:pt x="28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05" y="20200"/>
                </a:lnTo>
                <a:close/>
              </a:path>
              <a:path fill="lighten" w="28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05" h="21600">
                <a:moveTo>
                  <a:pt x="14352" y="3837"/>
                </a:moveTo>
                <a:lnTo>
                  <a:pt x="16929" y="6448"/>
                </a:lnTo>
                <a:lnTo>
                  <a:pt x="16929" y="4707"/>
                </a:lnTo>
                <a:lnTo>
                  <a:pt x="18704" y="4707"/>
                </a:lnTo>
                <a:lnTo>
                  <a:pt x="18704" y="8224"/>
                </a:lnTo>
                <a:lnTo>
                  <a:pt x="21315" y="10800"/>
                </a:lnTo>
                <a:lnTo>
                  <a:pt x="19662" y="10800"/>
                </a:lnTo>
                <a:lnTo>
                  <a:pt x="19662" y="17989"/>
                </a:lnTo>
                <a:lnTo>
                  <a:pt x="9043" y="17989"/>
                </a:lnTo>
                <a:lnTo>
                  <a:pt x="9043" y="10800"/>
                </a:lnTo>
                <a:lnTo>
                  <a:pt x="7389" y="10800"/>
                </a:lnTo>
                <a:close/>
              </a:path>
              <a:path fill="darkenLess" w="28705" h="21600">
                <a:moveTo>
                  <a:pt x="16929" y="6448"/>
                </a:moveTo>
                <a:lnTo>
                  <a:pt x="16929" y="4707"/>
                </a:lnTo>
                <a:lnTo>
                  <a:pt x="18704" y="4707"/>
                </a:lnTo>
                <a:lnTo>
                  <a:pt x="18704" y="8224"/>
                </a:lnTo>
                <a:close/>
              </a:path>
              <a:path fill="darkenLess" w="28705" h="21600">
                <a:moveTo>
                  <a:pt x="13430" y="14299"/>
                </a:moveTo>
                <a:lnTo>
                  <a:pt x="15275" y="14299"/>
                </a:lnTo>
                <a:lnTo>
                  <a:pt x="15275" y="17989"/>
                </a:lnTo>
                <a:lnTo>
                  <a:pt x="19662" y="17989"/>
                </a:lnTo>
                <a:lnTo>
                  <a:pt x="19662" y="10800"/>
                </a:lnTo>
                <a:lnTo>
                  <a:pt x="9043" y="10800"/>
                </a:lnTo>
                <a:lnTo>
                  <a:pt x="9043" y="17989"/>
                </a:lnTo>
                <a:lnTo>
                  <a:pt x="1343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>
            <a:hlinkClick r:id="" action="ppaction://hlinkshowjump?jump=nextslide"/>
          </p:cNvPr>
          <p:cNvSpPr/>
          <p:nvPr/>
        </p:nvSpPr>
        <p:spPr>
          <a:xfrm>
            <a:off x="7956720" y="630864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едведь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одной брат лешему. Его иногда и называют лешим или лесным чертом. Некоторые лесные духи имеют облик медведя. В  христианской символике олицетворяет зло,дьявольск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тичий нос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антастическое суще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идуманное Гоголем: птичий нос без тела. Символика птицы многообразна, некоторые были посредниками между миром мертвых и жи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zakoldlvannoe_mesto_5"/>
          <p:cNvPicPr/>
          <p:nvPr/>
        </p:nvPicPr>
        <p:blipFill>
          <a:blip r:embed="rId1"/>
          <a:srcRect l="0" t="0" r="0" b="3024"/>
          <a:stretch/>
        </p:blipFill>
        <p:spPr>
          <a:xfrm>
            <a:off x="5462640" y="1600200"/>
            <a:ext cx="2408040" cy="44928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>
            <a:hlinkClick r:id="" action="ppaction://hlinkshowjump?jump=previousslide"/>
          </p:cNvPr>
          <p:cNvSpPr/>
          <p:nvPr/>
        </p:nvSpPr>
        <p:spPr>
          <a:xfrm>
            <a:off x="7524720" y="6381720"/>
            <a:ext cx="250920" cy="216000"/>
          </a:xfrm>
          <a:custGeom>
            <a:avLst/>
            <a:gdLst>
              <a:gd name="textAreaLeft" fmla="*/ 13680 w 250920"/>
              <a:gd name="textAreaRight" fmla="*/ 237240 w 250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5086" h="21600">
                <a:moveTo>
                  <a:pt x="0" y="0"/>
                </a:moveTo>
                <a:lnTo>
                  <a:pt x="25086" y="0"/>
                </a:lnTo>
                <a:lnTo>
                  <a:pt x="25086" y="21600"/>
                </a:lnTo>
                <a:lnTo>
                  <a:pt x="0" y="21600"/>
                </a:lnTo>
                <a:close/>
              </a:path>
              <a:path fill="lightenLess" w="25086" h="21600">
                <a:moveTo>
                  <a:pt x="0" y="0"/>
                </a:moveTo>
                <a:lnTo>
                  <a:pt x="25086" y="0"/>
                </a:lnTo>
                <a:lnTo>
                  <a:pt x="23686" y="1400"/>
                </a:lnTo>
                <a:lnTo>
                  <a:pt x="1400" y="1400"/>
                </a:lnTo>
                <a:close/>
              </a:path>
              <a:path fill="darken" w="25086" h="21600">
                <a:moveTo>
                  <a:pt x="25086" y="0"/>
                </a:moveTo>
                <a:lnTo>
                  <a:pt x="25086" y="21600"/>
                </a:lnTo>
                <a:lnTo>
                  <a:pt x="23686" y="20200"/>
                </a:lnTo>
                <a:lnTo>
                  <a:pt x="23686" y="1400"/>
                </a:lnTo>
                <a:close/>
              </a:path>
              <a:path fill="darkenLess" w="25086" h="21600">
                <a:moveTo>
                  <a:pt x="25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6" y="20200"/>
                </a:lnTo>
                <a:close/>
              </a:path>
              <a:path fill="lighten" w="25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6" h="21600">
                <a:moveTo>
                  <a:pt x="5537" y="10800"/>
                </a:moveTo>
                <a:lnTo>
                  <a:pt x="19550" y="3794"/>
                </a:lnTo>
                <a:lnTo>
                  <a:pt x="19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>
            <a:hlinkClick r:id="" action="ppaction://hlinkshowjump?jump=firstslide"/>
          </p:cNvPr>
          <p:cNvSpPr/>
          <p:nvPr/>
        </p:nvSpPr>
        <p:spPr>
          <a:xfrm>
            <a:off x="774072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0">
            <a:hlinkClick r:id="" action="ppaction://hlinkshowjump?jump=nextslide"/>
          </p:cNvPr>
          <p:cNvSpPr/>
          <p:nvPr/>
        </p:nvSpPr>
        <p:spPr>
          <a:xfrm>
            <a:off x="795672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Баранья голова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фольклоре нечто пуст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икчемное. Имеет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ношение к демонологии: один из демонов  изображался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емя головами, одна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торых была барань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Хар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дурное, отвратительное лицо, рожа, тварь.  Маска, личина и самый  окрутник, наряженный,переряжен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якая харя (Хавронья) сама себя хва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28090753080323"/>
          <p:cNvPicPr/>
          <p:nvPr/>
        </p:nvPicPr>
        <p:blipFill>
          <a:blip r:embed="rId1"/>
          <a:stretch/>
        </p:blipFill>
        <p:spPr>
          <a:xfrm>
            <a:off x="4643280" y="1751040"/>
            <a:ext cx="4356360" cy="3085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6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10800"/>
                </a:moveTo>
                <a:lnTo>
                  <a:pt x="21454" y="3794"/>
                </a:lnTo>
                <a:lnTo>
                  <a:pt x="214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>
            <a:hlinkClick r:id="" action="ppaction://hlinkshowjump?jump=firstslide"/>
          </p:cNvPr>
          <p:cNvSpPr/>
          <p:nvPr/>
        </p:nvSpPr>
        <p:spPr>
          <a:xfrm>
            <a:off x="7740720" y="6381720"/>
            <a:ext cx="287280" cy="2142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957" h="21600">
                <a:moveTo>
                  <a:pt x="0" y="0"/>
                </a:moveTo>
                <a:lnTo>
                  <a:pt x="28957" y="0"/>
                </a:lnTo>
                <a:lnTo>
                  <a:pt x="28957" y="21600"/>
                </a:lnTo>
                <a:lnTo>
                  <a:pt x="0" y="21600"/>
                </a:lnTo>
                <a:close/>
              </a:path>
              <a:path fill="lightenLess" w="28957" h="21600">
                <a:moveTo>
                  <a:pt x="0" y="0"/>
                </a:moveTo>
                <a:lnTo>
                  <a:pt x="28957" y="0"/>
                </a:lnTo>
                <a:lnTo>
                  <a:pt x="27557" y="1400"/>
                </a:lnTo>
                <a:lnTo>
                  <a:pt x="1400" y="1400"/>
                </a:lnTo>
                <a:close/>
              </a:path>
              <a:path fill="darken" w="28957" h="21600">
                <a:moveTo>
                  <a:pt x="28957" y="0"/>
                </a:moveTo>
                <a:lnTo>
                  <a:pt x="28957" y="21600"/>
                </a:lnTo>
                <a:lnTo>
                  <a:pt x="27557" y="20200"/>
                </a:lnTo>
                <a:lnTo>
                  <a:pt x="27557" y="1400"/>
                </a:lnTo>
                <a:close/>
              </a:path>
              <a:path fill="darkenLess" w="28957" h="21600">
                <a:moveTo>
                  <a:pt x="28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57" y="20200"/>
                </a:lnTo>
                <a:close/>
              </a:path>
              <a:path fill="lighten" w="28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57" h="21600">
                <a:moveTo>
                  <a:pt x="14479" y="3837"/>
                </a:moveTo>
                <a:lnTo>
                  <a:pt x="17055" y="6448"/>
                </a:lnTo>
                <a:lnTo>
                  <a:pt x="17055" y="4707"/>
                </a:lnTo>
                <a:lnTo>
                  <a:pt x="18830" y="4707"/>
                </a:lnTo>
                <a:lnTo>
                  <a:pt x="18830" y="8224"/>
                </a:lnTo>
                <a:lnTo>
                  <a:pt x="21441" y="10800"/>
                </a:lnTo>
                <a:lnTo>
                  <a:pt x="19788" y="10800"/>
                </a:lnTo>
                <a:lnTo>
                  <a:pt x="19788" y="17989"/>
                </a:lnTo>
                <a:lnTo>
                  <a:pt x="9169" y="17989"/>
                </a:lnTo>
                <a:lnTo>
                  <a:pt x="9169" y="10800"/>
                </a:lnTo>
                <a:lnTo>
                  <a:pt x="7516" y="10800"/>
                </a:lnTo>
                <a:close/>
              </a:path>
              <a:path fill="darkenLess" w="28957" h="21600">
                <a:moveTo>
                  <a:pt x="17055" y="6448"/>
                </a:moveTo>
                <a:lnTo>
                  <a:pt x="17055" y="4707"/>
                </a:lnTo>
                <a:lnTo>
                  <a:pt x="18830" y="4707"/>
                </a:lnTo>
                <a:lnTo>
                  <a:pt x="18830" y="8224"/>
                </a:lnTo>
                <a:close/>
              </a:path>
              <a:path fill="darkenLess" w="28957" h="21600">
                <a:moveTo>
                  <a:pt x="13556" y="14299"/>
                </a:moveTo>
                <a:lnTo>
                  <a:pt x="15401" y="14299"/>
                </a:lnTo>
                <a:lnTo>
                  <a:pt x="15401" y="17989"/>
                </a:lnTo>
                <a:lnTo>
                  <a:pt x="19788" y="17989"/>
                </a:lnTo>
                <a:lnTo>
                  <a:pt x="19788" y="10800"/>
                </a:lnTo>
                <a:lnTo>
                  <a:pt x="9169" y="10800"/>
                </a:lnTo>
                <a:lnTo>
                  <a:pt x="9169" y="17989"/>
                </a:lnTo>
                <a:lnTo>
                  <a:pt x="1355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>
            <a:hlinkClick r:id="" action="ppaction://hlinkshowjump?jump=nextslide"/>
          </p:cNvPr>
          <p:cNvSpPr/>
          <p:nvPr/>
        </p:nvSpPr>
        <p:spPr>
          <a:xfrm>
            <a:off x="802800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1" action="ppaction://hlinksldjump"/>
              </a:rPr>
              <a:t>Цели и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2" action="ppaction://hlinksldjump"/>
              </a:rPr>
              <a:t>Н.В.Гог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3" action="ppaction://hlinksldjump"/>
              </a:rPr>
              <a:t>История создания «Вечеров на хуторе близ Дикань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4.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4" action="ppaction://hlinksldjump"/>
              </a:rPr>
              <a:t>Заколдованное место» в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5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5" action="ppaction://hlinksldjump"/>
              </a:rPr>
              <a:t>Работа со словар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6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6" action="ppaction://hlinksldjump"/>
              </a:rPr>
              <a:t>Рассказчики в «Заколдованном мест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7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7" action="ppaction://hlinksldjump"/>
              </a:rPr>
              <a:t>Работа с текстом по вопро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8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8" action="ppaction://hlinksldjump"/>
              </a:rPr>
              <a:t>Особенности и существа заколдованного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9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9" action="ppaction://hlinksldjump"/>
              </a:rPr>
              <a:t>Художествен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0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10" action="ppaction://hlinksldjump"/>
              </a:rPr>
              <a:t>Чем закончились поиски 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Художественные средства, создающие образ заколдованного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перб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Эп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 ногами круча без дна, ноздри – хоть по ведру воды влей в кажд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ос – как мех в кузнице, губы…как две колоды, дыня… словно зм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оклятый камень, красные очи, мерзостная р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>
            <a:hlinkClick r:id="" action="ppaction://hlinkshowjump?jump=firstslide"/>
          </p:cNvPr>
          <p:cNvSpPr/>
          <p:nvPr/>
        </p:nvSpPr>
        <p:spPr>
          <a:xfrm>
            <a:off x="7667640" y="638172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14448" y="3837"/>
                </a:moveTo>
                <a:lnTo>
                  <a:pt x="17024" y="6448"/>
                </a:lnTo>
                <a:lnTo>
                  <a:pt x="17024" y="4707"/>
                </a:lnTo>
                <a:lnTo>
                  <a:pt x="18800" y="4707"/>
                </a:lnTo>
                <a:lnTo>
                  <a:pt x="18800" y="8224"/>
                </a:lnTo>
                <a:lnTo>
                  <a:pt x="21411" y="10800"/>
                </a:lnTo>
                <a:lnTo>
                  <a:pt x="19757" y="10800"/>
                </a:lnTo>
                <a:lnTo>
                  <a:pt x="19757" y="17989"/>
                </a:lnTo>
                <a:lnTo>
                  <a:pt x="9139" y="17989"/>
                </a:lnTo>
                <a:lnTo>
                  <a:pt x="9139" y="10800"/>
                </a:lnTo>
                <a:lnTo>
                  <a:pt x="7485" y="10800"/>
                </a:lnTo>
                <a:close/>
              </a:path>
              <a:path fill="darkenLess" w="28896" h="21600">
                <a:moveTo>
                  <a:pt x="17024" y="6448"/>
                </a:moveTo>
                <a:lnTo>
                  <a:pt x="17024" y="4707"/>
                </a:lnTo>
                <a:lnTo>
                  <a:pt x="18800" y="4707"/>
                </a:lnTo>
                <a:lnTo>
                  <a:pt x="18800" y="8224"/>
                </a:lnTo>
                <a:close/>
              </a:path>
              <a:path fill="darkenLess" w="28896" h="21600">
                <a:moveTo>
                  <a:pt x="13525" y="14299"/>
                </a:moveTo>
                <a:lnTo>
                  <a:pt x="15371" y="14299"/>
                </a:lnTo>
                <a:lnTo>
                  <a:pt x="15371" y="17989"/>
                </a:lnTo>
                <a:lnTo>
                  <a:pt x="19757" y="17989"/>
                </a:lnTo>
                <a:lnTo>
                  <a:pt x="19757" y="10800"/>
                </a:lnTo>
                <a:lnTo>
                  <a:pt x="9139" y="10800"/>
                </a:lnTo>
                <a:lnTo>
                  <a:pt x="9139" y="17989"/>
                </a:lnTo>
                <a:lnTo>
                  <a:pt x="1352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>
            <a:hlinkClick r:id="" action="ppaction://hlinkshowjump?jump=nextslide"/>
          </p:cNvPr>
          <p:cNvSpPr/>
          <p:nvPr/>
        </p:nvSpPr>
        <p:spPr>
          <a:xfrm>
            <a:off x="795672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250920" cy="216000"/>
          </a:xfrm>
          <a:custGeom>
            <a:avLst/>
            <a:gdLst>
              <a:gd name="textAreaLeft" fmla="*/ 13680 w 250920"/>
              <a:gd name="textAreaRight" fmla="*/ 237240 w 250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5086" h="21600">
                <a:moveTo>
                  <a:pt x="0" y="0"/>
                </a:moveTo>
                <a:lnTo>
                  <a:pt x="25086" y="0"/>
                </a:lnTo>
                <a:lnTo>
                  <a:pt x="25086" y="21600"/>
                </a:lnTo>
                <a:lnTo>
                  <a:pt x="0" y="21600"/>
                </a:lnTo>
                <a:close/>
              </a:path>
              <a:path fill="lightenLess" w="25086" h="21600">
                <a:moveTo>
                  <a:pt x="0" y="0"/>
                </a:moveTo>
                <a:lnTo>
                  <a:pt x="25086" y="0"/>
                </a:lnTo>
                <a:lnTo>
                  <a:pt x="23686" y="1400"/>
                </a:lnTo>
                <a:lnTo>
                  <a:pt x="1400" y="1400"/>
                </a:lnTo>
                <a:close/>
              </a:path>
              <a:path fill="darken" w="25086" h="21600">
                <a:moveTo>
                  <a:pt x="25086" y="0"/>
                </a:moveTo>
                <a:lnTo>
                  <a:pt x="25086" y="21600"/>
                </a:lnTo>
                <a:lnTo>
                  <a:pt x="23686" y="20200"/>
                </a:lnTo>
                <a:lnTo>
                  <a:pt x="23686" y="1400"/>
                </a:lnTo>
                <a:close/>
              </a:path>
              <a:path fill="darkenLess" w="25086" h="21600">
                <a:moveTo>
                  <a:pt x="25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6" y="20200"/>
                </a:lnTo>
                <a:close/>
              </a:path>
              <a:path fill="lighten" w="25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6" h="21600">
                <a:moveTo>
                  <a:pt x="5537" y="10800"/>
                </a:moveTo>
                <a:lnTo>
                  <a:pt x="19550" y="3794"/>
                </a:lnTo>
                <a:lnTo>
                  <a:pt x="19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 еще в повести называется заколдованное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оклято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ьявольско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>
            <a:hlinkClick r:id="" action="ppaction://hlinkshowjump?jump=previousslide"/>
          </p:cNvPr>
          <p:cNvSpPr/>
          <p:nvPr/>
        </p:nvSpPr>
        <p:spPr>
          <a:xfrm>
            <a:off x="7524720" y="6381720"/>
            <a:ext cx="250920" cy="216000"/>
          </a:xfrm>
          <a:custGeom>
            <a:avLst/>
            <a:gdLst>
              <a:gd name="textAreaLeft" fmla="*/ 13680 w 250920"/>
              <a:gd name="textAreaRight" fmla="*/ 237240 w 250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5086" h="21600">
                <a:moveTo>
                  <a:pt x="0" y="0"/>
                </a:moveTo>
                <a:lnTo>
                  <a:pt x="25086" y="0"/>
                </a:lnTo>
                <a:lnTo>
                  <a:pt x="25086" y="21600"/>
                </a:lnTo>
                <a:lnTo>
                  <a:pt x="0" y="21600"/>
                </a:lnTo>
                <a:close/>
              </a:path>
              <a:path fill="lightenLess" w="25086" h="21600">
                <a:moveTo>
                  <a:pt x="0" y="0"/>
                </a:moveTo>
                <a:lnTo>
                  <a:pt x="25086" y="0"/>
                </a:lnTo>
                <a:lnTo>
                  <a:pt x="23686" y="1400"/>
                </a:lnTo>
                <a:lnTo>
                  <a:pt x="1400" y="1400"/>
                </a:lnTo>
                <a:close/>
              </a:path>
              <a:path fill="darken" w="25086" h="21600">
                <a:moveTo>
                  <a:pt x="25086" y="0"/>
                </a:moveTo>
                <a:lnTo>
                  <a:pt x="25086" y="21600"/>
                </a:lnTo>
                <a:lnTo>
                  <a:pt x="23686" y="20200"/>
                </a:lnTo>
                <a:lnTo>
                  <a:pt x="23686" y="1400"/>
                </a:lnTo>
                <a:close/>
              </a:path>
              <a:path fill="darkenLess" w="25086" h="21600">
                <a:moveTo>
                  <a:pt x="25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6" y="20200"/>
                </a:lnTo>
                <a:close/>
              </a:path>
              <a:path fill="lighten" w="25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6" h="21600">
                <a:moveTo>
                  <a:pt x="5537" y="10800"/>
                </a:moveTo>
                <a:lnTo>
                  <a:pt x="19550" y="3794"/>
                </a:lnTo>
                <a:lnTo>
                  <a:pt x="19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firstslide"/>
          </p:cNvPr>
          <p:cNvSpPr/>
          <p:nvPr/>
        </p:nvSpPr>
        <p:spPr>
          <a:xfrm>
            <a:off x="774072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4358" y="3837"/>
                </a:moveTo>
                <a:lnTo>
                  <a:pt x="16934" y="6448"/>
                </a:ln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lnTo>
                  <a:pt x="21321" y="10800"/>
                </a:lnTo>
                <a:lnTo>
                  <a:pt x="19667" y="10800"/>
                </a:lnTo>
                <a:lnTo>
                  <a:pt x="19667" y="17989"/>
                </a:lnTo>
                <a:lnTo>
                  <a:pt x="9049" y="17989"/>
                </a:lnTo>
                <a:lnTo>
                  <a:pt x="9049" y="10800"/>
                </a:lnTo>
                <a:lnTo>
                  <a:pt x="7395" y="10800"/>
                </a:lnTo>
                <a:close/>
              </a:path>
              <a:path fill="darkenLess" w="28716" h="21600">
                <a:moveTo>
                  <a:pt x="16934" y="6448"/>
                </a:move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close/>
              </a:path>
              <a:path fill="darkenLess" w="28716" h="21600">
                <a:moveTo>
                  <a:pt x="13435" y="14299"/>
                </a:moveTo>
                <a:lnTo>
                  <a:pt x="15281" y="14299"/>
                </a:lnTo>
                <a:lnTo>
                  <a:pt x="15281" y="17989"/>
                </a:lnTo>
                <a:lnTo>
                  <a:pt x="19667" y="17989"/>
                </a:lnTo>
                <a:lnTo>
                  <a:pt x="19667" y="10800"/>
                </a:lnTo>
                <a:lnTo>
                  <a:pt x="9049" y="10800"/>
                </a:lnTo>
                <a:lnTo>
                  <a:pt x="9049" y="17989"/>
                </a:lnTo>
                <a:lnTo>
                  <a:pt x="1343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>
            <a:hlinkClick r:id="" action="ppaction://hlinkshowjump?jump=nextslide"/>
          </p:cNvPr>
          <p:cNvSpPr/>
          <p:nvPr/>
        </p:nvSpPr>
        <p:spPr>
          <a:xfrm>
            <a:off x="802800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7" descr="6ra (1)"/>
          <p:cNvPicPr/>
          <p:nvPr/>
        </p:nvPicPr>
        <p:blipFill>
          <a:blip r:embed="rId1"/>
          <a:stretch/>
        </p:blipFill>
        <p:spPr>
          <a:xfrm>
            <a:off x="4572000" y="2060640"/>
            <a:ext cx="4327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Чем  закончилось приключение д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Посмотрите-ка, посмотрите сюда, что я вам принес!» - сказал дед и открыл котел. Что ж бы, вы думали, такое там было? …золото? вот то-то, что не золото: сор, дрязг... стыдно сказать, что та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заколдованном месте никогда не было ничего доброго. Засеют как следует, а взойдет такое, что и разобрать нельзя: арбуз — не арбуз, тыква — не тыква, огурец — не огурец... чорт знает, что такое!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image_4d0d0cb308976"/>
          <p:cNvPicPr/>
          <p:nvPr/>
        </p:nvPicPr>
        <p:blipFill>
          <a:blip r:embed="rId1"/>
          <a:stretch/>
        </p:blipFill>
        <p:spPr>
          <a:xfrm>
            <a:off x="4998960" y="1600200"/>
            <a:ext cx="3336840" cy="452592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9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10800"/>
                </a:moveTo>
                <a:lnTo>
                  <a:pt x="21454" y="3794"/>
                </a:lnTo>
                <a:lnTo>
                  <a:pt x="214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>
            <a:hlinkClick r:id="" action="ppaction://hlinkshowjump?jump=firstslide"/>
          </p:cNvPr>
          <p:cNvSpPr/>
          <p:nvPr/>
        </p:nvSpPr>
        <p:spPr>
          <a:xfrm>
            <a:off x="774072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>
            <a:hlinkClick r:id="" action="ppaction://hlinkshowjump?jump=nextslide"/>
          </p:cNvPr>
          <p:cNvSpPr/>
          <p:nvPr/>
        </p:nvSpPr>
        <p:spPr>
          <a:xfrm>
            <a:off x="795672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лад, подкинутый нечистой силой, призрачен: он обращается в сор и не приносит человеку счастья. Жажда обогащения, губительная страсть к деньгам  воплощены Гоголем в сказочных образ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gog07"/>
          <p:cNvPicPr/>
          <p:nvPr/>
        </p:nvPicPr>
        <p:blipFill>
          <a:blip r:embed="rId1"/>
          <a:stretch/>
        </p:blipFill>
        <p:spPr>
          <a:xfrm>
            <a:off x="4500720" y="2060640"/>
            <a:ext cx="4500360" cy="3240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8">
            <a:hlinkClick r:id="" action="ppaction://hlinkshowjump?jump=previousslide"/>
          </p:cNvPr>
          <p:cNvSpPr/>
          <p:nvPr/>
        </p:nvSpPr>
        <p:spPr>
          <a:xfrm>
            <a:off x="7093080" y="6381720"/>
            <a:ext cx="252360" cy="216000"/>
          </a:xfrm>
          <a:custGeom>
            <a:avLst/>
            <a:gdLst>
              <a:gd name="textAreaLeft" fmla="*/ 13680 w 252360"/>
              <a:gd name="textAreaRight" fmla="*/ 238680 w 2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5230" h="21600">
                <a:moveTo>
                  <a:pt x="0" y="0"/>
                </a:moveTo>
                <a:lnTo>
                  <a:pt x="25230" y="0"/>
                </a:lnTo>
                <a:lnTo>
                  <a:pt x="25230" y="21600"/>
                </a:lnTo>
                <a:lnTo>
                  <a:pt x="0" y="21600"/>
                </a:lnTo>
                <a:close/>
              </a:path>
              <a:path fill="lightenLess" w="25230" h="21600">
                <a:moveTo>
                  <a:pt x="0" y="0"/>
                </a:moveTo>
                <a:lnTo>
                  <a:pt x="25230" y="0"/>
                </a:lnTo>
                <a:lnTo>
                  <a:pt x="23830" y="1400"/>
                </a:lnTo>
                <a:lnTo>
                  <a:pt x="1400" y="1400"/>
                </a:lnTo>
                <a:close/>
              </a:path>
              <a:path fill="darken" w="25230" h="21600">
                <a:moveTo>
                  <a:pt x="25230" y="0"/>
                </a:moveTo>
                <a:lnTo>
                  <a:pt x="25230" y="21600"/>
                </a:lnTo>
                <a:lnTo>
                  <a:pt x="23830" y="20200"/>
                </a:lnTo>
                <a:lnTo>
                  <a:pt x="23830" y="1400"/>
                </a:lnTo>
                <a:close/>
              </a:path>
              <a:path fill="darkenLess" w="25230" h="21600">
                <a:moveTo>
                  <a:pt x="25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0" y="20200"/>
                </a:lnTo>
                <a:close/>
              </a:path>
              <a:path fill="lighten" w="25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0" h="21600">
                <a:moveTo>
                  <a:pt x="5608" y="10800"/>
                </a:moveTo>
                <a:lnTo>
                  <a:pt x="19621" y="3794"/>
                </a:lnTo>
                <a:lnTo>
                  <a:pt x="196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>
            <a:hlinkClick r:id="" action="ppaction://hlinkshowjump?jump=firstslide"/>
          </p:cNvPr>
          <p:cNvSpPr/>
          <p:nvPr/>
        </p:nvSpPr>
        <p:spPr>
          <a:xfrm>
            <a:off x="7308720" y="638172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14376" y="3837"/>
                </a:moveTo>
                <a:lnTo>
                  <a:pt x="16952" y="6448"/>
                </a:lnTo>
                <a:lnTo>
                  <a:pt x="16952" y="4707"/>
                </a:lnTo>
                <a:lnTo>
                  <a:pt x="18728" y="4707"/>
                </a:lnTo>
                <a:lnTo>
                  <a:pt x="18728" y="8224"/>
                </a:lnTo>
                <a:lnTo>
                  <a:pt x="21339" y="10800"/>
                </a:lnTo>
                <a:lnTo>
                  <a:pt x="19685" y="10800"/>
                </a:lnTo>
                <a:lnTo>
                  <a:pt x="19685" y="17989"/>
                </a:lnTo>
                <a:lnTo>
                  <a:pt x="9067" y="17989"/>
                </a:lnTo>
                <a:lnTo>
                  <a:pt x="9067" y="10800"/>
                </a:lnTo>
                <a:lnTo>
                  <a:pt x="7413" y="10800"/>
                </a:lnTo>
                <a:close/>
              </a:path>
              <a:path fill="darkenLess" w="28752" h="21600">
                <a:moveTo>
                  <a:pt x="16952" y="6448"/>
                </a:moveTo>
                <a:lnTo>
                  <a:pt x="16952" y="4707"/>
                </a:lnTo>
                <a:lnTo>
                  <a:pt x="18728" y="4707"/>
                </a:lnTo>
                <a:lnTo>
                  <a:pt x="18728" y="8224"/>
                </a:lnTo>
                <a:close/>
              </a:path>
              <a:path fill="darkenLess" w="28752" h="21600">
                <a:moveTo>
                  <a:pt x="13453" y="14299"/>
                </a:moveTo>
                <a:lnTo>
                  <a:pt x="15299" y="14299"/>
                </a:lnTo>
                <a:lnTo>
                  <a:pt x="15299" y="17989"/>
                </a:lnTo>
                <a:lnTo>
                  <a:pt x="19685" y="17989"/>
                </a:lnTo>
                <a:lnTo>
                  <a:pt x="19685" y="10800"/>
                </a:lnTo>
                <a:lnTo>
                  <a:pt x="9067" y="10800"/>
                </a:lnTo>
                <a:lnTo>
                  <a:pt x="9067" y="17989"/>
                </a:lnTo>
                <a:lnTo>
                  <a:pt x="1345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0">
            <a:hlinkClick r:id="" action="ppaction://hlinkshowjump?jump=nextslide"/>
          </p:cNvPr>
          <p:cNvSpPr/>
          <p:nvPr/>
        </p:nvSpPr>
        <p:spPr>
          <a:xfrm>
            <a:off x="759636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Цели и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рганизовать работу по осознанному восприятию художественного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чить определять тему и главную мысль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ать первоначальное понимание различия между автором произведения и рассказ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чить пониманию роли художественных средств  в произве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оздать благоприятную обстановку для обмена мнениями с аргумент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>
            <a:hlinkClick r:id="" action="ppaction://hlinkshowjump?jump=firstslide"/>
          </p:cNvPr>
          <p:cNvSpPr/>
          <p:nvPr/>
        </p:nvSpPr>
        <p:spPr>
          <a:xfrm>
            <a:off x="781200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0800" y="3905"/>
                </a:moveTo>
                <a:lnTo>
                  <a:pt x="13376" y="6516"/>
                </a:ln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lnTo>
                  <a:pt x="17763" y="10868"/>
                </a:lnTo>
                <a:lnTo>
                  <a:pt x="16109" y="10868"/>
                </a:lnTo>
                <a:lnTo>
                  <a:pt x="16109" y="18057"/>
                </a:lnTo>
                <a:lnTo>
                  <a:pt x="5491" y="18057"/>
                </a:lnTo>
                <a:lnTo>
                  <a:pt x="5491" y="10868"/>
                </a:lnTo>
                <a:lnTo>
                  <a:pt x="3837" y="10868"/>
                </a:lnTo>
                <a:close/>
              </a:path>
              <a:path fill="darkenLess" w="21600" h="21735">
                <a:moveTo>
                  <a:pt x="13376" y="6516"/>
                </a:move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close/>
              </a:path>
              <a:path fill="darkenLess" w="21600" h="21735">
                <a:moveTo>
                  <a:pt x="9877" y="14366"/>
                </a:moveTo>
                <a:lnTo>
                  <a:pt x="11723" y="14366"/>
                </a:lnTo>
                <a:lnTo>
                  <a:pt x="11723" y="18057"/>
                </a:lnTo>
                <a:lnTo>
                  <a:pt x="16109" y="18057"/>
                </a:lnTo>
                <a:lnTo>
                  <a:pt x="16109" y="10868"/>
                </a:lnTo>
                <a:lnTo>
                  <a:pt x="5491" y="10868"/>
                </a:lnTo>
                <a:lnTo>
                  <a:pt x="5491" y="18057"/>
                </a:lnTo>
                <a:lnTo>
                  <a:pt x="9877" y="1805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>
            <a:hlinkClick r:id="" action="ppaction://hlinkshowjump?jump=nextslide"/>
          </p:cNvPr>
          <p:cNvSpPr/>
          <p:nvPr/>
        </p:nvSpPr>
        <p:spPr>
          <a:xfrm>
            <a:off x="810108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3861"/>
                </a:moveTo>
                <a:lnTo>
                  <a:pt x="17806" y="10868"/>
                </a:lnTo>
                <a:lnTo>
                  <a:pt x="3794" y="1787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1809 – 1852) —  прозаик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раматург, классик рус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втор поэмы «Мерт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уши», пьесы  «Ревизор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орников повестей «Веч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хуторе близ  Диканьки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Миргород», «Петербург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ве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загруженное"/>
          <p:cNvPicPr/>
          <p:nvPr/>
        </p:nvPicPr>
        <p:blipFill>
          <a:blip r:embed="rId1"/>
          <a:stretch/>
        </p:blipFill>
        <p:spPr>
          <a:xfrm>
            <a:off x="4813200" y="1773360"/>
            <a:ext cx="311328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10868"/>
                </a:moveTo>
                <a:lnTo>
                  <a:pt x="17806" y="3861"/>
                </a:lnTo>
                <a:lnTo>
                  <a:pt x="17806" y="1787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>
            <a:hlinkClick r:id="" action="ppaction://hlinkshowjump?jump=firstslide"/>
          </p:cNvPr>
          <p:cNvSpPr/>
          <p:nvPr/>
        </p:nvSpPr>
        <p:spPr>
          <a:xfrm>
            <a:off x="7812000" y="630864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" action="ppaction://hlinkshowjump?jump=nextslide"/>
          </p:cNvPr>
          <p:cNvSpPr/>
          <p:nvPr/>
        </p:nvSpPr>
        <p:spPr>
          <a:xfrm>
            <a:off x="810108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3861"/>
                </a:moveTo>
                <a:lnTo>
                  <a:pt x="17806" y="10868"/>
                </a:lnTo>
                <a:lnTo>
                  <a:pt x="3794" y="1787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ечера на хуторе близ Дика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ботать над «Вечерам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голь начал еще в 18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ду. В письмах домой 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сил свою мать 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му «о поверьях, обы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лороссиан, сказк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аньях», описать на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льского дьячк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вадебный обря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я работа уложила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и года и была закон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1832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вечера"/>
          <p:cNvPicPr/>
          <p:nvPr/>
        </p:nvPicPr>
        <p:blipFill>
          <a:blip r:embed="rId1"/>
          <a:stretch/>
        </p:blipFill>
        <p:spPr>
          <a:xfrm>
            <a:off x="5580000" y="1916280"/>
            <a:ext cx="2576520" cy="38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img7"/>
          <p:cNvPicPr/>
          <p:nvPr/>
        </p:nvPicPr>
        <p:blipFill>
          <a:blip r:embed="rId2"/>
          <a:srcRect l="28347" t="0" r="27756" b="10236"/>
          <a:stretch/>
        </p:blipFill>
        <p:spPr>
          <a:xfrm>
            <a:off x="5543640" y="1916280"/>
            <a:ext cx="2631960" cy="39607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6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322200" cy="289080"/>
          </a:xfrm>
          <a:custGeom>
            <a:avLst/>
            <a:gdLst>
              <a:gd name="textAreaLeft" fmla="*/ 18720 w 322200"/>
              <a:gd name="textAreaRight" fmla="*/ 303480 w 322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072" h="21600">
                <a:moveTo>
                  <a:pt x="0" y="0"/>
                </a:moveTo>
                <a:lnTo>
                  <a:pt x="24072" y="0"/>
                </a:lnTo>
                <a:lnTo>
                  <a:pt x="24072" y="21600"/>
                </a:lnTo>
                <a:lnTo>
                  <a:pt x="0" y="21600"/>
                </a:lnTo>
                <a:close/>
              </a:path>
              <a:path fill="lightenLess" w="24072" h="21600">
                <a:moveTo>
                  <a:pt x="0" y="0"/>
                </a:moveTo>
                <a:lnTo>
                  <a:pt x="24072" y="0"/>
                </a:lnTo>
                <a:lnTo>
                  <a:pt x="22672" y="1400"/>
                </a:lnTo>
                <a:lnTo>
                  <a:pt x="1400" y="1400"/>
                </a:lnTo>
                <a:close/>
              </a:path>
              <a:path fill="darken" w="24072" h="21600">
                <a:moveTo>
                  <a:pt x="24072" y="0"/>
                </a:moveTo>
                <a:lnTo>
                  <a:pt x="24072" y="21600"/>
                </a:lnTo>
                <a:lnTo>
                  <a:pt x="22672" y="20200"/>
                </a:lnTo>
                <a:lnTo>
                  <a:pt x="22672" y="1400"/>
                </a:lnTo>
                <a:close/>
              </a:path>
              <a:path fill="darkenLess" w="24072" h="21600">
                <a:moveTo>
                  <a:pt x="2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2" y="20200"/>
                </a:lnTo>
                <a:close/>
              </a:path>
              <a:path fill="lighten" w="2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2" h="21600">
                <a:moveTo>
                  <a:pt x="5029" y="10800"/>
                </a:moveTo>
                <a:lnTo>
                  <a:pt x="19042" y="3794"/>
                </a:lnTo>
                <a:lnTo>
                  <a:pt x="190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>
            <a:hlinkClick r:id="" action="ppaction://hlinkshowjump?jump=firstslide"/>
          </p:cNvPr>
          <p:cNvSpPr/>
          <p:nvPr/>
        </p:nvSpPr>
        <p:spPr>
          <a:xfrm>
            <a:off x="7812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3460" y="3837"/>
                </a:moveTo>
                <a:lnTo>
                  <a:pt x="16036" y="6448"/>
                </a:lnTo>
                <a:lnTo>
                  <a:pt x="16036" y="4707"/>
                </a:lnTo>
                <a:lnTo>
                  <a:pt x="17812" y="4707"/>
                </a:lnTo>
                <a:lnTo>
                  <a:pt x="17812" y="8224"/>
                </a:lnTo>
                <a:lnTo>
                  <a:pt x="20423" y="10800"/>
                </a:lnTo>
                <a:lnTo>
                  <a:pt x="18769" y="10800"/>
                </a:lnTo>
                <a:lnTo>
                  <a:pt x="18769" y="17989"/>
                </a:lnTo>
                <a:lnTo>
                  <a:pt x="8150" y="17989"/>
                </a:lnTo>
                <a:lnTo>
                  <a:pt x="8150" y="10800"/>
                </a:lnTo>
                <a:lnTo>
                  <a:pt x="6497" y="10800"/>
                </a:lnTo>
                <a:close/>
              </a:path>
              <a:path fill="darkenLess" w="26919" h="21600">
                <a:moveTo>
                  <a:pt x="16036" y="6448"/>
                </a:moveTo>
                <a:lnTo>
                  <a:pt x="16036" y="4707"/>
                </a:lnTo>
                <a:lnTo>
                  <a:pt x="17812" y="4707"/>
                </a:lnTo>
                <a:lnTo>
                  <a:pt x="17812" y="8224"/>
                </a:lnTo>
                <a:close/>
              </a:path>
              <a:path fill="darkenLess" w="26919" h="21600">
                <a:moveTo>
                  <a:pt x="12537" y="14299"/>
                </a:moveTo>
                <a:lnTo>
                  <a:pt x="14382" y="14299"/>
                </a:lnTo>
                <a:lnTo>
                  <a:pt x="14382" y="17989"/>
                </a:lnTo>
                <a:lnTo>
                  <a:pt x="18769" y="17989"/>
                </a:lnTo>
                <a:lnTo>
                  <a:pt x="18769" y="10800"/>
                </a:lnTo>
                <a:lnTo>
                  <a:pt x="8150" y="10800"/>
                </a:lnTo>
                <a:lnTo>
                  <a:pt x="8150" y="17989"/>
                </a:lnTo>
                <a:lnTo>
                  <a:pt x="1253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>
            <a:hlinkClick r:id="" action="ppaction://hlinkshowjump?jump=nextslide"/>
          </p:cNvPr>
          <p:cNvSpPr/>
          <p:nvPr/>
        </p:nvSpPr>
        <p:spPr>
          <a:xfrm>
            <a:off x="810108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3794" y="3861"/>
                </a:moveTo>
                <a:lnTo>
                  <a:pt x="17806" y="10868"/>
                </a:lnTo>
                <a:lnTo>
                  <a:pt x="3794" y="1787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йчас прочёл «Вечера близ Диканьки». Они изумили меня.       Вот настоящая весёлость, искренняя, непринуждён- ная, без жеманства, без чопорности. А местами какая поэзия!.. Всё это так необыкновенно в нашей нынешней литературе, что я доселе не образумился…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загруженное (1)"/>
          <p:cNvPicPr/>
          <p:nvPr/>
        </p:nvPicPr>
        <p:blipFill>
          <a:blip r:embed="rId1"/>
          <a:stretch/>
        </p:blipFill>
        <p:spPr>
          <a:xfrm>
            <a:off x="4859280" y="1700280"/>
            <a:ext cx="319248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6">
            <a:hlinkClick r:id="" action="ppaction://hlinkshowjump?jump=previousslide"/>
          </p:cNvPr>
          <p:cNvSpPr/>
          <p:nvPr/>
        </p:nvSpPr>
        <p:spPr>
          <a:xfrm>
            <a:off x="7596360" y="6308640"/>
            <a:ext cx="323640" cy="289080"/>
          </a:xfrm>
          <a:custGeom>
            <a:avLst/>
            <a:gdLst>
              <a:gd name="textAreaLeft" fmla="*/ 18720 w 323640"/>
              <a:gd name="textAreaRight" fmla="*/ 304920 w 323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179" h="21600">
                <a:moveTo>
                  <a:pt x="0" y="0"/>
                </a:moveTo>
                <a:lnTo>
                  <a:pt x="24179" y="0"/>
                </a:lnTo>
                <a:lnTo>
                  <a:pt x="24179" y="21600"/>
                </a:lnTo>
                <a:lnTo>
                  <a:pt x="0" y="21600"/>
                </a:lnTo>
                <a:close/>
              </a:path>
              <a:path fill="lightenLess" w="24179" h="21600">
                <a:moveTo>
                  <a:pt x="0" y="0"/>
                </a:moveTo>
                <a:lnTo>
                  <a:pt x="24179" y="0"/>
                </a:lnTo>
                <a:lnTo>
                  <a:pt x="22779" y="1400"/>
                </a:lnTo>
                <a:lnTo>
                  <a:pt x="1400" y="1400"/>
                </a:lnTo>
                <a:close/>
              </a:path>
              <a:path fill="darken" w="24179" h="21600">
                <a:moveTo>
                  <a:pt x="24179" y="0"/>
                </a:moveTo>
                <a:lnTo>
                  <a:pt x="24179" y="21600"/>
                </a:lnTo>
                <a:lnTo>
                  <a:pt x="22779" y="20200"/>
                </a:lnTo>
                <a:lnTo>
                  <a:pt x="22779" y="1400"/>
                </a:lnTo>
                <a:close/>
              </a:path>
              <a:path fill="darkenLess" w="24179" h="21600">
                <a:moveTo>
                  <a:pt x="24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9" y="20200"/>
                </a:lnTo>
                <a:close/>
              </a:path>
              <a:path fill="lighten" w="24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9" h="21600">
                <a:moveTo>
                  <a:pt x="5083" y="10800"/>
                </a:moveTo>
                <a:lnTo>
                  <a:pt x="19096" y="3794"/>
                </a:lnTo>
                <a:lnTo>
                  <a:pt x="190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>
            <a:hlinkClick r:id="" action="ppaction://hlinkshowjump?jump=firstslide"/>
          </p:cNvPr>
          <p:cNvSpPr/>
          <p:nvPr/>
        </p:nvSpPr>
        <p:spPr>
          <a:xfrm>
            <a:off x="788508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12103" y="3837"/>
                </a:moveTo>
                <a:lnTo>
                  <a:pt x="14679" y="6448"/>
                </a:lnTo>
                <a:lnTo>
                  <a:pt x="14679" y="4707"/>
                </a:lnTo>
                <a:lnTo>
                  <a:pt x="16455" y="4707"/>
                </a:lnTo>
                <a:lnTo>
                  <a:pt x="16455" y="8224"/>
                </a:lnTo>
                <a:lnTo>
                  <a:pt x="19066" y="10800"/>
                </a:lnTo>
                <a:lnTo>
                  <a:pt x="17412" y="10800"/>
                </a:lnTo>
                <a:lnTo>
                  <a:pt x="17412" y="17989"/>
                </a:lnTo>
                <a:lnTo>
                  <a:pt x="6794" y="17989"/>
                </a:lnTo>
                <a:lnTo>
                  <a:pt x="6794" y="10800"/>
                </a:lnTo>
                <a:lnTo>
                  <a:pt x="5140" y="10800"/>
                </a:lnTo>
                <a:close/>
              </a:path>
              <a:path fill="darkenLess" w="24206" h="21600">
                <a:moveTo>
                  <a:pt x="14679" y="6448"/>
                </a:moveTo>
                <a:lnTo>
                  <a:pt x="14679" y="4707"/>
                </a:lnTo>
                <a:lnTo>
                  <a:pt x="16455" y="4707"/>
                </a:lnTo>
                <a:lnTo>
                  <a:pt x="16455" y="8224"/>
                </a:lnTo>
                <a:close/>
              </a:path>
              <a:path fill="darkenLess" w="24206" h="21600">
                <a:moveTo>
                  <a:pt x="11180" y="14299"/>
                </a:moveTo>
                <a:lnTo>
                  <a:pt x="13026" y="14299"/>
                </a:lnTo>
                <a:lnTo>
                  <a:pt x="13026" y="17989"/>
                </a:lnTo>
                <a:lnTo>
                  <a:pt x="17412" y="17989"/>
                </a:lnTo>
                <a:lnTo>
                  <a:pt x="17412" y="10800"/>
                </a:lnTo>
                <a:lnTo>
                  <a:pt x="6794" y="10800"/>
                </a:lnTo>
                <a:lnTo>
                  <a:pt x="6794" y="17989"/>
                </a:lnTo>
                <a:lnTo>
                  <a:pt x="111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358920" cy="289080"/>
          </a:xfrm>
          <a:custGeom>
            <a:avLst/>
            <a:gdLst>
              <a:gd name="textAreaLeft" fmla="*/ 18720 w 358920"/>
              <a:gd name="textAreaRight" fmla="*/ 340200 w 358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812" h="21600">
                <a:moveTo>
                  <a:pt x="0" y="0"/>
                </a:moveTo>
                <a:lnTo>
                  <a:pt x="26812" y="0"/>
                </a:lnTo>
                <a:lnTo>
                  <a:pt x="26812" y="21600"/>
                </a:lnTo>
                <a:lnTo>
                  <a:pt x="0" y="21600"/>
                </a:lnTo>
                <a:close/>
              </a:path>
              <a:path fill="lightenLess" w="26812" h="21600">
                <a:moveTo>
                  <a:pt x="0" y="0"/>
                </a:moveTo>
                <a:lnTo>
                  <a:pt x="26812" y="0"/>
                </a:lnTo>
                <a:lnTo>
                  <a:pt x="25412" y="1400"/>
                </a:lnTo>
                <a:lnTo>
                  <a:pt x="1400" y="1400"/>
                </a:lnTo>
                <a:close/>
              </a:path>
              <a:path fill="darken" w="26812" h="21600">
                <a:moveTo>
                  <a:pt x="26812" y="0"/>
                </a:moveTo>
                <a:lnTo>
                  <a:pt x="26812" y="21600"/>
                </a:lnTo>
                <a:lnTo>
                  <a:pt x="25412" y="20200"/>
                </a:lnTo>
                <a:lnTo>
                  <a:pt x="25412" y="1400"/>
                </a:lnTo>
                <a:close/>
              </a:path>
              <a:path fill="darkenLess" w="26812" h="21600">
                <a:moveTo>
                  <a:pt x="26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12" y="20200"/>
                </a:lnTo>
                <a:close/>
              </a:path>
              <a:path fill="lighten" w="26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12" h="21600">
                <a:moveTo>
                  <a:pt x="6399" y="3794"/>
                </a:moveTo>
                <a:lnTo>
                  <a:pt x="20412" y="10800"/>
                </a:lnTo>
                <a:lnTo>
                  <a:pt x="6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акие произведения вошли в «Вечера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рочинская ярм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чер накануне Ивана Куп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йская ночь, или Утоплен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павшая грам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очь перед Рожд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шная м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ван Федорович Шпоньк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его тет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3" descr="image"/>
          <p:cNvPicPr/>
          <p:nvPr/>
        </p:nvPicPr>
        <p:blipFill>
          <a:blip r:embed="rId1"/>
          <a:stretch/>
        </p:blipFill>
        <p:spPr>
          <a:xfrm>
            <a:off x="5076720" y="155736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324000" cy="289080"/>
          </a:xfrm>
          <a:custGeom>
            <a:avLst/>
            <a:gdLst>
              <a:gd name="textAreaLeft" fmla="*/ 18720 w 324000"/>
              <a:gd name="textAreaRight" fmla="*/ 305280 w 3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206" h="21600">
                <a:moveTo>
                  <a:pt x="0" y="0"/>
                </a:moveTo>
                <a:lnTo>
                  <a:pt x="24206" y="0"/>
                </a:lnTo>
                <a:lnTo>
                  <a:pt x="24206" y="21600"/>
                </a:lnTo>
                <a:lnTo>
                  <a:pt x="0" y="21600"/>
                </a:lnTo>
                <a:close/>
              </a:path>
              <a:path fill="lightenLess" w="24206" h="21600">
                <a:moveTo>
                  <a:pt x="0" y="0"/>
                </a:moveTo>
                <a:lnTo>
                  <a:pt x="24206" y="0"/>
                </a:lnTo>
                <a:lnTo>
                  <a:pt x="22806" y="1400"/>
                </a:lnTo>
                <a:lnTo>
                  <a:pt x="1400" y="1400"/>
                </a:lnTo>
                <a:close/>
              </a:path>
              <a:path fill="darken" w="24206" h="21600">
                <a:moveTo>
                  <a:pt x="24206" y="0"/>
                </a:moveTo>
                <a:lnTo>
                  <a:pt x="24206" y="21600"/>
                </a:lnTo>
                <a:lnTo>
                  <a:pt x="22806" y="20200"/>
                </a:lnTo>
                <a:lnTo>
                  <a:pt x="22806" y="1400"/>
                </a:lnTo>
                <a:close/>
              </a:path>
              <a:path fill="darkenLess" w="24206" h="21600">
                <a:moveTo>
                  <a:pt x="24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6" y="20200"/>
                </a:lnTo>
                <a:close/>
              </a:path>
              <a:path fill="lighten" w="24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6" h="21600">
                <a:moveTo>
                  <a:pt x="5097" y="10800"/>
                </a:moveTo>
                <a:lnTo>
                  <a:pt x="19109" y="3794"/>
                </a:lnTo>
                <a:lnTo>
                  <a:pt x="191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>
            <a:hlinkClick r:id="" action="ppaction://hlinkshowjump?jump=firstslide"/>
          </p:cNvPr>
          <p:cNvSpPr/>
          <p:nvPr/>
        </p:nvSpPr>
        <p:spPr>
          <a:xfrm>
            <a:off x="781200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>
            <a:hlinkClick r:id="" action="ppaction://hlinkshowjump?jump=nextslide"/>
          </p:cNvPr>
          <p:cNvSpPr/>
          <p:nvPr/>
        </p:nvSpPr>
        <p:spPr>
          <a:xfrm>
            <a:off x="8172360" y="6308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литературных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лень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ве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тров Бу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инк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я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аса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загруженное (3)"/>
          <p:cNvPicPr/>
          <p:nvPr/>
        </p:nvPicPr>
        <p:blipFill>
          <a:blip r:embed="rId1"/>
          <a:stretch/>
        </p:blipFill>
        <p:spPr>
          <a:xfrm>
            <a:off x="5796000" y="1557360"/>
            <a:ext cx="2685960" cy="1901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Rip-Van-Winkle-port"/>
          <p:cNvPicPr/>
          <p:nvPr/>
        </p:nvPicPr>
        <p:blipFill>
          <a:blip r:embed="rId2"/>
          <a:stretch/>
        </p:blipFill>
        <p:spPr>
          <a:xfrm>
            <a:off x="2411280" y="4005360"/>
            <a:ext cx="273528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загруженное (2)"/>
          <p:cNvPicPr/>
          <p:nvPr/>
        </p:nvPicPr>
        <p:blipFill>
          <a:blip r:embed="rId3"/>
          <a:stretch/>
        </p:blipFill>
        <p:spPr>
          <a:xfrm>
            <a:off x="5724360" y="4005360"/>
            <a:ext cx="3024360" cy="218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86937639_003_Fedoskino__Alenkiy_cvetochek"/>
          <p:cNvPicPr/>
          <p:nvPr/>
        </p:nvPicPr>
        <p:blipFill>
          <a:blip r:embed="rId4"/>
          <a:stretch/>
        </p:blipFill>
        <p:spPr>
          <a:xfrm>
            <a:off x="2484360" y="1536840"/>
            <a:ext cx="2664000" cy="19335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0">
            <a:hlinkClick r:id="" action="ppaction://hlinkshowjump?jump=previousslide"/>
          </p:cNvPr>
          <p:cNvSpPr/>
          <p:nvPr/>
        </p:nvSpPr>
        <p:spPr>
          <a:xfrm>
            <a:off x="7596360" y="6308640"/>
            <a:ext cx="323640" cy="289080"/>
          </a:xfrm>
          <a:custGeom>
            <a:avLst/>
            <a:gdLst>
              <a:gd name="textAreaLeft" fmla="*/ 18720 w 323640"/>
              <a:gd name="textAreaRight" fmla="*/ 304920 w 323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179" h="21600">
                <a:moveTo>
                  <a:pt x="0" y="0"/>
                </a:moveTo>
                <a:lnTo>
                  <a:pt x="24179" y="0"/>
                </a:lnTo>
                <a:lnTo>
                  <a:pt x="24179" y="21600"/>
                </a:lnTo>
                <a:lnTo>
                  <a:pt x="0" y="21600"/>
                </a:lnTo>
                <a:close/>
              </a:path>
              <a:path fill="lightenLess" w="24179" h="21600">
                <a:moveTo>
                  <a:pt x="0" y="0"/>
                </a:moveTo>
                <a:lnTo>
                  <a:pt x="24179" y="0"/>
                </a:lnTo>
                <a:lnTo>
                  <a:pt x="22779" y="1400"/>
                </a:lnTo>
                <a:lnTo>
                  <a:pt x="1400" y="1400"/>
                </a:lnTo>
                <a:close/>
              </a:path>
              <a:path fill="darken" w="24179" h="21600">
                <a:moveTo>
                  <a:pt x="24179" y="0"/>
                </a:moveTo>
                <a:lnTo>
                  <a:pt x="24179" y="21600"/>
                </a:lnTo>
                <a:lnTo>
                  <a:pt x="22779" y="20200"/>
                </a:lnTo>
                <a:lnTo>
                  <a:pt x="22779" y="1400"/>
                </a:lnTo>
                <a:close/>
              </a:path>
              <a:path fill="darkenLess" w="24179" h="21600">
                <a:moveTo>
                  <a:pt x="24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9" y="20200"/>
                </a:lnTo>
                <a:close/>
              </a:path>
              <a:path fill="lighten" w="24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9" h="21600">
                <a:moveTo>
                  <a:pt x="5083" y="10800"/>
                </a:moveTo>
                <a:lnTo>
                  <a:pt x="19096" y="3794"/>
                </a:lnTo>
                <a:lnTo>
                  <a:pt x="190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>
            <a:hlinkClick r:id="" action="ppaction://hlinkshowjump?jump=firstslide"/>
          </p:cNvPr>
          <p:cNvSpPr/>
          <p:nvPr/>
        </p:nvSpPr>
        <p:spPr>
          <a:xfrm>
            <a:off x="788508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0800" y="3905"/>
                </a:moveTo>
                <a:lnTo>
                  <a:pt x="13376" y="6516"/>
                </a:ln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lnTo>
                  <a:pt x="17763" y="10868"/>
                </a:lnTo>
                <a:lnTo>
                  <a:pt x="16109" y="10868"/>
                </a:lnTo>
                <a:lnTo>
                  <a:pt x="16109" y="18057"/>
                </a:lnTo>
                <a:lnTo>
                  <a:pt x="5491" y="18057"/>
                </a:lnTo>
                <a:lnTo>
                  <a:pt x="5491" y="10868"/>
                </a:lnTo>
                <a:lnTo>
                  <a:pt x="3837" y="10868"/>
                </a:lnTo>
                <a:close/>
              </a:path>
              <a:path fill="darkenLess" w="21600" h="21735">
                <a:moveTo>
                  <a:pt x="13376" y="6516"/>
                </a:move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close/>
              </a:path>
              <a:path fill="darkenLess" w="21600" h="21735">
                <a:moveTo>
                  <a:pt x="9877" y="14366"/>
                </a:moveTo>
                <a:lnTo>
                  <a:pt x="11723" y="14366"/>
                </a:lnTo>
                <a:lnTo>
                  <a:pt x="11723" y="18057"/>
                </a:lnTo>
                <a:lnTo>
                  <a:pt x="16109" y="18057"/>
                </a:lnTo>
                <a:lnTo>
                  <a:pt x="16109" y="10868"/>
                </a:lnTo>
                <a:lnTo>
                  <a:pt x="5491" y="10868"/>
                </a:lnTo>
                <a:lnTo>
                  <a:pt x="5491" y="18057"/>
                </a:lnTo>
                <a:lnTo>
                  <a:pt x="9877" y="1805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>
            <a:hlinkClick r:id="" action="ppaction://hlinkshowjump?jump=nextslide"/>
          </p:cNvPr>
          <p:cNvSpPr/>
          <p:nvPr/>
        </p:nvSpPr>
        <p:spPr>
          <a:xfrm>
            <a:off x="8172360" y="630864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«Вечерах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gogol"/>
          <p:cNvPicPr/>
          <p:nvPr/>
        </p:nvPicPr>
        <p:blipFill>
          <a:blip r:embed="rId1"/>
          <a:stretch/>
        </p:blipFill>
        <p:spPr>
          <a:xfrm>
            <a:off x="5292720" y="1763640"/>
            <a:ext cx="3311640" cy="207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dug1"/>
          <p:cNvPicPr/>
          <p:nvPr/>
        </p:nvPicPr>
        <p:blipFill>
          <a:blip r:embed="rId2"/>
          <a:stretch/>
        </p:blipFill>
        <p:spPr>
          <a:xfrm>
            <a:off x="5508720" y="4149720"/>
            <a:ext cx="3240000" cy="2111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11b472fd56ffc153d8fc192d020048dd"/>
          <p:cNvPicPr/>
          <p:nvPr/>
        </p:nvPicPr>
        <p:blipFill>
          <a:blip r:embed="rId3"/>
          <a:stretch/>
        </p:blipFill>
        <p:spPr>
          <a:xfrm>
            <a:off x="1692360" y="4149720"/>
            <a:ext cx="324000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2" descr="12866567942432184070"/>
          <p:cNvPicPr/>
          <p:nvPr/>
        </p:nvPicPr>
        <p:blipFill>
          <a:blip r:embed="rId4"/>
          <a:stretch/>
        </p:blipFill>
        <p:spPr>
          <a:xfrm>
            <a:off x="1619280" y="1773360"/>
            <a:ext cx="3241800" cy="2033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323640" cy="288720"/>
          </a:xfrm>
          <a:custGeom>
            <a:avLst/>
            <a:gdLst>
              <a:gd name="textAreaLeft" fmla="*/ 18720 w 323640"/>
              <a:gd name="textAreaRight" fmla="*/ 304920 w 323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4209" h="21600">
                <a:moveTo>
                  <a:pt x="0" y="0"/>
                </a:moveTo>
                <a:lnTo>
                  <a:pt x="24209" y="0"/>
                </a:lnTo>
                <a:lnTo>
                  <a:pt x="24209" y="21600"/>
                </a:lnTo>
                <a:lnTo>
                  <a:pt x="0" y="21600"/>
                </a:lnTo>
                <a:close/>
              </a:path>
              <a:path fill="lightenLess" w="24209" h="21600">
                <a:moveTo>
                  <a:pt x="0" y="0"/>
                </a:moveTo>
                <a:lnTo>
                  <a:pt x="24209" y="0"/>
                </a:lnTo>
                <a:lnTo>
                  <a:pt x="22809" y="1400"/>
                </a:lnTo>
                <a:lnTo>
                  <a:pt x="1400" y="1400"/>
                </a:lnTo>
                <a:close/>
              </a:path>
              <a:path fill="darken" w="24209" h="21600">
                <a:moveTo>
                  <a:pt x="24209" y="0"/>
                </a:moveTo>
                <a:lnTo>
                  <a:pt x="24209" y="21600"/>
                </a:lnTo>
                <a:lnTo>
                  <a:pt x="22809" y="20200"/>
                </a:lnTo>
                <a:lnTo>
                  <a:pt x="22809" y="1400"/>
                </a:lnTo>
                <a:close/>
              </a:path>
              <a:path fill="darkenLess" w="24209" h="21600">
                <a:moveTo>
                  <a:pt x="24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09" y="20200"/>
                </a:lnTo>
                <a:close/>
              </a:path>
              <a:path fill="lighten" w="24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09" h="21600">
                <a:moveTo>
                  <a:pt x="5098" y="10800"/>
                </a:moveTo>
                <a:lnTo>
                  <a:pt x="19111" y="3794"/>
                </a:lnTo>
                <a:lnTo>
                  <a:pt x="191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>
            <a:hlinkClick r:id="" action="ppaction://hlinkshowjump?jump=firstslide"/>
          </p:cNvPr>
          <p:cNvSpPr/>
          <p:nvPr/>
        </p:nvSpPr>
        <p:spPr>
          <a:xfrm>
            <a:off x="7885080" y="6453360"/>
            <a:ext cx="358920" cy="288720"/>
          </a:xfrm>
          <a:custGeom>
            <a:avLst/>
            <a:gdLst>
              <a:gd name="textAreaLeft" fmla="*/ 18720 w 358920"/>
              <a:gd name="textAreaRight" fmla="*/ 340200 w 3589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845" h="21600">
                <a:moveTo>
                  <a:pt x="0" y="0"/>
                </a:moveTo>
                <a:lnTo>
                  <a:pt x="26845" y="0"/>
                </a:lnTo>
                <a:lnTo>
                  <a:pt x="26845" y="21600"/>
                </a:lnTo>
                <a:lnTo>
                  <a:pt x="0" y="21600"/>
                </a:lnTo>
                <a:close/>
              </a:path>
              <a:path fill="lightenLess" w="26845" h="21600">
                <a:moveTo>
                  <a:pt x="0" y="0"/>
                </a:moveTo>
                <a:lnTo>
                  <a:pt x="26845" y="0"/>
                </a:lnTo>
                <a:lnTo>
                  <a:pt x="25445" y="1400"/>
                </a:lnTo>
                <a:lnTo>
                  <a:pt x="1400" y="1400"/>
                </a:lnTo>
                <a:close/>
              </a:path>
              <a:path fill="darken" w="26845" h="21600">
                <a:moveTo>
                  <a:pt x="26845" y="0"/>
                </a:moveTo>
                <a:lnTo>
                  <a:pt x="26845" y="21600"/>
                </a:lnTo>
                <a:lnTo>
                  <a:pt x="25445" y="20200"/>
                </a:lnTo>
                <a:lnTo>
                  <a:pt x="25445" y="1400"/>
                </a:lnTo>
                <a:close/>
              </a:path>
              <a:path fill="darkenLess" w="26845" h="21600">
                <a:moveTo>
                  <a:pt x="26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45" y="20200"/>
                </a:lnTo>
                <a:close/>
              </a:path>
              <a:path fill="lighten" w="26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45" h="21600">
                <a:moveTo>
                  <a:pt x="13423" y="3837"/>
                </a:moveTo>
                <a:lnTo>
                  <a:pt x="15999" y="6448"/>
                </a:lnTo>
                <a:lnTo>
                  <a:pt x="15999" y="4707"/>
                </a:lnTo>
                <a:lnTo>
                  <a:pt x="17775" y="4707"/>
                </a:lnTo>
                <a:lnTo>
                  <a:pt x="17775" y="8224"/>
                </a:lnTo>
                <a:lnTo>
                  <a:pt x="20386" y="10800"/>
                </a:lnTo>
                <a:lnTo>
                  <a:pt x="18732" y="10800"/>
                </a:lnTo>
                <a:lnTo>
                  <a:pt x="18732" y="17989"/>
                </a:lnTo>
                <a:lnTo>
                  <a:pt x="8113" y="17989"/>
                </a:lnTo>
                <a:lnTo>
                  <a:pt x="8113" y="10800"/>
                </a:lnTo>
                <a:lnTo>
                  <a:pt x="6460" y="10800"/>
                </a:lnTo>
                <a:close/>
              </a:path>
              <a:path fill="darkenLess" w="26845" h="21600">
                <a:moveTo>
                  <a:pt x="15999" y="6448"/>
                </a:moveTo>
                <a:lnTo>
                  <a:pt x="15999" y="4707"/>
                </a:lnTo>
                <a:lnTo>
                  <a:pt x="17775" y="4707"/>
                </a:lnTo>
                <a:lnTo>
                  <a:pt x="17775" y="8224"/>
                </a:lnTo>
                <a:close/>
              </a:path>
              <a:path fill="darkenLess" w="26845" h="21600">
                <a:moveTo>
                  <a:pt x="12500" y="14299"/>
                </a:moveTo>
                <a:lnTo>
                  <a:pt x="14345" y="14299"/>
                </a:lnTo>
                <a:lnTo>
                  <a:pt x="14345" y="17989"/>
                </a:lnTo>
                <a:lnTo>
                  <a:pt x="18732" y="17989"/>
                </a:lnTo>
                <a:lnTo>
                  <a:pt x="18732" y="10800"/>
                </a:lnTo>
                <a:lnTo>
                  <a:pt x="8113" y="10800"/>
                </a:lnTo>
                <a:lnTo>
                  <a:pt x="8113" y="17989"/>
                </a:lnTo>
                <a:lnTo>
                  <a:pt x="1250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>
            <a:hlinkClick r:id="" action="ppaction://hlinkshowjump?jump=nextslide"/>
          </p:cNvPr>
          <p:cNvSpPr/>
          <p:nvPr/>
        </p:nvSpPr>
        <p:spPr>
          <a:xfrm>
            <a:off x="8244000" y="6453360"/>
            <a:ext cx="288720" cy="28872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9:50:17Z</dcterms:created>
  <dc:creator>Тома</dc:creator>
  <dc:description/>
  <dc:language>en-US</dc:language>
  <cp:lastModifiedBy>Anastasia Romanova</cp:lastModifiedBy>
  <dcterms:modified xsi:type="dcterms:W3CDTF">2016-12-04T13:38:56Z</dcterms:modified>
  <cp:revision>63</cp:revision>
  <dc:subject/>
  <dc:title>Заколдованное место</dc:title>
</cp:coreProperties>
</file>