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96-4B2E-4AC8-81E2-08E8DF4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4C5-07CE-4EB6-AF68-9DA18F4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1BA-E3FE-4754-AF05-8E98FDCD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740-F2F6-4B12-A61D-3D980908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0BBF-EF30-40CE-A299-0AB810B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5CC0-791A-4A8F-B2F3-5047BE6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4046-FE87-4421-9813-9B28151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6E13-454F-4499-A346-3F9868D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61B6-0996-4DA4-B50D-CFAD906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363-2B7D-42D0-BAC9-EBF27273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7FA-CDD8-4AF7-9565-E90B0EF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0A8-3CE6-4D90-B8AE-52231E9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35E-BF32-45FE-ADB5-239C48BF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1115-0570-47A2-AB99-F5B0814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0E97-D4FD-4913-ADD3-04F5686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2837-8DF8-4FA9-8DB2-B91C2903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82C6-0583-4EFA-8123-A6728B7A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8D0-3D5E-444A-9BCC-3C67488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43F-C6B2-4CDC-B40F-3B49E6D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A14-F6B1-4D1C-ACEA-C300CE92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3DB-D0DE-4B11-91C1-58BBEDB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2E6-B5B1-4E36-8CD5-F1109311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B0B-468B-4C02-BAE5-77D3006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F42-303E-4D67-BFC8-839155F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AA3-3F74-413A-87BB-EB97D11C70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327-869C-459F-8074-54B136CC82F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49000"/>
            <a:ext cx="8291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aramond"/>
              </a:rPr>
              <a:t>Возможности использования ИКТ в целях повышения качества реализации образовательной программы ДОУ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4653000"/>
            <a:ext cx="792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99"/>
                </a:solidFill>
                <a:latin typeface="Times New Roman"/>
              </a:rPr>
              <a:t>МДОУ №202 «Золушка»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99"/>
                </a:solidFill>
                <a:latin typeface="Times New Roman"/>
              </a:rPr>
              <a:t>                           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55640" y="4869000"/>
            <a:ext cx="79930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нашей мультимедийной копилке собрано большое количество презентаций , например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роки вежлив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рские жит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утешествие по сказк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чусь счит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гровая математ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гры фантаз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вивающие игры и упражнения для дет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селая заряд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много других занимательных и развивающих игр для дошколь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6" descr="1284977270_122700846_1-----1284977270"/>
          <p:cNvPicPr/>
          <p:nvPr/>
        </p:nvPicPr>
        <p:blipFill>
          <a:blip r:embed="rId1"/>
          <a:stretch/>
        </p:blipFill>
        <p:spPr>
          <a:xfrm>
            <a:off x="5724360" y="184464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равнительная диаграмма развития  детей за 2010-2011 уч.г. без использования ИКТ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759120" y="3749760"/>
            <a:ext cx="261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236000" y="37497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7072200" y="3749760"/>
            <a:ext cx="12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680000"/>
          </a:xfrm>
          <a:prstGeom prst="rect">
            <a:avLst/>
          </a:prstGeom>
          <a:ln w="0">
            <a:noFill/>
          </a:ln>
        </p:spPr>
      </p:pic>
      <p:sp>
        <p:nvSpPr>
          <p:cNvPr id="168" name="Line 14"/>
          <p:cNvSpPr/>
          <p:nvPr/>
        </p:nvSpPr>
        <p:spPr>
          <a:xfrm>
            <a:off x="324000" y="1700280"/>
            <a:ext cx="0" cy="45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324000" y="6308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6"/>
          <p:cNvSpPr/>
          <p:nvPr/>
        </p:nvSpPr>
        <p:spPr>
          <a:xfrm flipV="1">
            <a:off x="8820000" y="1628640"/>
            <a:ext cx="0" cy="46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324000" y="1628640"/>
            <a:ext cx="8496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324000" y="6308640"/>
            <a:ext cx="849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8820000" y="1628640"/>
            <a:ext cx="0" cy="468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7"/>
          <p:cNvGrpSpPr/>
          <p:nvPr/>
        </p:nvGrpSpPr>
        <p:grpSpPr>
          <a:xfrm>
            <a:off x="3708360" y="404640"/>
            <a:ext cx="2057040" cy="6249960"/>
            <a:chOff x="3708360" y="404640"/>
            <a:chExt cx="2057040" cy="6249960"/>
          </a:xfrm>
        </p:grpSpPr>
        <p:sp>
          <p:nvSpPr>
            <p:cNvPr id="176" name="Oval 8"/>
            <p:cNvSpPr/>
            <p:nvPr/>
          </p:nvSpPr>
          <p:spPr>
            <a:xfrm>
              <a:off x="4002120" y="5234040"/>
              <a:ext cx="1469160" cy="1420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AutoShape 9"/>
            <p:cNvSpPr/>
            <p:nvPr/>
          </p:nvSpPr>
          <p:spPr>
            <a:xfrm>
              <a:off x="3708360" y="404640"/>
              <a:ext cx="2057040" cy="4545360"/>
            </a:xfrm>
            <a:prstGeom prst="flowChartManualOperation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8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aramond"/>
              </a:rPr>
              <a:t>Компьютер развивает множество интеллектуальных навыков. Но нельзя забывать о норме. Всякое лекарство становится ядом если принято в неразумных дозах. Как и любые занятия, занятия с ИКТ требуют времени, правильного их использования, терпения и внимания со стороны педагог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2096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ff99"/>
              </a:gs>
              <a:gs pos="100000">
                <a:srgbClr val="ff00ff"/>
              </a:gs>
            </a:gsLst>
            <a:lin ang="5400000"/>
          </a:gradFill>
          <a:ln w="57240">
            <a:solidFill>
              <a:srgbClr val="0000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Условия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 для сбережения здоровья ребенка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AutoShape 4"/>
          <p:cNvSpPr/>
          <p:nvPr/>
        </p:nvSpPr>
        <p:spPr>
          <a:xfrm rot="10800000">
            <a:off x="0" y="2060640"/>
            <a:ext cx="1908000" cy="1008000"/>
          </a:xfrm>
          <a:prstGeom prst="wedgeRectCallout">
            <a:avLst>
              <a:gd name="adj1" fmla="val -61481"/>
              <a:gd name="adj2" fmla="val 109837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новых моделей компьюте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AutoShape 5"/>
          <p:cNvSpPr/>
          <p:nvPr/>
        </p:nvSpPr>
        <p:spPr>
          <a:xfrm rot="10800000">
            <a:off x="0" y="5300640"/>
            <a:ext cx="4643280" cy="1557360"/>
          </a:xfrm>
          <a:prstGeom prst="wedgeRectCallout">
            <a:avLst>
              <a:gd name="adj1" fmla="val -49421"/>
              <a:gd name="adj2" fmla="val 29587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оведение гимнастики для глаз, во время работы необходимо периодически переводить взгляд ребенка с монитора каждые 1,5-2 мин. на несколько секунд и смена деятельности во время зан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7"/>
          <p:cNvSpPr/>
          <p:nvPr/>
        </p:nvSpPr>
        <p:spPr>
          <a:xfrm rot="10800000">
            <a:off x="-360" y="3429000"/>
            <a:ext cx="3529080" cy="1440000"/>
          </a:xfrm>
          <a:prstGeom prst="wedgeRectCallout">
            <a:avLst>
              <a:gd name="adj1" fmla="val -42356"/>
              <a:gd name="adj2" fmla="val 185828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ие в занятия игр, направленных на профилактику нарушений зрения и отработку зрительно-пространственных отношени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AutoShape 9"/>
          <p:cNvSpPr/>
          <p:nvPr/>
        </p:nvSpPr>
        <p:spPr>
          <a:xfrm rot="10800000">
            <a:off x="4859280" y="5300640"/>
            <a:ext cx="4284720" cy="1557360"/>
          </a:xfrm>
          <a:prstGeom prst="wedgeRectCallout">
            <a:avLst>
              <a:gd name="adj1" fmla="val 46439"/>
              <a:gd name="adj2" fmla="val 298212"/>
            </a:avLst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абота с компьютером на одном занятии в течение короткого времени (5-10 мин.) и не более двух раз в неделю (индивидуально и фронтально, в зависимости от возраста детей, особенностей их нервной системы)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AutoShape 8"/>
          <p:cNvSpPr/>
          <p:nvPr/>
        </p:nvSpPr>
        <p:spPr>
          <a:xfrm rot="10800000">
            <a:off x="6156000" y="2276280"/>
            <a:ext cx="2987640" cy="2016000"/>
          </a:xfrm>
          <a:prstGeom prst="wedgeRectCallout">
            <a:avLst>
              <a:gd name="adj1" fmla="val 54726"/>
              <a:gd name="adj2" fmla="val 91495"/>
            </a:avLst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Для проведения фронтальных занятий мы используем мультимедийный проектор, расстояние от экрана до стульев на которых сидят дети 2 - 2,5 мет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15"/>
          <p:cNvSpPr txBox="1"/>
          <p:nvPr/>
        </p:nvSpPr>
        <p:spPr>
          <a:xfrm>
            <a:off x="1042920" y="1916280"/>
            <a:ext cx="712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Актуальность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aramond"/>
              </a:rPr>
              <a:t>Стратегия развития информационного обществ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551480" y="2668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419720" y="2781360"/>
            <a:ext cx="533160" cy="503280"/>
          </a:xfrm>
          <a:prstGeom prst="downArrowCallout">
            <a:avLst>
              <a:gd name="adj1" fmla="val 26487"/>
              <a:gd name="adj2" fmla="val 26484"/>
              <a:gd name="adj3" fmla="val 16667"/>
              <a:gd name="adj4" fmla="val 6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2916360" y="3460680"/>
            <a:ext cx="36716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ИКТ как приорите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2247840" y="4037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187280" y="3860640"/>
            <a:ext cx="1729080" cy="1081080"/>
          </a:xfrm>
          <a:custGeom>
            <a:avLst/>
            <a:gdLst>
              <a:gd name="textAreaLeft" fmla="*/ 231480 w 1729080"/>
              <a:gd name="textAreaRight" fmla="*/ 1497600 w 172908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78492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6588000" y="3860640"/>
            <a:ext cx="1800360" cy="108108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059280" y="5013360"/>
            <a:ext cx="3384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изменение требова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84360" y="5805360"/>
            <a:ext cx="33112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к управлению ДО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012000" y="5805360"/>
            <a:ext cx="2663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к педагог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ование ИКТ (информационно-коммуникационных технологий) является одним из приоритетов образования. Информатизация системы образования предъявляет новые требования к педагогу и его профессиональной компетент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дагог должен не только уметь пользоваться компьютером и современным мультимедийным оборудованием, но и создавать свои образовательные ресурсы, широко использовать их в своей педагогической деятельност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  Для того, чтобы воспитать физически развитого, любознательного, активного, эмоционально отзывчивого, овладевшего средствами общения и способами взаимодействия со взрослыми и сверстниками ребенка, необходимы подготовленные педагогические кадры, способные сочетать традиционные методы обучения и современные информационные технолог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вышение качества образования через активное внедрение в воспитательно-образовательный процесс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392200" y="396540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124000" y="414972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6" descr="иктрис"/>
          <p:cNvPicPr/>
          <p:nvPr/>
        </p:nvPicPr>
        <p:blipFill>
          <a:blip r:embed="rId1"/>
          <a:stretch/>
        </p:blipFill>
        <p:spPr>
          <a:xfrm>
            <a:off x="1619280" y="3573360"/>
            <a:ext cx="6121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Информатизация общества ставит перед педагогами ДОУ задачи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истематизация, обновление и пополнение информационных ресурсов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азработка и апробация технологий мультимедийного сопровождения воспитательно-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асширение использования информационно-компьютерных технологий в воспитательно-образовательном процесс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ИПОТЕЗ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спользование ИКТ выводит усвоения полученных знаний дошкольниками на более высокий уровен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39640" y="3527280"/>
            <a:ext cx="360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Преимущества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зволяет моделировать жизненные ситуации, которые нельзя увидеть в повседневной жизни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19280" y="1916280"/>
            <a:ext cx="3097080" cy="3024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b9efee"/>
              </a:gs>
              <a:gs pos="100000">
                <a:srgbClr val="006666"/>
              </a:gs>
            </a:gsLst>
            <a:lin ang="5400000"/>
          </a:gradFill>
          <a:ln w="2844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Times New Roman"/>
              </a:rPr>
              <a:t>Использование компьютерных технологий в образовательном процессе дает нам следующие возмож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AutoShape 4"/>
          <p:cNvSpPr/>
          <p:nvPr/>
        </p:nvSpPr>
        <p:spPr>
          <a:xfrm rot="10800000">
            <a:off x="-360" y="0"/>
            <a:ext cx="2916360" cy="1052640"/>
          </a:xfrm>
          <a:prstGeom prst="wedgeEllipseCallout">
            <a:avLst>
              <a:gd name="adj1" fmla="val -71398"/>
              <a:gd name="adj2" fmla="val -127074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Компьютер – это средство выравнивания возможностей детей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0" y="4581360"/>
            <a:ext cx="2843280" cy="1368720"/>
          </a:xfrm>
          <a:prstGeom prst="wedgeEllipseCallout">
            <a:avLst>
              <a:gd name="adj1" fmla="val 69319"/>
              <a:gd name="adj2" fmla="val -3399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высокая скорость обновления дидактического материала на экране значительно экономит время на занятии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5364000" y="5707080"/>
            <a:ext cx="2700360" cy="1150920"/>
          </a:xfrm>
          <a:prstGeom prst="wedgeEllipseCallout">
            <a:avLst>
              <a:gd name="adj1" fmla="val -53055"/>
              <a:gd name="adj2" fmla="val -117449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индивидуализация образовательного процесса по темпу, скорости, содержанию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2268360" y="5373720"/>
            <a:ext cx="3097440" cy="1484280"/>
          </a:xfrm>
          <a:prstGeom prst="wedgeEllipseCallout">
            <a:avLst>
              <a:gd name="adj1" fmla="val 11504"/>
              <a:gd name="adj2" fmla="val -7599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высокая скорость обновления дидактического материала на экране значительно экономит время на занятии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0" y="2997360"/>
            <a:ext cx="2987640" cy="1512720"/>
          </a:xfrm>
          <a:prstGeom prst="wedgeEllipseCallout">
            <a:avLst>
              <a:gd name="adj1" fmla="val 63495"/>
              <a:gd name="adj2" fmla="val -31217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эффективное игровое средство отработки навыков чтения, счета и т. п., развития творческих способностей дошкольников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18"/>
          <p:cNvSpPr/>
          <p:nvPr/>
        </p:nvSpPr>
        <p:spPr>
          <a:xfrm rot="10800000">
            <a:off x="6804000" y="3644640"/>
            <a:ext cx="2340000" cy="1144440"/>
          </a:xfrm>
          <a:prstGeom prst="wedgeEllipseCallout">
            <a:avLst>
              <a:gd name="adj1" fmla="val 63226"/>
              <a:gd name="adj2" fmla="val -1597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Экономия времени педагогов при составлении планов и отчетов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0" y="1197000"/>
            <a:ext cx="3059280" cy="1727280"/>
          </a:xfrm>
          <a:prstGeom prst="wedgeEllipseCallout">
            <a:avLst>
              <a:gd name="adj1" fmla="val 62041"/>
              <a:gd name="adj2" fmla="val 5928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Оперативность управления и возможность компактного хранения больших объемов информации в текстовой и образной форме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6769080" y="4797360"/>
            <a:ext cx="2374920" cy="1008000"/>
          </a:xfrm>
          <a:prstGeom prst="wedgeEllipseCallout">
            <a:avLst>
              <a:gd name="adj1" fmla="val -61162"/>
              <a:gd name="adj2" fmla="val -71259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тесный контакт в цепи педагог–ребенок–родитель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6804000" y="1413000"/>
            <a:ext cx="2340000" cy="2160360"/>
          </a:xfrm>
          <a:prstGeom prst="wedgeEllipseCallout">
            <a:avLst>
              <a:gd name="adj1" fmla="val -61398"/>
              <a:gd name="adj2" fmla="val 22888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повышение качества демонстрационных материалов-иллюстраций, возможности показа видеофрагментов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6264360" y="0"/>
            <a:ext cx="2879640" cy="1413000"/>
          </a:xfrm>
          <a:prstGeom prst="wedgeEllipseCallout">
            <a:avLst>
              <a:gd name="adj1" fmla="val -66208"/>
              <a:gd name="adj2" fmla="val 8247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расширение профессиональных контактов педагогов и повышению качества обучения детей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2916360" y="0"/>
            <a:ext cx="3240000" cy="1268280"/>
          </a:xfrm>
          <a:prstGeom prst="wedgeEllipseCallout">
            <a:avLst>
              <a:gd name="adj1" fmla="val -7032"/>
              <a:gd name="adj2" fmla="val 101064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система сама обеспечивает контроль, коррекцию, дает возможность самопроверки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19640" y="4246560"/>
            <a:ext cx="2232000" cy="22885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ff00"/>
              </a:gs>
              <a:gs pos="100000">
                <a:srgbClr val="00ff99"/>
              </a:gs>
            </a:gsLst>
            <a:lin ang="5400000"/>
          </a:gradFill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вать память и концентрацию, которые так необходимы для успешной учёбы в начальной школ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0920" y="4102200"/>
            <a:ext cx="2376360" cy="228852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50000">
                <a:srgbClr val="ffff00"/>
              </a:gs>
              <a:gs pos="100000">
                <a:srgbClr val="ccff66"/>
              </a:gs>
            </a:gsLst>
            <a:lin ang="5400000"/>
          </a:gradFill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начительно сократить время на формирование и развитие языковых и речевых средств, коммуникативных навык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27640" y="4031280"/>
            <a:ext cx="2590920" cy="25628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50000">
                <a:srgbClr val="ffff00"/>
              </a:gs>
              <a:gs pos="100000">
                <a:srgbClr val="ccff66"/>
              </a:gs>
            </a:gsLst>
            <a:lin ang="5400000"/>
          </a:gradFill>
          <a:ln cap="rnd" w="507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ю высших психических функций – внимания, памяти, словесно-логического мышления, эмоционально-волевой сфер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12"/>
          <p:cNvSpPr/>
          <p:nvPr/>
        </p:nvSpPr>
        <p:spPr>
          <a:xfrm rot="5400000">
            <a:off x="215280" y="2889000"/>
            <a:ext cx="1657440" cy="577800"/>
          </a:xfrm>
          <a:custGeom>
            <a:avLst/>
            <a:gdLst>
              <a:gd name="textAreaLeft" fmla="*/ 134280 w 1657440"/>
              <a:gd name="textAreaRight" fmla="*/ 1523160 w 1657440"/>
              <a:gd name="textAreaTop" fmla="*/ 139680 h 577800"/>
              <a:gd name="textAreaBottom" fmla="*/ 4381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5230"/>
                </a:moveTo>
                <a:lnTo>
                  <a:pt x="18202" y="5230"/>
                </a:lnTo>
                <a:lnTo>
                  <a:pt x="18202" y="0"/>
                </a:lnTo>
                <a:lnTo>
                  <a:pt x="21600" y="10800"/>
                </a:lnTo>
                <a:lnTo>
                  <a:pt x="18202" y="21600"/>
                </a:lnTo>
                <a:lnTo>
                  <a:pt x="18202" y="16370"/>
                </a:lnTo>
                <a:lnTo>
                  <a:pt x="0" y="16370"/>
                </a:lnTo>
                <a:lnTo>
                  <a:pt x="1752" y="10800"/>
                </a:lnTo>
                <a:lnTo>
                  <a:pt x="0" y="523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c3300"/>
              </a:gs>
            </a:gsLst>
            <a:lin ang="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4680" y="-88920"/>
            <a:ext cx="9136080" cy="2960640"/>
          </a:xfrm>
          <a:custGeom>
            <a:avLst/>
            <a:gdLst>
              <a:gd name="textAreaLeft" fmla="*/ 1847160 w 9136080"/>
              <a:gd name="textAreaRight" fmla="*/ 7288920 w 9136080"/>
              <a:gd name="textAreaTop" fmla="*/ 427680 h 2960640"/>
              <a:gd name="textAreaBottom" fmla="*/ 2961000 h 29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392" y="0"/>
                </a:lnTo>
                <a:arcTo wR="675" hR="780" stAng="16200000" swAng="5400000"/>
                <a:lnTo>
                  <a:pt x="7067" y="3120"/>
                </a:lnTo>
                <a:lnTo>
                  <a:pt x="14533" y="3120"/>
                </a:lnTo>
                <a:lnTo>
                  <a:pt x="14533" y="780"/>
                </a:lnTo>
                <a:arcTo wR="675" hR="780" stAng="10800000" swAng="5400000"/>
                <a:lnTo>
                  <a:pt x="21600" y="0"/>
                </a:lnTo>
                <a:lnTo>
                  <a:pt x="18900" y="9240"/>
                </a:lnTo>
                <a:lnTo>
                  <a:pt x="21600" y="18480"/>
                </a:lnTo>
                <a:lnTo>
                  <a:pt x="17233" y="18480"/>
                </a:lnTo>
                <a:lnTo>
                  <a:pt x="17233" y="20820"/>
                </a:lnTo>
                <a:arcTo wR="675" hR="780" stAng="0" swAng="5400000"/>
                <a:lnTo>
                  <a:pt x="5042" y="21600"/>
                </a:lnTo>
                <a:arcTo wR="675" hR="780" stAng="5400000" swAng="5400000"/>
                <a:lnTo>
                  <a:pt x="4367" y="18480"/>
                </a:lnTo>
                <a:lnTo>
                  <a:pt x="0" y="18480"/>
                </a:lnTo>
                <a:lnTo>
                  <a:pt x="2700" y="9240"/>
                </a:lnTo>
                <a:close/>
              </a:path>
              <a:path fill="none" w="21600" h="21600">
                <a:moveTo>
                  <a:pt x="7067" y="780"/>
                </a:moveTo>
                <a:arcTo wR="675" hR="780" stAng="0" swAng="5400000"/>
                <a:lnTo>
                  <a:pt x="5042" y="1560"/>
                </a:lnTo>
                <a:arcTo wR="675" hR="780" stAng="16200000" swAng="-5400000"/>
                <a:arcTo wR="675" hR="780" stAng="10800000" swAng="-5400000"/>
                <a:lnTo>
                  <a:pt x="7067" y="3120"/>
                </a:lnTo>
              </a:path>
              <a:path fill="none" w="21600" h="21600">
                <a:moveTo>
                  <a:pt x="14533" y="780"/>
                </a:moveTo>
                <a:arcTo wR="675" hR="780" stAng="10800000" swAng="-5400000"/>
                <a:lnTo>
                  <a:pt x="16558" y="1560"/>
                </a:lnTo>
                <a:arcTo wR="675" hR="780" stAng="16200000" swAng="5400000"/>
                <a:arcTo wR="675" hR="780" stAng="0" swAng="5400000"/>
                <a:lnTo>
                  <a:pt x="14533" y="3120"/>
                </a:lnTo>
              </a:path>
              <a:path fill="none" w="21600" h="21600">
                <a:moveTo>
                  <a:pt x="4367" y="2340"/>
                </a:moveTo>
                <a:lnTo>
                  <a:pt x="4367" y="18480"/>
                </a:lnTo>
              </a:path>
              <a:path fill="none" w="21600" h="21600">
                <a:moveTo>
                  <a:pt x="17233" y="2340"/>
                </a:moveTo>
                <a:lnTo>
                  <a:pt x="17233" y="18480"/>
                </a:lnTo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5400000"/>
          </a:gradFill>
          <a:ln cap="rnd" w="507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применяем в своей практике готовые мультимедийные презентации в различных образовательных областях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знание», «Коммуникация», Художественное творчество», «Социализация», «Художественная литература», « Безопасность», «Физическая культур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6"/>
          <p:cNvSpPr/>
          <p:nvPr/>
        </p:nvSpPr>
        <p:spPr>
          <a:xfrm rot="5400000">
            <a:off x="3780360" y="3212280"/>
            <a:ext cx="1439640" cy="577800"/>
          </a:xfrm>
          <a:custGeom>
            <a:avLst/>
            <a:gdLst>
              <a:gd name="textAreaLeft" fmla="*/ 116640 w 1439640"/>
              <a:gd name="textAreaRight" fmla="*/ 1323000 w 1439640"/>
              <a:gd name="textAreaTop" fmla="*/ 139680 h 577800"/>
              <a:gd name="textAreaBottom" fmla="*/ 4381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5230"/>
                </a:moveTo>
                <a:lnTo>
                  <a:pt x="18202" y="5230"/>
                </a:lnTo>
                <a:lnTo>
                  <a:pt x="18202" y="0"/>
                </a:lnTo>
                <a:lnTo>
                  <a:pt x="21600" y="10800"/>
                </a:lnTo>
                <a:lnTo>
                  <a:pt x="18202" y="21600"/>
                </a:lnTo>
                <a:lnTo>
                  <a:pt x="18202" y="16370"/>
                </a:lnTo>
                <a:lnTo>
                  <a:pt x="0" y="16370"/>
                </a:lnTo>
                <a:lnTo>
                  <a:pt x="1752" y="10800"/>
                </a:lnTo>
                <a:lnTo>
                  <a:pt x="0" y="523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c3300"/>
              </a:gs>
            </a:gsLst>
            <a:lin ang="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17"/>
          <p:cNvSpPr/>
          <p:nvPr/>
        </p:nvSpPr>
        <p:spPr>
          <a:xfrm rot="5400000">
            <a:off x="7056720" y="2888280"/>
            <a:ext cx="1656000" cy="577800"/>
          </a:xfrm>
          <a:custGeom>
            <a:avLst/>
            <a:gdLst>
              <a:gd name="textAreaLeft" fmla="*/ 134280 w 1656000"/>
              <a:gd name="textAreaRight" fmla="*/ 1521720 w 1656000"/>
              <a:gd name="textAreaTop" fmla="*/ 139680 h 577800"/>
              <a:gd name="textAreaBottom" fmla="*/ 4381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5230"/>
                </a:moveTo>
                <a:lnTo>
                  <a:pt x="18202" y="5230"/>
                </a:lnTo>
                <a:lnTo>
                  <a:pt x="18202" y="0"/>
                </a:lnTo>
                <a:lnTo>
                  <a:pt x="21600" y="10800"/>
                </a:lnTo>
                <a:lnTo>
                  <a:pt x="18202" y="21600"/>
                </a:lnTo>
                <a:lnTo>
                  <a:pt x="18202" y="16370"/>
                </a:lnTo>
                <a:lnTo>
                  <a:pt x="0" y="16370"/>
                </a:lnTo>
                <a:lnTo>
                  <a:pt x="1752" y="10800"/>
                </a:lnTo>
                <a:lnTo>
                  <a:pt x="0" y="523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c3300"/>
              </a:gs>
            </a:gsLst>
            <a:lin ang="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в</cp:lastModifiedBy>
  <dcterms:modified xsi:type="dcterms:W3CDTF">2015-09-10T11:23:00Z</dcterms:modified>
  <cp:revision>90</cp:revision>
  <dc:subject/>
  <dc:title>PowerPoint Presentation</dc:title>
</cp:coreProperties>
</file>