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10158413" cy="7621588"/>
  <p:notesSz cx="7621588" cy="10158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B2FF-B690-40A3-85BB-32E92BB7C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948384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800" y="4362480"/>
            <a:ext cx="948384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CBFD-203A-47A6-B3E9-2B499599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680308-8AA8-4C17-B4F4-16F87ABF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E65BFF-8F23-465F-A0C5-1511C9D1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34800" y="253800"/>
            <a:ext cx="9483840" cy="39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A8E0CC-2A3D-4A9C-A462-6DE98709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34800" y="436248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F493C3-D40F-420B-92C5-D69F5FFF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194440" y="436248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0D6BEB-B9EA-467E-9E27-F05ADE8E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34800" y="4362480"/>
            <a:ext cx="948384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1AA839-B0C2-4C66-A284-6394B219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948384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34800" y="4362480"/>
            <a:ext cx="948384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161680-A2F2-47ED-9E01-7F253D02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34800" y="436248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194440" y="436248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CB0B89-DE7A-4CEE-8385-46E709824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541320" y="169344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747840" y="169344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34800" y="436248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541320" y="436248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747840" y="436248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60E07A-38C4-4FE5-8A1B-1C8AEACBB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2AB03C-5AA8-4B74-B336-26FB2AB49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34800" y="436248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94440" y="436248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9AEB-ABBA-49FA-8694-8363653C7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34800" y="1693440"/>
            <a:ext cx="94838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A68B7E-21C0-4990-98CA-90934B28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948384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3A419D-F286-483A-86C2-9995491B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E29F01-9BA7-43DA-B744-3C9E7087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34D12B-FBE4-4FF7-9708-4515F8E8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34800" y="253800"/>
            <a:ext cx="9483840" cy="39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0BC2D8-1DED-4E73-AB9D-05460710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34800" y="436248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C3B367-CAB5-4791-936E-DACD9D2A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194440" y="436248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B8A2F6-A594-4628-8FBA-07D7EAF2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34800" y="4362480"/>
            <a:ext cx="948384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C657F1-FED3-420F-8378-F66D4341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948384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34800" y="4362480"/>
            <a:ext cx="948384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A3530E-0E89-48C9-8301-C129961B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34800" y="436248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5194440" y="436248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94F647-6EDE-4FBE-B2A4-830A692CE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1320" y="169344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747840" y="169344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34800" y="436248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1320" y="436248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747840" y="436248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1833-B987-4BE0-9F05-A14036784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541320" y="169344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747840" y="169344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34800" y="436248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541320" y="436248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747840" y="436248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DDA7CB-799B-4990-B35F-F22F3BD25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0B02E0-D695-41D5-A5D9-86B637FA4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34800" y="1693440"/>
            <a:ext cx="94838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31F85-517E-48C3-8FFE-EC075EA6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948384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ABAFC-5CF8-42E2-8AC1-CA03375D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5B972-39A5-4FBC-8231-DDCF4C10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D0CE7-7BC9-4AA7-87DD-BE622E29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34800" y="253800"/>
            <a:ext cx="9483840" cy="39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E183F-D892-45E8-B4E7-CBE11769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34800" y="436248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780F7-5952-4FF3-B88A-51011ABA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194440" y="436248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EDD19-E842-4562-B8C2-C57ECC74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34800" y="4362480"/>
            <a:ext cx="948384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D84AB-5073-4CC6-823A-0E078C89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B705-7CE0-457A-9EB0-FD256BA28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948384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34800" y="4362480"/>
            <a:ext cx="948384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79174-474E-43C4-B676-07B7B931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34800" y="436248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5194440" y="436248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430A0-6869-44E0-B0F2-A530AA4C9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541320" y="169344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747840" y="169344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34800" y="436248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541320" y="436248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747840" y="436248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5DF6B-D485-4A58-B975-1F9B56944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4BC998-5D4B-4C03-A766-3EBCEF25D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34800" y="1693440"/>
            <a:ext cx="94838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2788DF-660D-495F-9A1B-0ADCD304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948384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18D177-6319-40D8-A444-4A8FA68F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4E2416-491B-48B1-A471-683ECA57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295801-BC70-4BA7-B3C4-016EED0B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34800" y="253800"/>
            <a:ext cx="9483840" cy="39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CE3F29-0F0F-4C72-95FA-4B82A37E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34800" y="436248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DEA567-0DB5-4FDA-A8A2-A2DFB601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34800" y="1693440"/>
            <a:ext cx="94838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ED15-DA64-4AAD-9A59-BB36EF29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194440" y="436248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FD74CA-5081-4D68-B81B-5CE0EF72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34800" y="4362480"/>
            <a:ext cx="948384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C93A11-9700-4E3B-BE8C-D17F369E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948384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34800" y="4362480"/>
            <a:ext cx="948384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3E6563-7533-41E5-B044-1C93D96F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34800" y="436248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5194440" y="436248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202470-7D0A-4D0C-B49F-4B62C5EC3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541320" y="169344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747840" y="169344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34800" y="436248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541320" y="436248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747840" y="436248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BE5D52-5B0D-430F-8AE3-1F322C614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948384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6B19F-ED0D-43FF-B48B-D808D995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CAF5-3254-4AE2-97A4-2D61BF8B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F513-DA1A-47CB-B744-B21F9640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34800" y="253800"/>
            <a:ext cx="9483840" cy="39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F550-1D2A-4690-B6D7-315308E7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34800" y="436248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CCF6-8F62-4BE6-8428-DC7C135F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34800" y="1693440"/>
            <a:ext cx="94838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D653-A5C3-4FB6-9C22-595D0844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94440" y="436248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8648-E371-4EB3-B820-2E8DADCF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34800" y="4362480"/>
            <a:ext cx="948384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E716-F4DC-4BF5-8A56-6BF44228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948384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4800" y="4362480"/>
            <a:ext cx="948384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277D-7500-45E1-BF0B-DC8DA5E4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34800" y="436248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94440" y="436248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1279-F7C6-45E9-A64B-74CFFA93E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1320" y="169344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47840" y="169344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34800" y="436248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1320" y="436248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747840" y="436248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4FCC-7107-4EE4-9E53-608B2D260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5EDEC-3D31-40D0-A74F-50BF99A0A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34800" y="1693440"/>
            <a:ext cx="94838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B65C4-F0D7-4ADB-B964-6DFB9A49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948384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4B17D-A1CA-4C9D-A5AE-52AD5ED0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96B98-996F-4B02-A113-D51A23A8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DC41C-7A07-441E-94E7-2469946B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948384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A53F-0608-4551-A0DD-735325A1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34800" y="253800"/>
            <a:ext cx="9483840" cy="39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80E14-F37A-4997-8D39-FF580D58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34800" y="436248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ECA5F-A6FE-4FD4-8CA4-62076815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94440" y="436248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91D08-B3DF-4AF6-B18B-9FC4DD54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34800" y="4362480"/>
            <a:ext cx="948384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F6F12-FC89-4F88-8C63-76E49B08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948384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4800" y="4362480"/>
            <a:ext cx="948384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DB526-B0F8-48F1-8D8E-8EF90622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34800" y="436248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94440" y="436248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E760A-E5DD-485D-AEF4-EAF96625B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41320" y="169344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747840" y="169344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34800" y="436248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41320" y="436248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747840" y="436248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5405F-DD49-43A7-9C00-CB18B0767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0D3EB-0CA9-4DAC-A35D-BBDC1ED69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34800" y="1693440"/>
            <a:ext cx="94838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09BC6-22FC-4A98-8D38-233F0F00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948384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73EE3-D8FD-4EDB-9160-E3CD5328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F9E7-7494-43D3-8E92-9FDCA23F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EB72B-45E6-4EE9-8989-D75D7F7C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148B1-07E9-4B82-93FE-5A1F4637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34800" y="253800"/>
            <a:ext cx="9483840" cy="39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810BD-64CB-4326-AE36-C0AD5C37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34800" y="436248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B5755-FF39-40E6-AF44-07FB8D1F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194440" y="436248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610CD-D045-4EF5-B356-B859223D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34800" y="4362480"/>
            <a:ext cx="948384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29588-39BA-438F-BF58-5A97FE52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948384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4800" y="4362480"/>
            <a:ext cx="948384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B38A4-1224-45A4-8DAA-CDB445A0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34800" y="436248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194440" y="436248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3A8C9-C866-4B32-B77C-887CA764A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541320" y="169344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747840" y="169344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34800" y="436248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541320" y="436248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747840" y="436248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5D4CF-5F12-4DB4-9B3B-11E9EE4CA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E57B7-F103-4DC0-8D03-0B3AEC895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DB31-21FB-49AB-9EAC-86966902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34800" y="1693440"/>
            <a:ext cx="94838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6A681-87FF-43F8-B345-12D535F2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948384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FFC9B-7867-47A7-9890-7C5F2FFC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49E51-B997-4BE8-8922-AEB449C3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DE0BA-DF31-4930-9422-8719A27E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34800" y="253800"/>
            <a:ext cx="9483840" cy="39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83394-97EC-4296-9AC8-A431F1C3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34800" y="436248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1C878-D227-41CB-80F4-984D446F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194440" y="436248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FC6C1-8358-4A43-BEE4-91981836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34800" y="4362480"/>
            <a:ext cx="948384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8B3F7-7A0C-4485-902F-FA6653E6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948384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34800" y="4362480"/>
            <a:ext cx="948384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1B60C-3DC7-436B-8399-108D4D6C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34800" y="436248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194440" y="436248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6ECDE-392B-44A6-9024-CE399CB7D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34800" y="253800"/>
            <a:ext cx="9483840" cy="39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1FA3-6A85-4967-BFFF-B93562F0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541320" y="169344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747840" y="169344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34800" y="436248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541320" y="436248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747840" y="436248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AA060-522E-4D92-819B-69A20B4EB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47F45-ADFC-44DF-B310-1CA63E6BA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34800" y="1693440"/>
            <a:ext cx="94838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2764D-621A-46D0-96D6-FAFE63DE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948384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7C836-7120-4EDE-996B-5C042788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56496-904F-4812-BDBF-4FF30F12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F99C7-D3CE-4FCD-ABEE-88284C46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34800" y="253800"/>
            <a:ext cx="9483840" cy="39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FBAC0-3765-42DC-BF5F-34B51F43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34800" y="436248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067BD-EACB-422E-B559-B1116AFE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194440" y="436248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7E507-3E9D-47CA-BF20-61A15915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34800" y="4362480"/>
            <a:ext cx="948384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948A8-2B36-457D-A3AE-DC1EEC1A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34800" y="436248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65F7-4718-4C4F-BABD-11B73077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948384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34800" y="4362480"/>
            <a:ext cx="948384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51327-622D-4497-A151-BC2F2311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34800" y="436248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194440" y="436248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BBB17-ED5F-4165-8580-A5DAA09DA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541320" y="169344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747840" y="169344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34800" y="436248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541320" y="436248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747840" y="436248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73CA4-D553-4523-9693-2179114B6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DE09A-B371-4CD7-8CAB-1030E904B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34800" y="1693440"/>
            <a:ext cx="94838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C9448-135B-4EED-8E2D-CDFA9D42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948384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327DE-BC2C-494B-B47B-5E659B40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9C4AF-6CA7-4679-8EF0-5DFD92E6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4099B-86BB-44FE-B0BD-7D98655E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34800" y="253800"/>
            <a:ext cx="9483840" cy="39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5A2C8-2208-45C7-97D9-C9F11FC2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34800" y="436248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A40C2-04B2-41BA-93E7-A616400F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94440" y="436248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F2FA-2AF2-412F-8124-6F4B1085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194440" y="436248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95B6F-8330-4348-888E-6AF35BD4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34800" y="4362480"/>
            <a:ext cx="948384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F441F-316F-42B4-91E0-43F73B65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948384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4800" y="4362480"/>
            <a:ext cx="948384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AA3EE-8ADA-4253-90D7-79F9A0E4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34800" y="436248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194440" y="436248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9FBEB-D040-4830-A66E-330B354AD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541320" y="169344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747840" y="169344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34800" y="436248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541320" y="436248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747840" y="436248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B7E27-0E9A-4049-A8E6-BDDE5B48C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96C45-B9C1-42C2-A138-E9FD923E9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34800" y="1693440"/>
            <a:ext cx="94838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FBED8-16CC-46CD-A8AB-93721A1D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948384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2C291-738B-44C1-A304-C7055E18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BA389-615D-4B7E-B1B5-D3BC0271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83709-4ACC-4FBB-93EE-EAEEAB3A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34800" y="4362480"/>
            <a:ext cx="948384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37DC-C982-4846-817E-3C5319D2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34800" y="253800"/>
            <a:ext cx="9483840" cy="39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6A1E2-1789-4F98-BD82-E85CD3E4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34800" y="436248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E2F6E-7798-4A12-98CE-ED0E037E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194440" y="436248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B19E3-C818-4DB2-97BC-139CF4F2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34800" y="4362480"/>
            <a:ext cx="948384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18210-933B-44AF-BB85-038E5E7A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948384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4800" y="4362480"/>
            <a:ext cx="948384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5D20D-2F7D-45C5-BE23-81CBA413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194440" y="169344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34800" y="436248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5194440" y="4362480"/>
            <a:ext cx="462780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90D88-864D-4CD5-80F4-413BE50FC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541320" y="169344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747840" y="169344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34800" y="436248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541320" y="436248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747840" y="4362480"/>
            <a:ext cx="3053520" cy="2437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E4BE0-9937-4D8B-AAE3-776010FCF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AD331D-AF32-4453-99FE-BBC4598E3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34800" y="1693440"/>
            <a:ext cx="94838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7D0FD3-3BC5-4434-9102-D0591F40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34800" y="1693440"/>
            <a:ext cx="948384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808715-56A8-4F25-96D6-22A727C4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7450200"/>
            <a:ext cx="10159920" cy="16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10159920" cy="15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6992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9990000" y="0"/>
            <a:ext cx="16992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66680" y="7097760"/>
            <a:ext cx="9813960" cy="3445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6433920" y="7116480"/>
            <a:ext cx="33843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37680" y="7122600"/>
            <a:ext cx="39798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69920" y="173160"/>
            <a:ext cx="9813960" cy="727380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69920" y="1419120"/>
            <a:ext cx="9813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-50760" bIns="-507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741920" y="1062000"/>
            <a:ext cx="676080" cy="677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846680" y="1166760"/>
            <a:ext cx="466560" cy="4683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825800" y="1155240"/>
            <a:ext cx="507960" cy="490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1428-B954-4B6C-87F8-D4375C122D7B}" type="slidenum">
              <a:rPr b="0" lang="ru-RU" sz="18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34800" y="1693440"/>
            <a:ext cx="948384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8040" indent="-30312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12960" indent="-2527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17520" indent="-25236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22440" indent="-25236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22440" indent="-25236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22440" indent="-25236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69920" y="592200"/>
            <a:ext cx="9813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-50760" bIns="-507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7450200"/>
            <a:ext cx="10159920" cy="16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9990000" y="0"/>
            <a:ext cx="16992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10159920" cy="16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6992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69920" y="169920"/>
            <a:ext cx="9813960" cy="3348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69920" y="677880"/>
            <a:ext cx="3048120" cy="651816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69920" y="173160"/>
            <a:ext cx="9813960" cy="727380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440000" y="254160"/>
            <a:ext cx="676080" cy="677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544760" y="358920"/>
            <a:ext cx="466560" cy="46800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66680" y="7097760"/>
            <a:ext cx="9813960" cy="3445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34800" y="1693440"/>
            <a:ext cx="948384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8040" indent="-30312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12960" indent="-2527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17520" indent="-25236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22440" indent="-25236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22440" indent="-25236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22440" indent="-25236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523520" y="347760"/>
            <a:ext cx="507960" cy="490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9D50-9BB7-4775-A895-09036DA1744C}" type="slidenum">
              <a:rPr b="0" lang="ru-RU" sz="18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6430680" y="7116480"/>
            <a:ext cx="338292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34800" y="7122600"/>
            <a:ext cx="39830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7450200"/>
            <a:ext cx="10159920" cy="16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10159920" cy="15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6992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9990000" y="0"/>
            <a:ext cx="16992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66680" y="7097760"/>
            <a:ext cx="9813960" cy="3445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69920" y="173160"/>
            <a:ext cx="9813960" cy="727380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69920" y="1419120"/>
            <a:ext cx="9813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-50760" bIns="-507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741920" y="1062000"/>
            <a:ext cx="676080" cy="677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846680" y="1166760"/>
            <a:ext cx="466560" cy="4683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34800" y="1693440"/>
            <a:ext cx="948384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8040" indent="-30312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12960" indent="-2527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17520" indent="-25236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22440" indent="-25236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22440" indent="-25236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22440" indent="-25236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6433920" y="7116480"/>
            <a:ext cx="33843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37680" y="7122600"/>
            <a:ext cx="39798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825800" y="1155240"/>
            <a:ext cx="507960" cy="490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41CE-E557-44F1-86FA-AC69A725F129}" type="slidenum">
              <a:rPr b="0" lang="ru-RU" sz="18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7450200"/>
            <a:ext cx="10159920" cy="16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790040" y="0"/>
            <a:ext cx="236988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10159920" cy="17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6992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62000" y="7102440"/>
            <a:ext cx="9815400" cy="3430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69920" y="173160"/>
            <a:ext cx="9813960" cy="727380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939080" y="173160"/>
            <a:ext cx="0" cy="693900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7599240" y="3251160"/>
            <a:ext cx="677880" cy="676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7704000" y="3355920"/>
            <a:ext cx="468360" cy="46692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34800" y="1693440"/>
            <a:ext cx="948384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8040" indent="-30312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12960" indent="-2527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17520" indent="-25236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22440" indent="-25236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22440" indent="-25236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22440" indent="-25236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7684920" y="3344400"/>
            <a:ext cx="508320" cy="490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4E66-37E2-46DC-BC1D-BEFAFC05B4D1}" type="slidenum">
              <a:rPr b="0" lang="ru-RU" sz="18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6433920" y="7116480"/>
            <a:ext cx="33843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37680" y="7122600"/>
            <a:ext cx="39798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7450200"/>
            <a:ext cx="10159920" cy="16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9990000" y="3240"/>
            <a:ext cx="169920" cy="761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6992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10159920" cy="279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62000" y="7102440"/>
            <a:ext cx="9815400" cy="3430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73160" y="2689200"/>
            <a:ext cx="9813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-50760" bIns="-507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69920" y="169920"/>
            <a:ext cx="9813960" cy="727380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741920" y="2351160"/>
            <a:ext cx="676080" cy="676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846680" y="2455920"/>
            <a:ext cx="466560" cy="4665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34800" y="1693440"/>
            <a:ext cx="948384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8040" indent="-30312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12960" indent="-2527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17520" indent="-25236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22440" indent="-25236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22440" indent="-25236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22440" indent="-25236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33920" y="7116480"/>
            <a:ext cx="33843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37680" y="7122600"/>
            <a:ext cx="39798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825800" y="2443320"/>
            <a:ext cx="507960" cy="490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527C-8B3E-4D51-8449-939F39D9F17D}" type="slidenum">
              <a:rPr b="0" lang="ru-RU" sz="18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7450200"/>
            <a:ext cx="10159920" cy="16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10159920" cy="15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6992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9990000" y="0"/>
            <a:ext cx="16992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66680" y="7097760"/>
            <a:ext cx="9813960" cy="3445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69920" y="173160"/>
            <a:ext cx="9813960" cy="727380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69920" y="1419120"/>
            <a:ext cx="9813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-50760" bIns="-507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741920" y="1062000"/>
            <a:ext cx="676080" cy="677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846680" y="1166760"/>
            <a:ext cx="466560" cy="4683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34800" y="1693440"/>
            <a:ext cx="948384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8040" indent="-30312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12960" indent="-2527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17520" indent="-25236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22440" indent="-25236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22440" indent="-25236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22440" indent="-25236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6433920" y="7116480"/>
            <a:ext cx="33843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37680" y="7122600"/>
            <a:ext cx="39798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846320" y="1139400"/>
            <a:ext cx="507960" cy="490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059B-7357-46C7-A766-1D4870E44B69}" type="slidenum">
              <a:rPr b="0" lang="ru-RU" sz="18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6992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7450200"/>
            <a:ext cx="10159920" cy="16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10159920" cy="16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9990000" y="20520"/>
            <a:ext cx="16992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69920" y="2540160"/>
            <a:ext cx="9813960" cy="33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73160" y="158760"/>
            <a:ext cx="9813960" cy="237636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62000" y="7102440"/>
            <a:ext cx="9815400" cy="3430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69920" y="169920"/>
            <a:ext cx="9813960" cy="727380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69920" y="2709720"/>
            <a:ext cx="9813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-50760" bIns="-507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741920" y="2351160"/>
            <a:ext cx="676080" cy="676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846680" y="2455920"/>
            <a:ext cx="466560" cy="4665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34800" y="1693440"/>
            <a:ext cx="948384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8040" indent="-30312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12960" indent="-2527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17520" indent="-25236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22440" indent="-25236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22440" indent="-25236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22440" indent="-25236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37680" y="7122600"/>
            <a:ext cx="39798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6433920" y="7116480"/>
            <a:ext cx="33843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825800" y="2443320"/>
            <a:ext cx="507960" cy="490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D425-E2BD-4877-9023-D9CF9CC16F02}" type="slidenum">
              <a:rPr b="0" lang="ru-RU" sz="18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7450200"/>
            <a:ext cx="10159920" cy="16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10159920" cy="15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6992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9990000" y="0"/>
            <a:ext cx="16992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66680" y="7097760"/>
            <a:ext cx="9813960" cy="3445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69920" y="173160"/>
            <a:ext cx="9813960" cy="727380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69920" y="1419120"/>
            <a:ext cx="9813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-50760" bIns="-507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741920" y="1062000"/>
            <a:ext cx="676080" cy="677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846680" y="1166760"/>
            <a:ext cx="466560" cy="4683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5070600" y="1751040"/>
            <a:ext cx="9360" cy="535464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34800" y="1693440"/>
            <a:ext cx="948384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8040" indent="-30312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12960" indent="-2527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17520" indent="-25236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22440" indent="-25236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22440" indent="-25236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22440" indent="-25236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6433920" y="7121160"/>
            <a:ext cx="33843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37680" y="7122600"/>
            <a:ext cx="39798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825800" y="1155240"/>
            <a:ext cx="507960" cy="490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8796-8479-4BA5-A0C5-683183BB0EA1}" type="slidenum">
              <a:rPr b="0" lang="ru-RU" sz="18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5079960" y="2444400"/>
            <a:ext cx="0" cy="465300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10159920" cy="160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7450200"/>
            <a:ext cx="10159920" cy="16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6992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9990000" y="0"/>
            <a:ext cx="16992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69920" y="1523880"/>
            <a:ext cx="9813960" cy="101628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62000" y="7102440"/>
            <a:ext cx="9815400" cy="3445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69920" y="1422360"/>
            <a:ext cx="9813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-50760" bIns="-507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69920" y="173160"/>
            <a:ext cx="9813960" cy="727380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741920" y="1062000"/>
            <a:ext cx="676080" cy="677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846680" y="1166760"/>
            <a:ext cx="466560" cy="4683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34800" y="1693440"/>
            <a:ext cx="948384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8040" indent="-30312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12960" indent="-2527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17520" indent="-25236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22440" indent="-25236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22440" indent="-25236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22440" indent="-25236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6433920" y="7116480"/>
            <a:ext cx="33843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37680" y="7121160"/>
            <a:ext cx="39798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825800" y="1158840"/>
            <a:ext cx="507960" cy="4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E214-65F4-4A16-9B4E-DA36BF9245F0}" type="slidenum">
              <a:rPr b="0" lang="ru-RU" sz="18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7450200"/>
            <a:ext cx="10159920" cy="16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10159920" cy="15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6992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9990000" y="0"/>
            <a:ext cx="16992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66680" y="7097760"/>
            <a:ext cx="9813960" cy="3445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69920" y="173160"/>
            <a:ext cx="9813960" cy="727380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69920" y="1419120"/>
            <a:ext cx="9813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-50760" bIns="-507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741920" y="1062000"/>
            <a:ext cx="676080" cy="677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846680" y="1166760"/>
            <a:ext cx="466560" cy="4683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34800" y="1693440"/>
            <a:ext cx="948384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8040" indent="-30312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12960" indent="-2527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17520" indent="-25236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22440" indent="-25236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22440" indent="-25236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22440" indent="-25236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6433920" y="7116480"/>
            <a:ext cx="33843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37680" y="7122600"/>
            <a:ext cx="39798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825800" y="1150560"/>
            <a:ext cx="507960" cy="490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9902-D29B-4608-B4DC-CA9B6F17CD18}" type="slidenum">
              <a:rPr b="0" lang="ru-RU" sz="18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7450200"/>
            <a:ext cx="10159920" cy="16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10159920" cy="17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9990000" y="0"/>
            <a:ext cx="16992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6992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62000" y="7102440"/>
            <a:ext cx="9815400" cy="3430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69920" y="176040"/>
            <a:ext cx="9813960" cy="72741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34800" y="1693440"/>
            <a:ext cx="948384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8040" indent="-30312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12960" indent="-2527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17520" indent="-25236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22440" indent="-25236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22440" indent="-25236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22440" indent="-25236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6433920" y="7116480"/>
            <a:ext cx="33843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37680" y="7122600"/>
            <a:ext cx="397980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741920" y="7027920"/>
            <a:ext cx="676080" cy="490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3189-F56E-4D63-BCE7-7D40372BEADD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69920" y="169920"/>
            <a:ext cx="9813960" cy="338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7450200"/>
            <a:ext cx="10159920" cy="16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9990000" y="0"/>
            <a:ext cx="16992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10159920" cy="13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6992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69920" y="677880"/>
            <a:ext cx="3048120" cy="651816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69920" y="169920"/>
            <a:ext cx="9813960" cy="727380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69920" y="592200"/>
            <a:ext cx="9813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-50760" bIns="-507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440000" y="254160"/>
            <a:ext cx="676080" cy="677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544760" y="358920"/>
            <a:ext cx="466560" cy="46800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66680" y="7097760"/>
            <a:ext cx="9813960" cy="3445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34800" y="253800"/>
            <a:ext cx="9483840" cy="842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34800" y="1693440"/>
            <a:ext cx="9483840" cy="511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8040" indent="-30312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12960" indent="-2527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17520" indent="-25236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22440" indent="-25236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22440" indent="-25236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22440" indent="-25236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523520" y="347760"/>
            <a:ext cx="507960" cy="490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64DD-96A0-486C-BF8A-7187926B7B88}" type="slidenum">
              <a:rPr b="0" lang="ru-RU" sz="18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6433920" y="7116480"/>
            <a:ext cx="338436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34440" y="7122600"/>
            <a:ext cx="375948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Shape 19"/>
          <p:cNvSpPr/>
          <p:nvPr/>
        </p:nvSpPr>
        <p:spPr>
          <a:xfrm>
            <a:off x="793800" y="595440"/>
            <a:ext cx="8832960" cy="61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МАОУ гимназия № 37 г.Екатеринбур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ИНТЕГРИРОВАННЫЙ У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ПО ТЕ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БРАЗ  ЕМЕЛЬЯНА ПУГАЧЁ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 ИСТОРИИ И ЛИТЕРА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(8-с  клас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учителя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ервой квалификационной категор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Елькина Максима Геннадьеви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учителя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ысшей квалификационной 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Швед Светланы Александро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Shape 89"/>
          <p:cNvSpPr/>
          <p:nvPr/>
        </p:nvSpPr>
        <p:spPr>
          <a:xfrm>
            <a:off x="317520" y="222120"/>
            <a:ext cx="9536040" cy="7175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hape 90"/>
          <p:cNvSpPr/>
          <p:nvPr/>
        </p:nvSpPr>
        <p:spPr>
          <a:xfrm>
            <a:off x="736560" y="289080"/>
            <a:ext cx="344484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hape 91"/>
          <p:cNvSpPr/>
          <p:nvPr/>
        </p:nvSpPr>
        <p:spPr>
          <a:xfrm>
            <a:off x="4308480" y="289080"/>
            <a:ext cx="550872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арактеристика Пугачев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hape 92"/>
          <p:cNvSpPr/>
          <p:nvPr/>
        </p:nvSpPr>
        <p:spPr>
          <a:xfrm>
            <a:off x="736560" y="1190520"/>
            <a:ext cx="3444840" cy="62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 глава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ятежная слобода»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hape 93"/>
          <p:cNvSpPr/>
          <p:nvPr/>
        </p:nvSpPr>
        <p:spPr>
          <a:xfrm>
            <a:off x="4308480" y="1190520"/>
            <a:ext cx="5508720" cy="62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угачев сидел под образами в красном кафтане, в высокой шапке и важно подбоченясь»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а сверкал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…он был одет по-дорожному, в шубе и киргизской шапке»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ицо самозванца изобразило довольное самолюбие»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Хвастливость разбойника показалась мне забавна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Shape 98"/>
          <p:cNvSpPr/>
          <p:nvPr/>
        </p:nvSpPr>
        <p:spPr>
          <a:xfrm>
            <a:off x="539640" y="0"/>
            <a:ext cx="8837640" cy="7386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hape 99"/>
          <p:cNvSpPr/>
          <p:nvPr/>
        </p:nvSpPr>
        <p:spPr>
          <a:xfrm>
            <a:off x="657360" y="50760"/>
            <a:ext cx="293976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hape 100"/>
          <p:cNvSpPr/>
          <p:nvPr/>
        </p:nvSpPr>
        <p:spPr>
          <a:xfrm>
            <a:off x="3726000" y="50760"/>
            <a:ext cx="561492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арактеристика Пугачев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hape 101"/>
          <p:cNvSpPr/>
          <p:nvPr/>
        </p:nvSpPr>
        <p:spPr>
          <a:xfrm>
            <a:off x="657360" y="1168560"/>
            <a:ext cx="2939760" cy="62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I глава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ирота»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hape 102"/>
          <p:cNvSpPr/>
          <p:nvPr/>
        </p:nvSpPr>
        <p:spPr>
          <a:xfrm>
            <a:off x="3726000" y="1168560"/>
            <a:ext cx="5614920" cy="62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глянул грозно, смягчился, устремил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гненные свои глаз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лицо омрачилось, сказал смея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ы расстались дружески. Пугачев, увидя в толпе Акулину Памфиловну, погрозил пальцем и мигнул значительно; потом сел в кибитку, велел ехать в Берду, и когда лошади тронулись, то он еще раз высунулся из кибитки и закричал мне: «Прощайте, ваше благородие! Авось увидим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– нибуд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42640" y="288720"/>
            <a:ext cx="9016920" cy="143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читайте и сравните описание внешности Емельяна Пугачева из «Истории Пугачева» и главы 2 из «Капитанской дочки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»</a:t>
            </a:r>
            <a:endParaRPr b="0" lang="en-US" sz="2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Shape 108"/>
          <p:cNvSpPr/>
          <p:nvPr/>
        </p:nvSpPr>
        <p:spPr>
          <a:xfrm>
            <a:off x="609480" y="1797120"/>
            <a:ext cx="4359240" cy="57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ельян Пугачев …сорока лет от род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угл и худоща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осы носил темно- русы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оду черную небольшую и клин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хний зуб был вышиблен еще в ребячеств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улачном бо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левом виску имел он белое родимое пятн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 груди знаки, оставшиеся после болез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мой черной немочью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hape 109"/>
          <p:cNvSpPr/>
          <p:nvPr/>
        </p:nvSpPr>
        <p:spPr>
          <a:xfrm>
            <a:off x="5267160" y="1558800"/>
            <a:ext cx="4359600" cy="53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5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ьте на вопросы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совпадает в том и другом описани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ли несовпадающие детали? Если есть, то чем вы можете объяснить несовпадени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из описаний выражено отношение к персонажу? Какое это отношение? Какие слова помогают выразить это отношени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74800" y="237960"/>
            <a:ext cx="9285120" cy="6205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 описании внешности Емельяна Пугачева многое совпадает, но в повести выражено еще и впечатление от внешности: «Внешность его была </a:t>
            </a:r>
            <a:r>
              <a:rPr b="1" i="1" lang="en-US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мечательна»</a:t>
            </a:r>
            <a:r>
              <a:rPr b="1" i="1" lang="en-US" sz="3100" spc="-1" strike="noStrike">
                <a:solidFill>
                  <a:srgbClr val="a6a1a1"/>
                </a:solidFill>
                <a:latin typeface="Times New Roman"/>
                <a:ea typeface="Times New Roman"/>
              </a:rPr>
              <a:t>, </a:t>
            </a:r>
            <a:r>
              <a:rPr b="1" i="1" lang="en-US" sz="31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о глаза сказано, что они были </a:t>
            </a:r>
            <a:r>
              <a:rPr b="1" i="1" lang="en-US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 живые » </a:t>
            </a:r>
            <a:r>
              <a:rPr b="1" i="1" lang="en-US" sz="3100" spc="-1" strike="noStrike">
                <a:solidFill>
                  <a:srgbClr val="7b9899"/>
                </a:solidFill>
                <a:latin typeface="Times New Roman"/>
                <a:ea typeface="Times New Roman"/>
              </a:rPr>
              <a:t>, </a:t>
            </a:r>
            <a:r>
              <a:rPr b="1" i="1" lang="en-US" sz="31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 лицо имело выражение </a:t>
            </a:r>
            <a:r>
              <a:rPr b="1" i="1" lang="en-US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 довольно приятное, но плутовское »</a:t>
            </a:r>
            <a:br>
              <a:rPr sz="3100"/>
            </a:br>
            <a:r>
              <a:rPr b="1" i="1" lang="ru-RU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700" spc="-1" strike="noStrike">
                <a:solidFill>
                  <a:srgbClr val="7b9899"/>
                </a:solidFill>
                <a:latin typeface="Times New Roman"/>
                <a:ea typeface="Times New Roman"/>
              </a:rPr>
              <a:t>Т</a:t>
            </a:r>
            <a:r>
              <a:rPr b="1" i="1" lang="ru-RU" sz="27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ким образом</a:t>
            </a:r>
            <a:r>
              <a:rPr b="1" i="1" lang="en-US" sz="27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, в описании внешности Пугачева в «Капитанской дочке» просматривается авторская симпатия, а в « Истории Пугачева » портрет героя лишен эмоциональной окраски</a:t>
            </a:r>
            <a:r>
              <a:rPr b="1" i="1" lang="en-US" sz="2700" spc="-1" strike="noStrike">
                <a:solidFill>
                  <a:srgbClr val="7b9899"/>
                </a:solidFill>
                <a:latin typeface="Times New Roman"/>
                <a:ea typeface="Times New Roman"/>
              </a:rPr>
              <a:t>.</a:t>
            </a:r>
            <a:endParaRPr b="0" lang="en-US" sz="27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42640" y="355680"/>
            <a:ext cx="9016920" cy="692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Прочитайте отрывок из «Капитанской дочки » А.С.Пушкина</a:t>
            </a:r>
            <a:br>
              <a:rPr sz="3100"/>
            </a:br>
            <a:r>
              <a:rPr b="1" lang="ru-RU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</a:t>
            </a:r>
            <a:r>
              <a:rPr b="1" i="1" lang="en-US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с потащили по улицам, жители выходили из домов с хлебом и солью. Раздавался колокольный звон. Вдруг закричали в толпе, что государь на площади ожидает пленных и принимает присягу. Народ повалил на площадь; нас погнали туда </a:t>
            </a:r>
            <a:br>
              <a:rPr sz="3100"/>
            </a:br>
            <a:r>
              <a:rPr b="1" i="1" lang="en-US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е »</a:t>
            </a:r>
            <a:br>
              <a:rPr sz="3100"/>
            </a:br>
            <a:r>
              <a:rPr b="1" lang="en-US" sz="27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Ответьте на вопросы:</a:t>
            </a:r>
            <a:br>
              <a:rPr sz="2700"/>
            </a:br>
            <a:r>
              <a:rPr b="0" lang="en-US" sz="27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1.Обратите внимание на глаголы. О чем нам говорят названия действий, которые совершаются народом?</a:t>
            </a:r>
            <a:br>
              <a:rPr sz="2700"/>
            </a:br>
            <a:r>
              <a:rPr b="0" lang="en-US" sz="27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2. Сделайте вывод об отношении народа к Пугачеву.</a:t>
            </a:r>
            <a:endParaRPr b="0" lang="en-US" sz="27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Shape 124"/>
          <p:cNvSpPr/>
          <p:nvPr/>
        </p:nvSpPr>
        <p:spPr>
          <a:xfrm>
            <a:off x="436680" y="738360"/>
            <a:ext cx="9221760" cy="60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 рад появлению Пугачева. Отношение к нему простых людей А.С. Пушкин показывает при помощи глагола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валил » </a:t>
            </a:r>
            <a:r>
              <a:rPr b="1" i="1" lang="en-US" sz="36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е. пошел по своей во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гачева встречали колокольным звоном, хлебом и солью, как издавна встречали на Руси царей и почетных гос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34960" y="368280"/>
            <a:ext cx="9624960" cy="876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96464"/>
                </a:solidFill>
                <a:latin typeface="Arial"/>
                <a:ea typeface="Arial"/>
              </a:rPr>
              <a:t>Прочитайте данный отрывок из «Истории Пугачева» А.С.Пушкина.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Shape 130"/>
          <p:cNvSpPr/>
          <p:nvPr/>
        </p:nvSpPr>
        <p:spPr>
          <a:xfrm>
            <a:off x="609480" y="1479600"/>
            <a:ext cx="901728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Хозяин вынул из ставца штоф и стакан, подошел к нему и, взглянув ему в лицо: «Эхэ, - сказал он, - опять ты в нашем краю! Отколе Бог принес?» Вожатый мой мигнул многозначительно и ответил поговоркою: «В огороде летал, конопли клевал; швырнула бабушка камушком – да мимо. Ну, а что ваши?»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 что наши! – отвечал хозяин, продолжая иносказательный разговор. – Стали было к вечерне звонить, да попадья не велит: поп в гостях, черти на погосте.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олчи, дядя, - возразил мой бродяга, - будет дождик, будут и грибки; а будут грибки, будет и кузов. А теперь (тут он мигнул опять) заткни топор за спину: лесничий ходи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ьте на вопрос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Чем интересен разговор героев?</a:t>
            </a:r>
            <a:br>
              <a:rPr sz="2700"/>
            </a:b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ля чего они используют иносказательную речь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Shape 135"/>
          <p:cNvSpPr/>
          <p:nvPr/>
        </p:nvSpPr>
        <p:spPr>
          <a:xfrm>
            <a:off x="609480" y="844560"/>
            <a:ext cx="9017280" cy="59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чь Пугачева непонятна Гриневу, т.к. тайный «воровской» язык, пословицы и загадки, которыми пользуется вожатый и хозяин «умета», - это специальная речь, доступная лишь членам шайки</a:t>
            </a:r>
            <a:r>
              <a:rPr b="1" i="1" lang="en-US" sz="31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этом диалоге говориться об усмирении восстания яицких казаков в 1772 г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Shape 146"/>
          <p:cNvSpPr/>
          <p:nvPr/>
        </p:nvSpPr>
        <p:spPr>
          <a:xfrm>
            <a:off x="293760" y="523800"/>
            <a:ext cx="933300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Капитанской дочке», </a:t>
            </a: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ываясь на реальные факты, писатель избегает описания кровавых сцен, т.к. для него важна не документальная точность, а роль Пугачева в судьбе Петра Грине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« Истории Пугачева» А .С. Пушкин показывает предводителя восстания как злодея, не щадящего своих враг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142640" y="527040"/>
            <a:ext cx="9016920" cy="876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читайте данный эпизод из «Капитанской дочки» А.С.Пушкина.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4" name="Shape 152"/>
          <p:cNvSpPr/>
          <p:nvPr/>
        </p:nvSpPr>
        <p:spPr>
          <a:xfrm>
            <a:off x="507960" y="1809720"/>
            <a:ext cx="861840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днажды орел спрашивал у ворона: скажи, ворон-птица, отчего живешь ты на белом свете триста лет, а я всего – навсе только тридцать три года? – Оттого, батюшка, отвечал ему ворон, что ты пьешь живую кровь, а я питаюсь мертвечиной. Орел подумал: давай попробуем и мы питаться тем же. Хорошо. Полетели орел да ворон. Вот завидели палую лошадь; спустились и сели. Ворон стал клевать да похваливать. Орел клюнул раз, клюнул другой, махнул крылом и сказал ворону: нет, брат ворон; чем триста лет питаться падалью, лучше раз напиться живой кровью, а там что Бог даст!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ьте на вопрос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ому принадлежат эти слова?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бъясните смысл данной сказки. С какой целью А.С.Пушкин включает этот эпизод в произведение? 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ак данная сказка отражает понимание Пугачевым своего места в крестьянской войн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142640" y="447840"/>
            <a:ext cx="9016920" cy="861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чины крестьянской войны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8" name="Shape 25"/>
          <p:cNvSpPr/>
          <p:nvPr/>
        </p:nvSpPr>
        <p:spPr>
          <a:xfrm>
            <a:off x="1117440" y="1660680"/>
            <a:ext cx="850932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379440" indent="-233280">
              <a:lnSpc>
                <a:spcPct val="120000"/>
              </a:lnSpc>
              <a:buClr>
                <a:srgbClr val="000000"/>
              </a:buClr>
              <a:buSzPct val="16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2060"/>
                </a:solidFill>
                <a:latin typeface="Arial"/>
              </a:rPr>
              <a:t>Усиление власти и произвола помещиков в отношении крестьян</a:t>
            </a:r>
            <a:r>
              <a:rPr b="1" i="1" lang="ru-RU" sz="29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79440" indent="-233280"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SzPct val="16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2060"/>
                </a:solidFill>
                <a:latin typeface="Arial"/>
              </a:rPr>
              <a:t>Тяжелое положение работных людей и приписных крестьян на мануфактурах</a:t>
            </a:r>
            <a:r>
              <a:rPr b="1" i="1" lang="ru-RU" sz="29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79440" indent="-233280"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SzPct val="16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2060"/>
                </a:solidFill>
                <a:latin typeface="Arial"/>
              </a:rPr>
              <a:t>Ухудшение положения нерусских народов Поволжья и Приуралья</a:t>
            </a:r>
            <a:r>
              <a:rPr b="1" i="1" lang="ru-RU" sz="29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79440" indent="-233280">
              <a:lnSpc>
                <a:spcPct val="120000"/>
              </a:lnSpc>
              <a:spcBef>
                <a:spcPts val="476"/>
              </a:spcBef>
              <a:buClr>
                <a:srgbClr val="000000"/>
              </a:buClr>
              <a:buSzPct val="16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2060"/>
                </a:solidFill>
                <a:latin typeface="Arial"/>
              </a:rPr>
              <a:t>Ликвидация властями казацкого самоуправления на Дону и Яике</a:t>
            </a:r>
            <a:r>
              <a:rPr b="1" i="1" lang="ru-RU" sz="29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Shape 157"/>
          <p:cNvSpPr/>
          <p:nvPr/>
        </p:nvSpPr>
        <p:spPr>
          <a:xfrm>
            <a:off x="609480" y="606600"/>
            <a:ext cx="9017280" cy="62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ел – символ свободы и власт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бы подчеркнуть величие и героизм Пугачева, Пушкин включает в свое произведение калмыцкую сказку, рассказанную Гриневу Пугачевым по дороге в Белогорскую крепост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мысл сказки – выражение жизненной позиции Пугачева, которая заключается в том, что лучше прожить полную жизнь «всего- навсе только тридцать три года», чем существовать «питаясь падалью» триста ле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142640" y="355320"/>
            <a:ext cx="901692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вод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7" name="Shape 163"/>
          <p:cNvSpPr/>
          <p:nvPr/>
        </p:nvSpPr>
        <p:spPr>
          <a:xfrm>
            <a:off x="609480" y="1146240"/>
            <a:ext cx="9017280" cy="55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С.Пушкин, изображая на страницах своего произведения Пугачева, не отходит от исторической правды. Он показывает Пугачева как самозванца, беспощадного и жестокого злодея, смелого и дерзкого человека, талантливого военачальника, любимца народа. Но, используя художественный вымысел, Пушкин делает образ своего героя живым, что помогает увидеть в нем еще и человека, способного помочь нуждающемуся, способного на добро отвечать добром, умеющего отблагодарить, защитить, а так же человека чуткого, милосердного, проницательного, мудрого и в то же время несчастного и одинок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7600" y="380880"/>
            <a:ext cx="8737560" cy="6858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16349"/>
                </a:solidFill>
                <a:latin typeface="Georgia"/>
              </a:rPr>
              <a:t>Составление СИНКВЕЙНА  к словам </a:t>
            </a: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«ПУГАЧЁВ»   </a:t>
            </a:r>
            <a:r>
              <a:rPr b="1" lang="ru-RU" sz="6000" spc="-1" strike="noStrike">
                <a:solidFill>
                  <a:srgbClr val="d16349"/>
                </a:solidFill>
                <a:latin typeface="Georgia"/>
              </a:rPr>
              <a:t>и </a:t>
            </a: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«БУНТ», </a:t>
            </a:r>
            <a:r>
              <a:rPr b="1" lang="ru-RU" sz="6000" spc="-1" strike="noStrike">
                <a:solidFill>
                  <a:srgbClr val="d16349"/>
                </a:solidFill>
                <a:latin typeface="Georgia"/>
              </a:rPr>
              <a:t>обобщив таким образом понятое вами.</a:t>
            </a:r>
            <a:br>
              <a:rPr sz="6000"/>
            </a:br>
            <a:endParaRPr b="0" lang="en-US" sz="60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14400" y="523440"/>
            <a:ext cx="8331120" cy="6286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ПУГАЧЁВ</a:t>
            </a:r>
            <a:br>
              <a:rPr sz="3200"/>
            </a:br>
            <a:br>
              <a:rPr sz="3200"/>
            </a:br>
            <a:r>
              <a:rPr b="1" lang="ru-RU" sz="2500" spc="-1" strike="noStrike">
                <a:solidFill>
                  <a:srgbClr val="7030a0"/>
                </a:solidFill>
                <a:latin typeface="Georgia"/>
              </a:rPr>
              <a:t>БЕСПОЩАДНЫЙ, ОСВОБОЖДАЮЩИЙ</a:t>
            </a:r>
            <a:br>
              <a:rPr sz="2500"/>
            </a:b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Georgia"/>
              </a:rPr>
              <a:t>КАЗНИТ, ПОВЕЛЕВАЕТ, МИЛУЕТ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Georgia"/>
              </a:rPr>
              <a:t>КАРАЕТ ДВОРЯН, ЗАЩИЩАЕТ 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Georgia"/>
              </a:rPr>
              <a:t>ПРОСТОЙ НАРОД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ГЕРОЙ</a:t>
            </a:r>
            <a:br>
              <a:rPr sz="4200"/>
            </a:b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71600" y="425160"/>
            <a:ext cx="8880480" cy="7591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ff0000"/>
                </a:solidFill>
                <a:latin typeface="Georgia"/>
                <a:ea typeface="Mongolian Baiti"/>
              </a:rPr>
              <a:t>БУНТ</a:t>
            </a:r>
            <a:br>
              <a:rPr sz="4700"/>
            </a:br>
            <a:r>
              <a:rPr b="1" lang="ru-RU" sz="3600" spc="-1" strike="noStrike">
                <a:solidFill>
                  <a:srgbClr val="002060"/>
                </a:solidFill>
                <a:latin typeface="Georgia"/>
                <a:ea typeface="Mongolian Baiti"/>
              </a:rPr>
              <a:t>СТИХИЙНЫЙ, КРОВАВЫЙ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Georgia"/>
                <a:ea typeface="Mongolian Baiti"/>
              </a:rPr>
              <a:t>УБИВАЕТ, РАЗОРЯЕТ, УСТРАШАЕТ</a:t>
            </a:r>
            <a:br>
              <a:rPr sz="3600"/>
            </a:br>
            <a:br>
              <a:rPr sz="4700"/>
            </a:br>
            <a:r>
              <a:rPr b="1" lang="ru-RU" sz="2400" spc="-1" strike="noStrike">
                <a:solidFill>
                  <a:srgbClr val="002060"/>
                </a:solidFill>
                <a:latin typeface="Georgia"/>
                <a:ea typeface="Mongolian Baiti"/>
              </a:rPr>
              <a:t>СТРАШИТ НЕПРЕДСКАЗУЕМОСТЬЮ, ЖЕСТОКОСТЬЮ</a:t>
            </a:r>
            <a:br>
              <a:rPr sz="2400"/>
            </a:br>
            <a:br>
              <a:rPr sz="4700"/>
            </a:br>
            <a:r>
              <a:rPr b="1" lang="ru-RU" sz="4700" spc="-1" strike="noStrike">
                <a:solidFill>
                  <a:srgbClr val="ff0000"/>
                </a:solidFill>
                <a:latin typeface="Georgia"/>
              </a:rPr>
              <a:t>ВОЗМЕЗДИЕ</a:t>
            </a:r>
            <a:br>
              <a:rPr sz="4700"/>
            </a:br>
            <a:endParaRPr b="0" lang="en-US" sz="47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650960" y="355680"/>
            <a:ext cx="850896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2" name="Shape 169"/>
          <p:cNvSpPr/>
          <p:nvPr/>
        </p:nvSpPr>
        <p:spPr>
          <a:xfrm>
            <a:off x="1117440" y="1660680"/>
            <a:ext cx="850932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енно ответьте на один из вопросов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акие вы видите </a:t>
            </a:r>
            <a:r>
              <a:rPr b="1" lang="en-US" sz="2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ложительные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en-US" sz="2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рицательные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ороны в Пугачеве как литературном герое и исторической личности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 каким Пугачевым вы хотели бы побеседовать? О чем бы вы его спросили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42640" y="209520"/>
            <a:ext cx="9016920" cy="797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Крестьянская война 1773 – 1775 гг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Shape 38"/>
          <p:cNvSpPr/>
          <p:nvPr/>
        </p:nvSpPr>
        <p:spPr>
          <a:xfrm>
            <a:off x="465120" y="941400"/>
            <a:ext cx="9313920" cy="6445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927600" y="1001520"/>
            <a:ext cx="5556240" cy="627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ельян Иванович Пугачев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ак из донской станицы Зимовейская.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 превосходно сложен – широк в плечах и тонок в талии.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759 г. Пугачев вступил на военную службу казаком, участвовал в Семилетней войне 1756-1763гг., проявил «отменную проворность» во время сражений.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вовал он и в русско-турецкой войне 1768-1774 гг., где получил за храбрость младший офицерский казачий чин.</a:t>
            </a:r>
            <a:endParaRPr b="0" lang="en-US" sz="2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Shape 44"/>
          <p:cNvSpPr/>
          <p:nvPr/>
        </p:nvSpPr>
        <p:spPr>
          <a:xfrm>
            <a:off x="317520" y="1428840"/>
            <a:ext cx="3333600" cy="50799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Shape 49"/>
          <p:cNvSpPr/>
          <p:nvPr/>
        </p:nvSpPr>
        <p:spPr>
          <a:xfrm>
            <a:off x="5102280" y="50760"/>
            <a:ext cx="4794120" cy="73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ельян Иванович Пугачев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773 году возглавил восстание крестьян на Яике, провозгласив себя чудом спасшимся императором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ром III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стание началось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сентября 1773 год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hape 50"/>
          <p:cNvSpPr/>
          <p:nvPr/>
        </p:nvSpPr>
        <p:spPr>
          <a:xfrm>
            <a:off x="0" y="476280"/>
            <a:ext cx="4846680" cy="682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hape 51"/>
          <p:cNvSpPr/>
          <p:nvPr/>
        </p:nvSpPr>
        <p:spPr>
          <a:xfrm>
            <a:off x="1292400" y="6877080"/>
            <a:ext cx="336528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коне Пугачё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Shape 56"/>
          <p:cNvSpPr/>
          <p:nvPr/>
        </p:nvSpPr>
        <p:spPr>
          <a:xfrm>
            <a:off x="5737320" y="209520"/>
            <a:ext cx="4238640" cy="67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lvl="3" marL="1522440" indent="-4932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ельян Иванович Пугаче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522440" indent="-49320">
              <a:lnSpc>
                <a:spcPct val="120000"/>
              </a:lnSpc>
              <a:spcBef>
                <a:spcPts val="3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нтябре 1774 года казаки сдали властям Пугаче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522440" indent="-49320">
              <a:lnSpc>
                <a:spcPct val="120000"/>
              </a:lnSpc>
              <a:spcBef>
                <a:spcPts val="3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железной клетке Емельян был привезен в Москву, где казнен 10 января 1775 года на Болотной площад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hape 57"/>
          <p:cNvSpPr/>
          <p:nvPr/>
        </p:nvSpPr>
        <p:spPr>
          <a:xfrm>
            <a:off x="317520" y="392040"/>
            <a:ext cx="6508800" cy="6835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Shape 62"/>
          <p:cNvSpPr/>
          <p:nvPr/>
        </p:nvSpPr>
        <p:spPr>
          <a:xfrm>
            <a:off x="623880" y="623880"/>
            <a:ext cx="8361360" cy="6254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hape 63"/>
          <p:cNvSpPr/>
          <p:nvPr/>
        </p:nvSpPr>
        <p:spPr>
          <a:xfrm>
            <a:off x="736560" y="685800"/>
            <a:ext cx="27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hape 64"/>
          <p:cNvSpPr/>
          <p:nvPr/>
        </p:nvSpPr>
        <p:spPr>
          <a:xfrm>
            <a:off x="3638520" y="685800"/>
            <a:ext cx="53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арактеристика Пугачев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hape 65"/>
          <p:cNvSpPr/>
          <p:nvPr/>
        </p:nvSpPr>
        <p:spPr>
          <a:xfrm>
            <a:off x="736560" y="1538280"/>
            <a:ext cx="277344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глава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ожатый»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Shape 66"/>
          <p:cNvSpPr/>
          <p:nvPr/>
        </p:nvSpPr>
        <p:spPr>
          <a:xfrm>
            <a:off x="3638520" y="1538280"/>
            <a:ext cx="530532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аднокровный, сметливый, черная борода,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веркающие гл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Наружность его показалась мне замечательна. Он был лет сорока, росту среднего, худощав и широкоплеч. В черной бороде его показалась проседь, живые большие глаза так и бегали. Лицо его имело выражение довольно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иятное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о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лутовское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оса были обстрижены в кружок; на нем был оборванный армяк и татарские шаровар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Shape 71"/>
          <p:cNvSpPr/>
          <p:nvPr/>
        </p:nvSpPr>
        <p:spPr>
          <a:xfrm>
            <a:off x="293760" y="147600"/>
            <a:ext cx="8924760" cy="7472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hape 72"/>
          <p:cNvSpPr/>
          <p:nvPr/>
        </p:nvSpPr>
        <p:spPr>
          <a:xfrm>
            <a:off x="1054080" y="209520"/>
            <a:ext cx="27464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hape 73"/>
          <p:cNvSpPr/>
          <p:nvPr/>
        </p:nvSpPr>
        <p:spPr>
          <a:xfrm>
            <a:off x="3927600" y="209520"/>
            <a:ext cx="52545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арактеристика Пугачев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hape 74"/>
          <p:cNvSpPr/>
          <p:nvPr/>
        </p:nvSpPr>
        <p:spPr>
          <a:xfrm>
            <a:off x="1054080" y="717480"/>
            <a:ext cx="2746440" cy="69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 глава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ступ»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hape 75"/>
          <p:cNvSpPr/>
          <p:nvPr/>
        </p:nvSpPr>
        <p:spPr>
          <a:xfrm>
            <a:off x="4008600" y="738360"/>
            <a:ext cx="5865480" cy="68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жду ними на белом коне ехал человек в красном кафтане, с обнаженной саблей в руке: это был сам Пугачев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угачев сидел в кресл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рыльц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ендантского до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ем был красив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ацкий кафта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шитый галун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ая соболья шап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золотыми кистя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а надвину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его сверкающие гл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о его показалос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знакомо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Shape 80"/>
          <p:cNvSpPr/>
          <p:nvPr/>
        </p:nvSpPr>
        <p:spPr>
          <a:xfrm>
            <a:off x="465120" y="306360"/>
            <a:ext cx="8996400" cy="73137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hape 81"/>
          <p:cNvSpPr/>
          <p:nvPr/>
        </p:nvSpPr>
        <p:spPr>
          <a:xfrm>
            <a:off x="577800" y="368280"/>
            <a:ext cx="299412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379440" indent="-219240" algn="ctr">
              <a:lnSpc>
                <a:spcPct val="120000"/>
              </a:lnSpc>
              <a:buClr>
                <a:srgbClr val="ffffff"/>
              </a:buClr>
              <a:buSzPct val="99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hape 82"/>
          <p:cNvSpPr/>
          <p:nvPr/>
        </p:nvSpPr>
        <p:spPr>
          <a:xfrm>
            <a:off x="3700440" y="368280"/>
            <a:ext cx="57196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арактеристика Пугачев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hape 83"/>
          <p:cNvSpPr/>
          <p:nvPr/>
        </p:nvSpPr>
        <p:spPr>
          <a:xfrm>
            <a:off x="577800" y="1320840"/>
            <a:ext cx="299412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 глава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званый гость»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hape 84"/>
          <p:cNvSpPr/>
          <p:nvPr/>
        </p:nvSpPr>
        <p:spPr>
          <a:xfrm>
            <a:off x="3700440" y="1320840"/>
            <a:ext cx="571968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Пугачев на перво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е сидел, облокотясь на стол и подпирая черную бороду своим широким кулаком. Черты лица его, правильные и довольно </a:t>
            </a:r>
            <a:r>
              <a:rPr b="0" i="1" lang="en-US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ятные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 изъявляли ничего свирепого»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трел пристально, изредка прищуривая левый глаз с удивительным выражением </a:t>
            </a:r>
            <a:r>
              <a:rPr b="0" i="1" lang="en-US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утовства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насмешливости»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StarLight</cp:lastModifiedBy>
  <dcterms:modified xsi:type="dcterms:W3CDTF">2016-12-04T13:13:49Z</dcterms:modified>
  <cp:revision>13</cp:revision>
  <dc:subject/>
  <dc:title>Презентация PowerPoint</dc:title>
</cp:coreProperties>
</file>