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7.jpeg" ContentType="image/jpeg"/>
  <Override PartName="/ppt/media/image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6.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1779E7-8B04-4725-894D-CB9E2498E0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5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0DF04-7496-4DE9-83A8-B9D0EA4E3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58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DEEA8A-F0AB-46B7-9D51-582566D08C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50CE65-D08D-4A4A-8A3F-3803C4ECDC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E373BB-9C4F-40F9-AEC3-3001331620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59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08FD09-39DB-428C-B7EA-D87031AB36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5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60B199-D51F-40BF-BB75-1A333273CF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6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04C809-CF67-4A3D-AC65-678075B649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606"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EDB8FD-3CEC-4C93-BAD2-D8660FD920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60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287737C-DCAF-4664-9935-8D5A3371F12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614"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04D1670-713C-496A-8BE3-50560570CFE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7592F5E-9CD2-4E74-8A17-FFAA2429624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03AB0F-7AF2-491D-ACD0-C9B9131268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65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7C21DCF-500F-46EF-AAC8-E5CCCE3F191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65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52C69A0-88F0-462E-BE72-816CE83692E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65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3C51F85-4487-4490-A9CE-D84D44212F4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D2A3DCA-3E0B-475A-9C0E-CC073E72681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4F4781D-2135-415E-B13C-DBA41776143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66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58C617A-FE3E-4A9F-9B76-C8648CE2EDE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6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C492808-3E51-4E3D-8FE2-72DA050FC89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6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D23842-45AC-4906-968F-39714CDE22A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67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D72ACC6-97E9-4588-A33F-35519BF3644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67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BEFC81B-55BD-49B1-AF5F-1A8E4F14154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6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CA9DD1-3E31-474E-BC71-9A9D025825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68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41B1330-4153-45A7-AADD-0BE9018C9A2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3F50ABE-3AE0-4E7D-863F-29D0917C8FA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72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B425C6D-4C42-483F-9535-EEE2559D6EE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72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7897A05-B9E6-4E37-BC6B-D75811119AB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72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E18557A-F322-47B1-AF09-EFF9D26BD21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F7DF9FD-A980-481B-9A70-33D430F354A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A34D9A4-2A68-4978-9C23-F42084BD3D9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73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C3E21CA-EBEA-403D-935C-2748F9C3304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73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8A639AD-2E0C-4884-A7C4-2C5E2D85290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7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C49F70E-F759-4901-A1C7-59ABEA17025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7A726A-F061-4B8D-98B8-C817562613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74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992F1C8-F62A-45F7-AE61-69D82B7A029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74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C72D4AA-FDDB-4464-B99D-8D04A9B0EB3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75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9205C27-F454-48CA-81B6-04DB630F828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707E908-2D34-484E-BECF-C823E11619A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79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B1CC933-EF25-4C34-B039-1BE6EE582DD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79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654976D-E189-4E62-ACC0-33893068FDB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7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DF1319F-BAC0-4E20-8385-135054FF282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21533B5-E4CF-4752-BCAA-3BA7CA9866B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38D87F0-63EB-438E-A1A7-ACAFC028A62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80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6E4F871-C432-41E2-9E65-3CD078B0C13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E98B06-0ADF-472F-B525-3943F2E5FB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8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2834512-CA4D-49B9-B449-AF42BB46935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8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002FEC6-D1AD-436D-AD01-3B7C0C345D9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81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271CBBC-702E-4A9A-8B75-C29FCA9C034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8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2090A76-7408-469A-B8A2-7D87E345FFD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82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4C3692E-1CA6-4288-9FBA-D810B667F3A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4C80F89-5AF3-4F63-8F30-42F00CD6BBF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86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00ACEF1-751F-4EBD-8951-31E855AAA1F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86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24ABED9-2C53-4227-B7A3-95553F68DED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8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690F91B-6546-4880-9C35-9A50F27F0C7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6E714A9-E76B-4818-8F20-E57DFF7EDE6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E864D8-E4AF-46CA-9AFC-BE7394B9A6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67C68F4-EC1D-4558-AED2-DF546F4CA65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87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88C1D78-3555-4C7F-AD08-394F4617E88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8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1B7A2CF-D3E2-4EB7-ACCB-7F1C5D56DBE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8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2BE227C-76CF-49DA-ACF8-8067929F1ED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88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5F75DC9-908B-4D59-8537-A2BEE22B459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8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01EB607-5EAB-42B2-90D6-1551AB71FC6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89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DD073DC-F0E1-47D9-B2FE-0FE29A00772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A92AD44-A1BD-4119-9080-AD56BF430C1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93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172885A-1BA0-42EA-A2B1-2044EF98623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93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818CEAC-F13E-4A79-B0BB-D61DBFBC369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9DB137-D1B8-4C39-9BC3-81BAF9C9D3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93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C3D8759-F40F-4B78-A50F-6F73DFC2176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F5D2911-2779-4A47-85FD-BA3C7423EC2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BC3BA9D-BB14-4D6B-9A37-94F2582C28D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94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D553E04-8788-4898-9692-1395C2F9EE8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94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309F132-CB0F-49CC-87F9-634D30B8E0E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95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20F4AB7-42A9-4F65-81BA-E44D70B7458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95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A4099D1-28BA-4880-8D2E-161BDF4524B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9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992A4E0-E389-4056-8DB1-9AC9FC1FD50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96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2BCB489-FBDB-4987-8D0E-6ACB42F746D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9E299A7-6A21-4A46-9E9A-87B0D92E3A7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DF42B8-74D1-4AB9-9C3F-2CE3BA9DE3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0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DC72229-134E-4FCD-B7BB-B5112ED38D4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0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4CFD87B-AF3F-4E55-9338-C19BFECE633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15CB9E3-7206-4DBB-A63E-DB9873B2A5B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68EEA85-D9B3-42D3-8390-D73CF790DE7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8800F14-8B9F-4797-AAC0-9CD22B96D45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1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ACA0FCE-4686-4F94-8895-2E76B35A490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1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CF885A9-6FE8-49D3-AB62-A7D61B9E378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2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65A7780-83E7-4463-8D64-2EC4BD082F8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2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61592C7-62E5-45B6-8557-F73A67A560E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2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C118EA9-155B-495E-9A72-A77DB0C8E57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2213DA-F6D3-48A8-B182-FB2962D0E9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3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63A70CF-6CEA-4D43-AFE7-7224F41CBCB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73B9ABC-165C-4507-8E64-CFA63564580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7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863E61B-2A09-440E-8F0B-667B35A31DB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7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DCB247F-31DF-4346-9CAF-C0E23BDC146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380D21B-2D46-46F2-9628-01D4233D87D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4945D14-D32A-47C2-B170-09FA85E2CB4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2861FD9-442A-42A2-9148-14D86A07D4E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8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DB6D763-FE79-4FA3-8421-B6C8985EE82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8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F078CF0-8326-4235-8FBC-4818999BBA7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8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BCAC11F-0CEC-4736-A25C-84271E5E66A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79A4A-82EE-4EC1-B0B0-A1B2453227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9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4156368-3B49-46B7-85A0-1719AD12443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9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7F5E8BF-DAA4-4CCB-9E35-EAB3902D0A4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10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52D3372-7E8C-465F-A374-4531FF625F2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814E48F-CB0F-4F74-9B4A-F6D71B97340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14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FDE4F66-F004-4E75-AFEA-C7CDEC77C83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14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6C9C519-BB2F-4E13-A2BE-C68DF656354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14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6C23168-E33A-42BA-BD66-186A8D22279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AC662C1-B86D-4D61-BD53-B35766337F5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62AED22-EA9E-49FA-8529-1E0ABAEF0A2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1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90DD906-9D30-4CE3-8EAD-C2C7430AFC2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2E6F7-2517-4496-A45C-F4DAA3061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1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0D848A-5651-4AEF-8C75-38D037BBE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15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FED1E15-400E-4BDC-9CB0-9AE2AFB0F26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1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AFA090A-C7A9-4EF0-8B0D-8B9C8F1EC46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16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DC417FF-17E8-4496-813A-FB4B4A12BBB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16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87BB082-F9E7-4450-9013-A49B35D2840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17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882073B3-1B2C-4B2D-8BCB-D89DC32D62A9}"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1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A2EAF-5CE6-44D7-8F43-9434987A0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2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CB4A49-DF61-4EA4-939D-B702EEFB92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46F8EF-B458-4ECC-88D2-E68994E8A3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3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92DEDB-E5C4-4CCE-A8D5-1300AC73CE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7350A5-4CAB-46EF-BED7-3EFFAFA00E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7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83FE44-3EA5-4768-A5DA-F796BE7002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7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774A75-7318-4EF1-9D1E-61D29B09A3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7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10AE60-63D6-4F0F-9569-FE5AC085DC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A93D1D-CF16-4078-B26E-7E0C136A1C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1DF42-E2E4-40C8-A78E-52E9B57FE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A36C41-04E9-469B-90C7-8C2B7FFF3E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7DBA04-69B1-4766-81E0-5A3082AABC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8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7818F0-8522-428E-A3D2-8DEE3B8F56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8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8A7EEA-E4BB-433B-A82F-104685ACA6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9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51D528-6252-4F2C-9E2F-C378D36AE2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71E87C-A17B-4A9E-8B31-1BAABEFFB3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20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BCA201-1FCD-406A-B2B2-9B997EFEA4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168166-4450-4573-BF64-1D8AC141CC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240"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7F0A1A-AC64-404D-A948-55759A5FA3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242"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C1343D-72E1-45D4-A8BE-A344DD02D7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A54E7-EF20-4C6B-BC77-23544E43E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24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9E0803-A003-4AC9-B2F4-2294971ECA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0AC083-9E5E-4A9F-A4D8-21AFD45A7D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C101A0-9480-4486-A688-E427490FC0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24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567C01-80CB-46A8-BEBD-E3ACFE2FC0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25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4E6AA4-EF7F-4206-8B78-69DDA82DED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2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CE49F4-4E92-40A4-9474-D1EBC4A804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261"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EC241F-E833-46C5-8EAC-3208F71643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2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CEE54A-6F7B-448C-8454-49C0C34C5D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269"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95A763-2E58-4481-B6A7-9B2BD17466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7756EB-DAED-43B0-993A-3EA9B4398E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A2D4E-7C4A-420B-83C6-DB89CBD98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0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F914A4-FDCB-443F-AF58-EED20E0650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1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D01087-5299-4110-80D7-EE22D791BF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1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DA1B05-0192-44B9-ABB8-BE85A0AEB1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B50C1C-61FF-4EC9-8B97-62B7322262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77DF5E-A1D9-4165-9025-D4EC65432E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D58624-63D2-4194-A725-3B489FAF04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2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6349CD-33D9-4C65-BE45-5E017EDC87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13D97E-1EF7-4CDC-B525-A3C8ED8353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3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AB151F-3586-4537-8251-47DA709645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D8E58B-2E43-45E8-91E2-F3C32B6C87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5E522-8436-42D7-A06A-60C03F0C0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3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23A73F-7A84-4E36-8379-9DDEC2C90D0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597177-005A-4C26-822B-4129EEC459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78"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0CC00D-4EA9-4608-826F-2DBD0C84A6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80"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39CBB1-5F19-4F60-8E61-B059802FA6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8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9049D1-DBF2-4D53-B66C-6CDD73BC98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027ACB-287E-4F90-8383-F51F09E6AF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3E7C49-0CC3-4727-9193-564DC698A6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3BAAB7-5154-4869-8691-7F597B3E24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9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6A9679-36A8-44E8-BBB8-0ED412EB73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A6FAF0-AE93-49B6-8DC6-DA70FF1F88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4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A2FAC-46B8-43C2-830D-8C375775A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99"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9A4F52-ADE4-43D1-A480-FF4626F71B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4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0E0D97D-0BB4-41CA-8980-EC7D16DDB65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407"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129555-B5CD-489F-B6EA-E243E03C2A2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708F63-A550-4791-926C-6469280F97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447"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530B07-05F4-4BCF-85D7-D6ED5E7C9A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449"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369732-F965-4E7F-8545-9415823870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45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7D496C-090A-4A79-88AC-E031FD19AA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B43981-5580-43B5-8B15-A61A7D2DEB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FDF5AA-B4C5-4309-A2EE-9EB4B49C97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45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98B6B6-CB76-46F5-BFB3-8CE3CE43F5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4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49FF8-ECA2-4FE9-9C31-BE24CC566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46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777C60-4EDE-4CF4-A559-039A5AF4CE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4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0C0AC3-040E-4E5F-B631-D68BEF43A4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468"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8212FC-3CD1-40C2-A2C7-6C18331072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4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BFB7AC-0720-4950-981B-12054727F8C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476"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89CD477-1928-41B6-9F92-C1C868E9F55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22991D2-C24C-48C6-BD26-E585EF0C741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516"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2BA865-228B-48F8-A867-ED113FB095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518"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649CA3-004B-4556-B640-C10329C379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52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B85C06-E212-41CF-824A-0C233E4C2B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1B238F-C54A-428D-9A73-DF99D1869E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C1EAD-0D73-4FE4-8D69-57D50A43C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CFCEB7-ECDF-486A-8509-BBD941134A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52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3BE91E-4C5C-45DA-8FB2-EA516ECE8F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52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9559BB-80F8-41E9-A4DB-7FF9B7ADA3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5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332639-0FFE-4477-83A7-A1B9E47BE4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537"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551927-67FF-4E8D-AB40-0D36C93CD6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5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75BF733-13D8-4D1A-B41D-CB2C537F52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545"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AFA9D6B-19F1-41E9-A012-2C985F1596B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9EB92A7-DDBD-4616-B136-5C96C084A64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585"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8E3300-7BC3-42DB-872F-5B7ADB9CAC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587"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AAB4BF-D313-48B0-8979-1C19CF04BD4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0" name="Group 22"/>
          <p:cNvGrpSpPr/>
          <p:nvPr/>
        </p:nvGrpSpPr>
        <p:grpSpPr>
          <a:xfrm>
            <a:off x="0" y="228600"/>
            <a:ext cx="2851200" cy="6638760"/>
            <a:chOff x="0" y="228600"/>
            <a:chExt cx="2851200" cy="6638760"/>
          </a:xfrm>
        </p:grpSpPr>
        <p:sp>
          <p:nvSpPr>
            <p:cNvPr id="1"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3" name="Group 9"/>
          <p:cNvGrpSpPr/>
          <p:nvPr/>
        </p:nvGrpSpPr>
        <p:grpSpPr>
          <a:xfrm>
            <a:off x="27000" y="0"/>
            <a:ext cx="2357280" cy="6853320"/>
            <a:chOff x="27000" y="0"/>
            <a:chExt cx="2357280" cy="6853320"/>
          </a:xfrm>
        </p:grpSpPr>
        <p:sp>
          <p:nvSpPr>
            <p:cNvPr id="14" name="Freeform 27"/>
            <p:cNvSpPr/>
            <p:nvPr/>
          </p:nvSpPr>
          <p:spPr>
            <a:xfrm>
              <a:off x="27000" y="0"/>
              <a:ext cx="49428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 name="Freeform 28"/>
            <p:cNvSpPr/>
            <p:nvPr/>
          </p:nvSpPr>
          <p:spPr>
            <a:xfrm>
              <a:off x="550080" y="4316400"/>
              <a:ext cx="42336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 name="Freeform 30"/>
            <p:cNvSpPr/>
            <p:nvPr/>
          </p:nvSpPr>
          <p:spPr>
            <a:xfrm>
              <a:off x="521280" y="4364280"/>
              <a:ext cx="55188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 name="Freeform 31"/>
            <p:cNvSpPr/>
            <p:nvPr/>
          </p:nvSpPr>
          <p:spPr>
            <a:xfrm>
              <a:off x="46764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 name="Freeform 33"/>
            <p:cNvSpPr/>
            <p:nvPr/>
          </p:nvSpPr>
          <p:spPr>
            <a:xfrm>
              <a:off x="50220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 name="Freeform 34"/>
            <p:cNvSpPr/>
            <p:nvPr/>
          </p:nvSpPr>
          <p:spPr>
            <a:xfrm>
              <a:off x="973800" y="3145680"/>
              <a:ext cx="141048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 name="Freeform 36"/>
            <p:cNvSpPr/>
            <p:nvPr/>
          </p:nvSpPr>
          <p:spPr>
            <a:xfrm>
              <a:off x="97380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4"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5"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6"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2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 name="PlaceHolder 4"/>
          <p:cNvSpPr>
            <a:spLocks noGrp="1"/>
          </p:cNvSpPr>
          <p:nvPr>
            <p:ph type="ftr" idx="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1" name="PlaceHolder 5"/>
          <p:cNvSpPr>
            <a:spLocks noGrp="1"/>
          </p:cNvSpPr>
          <p:nvPr>
            <p:ph type="sldNum" idx="3"/>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FE81F1-6EA1-4A28-8F16-6B1D539E1963}"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620" name="Group 22"/>
          <p:cNvGrpSpPr/>
          <p:nvPr/>
        </p:nvGrpSpPr>
        <p:grpSpPr>
          <a:xfrm>
            <a:off x="0" y="228600"/>
            <a:ext cx="2851200" cy="6638760"/>
            <a:chOff x="0" y="228600"/>
            <a:chExt cx="2851200" cy="6638760"/>
          </a:xfrm>
        </p:grpSpPr>
        <p:sp>
          <p:nvSpPr>
            <p:cNvPr id="621"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2"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3"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4"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5"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6"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7"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8"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9"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0"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1"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2"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633" name="Group 9"/>
          <p:cNvGrpSpPr/>
          <p:nvPr/>
        </p:nvGrpSpPr>
        <p:grpSpPr>
          <a:xfrm>
            <a:off x="27000" y="0"/>
            <a:ext cx="2357280" cy="6853320"/>
            <a:chOff x="27000" y="0"/>
            <a:chExt cx="2357280" cy="6853320"/>
          </a:xfrm>
        </p:grpSpPr>
        <p:sp>
          <p:nvSpPr>
            <p:cNvPr id="634" name="Freeform 27"/>
            <p:cNvSpPr/>
            <p:nvPr/>
          </p:nvSpPr>
          <p:spPr>
            <a:xfrm>
              <a:off x="27000" y="0"/>
              <a:ext cx="49428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5" name="Freeform 28"/>
            <p:cNvSpPr/>
            <p:nvPr/>
          </p:nvSpPr>
          <p:spPr>
            <a:xfrm>
              <a:off x="550080" y="4316400"/>
              <a:ext cx="42336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6"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7" name="Freeform 30"/>
            <p:cNvSpPr/>
            <p:nvPr/>
          </p:nvSpPr>
          <p:spPr>
            <a:xfrm>
              <a:off x="521280" y="4364280"/>
              <a:ext cx="55188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8" name="Freeform 31"/>
            <p:cNvSpPr/>
            <p:nvPr/>
          </p:nvSpPr>
          <p:spPr>
            <a:xfrm>
              <a:off x="46764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9"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0" name="Freeform 33"/>
            <p:cNvSpPr/>
            <p:nvPr/>
          </p:nvSpPr>
          <p:spPr>
            <a:xfrm>
              <a:off x="50220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1" name="Freeform 34"/>
            <p:cNvSpPr/>
            <p:nvPr/>
          </p:nvSpPr>
          <p:spPr>
            <a:xfrm>
              <a:off x="973800" y="3145680"/>
              <a:ext cx="141048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2"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3" name="Freeform 36"/>
            <p:cNvSpPr/>
            <p:nvPr/>
          </p:nvSpPr>
          <p:spPr>
            <a:xfrm>
              <a:off x="97380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4"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5"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646"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7"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64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51" name="PlaceHolder 4"/>
          <p:cNvSpPr>
            <a:spLocks noGrp="1"/>
          </p:cNvSpPr>
          <p:nvPr>
            <p:ph type="ftr" idx="29"/>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52" name="PlaceHolder 5"/>
          <p:cNvSpPr>
            <a:spLocks noGrp="1"/>
          </p:cNvSpPr>
          <p:nvPr>
            <p:ph type="sldNum" idx="30"/>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E50575-DA67-47A6-ABEB-047CE7403E5D}"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689" name="Group 22"/>
          <p:cNvGrpSpPr/>
          <p:nvPr/>
        </p:nvGrpSpPr>
        <p:grpSpPr>
          <a:xfrm>
            <a:off x="0" y="228600"/>
            <a:ext cx="2851200" cy="6638760"/>
            <a:chOff x="0" y="228600"/>
            <a:chExt cx="2851200" cy="6638760"/>
          </a:xfrm>
        </p:grpSpPr>
        <p:sp>
          <p:nvSpPr>
            <p:cNvPr id="690"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1"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2"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3"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4"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5"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6"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7"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8"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9"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0"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1"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02" name="Group 9"/>
          <p:cNvGrpSpPr/>
          <p:nvPr/>
        </p:nvGrpSpPr>
        <p:grpSpPr>
          <a:xfrm>
            <a:off x="27000" y="0"/>
            <a:ext cx="2357280" cy="6853320"/>
            <a:chOff x="27000" y="0"/>
            <a:chExt cx="2357280" cy="6853320"/>
          </a:xfrm>
        </p:grpSpPr>
        <p:sp>
          <p:nvSpPr>
            <p:cNvPr id="703" name="Freeform 27"/>
            <p:cNvSpPr/>
            <p:nvPr/>
          </p:nvSpPr>
          <p:spPr>
            <a:xfrm>
              <a:off x="27000" y="0"/>
              <a:ext cx="49428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4" name="Freeform 28"/>
            <p:cNvSpPr/>
            <p:nvPr/>
          </p:nvSpPr>
          <p:spPr>
            <a:xfrm>
              <a:off x="550080" y="4316400"/>
              <a:ext cx="42336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5"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6" name="Freeform 30"/>
            <p:cNvSpPr/>
            <p:nvPr/>
          </p:nvSpPr>
          <p:spPr>
            <a:xfrm>
              <a:off x="521280" y="4364280"/>
              <a:ext cx="55188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7" name="Freeform 31"/>
            <p:cNvSpPr/>
            <p:nvPr/>
          </p:nvSpPr>
          <p:spPr>
            <a:xfrm>
              <a:off x="46764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8"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9" name="Freeform 33"/>
            <p:cNvSpPr/>
            <p:nvPr/>
          </p:nvSpPr>
          <p:spPr>
            <a:xfrm>
              <a:off x="50220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0" name="Freeform 34"/>
            <p:cNvSpPr/>
            <p:nvPr/>
          </p:nvSpPr>
          <p:spPr>
            <a:xfrm>
              <a:off x="973800" y="3145680"/>
              <a:ext cx="141048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1"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2" name="Freeform 36"/>
            <p:cNvSpPr/>
            <p:nvPr/>
          </p:nvSpPr>
          <p:spPr>
            <a:xfrm>
              <a:off x="97380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3"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4"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15"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6"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71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20" name="PlaceHolder 4"/>
          <p:cNvSpPr>
            <a:spLocks noGrp="1"/>
          </p:cNvSpPr>
          <p:nvPr>
            <p:ph type="ftr" idx="3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21" name="PlaceHolder 5"/>
          <p:cNvSpPr>
            <a:spLocks noGrp="1"/>
          </p:cNvSpPr>
          <p:nvPr>
            <p:ph type="sldNum" idx="33"/>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B6E43C-3EE2-4988-A7E4-72A2F7F66257}"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758" name="Group 22"/>
          <p:cNvGrpSpPr/>
          <p:nvPr/>
        </p:nvGrpSpPr>
        <p:grpSpPr>
          <a:xfrm>
            <a:off x="0" y="228600"/>
            <a:ext cx="2851200" cy="6638760"/>
            <a:chOff x="0" y="228600"/>
            <a:chExt cx="2851200" cy="6638760"/>
          </a:xfrm>
        </p:grpSpPr>
        <p:sp>
          <p:nvSpPr>
            <p:cNvPr id="759"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0"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1"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2"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3"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4"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5"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6"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7"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8"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9"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0"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71" name="Group 9"/>
          <p:cNvGrpSpPr/>
          <p:nvPr/>
        </p:nvGrpSpPr>
        <p:grpSpPr>
          <a:xfrm>
            <a:off x="27000" y="0"/>
            <a:ext cx="2357280" cy="6853320"/>
            <a:chOff x="27000" y="0"/>
            <a:chExt cx="2357280" cy="6853320"/>
          </a:xfrm>
        </p:grpSpPr>
        <p:sp>
          <p:nvSpPr>
            <p:cNvPr id="772" name="Freeform 27"/>
            <p:cNvSpPr/>
            <p:nvPr/>
          </p:nvSpPr>
          <p:spPr>
            <a:xfrm>
              <a:off x="27000" y="0"/>
              <a:ext cx="49428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3" name="Freeform 28"/>
            <p:cNvSpPr/>
            <p:nvPr/>
          </p:nvSpPr>
          <p:spPr>
            <a:xfrm>
              <a:off x="550080" y="4316400"/>
              <a:ext cx="42336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4"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5" name="Freeform 30"/>
            <p:cNvSpPr/>
            <p:nvPr/>
          </p:nvSpPr>
          <p:spPr>
            <a:xfrm>
              <a:off x="521280" y="4364280"/>
              <a:ext cx="55188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6" name="Freeform 31"/>
            <p:cNvSpPr/>
            <p:nvPr/>
          </p:nvSpPr>
          <p:spPr>
            <a:xfrm>
              <a:off x="46764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7"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8" name="Freeform 33"/>
            <p:cNvSpPr/>
            <p:nvPr/>
          </p:nvSpPr>
          <p:spPr>
            <a:xfrm>
              <a:off x="50220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9" name="Freeform 34"/>
            <p:cNvSpPr/>
            <p:nvPr/>
          </p:nvSpPr>
          <p:spPr>
            <a:xfrm>
              <a:off x="973800" y="3145680"/>
              <a:ext cx="141048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0"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1" name="Freeform 36"/>
            <p:cNvSpPr/>
            <p:nvPr/>
          </p:nvSpPr>
          <p:spPr>
            <a:xfrm>
              <a:off x="97380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2"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3"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84"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5"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6"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353535"/>
                </a:solidFill>
                <a:latin typeface="Arial"/>
              </a:rPr>
              <a:t>“</a:t>
            </a:r>
            <a:endParaRPr b="0" lang="en-US" sz="8000" spc="-1" strike="noStrike">
              <a:solidFill>
                <a:srgbClr val="000000"/>
              </a:solidFill>
              <a:latin typeface="Century Gothic"/>
            </a:endParaRPr>
          </a:p>
        </p:txBody>
      </p:sp>
      <p:sp>
        <p:nvSpPr>
          <p:cNvPr id="787"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353535"/>
                </a:solidFill>
                <a:latin typeface="Arial"/>
              </a:rPr>
              <a:t>”</a:t>
            </a:r>
            <a:endParaRPr b="0" lang="en-US" sz="8000" spc="-1" strike="noStrike">
              <a:solidFill>
                <a:srgbClr val="000000"/>
              </a:solidFill>
              <a:latin typeface="Century Gothic"/>
            </a:endParaRPr>
          </a:p>
        </p:txBody>
      </p:sp>
      <p:sp>
        <p:nvSpPr>
          <p:cNvPr id="7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78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91" name="PlaceHolder 4"/>
          <p:cNvSpPr>
            <a:spLocks noGrp="1"/>
          </p:cNvSpPr>
          <p:nvPr>
            <p:ph type="ftr" idx="3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92" name="PlaceHolder 5"/>
          <p:cNvSpPr>
            <a:spLocks noGrp="1"/>
          </p:cNvSpPr>
          <p:nvPr>
            <p:ph type="sldNum" idx="36"/>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FD286D-2501-4CA7-85AF-66B8C71589D5}"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829" name="Group 22"/>
          <p:cNvGrpSpPr/>
          <p:nvPr/>
        </p:nvGrpSpPr>
        <p:grpSpPr>
          <a:xfrm>
            <a:off x="0" y="228600"/>
            <a:ext cx="2851200" cy="6638760"/>
            <a:chOff x="0" y="228600"/>
            <a:chExt cx="2851200" cy="6638760"/>
          </a:xfrm>
        </p:grpSpPr>
        <p:sp>
          <p:nvSpPr>
            <p:cNvPr id="830"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1"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2"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3"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4"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5"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6"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7"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8"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9"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0"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1"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42" name="Group 9"/>
          <p:cNvGrpSpPr/>
          <p:nvPr/>
        </p:nvGrpSpPr>
        <p:grpSpPr>
          <a:xfrm>
            <a:off x="27000" y="0"/>
            <a:ext cx="2357280" cy="6853320"/>
            <a:chOff x="27000" y="0"/>
            <a:chExt cx="2357280" cy="6853320"/>
          </a:xfrm>
        </p:grpSpPr>
        <p:sp>
          <p:nvSpPr>
            <p:cNvPr id="843" name="Freeform 27"/>
            <p:cNvSpPr/>
            <p:nvPr/>
          </p:nvSpPr>
          <p:spPr>
            <a:xfrm>
              <a:off x="27000" y="0"/>
              <a:ext cx="49428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4" name="Freeform 28"/>
            <p:cNvSpPr/>
            <p:nvPr/>
          </p:nvSpPr>
          <p:spPr>
            <a:xfrm>
              <a:off x="550080" y="4316400"/>
              <a:ext cx="42336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5"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6" name="Freeform 30"/>
            <p:cNvSpPr/>
            <p:nvPr/>
          </p:nvSpPr>
          <p:spPr>
            <a:xfrm>
              <a:off x="521280" y="4364280"/>
              <a:ext cx="55188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7" name="Freeform 31"/>
            <p:cNvSpPr/>
            <p:nvPr/>
          </p:nvSpPr>
          <p:spPr>
            <a:xfrm>
              <a:off x="46764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8"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9" name="Freeform 33"/>
            <p:cNvSpPr/>
            <p:nvPr/>
          </p:nvSpPr>
          <p:spPr>
            <a:xfrm>
              <a:off x="50220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0" name="Freeform 34"/>
            <p:cNvSpPr/>
            <p:nvPr/>
          </p:nvSpPr>
          <p:spPr>
            <a:xfrm>
              <a:off x="973800" y="3145680"/>
              <a:ext cx="141048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1"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2" name="Freeform 36"/>
            <p:cNvSpPr/>
            <p:nvPr/>
          </p:nvSpPr>
          <p:spPr>
            <a:xfrm>
              <a:off x="97380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3"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4"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855"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85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860" name="PlaceHolder 4"/>
          <p:cNvSpPr>
            <a:spLocks noGrp="1"/>
          </p:cNvSpPr>
          <p:nvPr>
            <p:ph type="ftr" idx="3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61" name="PlaceHolder 5"/>
          <p:cNvSpPr>
            <a:spLocks noGrp="1"/>
          </p:cNvSpPr>
          <p:nvPr>
            <p:ph type="sldNum" idx="39"/>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1739BF-67B1-4D21-B376-3C10AE89AF24}"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898" name="Group 22"/>
          <p:cNvGrpSpPr/>
          <p:nvPr/>
        </p:nvGrpSpPr>
        <p:grpSpPr>
          <a:xfrm>
            <a:off x="0" y="228600"/>
            <a:ext cx="2851200" cy="6638760"/>
            <a:chOff x="0" y="228600"/>
            <a:chExt cx="2851200" cy="6638760"/>
          </a:xfrm>
        </p:grpSpPr>
        <p:sp>
          <p:nvSpPr>
            <p:cNvPr id="899"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0"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1"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2"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3"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4"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5"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6"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7"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8"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9"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0"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11" name="Group 9"/>
          <p:cNvGrpSpPr/>
          <p:nvPr/>
        </p:nvGrpSpPr>
        <p:grpSpPr>
          <a:xfrm>
            <a:off x="27000" y="0"/>
            <a:ext cx="2357280" cy="6853320"/>
            <a:chOff x="27000" y="0"/>
            <a:chExt cx="2357280" cy="6853320"/>
          </a:xfrm>
        </p:grpSpPr>
        <p:sp>
          <p:nvSpPr>
            <p:cNvPr id="912" name="Freeform 27"/>
            <p:cNvSpPr/>
            <p:nvPr/>
          </p:nvSpPr>
          <p:spPr>
            <a:xfrm>
              <a:off x="27000" y="0"/>
              <a:ext cx="49428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3" name="Freeform 28"/>
            <p:cNvSpPr/>
            <p:nvPr/>
          </p:nvSpPr>
          <p:spPr>
            <a:xfrm>
              <a:off x="550080" y="4316400"/>
              <a:ext cx="42336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4"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5" name="Freeform 30"/>
            <p:cNvSpPr/>
            <p:nvPr/>
          </p:nvSpPr>
          <p:spPr>
            <a:xfrm>
              <a:off x="521280" y="4364280"/>
              <a:ext cx="55188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6" name="Freeform 31"/>
            <p:cNvSpPr/>
            <p:nvPr/>
          </p:nvSpPr>
          <p:spPr>
            <a:xfrm>
              <a:off x="46764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7"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8" name="Freeform 33"/>
            <p:cNvSpPr/>
            <p:nvPr/>
          </p:nvSpPr>
          <p:spPr>
            <a:xfrm>
              <a:off x="50220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9" name="Freeform 34"/>
            <p:cNvSpPr/>
            <p:nvPr/>
          </p:nvSpPr>
          <p:spPr>
            <a:xfrm>
              <a:off x="973800" y="3145680"/>
              <a:ext cx="141048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0"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1" name="Freeform 36"/>
            <p:cNvSpPr/>
            <p:nvPr/>
          </p:nvSpPr>
          <p:spPr>
            <a:xfrm>
              <a:off x="97380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2"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3"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24"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5"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6"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353535"/>
                </a:solidFill>
                <a:latin typeface="Arial"/>
              </a:rPr>
              <a:t>“</a:t>
            </a:r>
            <a:endParaRPr b="0" lang="en-US" sz="8000" spc="-1" strike="noStrike">
              <a:solidFill>
                <a:srgbClr val="000000"/>
              </a:solidFill>
              <a:latin typeface="Century Gothic"/>
            </a:endParaRPr>
          </a:p>
        </p:txBody>
      </p:sp>
      <p:sp>
        <p:nvSpPr>
          <p:cNvPr id="927"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353535"/>
                </a:solidFill>
                <a:latin typeface="Arial"/>
              </a:rPr>
              <a:t>”</a:t>
            </a:r>
            <a:endParaRPr b="0" lang="en-US" sz="8000" spc="-1" strike="noStrike">
              <a:solidFill>
                <a:srgbClr val="000000"/>
              </a:solidFill>
              <a:latin typeface="Century Gothic"/>
            </a:endParaRPr>
          </a:p>
        </p:txBody>
      </p:sp>
      <p:sp>
        <p:nvSpPr>
          <p:cNvPr id="9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92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31" name="PlaceHolder 4"/>
          <p:cNvSpPr>
            <a:spLocks noGrp="1"/>
          </p:cNvSpPr>
          <p:nvPr>
            <p:ph type="ftr" idx="4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32" name="PlaceHolder 5"/>
          <p:cNvSpPr>
            <a:spLocks noGrp="1"/>
          </p:cNvSpPr>
          <p:nvPr>
            <p:ph type="sldNum" idx="42"/>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89636C-4797-404A-92DB-189989803348}"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969" name="Group 22"/>
          <p:cNvGrpSpPr/>
          <p:nvPr/>
        </p:nvGrpSpPr>
        <p:grpSpPr>
          <a:xfrm>
            <a:off x="0" y="228600"/>
            <a:ext cx="2851200" cy="6638760"/>
            <a:chOff x="0" y="228600"/>
            <a:chExt cx="2851200" cy="6638760"/>
          </a:xfrm>
        </p:grpSpPr>
        <p:sp>
          <p:nvSpPr>
            <p:cNvPr id="970"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1"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2"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3"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4"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5"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6"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7"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8"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9"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0"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1"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82" name="Group 9"/>
          <p:cNvGrpSpPr/>
          <p:nvPr/>
        </p:nvGrpSpPr>
        <p:grpSpPr>
          <a:xfrm>
            <a:off x="27000" y="0"/>
            <a:ext cx="2357280" cy="6853320"/>
            <a:chOff x="27000" y="0"/>
            <a:chExt cx="2357280" cy="6853320"/>
          </a:xfrm>
        </p:grpSpPr>
        <p:sp>
          <p:nvSpPr>
            <p:cNvPr id="983" name="Freeform 27"/>
            <p:cNvSpPr/>
            <p:nvPr/>
          </p:nvSpPr>
          <p:spPr>
            <a:xfrm>
              <a:off x="27000" y="0"/>
              <a:ext cx="49428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4" name="Freeform 28"/>
            <p:cNvSpPr/>
            <p:nvPr/>
          </p:nvSpPr>
          <p:spPr>
            <a:xfrm>
              <a:off x="550080" y="4316400"/>
              <a:ext cx="42336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5"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6" name="Freeform 30"/>
            <p:cNvSpPr/>
            <p:nvPr/>
          </p:nvSpPr>
          <p:spPr>
            <a:xfrm>
              <a:off x="521280" y="4364280"/>
              <a:ext cx="55188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7" name="Freeform 31"/>
            <p:cNvSpPr/>
            <p:nvPr/>
          </p:nvSpPr>
          <p:spPr>
            <a:xfrm>
              <a:off x="46764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8"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9" name="Freeform 33"/>
            <p:cNvSpPr/>
            <p:nvPr/>
          </p:nvSpPr>
          <p:spPr>
            <a:xfrm>
              <a:off x="50220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0" name="Freeform 34"/>
            <p:cNvSpPr/>
            <p:nvPr/>
          </p:nvSpPr>
          <p:spPr>
            <a:xfrm>
              <a:off x="973800" y="3145680"/>
              <a:ext cx="141048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1"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2" name="Freeform 36"/>
            <p:cNvSpPr/>
            <p:nvPr/>
          </p:nvSpPr>
          <p:spPr>
            <a:xfrm>
              <a:off x="97380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3"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4"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95"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99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00" name="PlaceHolder 4"/>
          <p:cNvSpPr>
            <a:spLocks noGrp="1"/>
          </p:cNvSpPr>
          <p:nvPr>
            <p:ph type="ftr" idx="4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1" name="PlaceHolder 5"/>
          <p:cNvSpPr>
            <a:spLocks noGrp="1"/>
          </p:cNvSpPr>
          <p:nvPr>
            <p:ph type="sldNum" idx="45"/>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D2B86F-0A0B-4B14-BEDE-AE028D2F50BB}"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1038" name="Group 22"/>
          <p:cNvGrpSpPr/>
          <p:nvPr/>
        </p:nvGrpSpPr>
        <p:grpSpPr>
          <a:xfrm>
            <a:off x="0" y="228600"/>
            <a:ext cx="2851200" cy="6638760"/>
            <a:chOff x="0" y="228600"/>
            <a:chExt cx="2851200" cy="6638760"/>
          </a:xfrm>
        </p:grpSpPr>
        <p:sp>
          <p:nvSpPr>
            <p:cNvPr id="1039"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0"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1"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2"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3"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4"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5"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6"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7"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8"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9"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0"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051" name="Group 9"/>
          <p:cNvGrpSpPr/>
          <p:nvPr/>
        </p:nvGrpSpPr>
        <p:grpSpPr>
          <a:xfrm>
            <a:off x="27000" y="0"/>
            <a:ext cx="2357280" cy="6853320"/>
            <a:chOff x="27000" y="0"/>
            <a:chExt cx="2357280" cy="6853320"/>
          </a:xfrm>
        </p:grpSpPr>
        <p:sp>
          <p:nvSpPr>
            <p:cNvPr id="1052" name="Freeform 27"/>
            <p:cNvSpPr/>
            <p:nvPr/>
          </p:nvSpPr>
          <p:spPr>
            <a:xfrm>
              <a:off x="27000" y="0"/>
              <a:ext cx="49428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3" name="Freeform 28"/>
            <p:cNvSpPr/>
            <p:nvPr/>
          </p:nvSpPr>
          <p:spPr>
            <a:xfrm>
              <a:off x="550080" y="4316400"/>
              <a:ext cx="42336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4"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5" name="Freeform 30"/>
            <p:cNvSpPr/>
            <p:nvPr/>
          </p:nvSpPr>
          <p:spPr>
            <a:xfrm>
              <a:off x="521280" y="4364280"/>
              <a:ext cx="55188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6" name="Freeform 31"/>
            <p:cNvSpPr/>
            <p:nvPr/>
          </p:nvSpPr>
          <p:spPr>
            <a:xfrm>
              <a:off x="46764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7"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8" name="Freeform 33"/>
            <p:cNvSpPr/>
            <p:nvPr/>
          </p:nvSpPr>
          <p:spPr>
            <a:xfrm>
              <a:off x="50220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9" name="Freeform 34"/>
            <p:cNvSpPr/>
            <p:nvPr/>
          </p:nvSpPr>
          <p:spPr>
            <a:xfrm>
              <a:off x="973800" y="3145680"/>
              <a:ext cx="141048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0"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1" name="Freeform 36"/>
            <p:cNvSpPr/>
            <p:nvPr/>
          </p:nvSpPr>
          <p:spPr>
            <a:xfrm>
              <a:off x="97380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2"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3"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064"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5"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106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69" name="PlaceHolder 4"/>
          <p:cNvSpPr>
            <a:spLocks noGrp="1"/>
          </p:cNvSpPr>
          <p:nvPr>
            <p:ph type="ftr" idx="4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70" name="PlaceHolder 5"/>
          <p:cNvSpPr>
            <a:spLocks noGrp="1"/>
          </p:cNvSpPr>
          <p:nvPr>
            <p:ph type="sldNum" idx="4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A204B0-E3F6-457B-9575-3705A1469013}"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1107" name="Group 22"/>
          <p:cNvGrpSpPr/>
          <p:nvPr/>
        </p:nvGrpSpPr>
        <p:grpSpPr>
          <a:xfrm>
            <a:off x="0" y="228600"/>
            <a:ext cx="2851200" cy="6638760"/>
            <a:chOff x="0" y="228600"/>
            <a:chExt cx="2851200" cy="6638760"/>
          </a:xfrm>
        </p:grpSpPr>
        <p:sp>
          <p:nvSpPr>
            <p:cNvPr id="1108"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09"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0"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1"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2"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3"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4"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5"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6"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7"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8"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9"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120" name="Group 9"/>
          <p:cNvGrpSpPr/>
          <p:nvPr/>
        </p:nvGrpSpPr>
        <p:grpSpPr>
          <a:xfrm>
            <a:off x="27000" y="0"/>
            <a:ext cx="2357280" cy="6853320"/>
            <a:chOff x="27000" y="0"/>
            <a:chExt cx="2357280" cy="6853320"/>
          </a:xfrm>
        </p:grpSpPr>
        <p:sp>
          <p:nvSpPr>
            <p:cNvPr id="1121" name="Freeform 27"/>
            <p:cNvSpPr/>
            <p:nvPr/>
          </p:nvSpPr>
          <p:spPr>
            <a:xfrm>
              <a:off x="27000" y="0"/>
              <a:ext cx="49428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2" name="Freeform 28"/>
            <p:cNvSpPr/>
            <p:nvPr/>
          </p:nvSpPr>
          <p:spPr>
            <a:xfrm>
              <a:off x="550080" y="4316400"/>
              <a:ext cx="42336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3"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4" name="Freeform 30"/>
            <p:cNvSpPr/>
            <p:nvPr/>
          </p:nvSpPr>
          <p:spPr>
            <a:xfrm>
              <a:off x="521280" y="4364280"/>
              <a:ext cx="55188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5" name="Freeform 31"/>
            <p:cNvSpPr/>
            <p:nvPr/>
          </p:nvSpPr>
          <p:spPr>
            <a:xfrm>
              <a:off x="46764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6"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7" name="Freeform 33"/>
            <p:cNvSpPr/>
            <p:nvPr/>
          </p:nvSpPr>
          <p:spPr>
            <a:xfrm>
              <a:off x="50220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8" name="Freeform 34"/>
            <p:cNvSpPr/>
            <p:nvPr/>
          </p:nvSpPr>
          <p:spPr>
            <a:xfrm>
              <a:off x="973800" y="3145680"/>
              <a:ext cx="141048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9"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0" name="Freeform 36"/>
            <p:cNvSpPr/>
            <p:nvPr/>
          </p:nvSpPr>
          <p:spPr>
            <a:xfrm>
              <a:off x="97380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1"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2"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133"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4"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113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138" name="PlaceHolder 4"/>
          <p:cNvSpPr>
            <a:spLocks noGrp="1"/>
          </p:cNvSpPr>
          <p:nvPr>
            <p:ph type="ftr" idx="5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9" name="PlaceHolder 5"/>
          <p:cNvSpPr>
            <a:spLocks noGrp="1"/>
          </p:cNvSpPr>
          <p:nvPr>
            <p:ph type="sldNum" idx="5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73D6BD-4CB9-4CCC-8BF1-10735057CBEE}"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68" name="Group 22"/>
          <p:cNvGrpSpPr/>
          <p:nvPr/>
        </p:nvGrpSpPr>
        <p:grpSpPr>
          <a:xfrm>
            <a:off x="0" y="228600"/>
            <a:ext cx="2851200" cy="6638760"/>
            <a:chOff x="0" y="228600"/>
            <a:chExt cx="2851200" cy="6638760"/>
          </a:xfrm>
        </p:grpSpPr>
        <p:sp>
          <p:nvSpPr>
            <p:cNvPr id="69"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2"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3"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4"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5"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9"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0"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1" name="Group 9"/>
          <p:cNvGrpSpPr/>
          <p:nvPr/>
        </p:nvGrpSpPr>
        <p:grpSpPr>
          <a:xfrm>
            <a:off x="27000" y="0"/>
            <a:ext cx="2357280" cy="6853320"/>
            <a:chOff x="27000" y="0"/>
            <a:chExt cx="2357280" cy="6853320"/>
          </a:xfrm>
        </p:grpSpPr>
        <p:sp>
          <p:nvSpPr>
            <p:cNvPr id="82" name="Freeform 27"/>
            <p:cNvSpPr/>
            <p:nvPr/>
          </p:nvSpPr>
          <p:spPr>
            <a:xfrm>
              <a:off x="27000" y="0"/>
              <a:ext cx="49428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 name="Freeform 28"/>
            <p:cNvSpPr/>
            <p:nvPr/>
          </p:nvSpPr>
          <p:spPr>
            <a:xfrm>
              <a:off x="550080" y="4316400"/>
              <a:ext cx="42336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 name="Freeform 30"/>
            <p:cNvSpPr/>
            <p:nvPr/>
          </p:nvSpPr>
          <p:spPr>
            <a:xfrm>
              <a:off x="521280" y="4364280"/>
              <a:ext cx="55188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6" name="Freeform 31"/>
            <p:cNvSpPr/>
            <p:nvPr/>
          </p:nvSpPr>
          <p:spPr>
            <a:xfrm>
              <a:off x="46764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7"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8" name="Freeform 33"/>
            <p:cNvSpPr/>
            <p:nvPr/>
          </p:nvSpPr>
          <p:spPr>
            <a:xfrm>
              <a:off x="50220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9" name="Freeform 34"/>
            <p:cNvSpPr/>
            <p:nvPr/>
          </p:nvSpPr>
          <p:spPr>
            <a:xfrm>
              <a:off x="973800" y="3145680"/>
              <a:ext cx="141048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 name="Freeform 36"/>
            <p:cNvSpPr/>
            <p:nvPr/>
          </p:nvSpPr>
          <p:spPr>
            <a:xfrm>
              <a:off x="97380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3"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4"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5" name="Freeform 6"/>
          <p:cNvSpPr/>
          <p:nvPr/>
        </p:nvSpPr>
        <p:spPr>
          <a:xfrm>
            <a:off x="0" y="4324320"/>
            <a:ext cx="1744560" cy="777960"/>
          </a:xfrm>
          <a:custGeom>
            <a:avLst/>
            <a:gdLst/>
            <a:ahLst/>
            <a:rect l="l" t="t" r="r" b="b"/>
            <a:pathLst>
              <a:path w="372" h="166">
                <a:moveTo>
                  <a:pt x="287" y="166"/>
                </a:moveTo>
                <a:cubicBezTo>
                  <a:pt x="290" y="166"/>
                  <a:pt x="292" y="165"/>
                  <a:pt x="293" y="164"/>
                </a:cubicBezTo>
                <a:cubicBezTo>
                  <a:pt x="293" y="163"/>
                  <a:pt x="294" y="163"/>
                  <a:pt x="294" y="163"/>
                </a:cubicBezTo>
                <a:cubicBezTo>
                  <a:pt x="370" y="87"/>
                  <a:pt x="370" y="87"/>
                  <a:pt x="370" y="87"/>
                </a:cubicBezTo>
                <a:cubicBezTo>
                  <a:pt x="372" y="85"/>
                  <a:pt x="372" y="81"/>
                  <a:pt x="370" y="78"/>
                </a:cubicBezTo>
                <a:cubicBezTo>
                  <a:pt x="294" y="3"/>
                  <a:pt x="294" y="3"/>
                  <a:pt x="294" y="3"/>
                </a:cubicBezTo>
                <a:cubicBezTo>
                  <a:pt x="294" y="2"/>
                  <a:pt x="293" y="2"/>
                  <a:pt x="293" y="2"/>
                </a:cubicBezTo>
                <a:cubicBezTo>
                  <a:pt x="292" y="1"/>
                  <a:pt x="290" y="0"/>
                  <a:pt x="287" y="0"/>
                </a:cubicBezTo>
                <a:cubicBezTo>
                  <a:pt x="0" y="0"/>
                  <a:pt x="0" y="0"/>
                  <a:pt x="0" y="0"/>
                </a:cubicBezTo>
                <a:cubicBezTo>
                  <a:pt x="0" y="166"/>
                  <a:pt x="0" y="166"/>
                  <a:pt x="0" y="166"/>
                </a:cubicBezTo>
                <a:lnTo>
                  <a:pt x="287" y="166"/>
                </a:ln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9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9" name="PlaceHolder 4"/>
          <p:cNvSpPr>
            <a:spLocks noGrp="1"/>
          </p:cNvSpPr>
          <p:nvPr>
            <p:ph type="ftr" idx="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 name="PlaceHolder 5"/>
          <p:cNvSpPr>
            <a:spLocks noGrp="1"/>
          </p:cNvSpPr>
          <p:nvPr>
            <p:ph type="sldNum" idx="6"/>
          </p:nvPr>
        </p:nvSpPr>
        <p:spPr>
          <a:xfrm>
            <a:off x="531360" y="452916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8186B7-FFBF-421A-9F20-4646B8CBC0D4}"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137" name="Group 22"/>
          <p:cNvGrpSpPr/>
          <p:nvPr/>
        </p:nvGrpSpPr>
        <p:grpSpPr>
          <a:xfrm>
            <a:off x="0" y="228600"/>
            <a:ext cx="2851200" cy="6638760"/>
            <a:chOff x="0" y="228600"/>
            <a:chExt cx="2851200" cy="6638760"/>
          </a:xfrm>
        </p:grpSpPr>
        <p:sp>
          <p:nvSpPr>
            <p:cNvPr id="138"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9"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0"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1"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2"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3"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4"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5"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6"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7"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8"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9"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50" name="Group 9"/>
          <p:cNvGrpSpPr/>
          <p:nvPr/>
        </p:nvGrpSpPr>
        <p:grpSpPr>
          <a:xfrm>
            <a:off x="27000" y="0"/>
            <a:ext cx="2357280" cy="6853320"/>
            <a:chOff x="27000" y="0"/>
            <a:chExt cx="2357280" cy="6853320"/>
          </a:xfrm>
        </p:grpSpPr>
        <p:sp>
          <p:nvSpPr>
            <p:cNvPr id="151" name="Freeform 27"/>
            <p:cNvSpPr/>
            <p:nvPr/>
          </p:nvSpPr>
          <p:spPr>
            <a:xfrm>
              <a:off x="27000" y="0"/>
              <a:ext cx="49428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2" name="Freeform 28"/>
            <p:cNvSpPr/>
            <p:nvPr/>
          </p:nvSpPr>
          <p:spPr>
            <a:xfrm>
              <a:off x="550080" y="4316400"/>
              <a:ext cx="42336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3"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4" name="Freeform 30"/>
            <p:cNvSpPr/>
            <p:nvPr/>
          </p:nvSpPr>
          <p:spPr>
            <a:xfrm>
              <a:off x="521280" y="4364280"/>
              <a:ext cx="55188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5" name="Freeform 31"/>
            <p:cNvSpPr/>
            <p:nvPr/>
          </p:nvSpPr>
          <p:spPr>
            <a:xfrm>
              <a:off x="46764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6"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7" name="Freeform 33"/>
            <p:cNvSpPr/>
            <p:nvPr/>
          </p:nvSpPr>
          <p:spPr>
            <a:xfrm>
              <a:off x="50220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8" name="Freeform 34"/>
            <p:cNvSpPr/>
            <p:nvPr/>
          </p:nvSpPr>
          <p:spPr>
            <a:xfrm>
              <a:off x="973800" y="3145680"/>
              <a:ext cx="141048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9"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0" name="Freeform 36"/>
            <p:cNvSpPr/>
            <p:nvPr/>
          </p:nvSpPr>
          <p:spPr>
            <a:xfrm>
              <a:off x="97380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1"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2"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63"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4"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16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68" name="PlaceHolder 4"/>
          <p:cNvSpPr>
            <a:spLocks noGrp="1"/>
          </p:cNvSpPr>
          <p:nvPr>
            <p:ph type="ftr" idx="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9" name="PlaceHolder 5"/>
          <p:cNvSpPr>
            <a:spLocks noGrp="1"/>
          </p:cNvSpPr>
          <p:nvPr>
            <p:ph type="sldNum" idx="9"/>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B075C7-4CD6-49F8-8A67-A2C00B80A99F}"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206" name="Group 22"/>
          <p:cNvGrpSpPr/>
          <p:nvPr/>
        </p:nvGrpSpPr>
        <p:grpSpPr>
          <a:xfrm>
            <a:off x="0" y="228600"/>
            <a:ext cx="2851200" cy="6638760"/>
            <a:chOff x="0" y="228600"/>
            <a:chExt cx="2851200" cy="6638760"/>
          </a:xfrm>
        </p:grpSpPr>
        <p:sp>
          <p:nvSpPr>
            <p:cNvPr id="207"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8"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9"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0"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1"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2"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3"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4"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5"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6"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7"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8"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19" name="Group 9"/>
          <p:cNvGrpSpPr/>
          <p:nvPr/>
        </p:nvGrpSpPr>
        <p:grpSpPr>
          <a:xfrm>
            <a:off x="27000" y="0"/>
            <a:ext cx="2357280" cy="6853320"/>
            <a:chOff x="27000" y="0"/>
            <a:chExt cx="2357280" cy="6853320"/>
          </a:xfrm>
        </p:grpSpPr>
        <p:sp>
          <p:nvSpPr>
            <p:cNvPr id="220" name="Freeform 27"/>
            <p:cNvSpPr/>
            <p:nvPr/>
          </p:nvSpPr>
          <p:spPr>
            <a:xfrm>
              <a:off x="27000" y="0"/>
              <a:ext cx="49428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1" name="Freeform 28"/>
            <p:cNvSpPr/>
            <p:nvPr/>
          </p:nvSpPr>
          <p:spPr>
            <a:xfrm>
              <a:off x="550080" y="4316400"/>
              <a:ext cx="42336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2"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3" name="Freeform 30"/>
            <p:cNvSpPr/>
            <p:nvPr/>
          </p:nvSpPr>
          <p:spPr>
            <a:xfrm>
              <a:off x="521280" y="4364280"/>
              <a:ext cx="55188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4" name="Freeform 31"/>
            <p:cNvSpPr/>
            <p:nvPr/>
          </p:nvSpPr>
          <p:spPr>
            <a:xfrm>
              <a:off x="46764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5"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6" name="Freeform 33"/>
            <p:cNvSpPr/>
            <p:nvPr/>
          </p:nvSpPr>
          <p:spPr>
            <a:xfrm>
              <a:off x="50220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7" name="Freeform 34"/>
            <p:cNvSpPr/>
            <p:nvPr/>
          </p:nvSpPr>
          <p:spPr>
            <a:xfrm>
              <a:off x="973800" y="3145680"/>
              <a:ext cx="141048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8"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9" name="Freeform 36"/>
            <p:cNvSpPr/>
            <p:nvPr/>
          </p:nvSpPr>
          <p:spPr>
            <a:xfrm>
              <a:off x="97380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0"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1"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32"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3"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235"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237" name="PlaceHolder 4"/>
          <p:cNvSpPr>
            <a:spLocks noGrp="1"/>
          </p:cNvSpPr>
          <p:nvPr>
            <p:ph type="ftr" idx="1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8" name="PlaceHolder 5"/>
          <p:cNvSpPr>
            <a:spLocks noGrp="1"/>
          </p:cNvSpPr>
          <p:nvPr>
            <p:ph type="sldNum" idx="12"/>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41442A-D4B4-4196-B46A-AE155AC4DA2B}"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275" name="Group 22"/>
          <p:cNvGrpSpPr/>
          <p:nvPr/>
        </p:nvGrpSpPr>
        <p:grpSpPr>
          <a:xfrm>
            <a:off x="0" y="228600"/>
            <a:ext cx="2851200" cy="6638760"/>
            <a:chOff x="0" y="228600"/>
            <a:chExt cx="2851200" cy="6638760"/>
          </a:xfrm>
        </p:grpSpPr>
        <p:sp>
          <p:nvSpPr>
            <p:cNvPr id="276"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7"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8"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9"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0"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1"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2"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3"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4"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5"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6"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7"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88" name="Group 9"/>
          <p:cNvGrpSpPr/>
          <p:nvPr/>
        </p:nvGrpSpPr>
        <p:grpSpPr>
          <a:xfrm>
            <a:off x="27000" y="0"/>
            <a:ext cx="2357280" cy="6853320"/>
            <a:chOff x="27000" y="0"/>
            <a:chExt cx="2357280" cy="6853320"/>
          </a:xfrm>
        </p:grpSpPr>
        <p:sp>
          <p:nvSpPr>
            <p:cNvPr id="289" name="Freeform 27"/>
            <p:cNvSpPr/>
            <p:nvPr/>
          </p:nvSpPr>
          <p:spPr>
            <a:xfrm>
              <a:off x="27000" y="0"/>
              <a:ext cx="49428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0" name="Freeform 28"/>
            <p:cNvSpPr/>
            <p:nvPr/>
          </p:nvSpPr>
          <p:spPr>
            <a:xfrm>
              <a:off x="550080" y="4316400"/>
              <a:ext cx="42336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1"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2" name="Freeform 30"/>
            <p:cNvSpPr/>
            <p:nvPr/>
          </p:nvSpPr>
          <p:spPr>
            <a:xfrm>
              <a:off x="521280" y="4364280"/>
              <a:ext cx="55188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3" name="Freeform 31"/>
            <p:cNvSpPr/>
            <p:nvPr/>
          </p:nvSpPr>
          <p:spPr>
            <a:xfrm>
              <a:off x="46764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4"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5" name="Freeform 33"/>
            <p:cNvSpPr/>
            <p:nvPr/>
          </p:nvSpPr>
          <p:spPr>
            <a:xfrm>
              <a:off x="50220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6" name="Freeform 34"/>
            <p:cNvSpPr/>
            <p:nvPr/>
          </p:nvSpPr>
          <p:spPr>
            <a:xfrm>
              <a:off x="973800" y="3145680"/>
              <a:ext cx="141048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7"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8" name="Freeform 36"/>
            <p:cNvSpPr/>
            <p:nvPr/>
          </p:nvSpPr>
          <p:spPr>
            <a:xfrm>
              <a:off x="97380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9"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0"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01"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2"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30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6" name="PlaceHolder 4"/>
          <p:cNvSpPr>
            <a:spLocks noGrp="1"/>
          </p:cNvSpPr>
          <p:nvPr>
            <p:ph type="ftr" idx="1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7" name="PlaceHolder 5"/>
          <p:cNvSpPr>
            <a:spLocks noGrp="1"/>
          </p:cNvSpPr>
          <p:nvPr>
            <p:ph type="sldNum" idx="15"/>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8B092F-4548-43CC-BDF4-608F6E04DB9A}"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344" name="Group 22"/>
          <p:cNvGrpSpPr/>
          <p:nvPr/>
        </p:nvGrpSpPr>
        <p:grpSpPr>
          <a:xfrm>
            <a:off x="0" y="228600"/>
            <a:ext cx="2851200" cy="6638760"/>
            <a:chOff x="0" y="228600"/>
            <a:chExt cx="2851200" cy="6638760"/>
          </a:xfrm>
        </p:grpSpPr>
        <p:sp>
          <p:nvSpPr>
            <p:cNvPr id="345"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6"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7"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8"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9"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0"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1"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2"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3"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4"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5"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6"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357" name="Group 9"/>
          <p:cNvGrpSpPr/>
          <p:nvPr/>
        </p:nvGrpSpPr>
        <p:grpSpPr>
          <a:xfrm>
            <a:off x="27000" y="0"/>
            <a:ext cx="2357280" cy="6853320"/>
            <a:chOff x="27000" y="0"/>
            <a:chExt cx="2357280" cy="6853320"/>
          </a:xfrm>
        </p:grpSpPr>
        <p:sp>
          <p:nvSpPr>
            <p:cNvPr id="358" name="Freeform 27"/>
            <p:cNvSpPr/>
            <p:nvPr/>
          </p:nvSpPr>
          <p:spPr>
            <a:xfrm>
              <a:off x="27000" y="0"/>
              <a:ext cx="49428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9" name="Freeform 28"/>
            <p:cNvSpPr/>
            <p:nvPr/>
          </p:nvSpPr>
          <p:spPr>
            <a:xfrm>
              <a:off x="550080" y="4316400"/>
              <a:ext cx="42336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0"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1" name="Freeform 30"/>
            <p:cNvSpPr/>
            <p:nvPr/>
          </p:nvSpPr>
          <p:spPr>
            <a:xfrm>
              <a:off x="521280" y="4364280"/>
              <a:ext cx="55188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2" name="Freeform 31"/>
            <p:cNvSpPr/>
            <p:nvPr/>
          </p:nvSpPr>
          <p:spPr>
            <a:xfrm>
              <a:off x="46764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3"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4" name="Freeform 33"/>
            <p:cNvSpPr/>
            <p:nvPr/>
          </p:nvSpPr>
          <p:spPr>
            <a:xfrm>
              <a:off x="50220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5" name="Freeform 34"/>
            <p:cNvSpPr/>
            <p:nvPr/>
          </p:nvSpPr>
          <p:spPr>
            <a:xfrm>
              <a:off x="973800" y="3145680"/>
              <a:ext cx="141048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6"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7" name="Freeform 36"/>
            <p:cNvSpPr/>
            <p:nvPr/>
          </p:nvSpPr>
          <p:spPr>
            <a:xfrm>
              <a:off x="97380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8"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9"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70"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1"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373"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75" name="PlaceHolder 4"/>
          <p:cNvSpPr>
            <a:spLocks noGrp="1"/>
          </p:cNvSpPr>
          <p:nvPr>
            <p:ph type="ftr" idx="1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76" name="PlaceHolder 5"/>
          <p:cNvSpPr>
            <a:spLocks noGrp="1"/>
          </p:cNvSpPr>
          <p:nvPr>
            <p:ph type="sldNum" idx="1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1C796D-8B47-4F46-8782-FAC4741BD907}"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413" name="Group 22"/>
          <p:cNvGrpSpPr/>
          <p:nvPr/>
        </p:nvGrpSpPr>
        <p:grpSpPr>
          <a:xfrm>
            <a:off x="0" y="228600"/>
            <a:ext cx="2851200" cy="6638760"/>
            <a:chOff x="0" y="228600"/>
            <a:chExt cx="2851200" cy="6638760"/>
          </a:xfrm>
        </p:grpSpPr>
        <p:sp>
          <p:nvSpPr>
            <p:cNvPr id="414"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5"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6"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7"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8"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9"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0"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1"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2"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3"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4"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5"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26" name="Group 9"/>
          <p:cNvGrpSpPr/>
          <p:nvPr/>
        </p:nvGrpSpPr>
        <p:grpSpPr>
          <a:xfrm>
            <a:off x="27000" y="0"/>
            <a:ext cx="2357280" cy="6853320"/>
            <a:chOff x="27000" y="0"/>
            <a:chExt cx="2357280" cy="6853320"/>
          </a:xfrm>
        </p:grpSpPr>
        <p:sp>
          <p:nvSpPr>
            <p:cNvPr id="427" name="Freeform 27"/>
            <p:cNvSpPr/>
            <p:nvPr/>
          </p:nvSpPr>
          <p:spPr>
            <a:xfrm>
              <a:off x="27000" y="0"/>
              <a:ext cx="49428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8" name="Freeform 28"/>
            <p:cNvSpPr/>
            <p:nvPr/>
          </p:nvSpPr>
          <p:spPr>
            <a:xfrm>
              <a:off x="550080" y="4316400"/>
              <a:ext cx="42336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9"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0" name="Freeform 30"/>
            <p:cNvSpPr/>
            <p:nvPr/>
          </p:nvSpPr>
          <p:spPr>
            <a:xfrm>
              <a:off x="521280" y="4364280"/>
              <a:ext cx="55188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1" name="Freeform 31"/>
            <p:cNvSpPr/>
            <p:nvPr/>
          </p:nvSpPr>
          <p:spPr>
            <a:xfrm>
              <a:off x="46764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2"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3" name="Freeform 33"/>
            <p:cNvSpPr/>
            <p:nvPr/>
          </p:nvSpPr>
          <p:spPr>
            <a:xfrm>
              <a:off x="50220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4" name="Freeform 34"/>
            <p:cNvSpPr/>
            <p:nvPr/>
          </p:nvSpPr>
          <p:spPr>
            <a:xfrm>
              <a:off x="973800" y="3145680"/>
              <a:ext cx="141048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5"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6" name="Freeform 36"/>
            <p:cNvSpPr/>
            <p:nvPr/>
          </p:nvSpPr>
          <p:spPr>
            <a:xfrm>
              <a:off x="97380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7"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8"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439"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0"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442"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44" name="PlaceHolder 4"/>
          <p:cNvSpPr>
            <a:spLocks noGrp="1"/>
          </p:cNvSpPr>
          <p:nvPr>
            <p:ph type="ftr" idx="2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45" name="PlaceHolder 5"/>
          <p:cNvSpPr>
            <a:spLocks noGrp="1"/>
          </p:cNvSpPr>
          <p:nvPr>
            <p:ph type="sldNum" idx="2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B953FC-506A-4358-A605-C5EE2CCAEDDC}"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482" name="Group 22"/>
          <p:cNvGrpSpPr/>
          <p:nvPr/>
        </p:nvGrpSpPr>
        <p:grpSpPr>
          <a:xfrm>
            <a:off x="0" y="228600"/>
            <a:ext cx="2851200" cy="6638760"/>
            <a:chOff x="0" y="228600"/>
            <a:chExt cx="2851200" cy="6638760"/>
          </a:xfrm>
        </p:grpSpPr>
        <p:sp>
          <p:nvSpPr>
            <p:cNvPr id="483"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4"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5"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6"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7"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8"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9"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0"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1"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2"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3"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4"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95" name="Group 9"/>
          <p:cNvGrpSpPr/>
          <p:nvPr/>
        </p:nvGrpSpPr>
        <p:grpSpPr>
          <a:xfrm>
            <a:off x="27000" y="0"/>
            <a:ext cx="2357280" cy="6853320"/>
            <a:chOff x="27000" y="0"/>
            <a:chExt cx="2357280" cy="6853320"/>
          </a:xfrm>
        </p:grpSpPr>
        <p:sp>
          <p:nvSpPr>
            <p:cNvPr id="496" name="Freeform 27"/>
            <p:cNvSpPr/>
            <p:nvPr/>
          </p:nvSpPr>
          <p:spPr>
            <a:xfrm>
              <a:off x="27000" y="0"/>
              <a:ext cx="49428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7" name="Freeform 28"/>
            <p:cNvSpPr/>
            <p:nvPr/>
          </p:nvSpPr>
          <p:spPr>
            <a:xfrm>
              <a:off x="550080" y="4316400"/>
              <a:ext cx="42336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8"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9" name="Freeform 30"/>
            <p:cNvSpPr/>
            <p:nvPr/>
          </p:nvSpPr>
          <p:spPr>
            <a:xfrm>
              <a:off x="521280" y="4364280"/>
              <a:ext cx="55188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0" name="Freeform 31"/>
            <p:cNvSpPr/>
            <p:nvPr/>
          </p:nvSpPr>
          <p:spPr>
            <a:xfrm>
              <a:off x="46764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1"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2" name="Freeform 33"/>
            <p:cNvSpPr/>
            <p:nvPr/>
          </p:nvSpPr>
          <p:spPr>
            <a:xfrm>
              <a:off x="50220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3" name="Freeform 34"/>
            <p:cNvSpPr/>
            <p:nvPr/>
          </p:nvSpPr>
          <p:spPr>
            <a:xfrm>
              <a:off x="973800" y="3145680"/>
              <a:ext cx="141048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4"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5" name="Freeform 36"/>
            <p:cNvSpPr/>
            <p:nvPr/>
          </p:nvSpPr>
          <p:spPr>
            <a:xfrm>
              <a:off x="97380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6"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7"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08"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9"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511"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13" name="PlaceHolder 4"/>
          <p:cNvSpPr>
            <a:spLocks noGrp="1"/>
          </p:cNvSpPr>
          <p:nvPr>
            <p:ph type="ftr" idx="23"/>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14" name="PlaceHolder 5"/>
          <p:cNvSpPr>
            <a:spLocks noGrp="1"/>
          </p:cNvSpPr>
          <p:nvPr>
            <p:ph type="sldNum" idx="24"/>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BD0349-B4C2-407B-8AC0-3D31C7D46030}"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551" name="Group 22"/>
          <p:cNvGrpSpPr/>
          <p:nvPr/>
        </p:nvGrpSpPr>
        <p:grpSpPr>
          <a:xfrm>
            <a:off x="0" y="228600"/>
            <a:ext cx="2851200" cy="6638760"/>
            <a:chOff x="0" y="228600"/>
            <a:chExt cx="2851200" cy="6638760"/>
          </a:xfrm>
        </p:grpSpPr>
        <p:sp>
          <p:nvSpPr>
            <p:cNvPr id="552"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3"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4"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5"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6"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7"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8"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9"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0"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1"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2"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3"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564" name="Group 9"/>
          <p:cNvGrpSpPr/>
          <p:nvPr/>
        </p:nvGrpSpPr>
        <p:grpSpPr>
          <a:xfrm>
            <a:off x="27000" y="0"/>
            <a:ext cx="2357280" cy="6853320"/>
            <a:chOff x="27000" y="0"/>
            <a:chExt cx="2357280" cy="6853320"/>
          </a:xfrm>
        </p:grpSpPr>
        <p:sp>
          <p:nvSpPr>
            <p:cNvPr id="565" name="Freeform 27"/>
            <p:cNvSpPr/>
            <p:nvPr/>
          </p:nvSpPr>
          <p:spPr>
            <a:xfrm>
              <a:off x="27000" y="0"/>
              <a:ext cx="49428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6" name="Freeform 28"/>
            <p:cNvSpPr/>
            <p:nvPr/>
          </p:nvSpPr>
          <p:spPr>
            <a:xfrm>
              <a:off x="550080" y="4316400"/>
              <a:ext cx="42336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7"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8" name="Freeform 30"/>
            <p:cNvSpPr/>
            <p:nvPr/>
          </p:nvSpPr>
          <p:spPr>
            <a:xfrm>
              <a:off x="521280" y="4364280"/>
              <a:ext cx="55188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9" name="Freeform 31"/>
            <p:cNvSpPr/>
            <p:nvPr/>
          </p:nvSpPr>
          <p:spPr>
            <a:xfrm>
              <a:off x="46764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0"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1" name="Freeform 33"/>
            <p:cNvSpPr/>
            <p:nvPr/>
          </p:nvSpPr>
          <p:spPr>
            <a:xfrm>
              <a:off x="50220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2" name="Freeform 34"/>
            <p:cNvSpPr/>
            <p:nvPr/>
          </p:nvSpPr>
          <p:spPr>
            <a:xfrm>
              <a:off x="973800" y="3145680"/>
              <a:ext cx="141048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3"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4" name="Freeform 36"/>
            <p:cNvSpPr/>
            <p:nvPr/>
          </p:nvSpPr>
          <p:spPr>
            <a:xfrm>
              <a:off x="97380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5"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6"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77"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8"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580"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82" name="PlaceHolder 4"/>
          <p:cNvSpPr>
            <a:spLocks noGrp="1"/>
          </p:cNvSpPr>
          <p:nvPr>
            <p:ph type="ftr" idx="26"/>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83" name="PlaceHolder 5"/>
          <p:cNvSpPr>
            <a:spLocks noGrp="1"/>
          </p:cNvSpPr>
          <p:nvPr>
            <p:ph type="sldNum" idx="27"/>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3666DB-9BCF-4F1C-93C9-7E0FADC94533}"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sp>
        <p:nvSpPr>
          <p:cNvPr id="1176" name="Rectangle 7"/>
          <p:cNvSpPr/>
          <p:nvPr/>
        </p:nvSpPr>
        <p:spPr>
          <a:xfrm>
            <a:off x="0" y="0"/>
            <a:ext cx="12188880" cy="68580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pic>
        <p:nvPicPr>
          <p:cNvPr id="1177" name="Рисунок 3" descr=""/>
          <p:cNvPicPr/>
          <p:nvPr/>
        </p:nvPicPr>
        <p:blipFill>
          <a:blip r:embed="rId1"/>
          <a:stretch/>
        </p:blipFill>
        <p:spPr>
          <a:xfrm>
            <a:off x="7075440" y="1930320"/>
            <a:ext cx="4152960" cy="2990880"/>
          </a:xfrm>
          <a:prstGeom prst="rect">
            <a:avLst/>
          </a:prstGeom>
          <a:ln w="0">
            <a:noFill/>
          </a:ln>
        </p:spPr>
      </p:pic>
      <p:sp>
        <p:nvSpPr>
          <p:cNvPr id="1178" name="Rectangle 8"/>
          <p:cNvSpPr/>
          <p:nvPr/>
        </p:nvSpPr>
        <p:spPr>
          <a:xfrm>
            <a:off x="0" y="0"/>
            <a:ext cx="6111720" cy="6858000"/>
          </a:xfrm>
          <a:prstGeom prst="rect">
            <a:avLst/>
          </a:prstGeom>
          <a:solidFill>
            <a:srgbClr val="172935">
              <a:alpha val="9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79" name="Freeform 27"/>
          <p:cNvSpPr/>
          <p:nvPr/>
        </p:nvSpPr>
        <p:spPr>
          <a:xfrm>
            <a:off x="0" y="5032440"/>
            <a:ext cx="6881760" cy="857160"/>
          </a:xfrm>
          <a:custGeom>
            <a:avLst/>
            <a:gdLst/>
            <a:ahLst/>
            <a:rect l="l" t="t" r="r" b="b"/>
            <a:pathLst>
              <a:path w="6881206" h="857047">
                <a:moveTo>
                  <a:pt x="0" y="0"/>
                </a:moveTo>
                <a:cubicBezTo>
                  <a:pt x="0" y="0"/>
                  <a:pt x="0" y="0"/>
                  <a:pt x="653445" y="0"/>
                </a:cubicBezTo>
                <a:cubicBezTo>
                  <a:pt x="653445" y="0"/>
                  <a:pt x="653445" y="0"/>
                  <a:pt x="1156123" y="0"/>
                </a:cubicBezTo>
                <a:lnTo>
                  <a:pt x="1380221" y="0"/>
                </a:lnTo>
                <a:cubicBezTo>
                  <a:pt x="1380221" y="0"/>
                  <a:pt x="1380221" y="0"/>
                  <a:pt x="1444324" y="0"/>
                </a:cubicBezTo>
                <a:lnTo>
                  <a:pt x="1522072" y="0"/>
                </a:lnTo>
                <a:lnTo>
                  <a:pt x="1596570" y="0"/>
                </a:lnTo>
                <a:cubicBezTo>
                  <a:pt x="1668686" y="0"/>
                  <a:pt x="1764840" y="0"/>
                  <a:pt x="1893047" y="0"/>
                </a:cubicBezTo>
                <a:cubicBezTo>
                  <a:pt x="1893047" y="0"/>
                  <a:pt x="1893047" y="0"/>
                  <a:pt x="1978260" y="0"/>
                </a:cubicBezTo>
                <a:lnTo>
                  <a:pt x="2032793" y="0"/>
                </a:lnTo>
                <a:lnTo>
                  <a:pt x="2095032" y="0"/>
                </a:lnTo>
                <a:cubicBezTo>
                  <a:pt x="2196025" y="0"/>
                  <a:pt x="2347515" y="0"/>
                  <a:pt x="2574748" y="0"/>
                </a:cubicBezTo>
                <a:lnTo>
                  <a:pt x="2712413" y="0"/>
                </a:lnTo>
                <a:lnTo>
                  <a:pt x="2724164" y="0"/>
                </a:lnTo>
                <a:lnTo>
                  <a:pt x="2806423" y="0"/>
                </a:lnTo>
                <a:lnTo>
                  <a:pt x="2975563" y="0"/>
                </a:lnTo>
                <a:lnTo>
                  <a:pt x="3029696" y="0"/>
                </a:lnTo>
                <a:lnTo>
                  <a:pt x="3216247" y="0"/>
                </a:lnTo>
                <a:lnTo>
                  <a:pt x="3464491" y="0"/>
                </a:lnTo>
                <a:lnTo>
                  <a:pt x="3476820" y="0"/>
                </a:lnTo>
                <a:lnTo>
                  <a:pt x="3508932" y="0"/>
                </a:lnTo>
                <a:cubicBezTo>
                  <a:pt x="3508932" y="0"/>
                  <a:pt x="3508932" y="0"/>
                  <a:pt x="3518154" y="0"/>
                </a:cubicBezTo>
                <a:lnTo>
                  <a:pt x="3563124" y="0"/>
                </a:lnTo>
                <a:lnTo>
                  <a:pt x="3568615" y="0"/>
                </a:lnTo>
                <a:lnTo>
                  <a:pt x="3582711" y="0"/>
                </a:lnTo>
                <a:lnTo>
                  <a:pt x="3607047" y="0"/>
                </a:lnTo>
                <a:lnTo>
                  <a:pt x="3711363" y="0"/>
                </a:lnTo>
                <a:lnTo>
                  <a:pt x="3757936" y="0"/>
                </a:lnTo>
                <a:lnTo>
                  <a:pt x="3914505" y="0"/>
                </a:lnTo>
                <a:lnTo>
                  <a:pt x="4099165" y="0"/>
                </a:lnTo>
                <a:cubicBezTo>
                  <a:pt x="4099165" y="0"/>
                  <a:pt x="4099165" y="0"/>
                  <a:pt x="4176573" y="0"/>
                </a:cubicBezTo>
                <a:cubicBezTo>
                  <a:pt x="4176573" y="0"/>
                  <a:pt x="4176573" y="0"/>
                  <a:pt x="4211043" y="0"/>
                </a:cubicBezTo>
                <a:lnTo>
                  <a:pt x="4249415" y="0"/>
                </a:lnTo>
                <a:lnTo>
                  <a:pt x="4292911" y="0"/>
                </a:lnTo>
                <a:cubicBezTo>
                  <a:pt x="4370470" y="0"/>
                  <a:pt x="4499735" y="0"/>
                  <a:pt x="4715176" y="0"/>
                </a:cubicBezTo>
                <a:lnTo>
                  <a:pt x="4749035" y="0"/>
                </a:lnTo>
                <a:lnTo>
                  <a:pt x="5107279" y="0"/>
                </a:lnTo>
                <a:lnTo>
                  <a:pt x="5446306" y="0"/>
                </a:lnTo>
                <a:lnTo>
                  <a:pt x="5654500" y="0"/>
                </a:lnTo>
                <a:lnTo>
                  <a:pt x="5879355" y="0"/>
                </a:lnTo>
                <a:lnTo>
                  <a:pt x="6374171" y="0"/>
                </a:lnTo>
                <a:lnTo>
                  <a:pt x="6382691" y="0"/>
                </a:lnTo>
                <a:cubicBezTo>
                  <a:pt x="6392367" y="0"/>
                  <a:pt x="6402043" y="5258"/>
                  <a:pt x="6406881" y="10516"/>
                </a:cubicBezTo>
                <a:cubicBezTo>
                  <a:pt x="6406881" y="10516"/>
                  <a:pt x="6411719" y="10516"/>
                  <a:pt x="6411719" y="15774"/>
                </a:cubicBezTo>
                <a:cubicBezTo>
                  <a:pt x="6411719" y="15774"/>
                  <a:pt x="6411719" y="15774"/>
                  <a:pt x="6412418" y="16534"/>
                </a:cubicBezTo>
                <a:lnTo>
                  <a:pt x="6413765" y="17998"/>
                </a:lnTo>
                <a:lnTo>
                  <a:pt x="6418286" y="21854"/>
                </a:lnTo>
                <a:cubicBezTo>
                  <a:pt x="6439669" y="40092"/>
                  <a:pt x="6525203" y="113046"/>
                  <a:pt x="6867337" y="404863"/>
                </a:cubicBezTo>
                <a:cubicBezTo>
                  <a:pt x="6885830" y="415379"/>
                  <a:pt x="6885830" y="436411"/>
                  <a:pt x="6867337" y="452185"/>
                </a:cubicBezTo>
                <a:cubicBezTo>
                  <a:pt x="6867337" y="452185"/>
                  <a:pt x="6867337" y="452185"/>
                  <a:pt x="6491457" y="772784"/>
                </a:cubicBezTo>
                <a:lnTo>
                  <a:pt x="6413765" y="839050"/>
                </a:lnTo>
                <a:lnTo>
                  <a:pt x="6411719" y="841273"/>
                </a:lnTo>
                <a:cubicBezTo>
                  <a:pt x="6411719" y="841273"/>
                  <a:pt x="6406881" y="841273"/>
                  <a:pt x="6406881" y="846531"/>
                </a:cubicBezTo>
                <a:cubicBezTo>
                  <a:pt x="6402043" y="851789"/>
                  <a:pt x="6392367" y="857047"/>
                  <a:pt x="6382691" y="857047"/>
                </a:cubicBezTo>
                <a:lnTo>
                  <a:pt x="6374171" y="857047"/>
                </a:lnTo>
                <a:lnTo>
                  <a:pt x="6368680" y="857047"/>
                </a:lnTo>
                <a:lnTo>
                  <a:pt x="6348221" y="857047"/>
                </a:lnTo>
                <a:lnTo>
                  <a:pt x="6330248" y="857047"/>
                </a:lnTo>
                <a:lnTo>
                  <a:pt x="6266353" y="857047"/>
                </a:lnTo>
                <a:lnTo>
                  <a:pt x="6225932" y="857047"/>
                </a:lnTo>
                <a:lnTo>
                  <a:pt x="6106926" y="857047"/>
                </a:lnTo>
                <a:lnTo>
                  <a:pt x="6022790" y="857047"/>
                </a:lnTo>
                <a:lnTo>
                  <a:pt x="5844088" y="857047"/>
                </a:lnTo>
                <a:lnTo>
                  <a:pt x="5687880" y="857047"/>
                </a:lnTo>
                <a:lnTo>
                  <a:pt x="5451985" y="857047"/>
                </a:lnTo>
                <a:lnTo>
                  <a:pt x="5188261" y="857047"/>
                </a:lnTo>
                <a:lnTo>
                  <a:pt x="4904764" y="857047"/>
                </a:lnTo>
                <a:lnTo>
                  <a:pt x="4490989" y="857047"/>
                </a:lnTo>
                <a:lnTo>
                  <a:pt x="4176573" y="857047"/>
                </a:lnTo>
                <a:cubicBezTo>
                  <a:pt x="4176573" y="857047"/>
                  <a:pt x="4176573" y="857047"/>
                  <a:pt x="4099165" y="857047"/>
                </a:cubicBezTo>
                <a:cubicBezTo>
                  <a:pt x="4099165" y="857047"/>
                  <a:pt x="4099165" y="857047"/>
                  <a:pt x="4089943" y="857047"/>
                </a:cubicBezTo>
                <a:lnTo>
                  <a:pt x="4057940" y="857047"/>
                </a:lnTo>
                <a:lnTo>
                  <a:pt x="4025386" y="857047"/>
                </a:lnTo>
                <a:cubicBezTo>
                  <a:pt x="3988496" y="857047"/>
                  <a:pt x="3933162" y="857047"/>
                  <a:pt x="3850160" y="857047"/>
                </a:cubicBezTo>
                <a:lnTo>
                  <a:pt x="3563124" y="857047"/>
                </a:lnTo>
                <a:lnTo>
                  <a:pt x="3550795" y="857047"/>
                </a:lnTo>
                <a:lnTo>
                  <a:pt x="3508932" y="857047"/>
                </a:lnTo>
                <a:cubicBezTo>
                  <a:pt x="3508932" y="857047"/>
                  <a:pt x="3508932" y="857047"/>
                  <a:pt x="3483683" y="857047"/>
                </a:cubicBezTo>
                <a:lnTo>
                  <a:pt x="3464491" y="857047"/>
                </a:lnTo>
                <a:lnTo>
                  <a:pt x="3452740" y="857047"/>
                </a:lnTo>
                <a:lnTo>
                  <a:pt x="3423719" y="857047"/>
                </a:lnTo>
                <a:lnTo>
                  <a:pt x="3370481" y="857047"/>
                </a:lnTo>
                <a:lnTo>
                  <a:pt x="3306946" y="857047"/>
                </a:lnTo>
                <a:lnTo>
                  <a:pt x="3147208" y="857047"/>
                </a:lnTo>
                <a:lnTo>
                  <a:pt x="3114429" y="857047"/>
                </a:lnTo>
                <a:lnTo>
                  <a:pt x="2960658" y="857047"/>
                </a:lnTo>
                <a:lnTo>
                  <a:pt x="2827230" y="857047"/>
                </a:lnTo>
                <a:lnTo>
                  <a:pt x="2712413" y="857047"/>
                </a:lnTo>
                <a:lnTo>
                  <a:pt x="2680242" y="857047"/>
                </a:lnTo>
                <a:lnTo>
                  <a:pt x="2603835" y="857047"/>
                </a:lnTo>
                <a:lnTo>
                  <a:pt x="2455042" y="857047"/>
                </a:lnTo>
                <a:lnTo>
                  <a:pt x="2426415" y="857047"/>
                </a:lnTo>
                <a:lnTo>
                  <a:pt x="2209736" y="857047"/>
                </a:lnTo>
                <a:lnTo>
                  <a:pt x="1893047" y="857047"/>
                </a:lnTo>
                <a:cubicBezTo>
                  <a:pt x="1893047" y="857047"/>
                  <a:pt x="1893047" y="857047"/>
                  <a:pt x="1885034" y="857047"/>
                </a:cubicBezTo>
                <a:lnTo>
                  <a:pt x="1843786" y="857047"/>
                </a:lnTo>
                <a:lnTo>
                  <a:pt x="1828944" y="857047"/>
                </a:lnTo>
                <a:cubicBezTo>
                  <a:pt x="1764840" y="857047"/>
                  <a:pt x="1636634" y="857047"/>
                  <a:pt x="1380221" y="857047"/>
                </a:cubicBezTo>
                <a:lnTo>
                  <a:pt x="1333065" y="857047"/>
                </a:lnTo>
                <a:cubicBezTo>
                  <a:pt x="1136016" y="857047"/>
                  <a:pt x="910816" y="857047"/>
                  <a:pt x="653445" y="857047"/>
                </a:cubicBezTo>
                <a:cubicBezTo>
                  <a:pt x="653445" y="857047"/>
                  <a:pt x="653445" y="857047"/>
                  <a:pt x="0" y="857047"/>
                </a:cubicBezTo>
                <a:cubicBezTo>
                  <a:pt x="0" y="857047"/>
                  <a:pt x="0" y="857047"/>
                  <a:pt x="0" y="0"/>
                </a:cubicBezTo>
                <a:close/>
              </a:path>
            </a:pathLst>
          </a:custGeom>
          <a:solidFill>
            <a:srgbClr val="353535"/>
          </a:solidFill>
          <a:ln w="0">
            <a:noFill/>
          </a:ln>
        </p:spPr>
        <p:style>
          <a:lnRef idx="0"/>
          <a:fillRef idx="0"/>
          <a:effectRef idx="0"/>
          <a:fontRef idx="minor"/>
        </p:style>
        <p:txBody>
          <a:bodyPr anchor="t">
            <a:noAutofit/>
          </a:bodyPr>
          <a:p>
            <a:endParaRPr b="0" lang="en-US" sz="1800" spc="-1" strike="noStrike">
              <a:solidFill>
                <a:srgbClr val="000000"/>
              </a:solidFill>
              <a:latin typeface="Century Gothic"/>
            </a:endParaRPr>
          </a:p>
        </p:txBody>
      </p:sp>
      <p:sp>
        <p:nvSpPr>
          <p:cNvPr id="1180" name="PlaceHolder 1"/>
          <p:cNvSpPr>
            <a:spLocks noGrp="1"/>
          </p:cNvSpPr>
          <p:nvPr>
            <p:ph type="title"/>
          </p:nvPr>
        </p:nvSpPr>
        <p:spPr>
          <a:xfrm>
            <a:off x="539280" y="966600"/>
            <a:ext cx="5281560" cy="3943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000" spc="-1" strike="noStrike">
                <a:solidFill>
                  <a:srgbClr val="feffff"/>
                </a:solidFill>
                <a:latin typeface="Century Gothic"/>
              </a:rPr>
              <a:t>Изобразительное искусство 2-ой половины 20 в.</a:t>
            </a:r>
            <a:endParaRPr b="0" lang="en-US" sz="4000" spc="-1" strike="noStrike">
              <a:solidFill>
                <a:srgbClr val="178dbb"/>
              </a:solidFill>
              <a:latin typeface="Century Gothic"/>
            </a:endParaRPr>
          </a:p>
        </p:txBody>
      </p:sp>
      <p:sp>
        <p:nvSpPr>
          <p:cNvPr id="1181" name="PlaceHolder 2"/>
          <p:cNvSpPr>
            <a:spLocks noGrp="1"/>
          </p:cNvSpPr>
          <p:nvPr>
            <p:ph type="subTitle"/>
          </p:nvPr>
        </p:nvSpPr>
        <p:spPr>
          <a:xfrm>
            <a:off x="7368840" y="5338800"/>
            <a:ext cx="5280120" cy="1101600"/>
          </a:xfrm>
          <a:prstGeom prst="rect">
            <a:avLst/>
          </a:prstGeom>
          <a:noFill/>
          <a:ln w="0">
            <a:noFill/>
          </a:ln>
        </p:spPr>
        <p:txBody>
          <a:bodyPr anchor="ctr">
            <a:noAutofit/>
          </a:bodyPr>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Century Gothic"/>
              </a:rPr>
              <a:t>Выполнили:</a:t>
            </a:r>
            <a:br>
              <a:rPr sz="1600"/>
            </a:br>
            <a:r>
              <a:rPr b="0" lang="ru-RU" sz="1600" spc="-1" strike="noStrike">
                <a:solidFill>
                  <a:srgbClr val="000000"/>
                </a:solidFill>
                <a:latin typeface="Century Gothic"/>
              </a:rPr>
              <a:t>ученицы 9 класса</a:t>
            </a:r>
            <a:br>
              <a:rPr sz="1600"/>
            </a:br>
            <a:r>
              <a:rPr b="0" lang="ru-RU" sz="1600" spc="-1" strike="noStrike">
                <a:solidFill>
                  <a:srgbClr val="000000"/>
                </a:solidFill>
                <a:latin typeface="Century Gothic"/>
              </a:rPr>
              <a:t>МБОУ «Вяткинская СОШ»</a:t>
            </a:r>
            <a:br>
              <a:rPr sz="1600"/>
            </a:br>
            <a:r>
              <a:rPr b="0" lang="ru-RU" sz="1600" spc="-1" strike="noStrike">
                <a:solidFill>
                  <a:srgbClr val="000000"/>
                </a:solidFill>
                <a:latin typeface="Century Gothic"/>
              </a:rPr>
              <a:t>Морозова Юлия,</a:t>
            </a:r>
            <a:br>
              <a:rPr sz="1600"/>
            </a:br>
            <a:r>
              <a:rPr b="0" lang="ru-RU" sz="1600" spc="-1" strike="noStrike">
                <a:solidFill>
                  <a:srgbClr val="000000"/>
                </a:solidFill>
                <a:latin typeface="Century Gothic"/>
              </a:rPr>
              <a:t>Филиппова Анастасия (1),</a:t>
            </a:r>
            <a:br>
              <a:rPr sz="1600"/>
            </a:br>
            <a:r>
              <a:rPr b="0" lang="ru-RU" sz="1600" spc="-1" strike="noStrike">
                <a:solidFill>
                  <a:srgbClr val="000000"/>
                </a:solidFill>
                <a:latin typeface="Century Gothic"/>
              </a:rPr>
              <a:t>Филиппова Анастасия (2),</a:t>
            </a:r>
            <a:br>
              <a:rPr sz="1600"/>
            </a:br>
            <a:r>
              <a:rPr b="0" lang="ru-RU" sz="1600" spc="-1" strike="noStrike">
                <a:solidFill>
                  <a:srgbClr val="000000"/>
                </a:solidFill>
                <a:latin typeface="Century Gothic"/>
              </a:rPr>
              <a:t>Филиппова Надежда.</a:t>
            </a:r>
            <a:endParaRPr b="0" lang="en-US" sz="1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2963880" y="1617840"/>
            <a:ext cx="8912160" cy="1280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6600" spc="-1" strike="noStrike">
                <a:solidFill>
                  <a:srgbClr val="178dbb"/>
                </a:solidFill>
                <a:latin typeface="Century Gothic"/>
              </a:rPr>
              <a:t>Спасибо</a:t>
            </a:r>
            <a:br>
              <a:rPr sz="6600"/>
            </a:br>
            <a:r>
              <a:rPr b="0" lang="ru-RU" sz="6600" spc="-1" strike="noStrike">
                <a:solidFill>
                  <a:srgbClr val="178dbb"/>
                </a:solidFill>
                <a:latin typeface="Century Gothic"/>
              </a:rPr>
              <a:t>за </a:t>
            </a:r>
            <a:br>
              <a:rPr sz="6600"/>
            </a:br>
            <a:r>
              <a:rPr b="0" lang="ru-RU" sz="6600" spc="-1" strike="noStrike">
                <a:solidFill>
                  <a:srgbClr val="178dbb"/>
                </a:solidFill>
                <a:latin typeface="Century Gothic"/>
              </a:rPr>
              <a:t>внимание!</a:t>
            </a:r>
            <a:endParaRPr b="0" lang="en-US" sz="6600" spc="-1" strike="noStrike">
              <a:solidFill>
                <a:srgbClr val="178dbb"/>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600" spc="-1" strike="noStrike">
                <a:solidFill>
                  <a:srgbClr val="178dbb"/>
                </a:solidFill>
                <a:latin typeface="Century Gothic"/>
              </a:rPr>
              <a:t>Содержание.</a:t>
            </a:r>
            <a:endParaRPr b="0" lang="en-US" sz="3600" spc="-1" strike="noStrike">
              <a:solidFill>
                <a:srgbClr val="178dbb"/>
              </a:solidFill>
              <a:latin typeface="Century Gothic"/>
            </a:endParaRPr>
          </a:p>
        </p:txBody>
      </p:sp>
      <p:sp>
        <p:nvSpPr>
          <p:cNvPr id="1183" name=""/>
          <p:cNvSpPr txBox="1"/>
          <p:nvPr/>
        </p:nvSpPr>
        <p:spPr>
          <a:xfrm>
            <a:off x="2588760" y="2133360"/>
            <a:ext cx="8915400" cy="3778200"/>
          </a:xfrm>
          <a:prstGeom prst="rect">
            <a:avLst/>
          </a:prstGeom>
          <a:noFill/>
          <a:ln w="0">
            <a:noFill/>
          </a:ln>
        </p:spPr>
        <p:txBody>
          <a:bodyPr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Абстрактный экспрессионизм.</a:t>
            </a:r>
            <a:endParaRPr b="0" lang="en-US" sz="1800" spc="-1" strike="noStrike">
              <a:solidFill>
                <a:srgbClr val="404040"/>
              </a:solidFill>
              <a:latin typeface="Century Gothic"/>
            </a:endParaRPr>
          </a:p>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Авангард.</a:t>
            </a:r>
            <a:endParaRPr b="0" lang="en-US" sz="1800" spc="-1" strike="noStrike">
              <a:solidFill>
                <a:srgbClr val="404040"/>
              </a:solidFill>
              <a:latin typeface="Century Gothic"/>
            </a:endParaRPr>
          </a:p>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Поп-арт.</a:t>
            </a:r>
            <a:endParaRPr b="0" lang="en-US" sz="1800" spc="-1" strike="noStrike">
              <a:solidFill>
                <a:srgbClr val="404040"/>
              </a:solidFill>
              <a:latin typeface="Century Gothic"/>
            </a:endParaRPr>
          </a:p>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Гиперреализм.</a:t>
            </a:r>
            <a:endParaRPr b="0" lang="en-US" sz="1800" spc="-1" strike="noStrike">
              <a:solidFill>
                <a:srgbClr val="404040"/>
              </a:solidFill>
              <a:latin typeface="Century Gothic"/>
            </a:endParaRPr>
          </a:p>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Концептуализм.</a:t>
            </a:r>
            <a:endParaRPr b="0" lang="en-US" sz="1800" spc="-1" strike="noStrike">
              <a:solidFill>
                <a:srgbClr val="404040"/>
              </a:solidFill>
              <a:latin typeface="Century Gothic"/>
            </a:endParaRPr>
          </a:p>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Оп-арт.</a:t>
            </a:r>
            <a:endParaRPr b="0" lang="en-US" sz="1800" spc="-1" strike="noStrike">
              <a:solidFill>
                <a:srgbClr val="404040"/>
              </a:solidFill>
              <a:latin typeface="Century Gothic"/>
            </a:endParaRPr>
          </a:p>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Кинетическое искусство.</a:t>
            </a:r>
            <a:endParaRPr b="0" lang="en-US" sz="1800" spc="-1" strike="noStrike">
              <a:solidFill>
                <a:srgbClr val="404040"/>
              </a:solidFill>
              <a:latin typeface="Century Gothic"/>
            </a:endParaRPr>
          </a:p>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sp>
        <p:nvSpPr>
          <p:cNvPr id="1184" name="Rectangle 8"/>
          <p:cNvSpPr/>
          <p:nvPr/>
        </p:nvSpPr>
        <p:spPr>
          <a:xfrm>
            <a:off x="-7920" y="0"/>
            <a:ext cx="12207960" cy="68580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pic>
        <p:nvPicPr>
          <p:cNvPr id="1185" name="Рисунок 4" descr=""/>
          <p:cNvPicPr/>
          <p:nvPr/>
        </p:nvPicPr>
        <p:blipFill>
          <a:blip r:embed="rId1"/>
          <a:srcRect l="0" t="20578" r="0" b="15102"/>
          <a:stretch/>
        </p:blipFill>
        <p:spPr>
          <a:xfrm>
            <a:off x="8229600" y="0"/>
            <a:ext cx="3960720" cy="1708200"/>
          </a:xfrm>
          <a:prstGeom prst="rect">
            <a:avLst/>
          </a:prstGeom>
          <a:ln w="0">
            <a:noFill/>
          </a:ln>
        </p:spPr>
      </p:pic>
      <p:pic>
        <p:nvPicPr>
          <p:cNvPr id="1186" name="Рисунок 5" descr=""/>
          <p:cNvPicPr/>
          <p:nvPr/>
        </p:nvPicPr>
        <p:blipFill>
          <a:blip r:embed="rId2"/>
          <a:srcRect l="0" t="22745" r="0" b="23165"/>
          <a:stretch/>
        </p:blipFill>
        <p:spPr>
          <a:xfrm>
            <a:off x="8231040" y="3430440"/>
            <a:ext cx="3961080" cy="1716120"/>
          </a:xfrm>
          <a:prstGeom prst="rect">
            <a:avLst/>
          </a:prstGeom>
          <a:ln w="0">
            <a:noFill/>
          </a:ln>
        </p:spPr>
      </p:pic>
      <p:pic>
        <p:nvPicPr>
          <p:cNvPr id="1187" name="Рисунок 6" descr=""/>
          <p:cNvPicPr/>
          <p:nvPr/>
        </p:nvPicPr>
        <p:blipFill>
          <a:blip r:embed="rId3"/>
          <a:stretch/>
        </p:blipFill>
        <p:spPr>
          <a:xfrm>
            <a:off x="8231040" y="1708200"/>
            <a:ext cx="3961080" cy="1730160"/>
          </a:xfrm>
          <a:prstGeom prst="rect">
            <a:avLst/>
          </a:prstGeom>
          <a:ln w="0">
            <a:noFill/>
          </a:ln>
        </p:spPr>
      </p:pic>
      <p:sp>
        <p:nvSpPr>
          <p:cNvPr id="1188" name="Straight Connector 9"/>
          <p:cNvSpPr/>
          <p:nvPr/>
        </p:nvSpPr>
        <p:spPr>
          <a:xfrm>
            <a:off x="8244000" y="1704960"/>
            <a:ext cx="3940200" cy="19080"/>
          </a:xfrm>
          <a:prstGeom prst="line">
            <a:avLst/>
          </a:prstGeom>
          <a:ln cap="sq" w="50760">
            <a:solidFill>
              <a:srgbClr val="233e4f"/>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Century Gothic"/>
            </a:endParaRPr>
          </a:p>
        </p:txBody>
      </p:sp>
      <p:sp>
        <p:nvSpPr>
          <p:cNvPr id="1189" name="Straight Connector 10"/>
          <p:cNvSpPr/>
          <p:nvPr/>
        </p:nvSpPr>
        <p:spPr>
          <a:xfrm>
            <a:off x="8244000" y="3417840"/>
            <a:ext cx="3940200" cy="20520"/>
          </a:xfrm>
          <a:prstGeom prst="line">
            <a:avLst/>
          </a:prstGeom>
          <a:ln cap="sq" w="50760">
            <a:solidFill>
              <a:srgbClr val="233e4f"/>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Century Gothic"/>
            </a:endParaRPr>
          </a:p>
        </p:txBody>
      </p:sp>
      <p:pic>
        <p:nvPicPr>
          <p:cNvPr id="1190" name="Рисунок 3" descr=""/>
          <p:cNvPicPr/>
          <p:nvPr/>
        </p:nvPicPr>
        <p:blipFill>
          <a:blip r:embed="rId4"/>
          <a:srcRect l="0" t="10563" r="0" b="32445"/>
          <a:stretch/>
        </p:blipFill>
        <p:spPr>
          <a:xfrm>
            <a:off x="8231040" y="5141880"/>
            <a:ext cx="3961080" cy="1716120"/>
          </a:xfrm>
          <a:prstGeom prst="rect">
            <a:avLst/>
          </a:prstGeom>
          <a:ln w="0">
            <a:noFill/>
          </a:ln>
        </p:spPr>
      </p:pic>
      <p:sp>
        <p:nvSpPr>
          <p:cNvPr id="1191" name="Straight Connector 11"/>
          <p:cNvSpPr/>
          <p:nvPr/>
        </p:nvSpPr>
        <p:spPr>
          <a:xfrm>
            <a:off x="8244000" y="5130720"/>
            <a:ext cx="3940200" cy="20880"/>
          </a:xfrm>
          <a:prstGeom prst="line">
            <a:avLst/>
          </a:prstGeom>
          <a:ln cap="sq" w="50760">
            <a:solidFill>
              <a:srgbClr val="233e4f"/>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Century Gothic"/>
            </a:endParaRPr>
          </a:p>
        </p:txBody>
      </p:sp>
      <p:sp>
        <p:nvSpPr>
          <p:cNvPr id="1192" name="Rectangle 12"/>
          <p:cNvSpPr/>
          <p:nvPr/>
        </p:nvSpPr>
        <p:spPr>
          <a:xfrm>
            <a:off x="0" y="0"/>
            <a:ext cx="8229600" cy="6858000"/>
          </a:xfrm>
          <a:prstGeom prst="rect">
            <a:avLst/>
          </a:prstGeom>
          <a:solidFill>
            <a:srgbClr val="172935">
              <a:alpha val="9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93" name="Freeform 5"/>
          <p:cNvSpPr/>
          <p:nvPr/>
        </p:nvSpPr>
        <p:spPr>
          <a:xfrm>
            <a:off x="0" y="458640"/>
            <a:ext cx="9042480" cy="1035360"/>
          </a:xfrm>
          <a:custGeom>
            <a:avLst/>
            <a:gdLst/>
            <a:ahLst/>
            <a:rect l="l" t="t" r="r" b="b"/>
            <a:pathLst>
              <a:path w="1902" h="163">
                <a:moveTo>
                  <a:pt x="1900" y="77"/>
                </a:moveTo>
                <a:cubicBezTo>
                  <a:pt x="1826" y="3"/>
                  <a:pt x="1826" y="3"/>
                  <a:pt x="1826" y="3"/>
                </a:cubicBezTo>
                <a:cubicBezTo>
                  <a:pt x="1825" y="2"/>
                  <a:pt x="1825" y="2"/>
                  <a:pt x="1825" y="2"/>
                </a:cubicBezTo>
                <a:cubicBezTo>
                  <a:pt x="1823" y="1"/>
                  <a:pt x="1821" y="0"/>
                  <a:pt x="1819" y="0"/>
                </a:cubicBezTo>
                <a:cubicBezTo>
                  <a:pt x="1363" y="0"/>
                  <a:pt x="1363" y="0"/>
                  <a:pt x="1363" y="0"/>
                </a:cubicBezTo>
                <a:cubicBezTo>
                  <a:pt x="1348" y="0"/>
                  <a:pt x="1348" y="0"/>
                  <a:pt x="1348" y="0"/>
                </a:cubicBezTo>
                <a:cubicBezTo>
                  <a:pt x="1225" y="0"/>
                  <a:pt x="1225" y="0"/>
                  <a:pt x="1225" y="0"/>
                </a:cubicBezTo>
                <a:cubicBezTo>
                  <a:pt x="1033" y="0"/>
                  <a:pt x="1033" y="0"/>
                  <a:pt x="1033" y="0"/>
                </a:cubicBezTo>
                <a:cubicBezTo>
                  <a:pt x="892" y="0"/>
                  <a:pt x="892" y="0"/>
                  <a:pt x="892" y="0"/>
                </a:cubicBezTo>
                <a:cubicBezTo>
                  <a:pt x="786" y="0"/>
                  <a:pt x="786" y="0"/>
                  <a:pt x="786" y="0"/>
                </a:cubicBezTo>
                <a:cubicBezTo>
                  <a:pt x="577" y="0"/>
                  <a:pt x="577" y="0"/>
                  <a:pt x="577" y="0"/>
                </a:cubicBezTo>
                <a:cubicBezTo>
                  <a:pt x="562" y="0"/>
                  <a:pt x="562" y="0"/>
                  <a:pt x="562" y="0"/>
                </a:cubicBezTo>
                <a:cubicBezTo>
                  <a:pt x="439" y="0"/>
                  <a:pt x="439" y="0"/>
                  <a:pt x="439" y="0"/>
                </a:cubicBezTo>
                <a:cubicBezTo>
                  <a:pt x="106" y="0"/>
                  <a:pt x="106" y="0"/>
                  <a:pt x="106" y="0"/>
                </a:cubicBezTo>
                <a:cubicBezTo>
                  <a:pt x="0" y="0"/>
                  <a:pt x="0" y="0"/>
                  <a:pt x="0" y="0"/>
                </a:cubicBezTo>
                <a:cubicBezTo>
                  <a:pt x="0" y="163"/>
                  <a:pt x="0" y="163"/>
                  <a:pt x="0" y="163"/>
                </a:cubicBezTo>
                <a:cubicBezTo>
                  <a:pt x="106" y="163"/>
                  <a:pt x="106" y="163"/>
                  <a:pt x="106" y="163"/>
                </a:cubicBezTo>
                <a:cubicBezTo>
                  <a:pt x="439" y="163"/>
                  <a:pt x="439" y="163"/>
                  <a:pt x="439" y="163"/>
                </a:cubicBezTo>
                <a:cubicBezTo>
                  <a:pt x="562" y="163"/>
                  <a:pt x="562" y="163"/>
                  <a:pt x="562" y="163"/>
                </a:cubicBezTo>
                <a:cubicBezTo>
                  <a:pt x="577" y="163"/>
                  <a:pt x="577" y="163"/>
                  <a:pt x="577" y="163"/>
                </a:cubicBezTo>
                <a:cubicBezTo>
                  <a:pt x="786" y="163"/>
                  <a:pt x="786" y="163"/>
                  <a:pt x="786" y="163"/>
                </a:cubicBezTo>
                <a:cubicBezTo>
                  <a:pt x="892" y="163"/>
                  <a:pt x="892" y="163"/>
                  <a:pt x="892" y="163"/>
                </a:cubicBezTo>
                <a:cubicBezTo>
                  <a:pt x="1033" y="163"/>
                  <a:pt x="1033" y="163"/>
                  <a:pt x="1033" y="163"/>
                </a:cubicBezTo>
                <a:cubicBezTo>
                  <a:pt x="1225" y="163"/>
                  <a:pt x="1225" y="163"/>
                  <a:pt x="1225" y="163"/>
                </a:cubicBezTo>
                <a:cubicBezTo>
                  <a:pt x="1348" y="163"/>
                  <a:pt x="1348" y="163"/>
                  <a:pt x="1348" y="163"/>
                </a:cubicBezTo>
                <a:cubicBezTo>
                  <a:pt x="1363" y="163"/>
                  <a:pt x="1363" y="163"/>
                  <a:pt x="1363" y="163"/>
                </a:cubicBezTo>
                <a:cubicBezTo>
                  <a:pt x="1819" y="163"/>
                  <a:pt x="1819" y="163"/>
                  <a:pt x="1819" y="163"/>
                </a:cubicBezTo>
                <a:cubicBezTo>
                  <a:pt x="1821" y="163"/>
                  <a:pt x="1823" y="162"/>
                  <a:pt x="1825" y="161"/>
                </a:cubicBezTo>
                <a:cubicBezTo>
                  <a:pt x="1825" y="160"/>
                  <a:pt x="1825" y="160"/>
                  <a:pt x="1826" y="160"/>
                </a:cubicBezTo>
                <a:cubicBezTo>
                  <a:pt x="1900" y="86"/>
                  <a:pt x="1900" y="86"/>
                  <a:pt x="1900" y="86"/>
                </a:cubicBezTo>
                <a:cubicBezTo>
                  <a:pt x="1902" y="83"/>
                  <a:pt x="1902" y="79"/>
                  <a:pt x="1900" y="77"/>
                </a:cubicBezTo>
                <a:close/>
              </a:path>
            </a:pathLst>
          </a:custGeom>
          <a:solidFill>
            <a:srgbClr val="353535"/>
          </a:solidFill>
          <a:ln w="0">
            <a:noFill/>
          </a:ln>
        </p:spPr>
        <p:style>
          <a:lnRef idx="0"/>
          <a:fillRef idx="0"/>
          <a:effectRef idx="0"/>
          <a:fontRef idx="minor"/>
        </p:style>
        <p:txBody>
          <a:bodyPr anchor="t">
            <a:noAutofit/>
          </a:bodyPr>
          <a:p>
            <a:endParaRPr b="0" lang="en-US" sz="1800" spc="-1" strike="noStrike">
              <a:solidFill>
                <a:srgbClr val="000000"/>
              </a:solidFill>
              <a:latin typeface="Century Gothic"/>
            </a:endParaRPr>
          </a:p>
        </p:txBody>
      </p:sp>
      <p:sp>
        <p:nvSpPr>
          <p:cNvPr id="1194" name="PlaceHolder 1"/>
          <p:cNvSpPr>
            <a:spLocks noGrp="1"/>
          </p:cNvSpPr>
          <p:nvPr>
            <p:ph type="title"/>
          </p:nvPr>
        </p:nvSpPr>
        <p:spPr>
          <a:xfrm>
            <a:off x="541440" y="587160"/>
            <a:ext cx="7146720" cy="7794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feffff"/>
                </a:solidFill>
                <a:latin typeface="Century Gothic"/>
              </a:rPr>
              <a:t>Абстрактный экспрессионизм.</a:t>
            </a:r>
            <a:endParaRPr b="0" lang="en-US" sz="3200" spc="-1" strike="noStrike">
              <a:solidFill>
                <a:srgbClr val="178dbb"/>
              </a:solidFill>
              <a:latin typeface="Century Gothic"/>
            </a:endParaRPr>
          </a:p>
        </p:txBody>
      </p:sp>
      <p:sp>
        <p:nvSpPr>
          <p:cNvPr id="1195" name=""/>
          <p:cNvSpPr txBox="1"/>
          <p:nvPr/>
        </p:nvSpPr>
        <p:spPr>
          <a:xfrm>
            <a:off x="541440" y="1838160"/>
            <a:ext cx="7146720" cy="4073760"/>
          </a:xfrm>
          <a:prstGeom prst="rect">
            <a:avLst/>
          </a:prstGeom>
          <a:noFill/>
          <a:ln w="0">
            <a:noFill/>
          </a:ln>
        </p:spPr>
        <p:txBody>
          <a:bodyPr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effff"/>
                </a:solidFill>
                <a:latin typeface="Century Gothic"/>
              </a:rPr>
              <a:t>Движение художников, рисующих быстро и на больших полотнах, с использованием негеометрических штрихов, больших кистей, иногда капая красками на холст, для полнейшего выявления эмоций. Экспрессивный метод покраски здесь часто имеет такое же значение, как само рисование. Целью художника при таком творческом методе является спонтанное выражение внутреннего мира в хаотических формах, не организованных логическим мышлением.</a:t>
            </a:r>
            <a:endParaRPr b="0" lang="en-US" sz="1800" spc="-1" strike="noStrike">
              <a:solidFill>
                <a:srgbClr val="404040"/>
              </a:solidFill>
              <a:latin typeface="Century Gothic"/>
            </a:endParaRPr>
          </a:p>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effff"/>
                </a:solidFill>
                <a:latin typeface="Century Gothic"/>
              </a:rPr>
              <a:t>Представители: Пикассо,Клайн,Куннинг,Дюбюффе,Сазерленд.</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sp>
        <p:nvSpPr>
          <p:cNvPr id="1196" name="Rectangle 9"/>
          <p:cNvSpPr/>
          <p:nvPr/>
        </p:nvSpPr>
        <p:spPr>
          <a:xfrm>
            <a:off x="0" y="0"/>
            <a:ext cx="12192120" cy="685332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pic>
        <p:nvPicPr>
          <p:cNvPr id="1197" name="Рисунок 4" descr=""/>
          <p:cNvPicPr/>
          <p:nvPr/>
        </p:nvPicPr>
        <p:blipFill>
          <a:blip r:embed="rId1"/>
          <a:stretch/>
        </p:blipFill>
        <p:spPr>
          <a:xfrm>
            <a:off x="4673520" y="644400"/>
            <a:ext cx="4044960" cy="3032280"/>
          </a:xfrm>
          <a:prstGeom prst="rect">
            <a:avLst/>
          </a:prstGeom>
          <a:ln w="0">
            <a:noFill/>
          </a:ln>
        </p:spPr>
      </p:pic>
      <p:pic>
        <p:nvPicPr>
          <p:cNvPr id="1198" name="Рисунок 6" descr=""/>
          <p:cNvPicPr/>
          <p:nvPr/>
        </p:nvPicPr>
        <p:blipFill>
          <a:blip r:embed="rId2"/>
          <a:stretch/>
        </p:blipFill>
        <p:spPr>
          <a:xfrm>
            <a:off x="8820000" y="647640"/>
            <a:ext cx="2687760" cy="5261040"/>
          </a:xfrm>
          <a:prstGeom prst="rect">
            <a:avLst/>
          </a:prstGeom>
          <a:ln w="0">
            <a:noFill/>
          </a:ln>
        </p:spPr>
      </p:pic>
      <p:pic>
        <p:nvPicPr>
          <p:cNvPr id="1199" name="Рисунок 5" descr=""/>
          <p:cNvPicPr/>
          <p:nvPr/>
        </p:nvPicPr>
        <p:blipFill>
          <a:blip r:embed="rId3"/>
          <a:stretch/>
        </p:blipFill>
        <p:spPr>
          <a:xfrm>
            <a:off x="4673520" y="3772080"/>
            <a:ext cx="2000160" cy="2135160"/>
          </a:xfrm>
          <a:prstGeom prst="rect">
            <a:avLst/>
          </a:prstGeom>
          <a:ln w="0">
            <a:noFill/>
          </a:ln>
        </p:spPr>
      </p:pic>
      <p:pic>
        <p:nvPicPr>
          <p:cNvPr id="1200" name="Рисунок 7" descr=""/>
          <p:cNvPicPr/>
          <p:nvPr/>
        </p:nvPicPr>
        <p:blipFill>
          <a:blip r:embed="rId4"/>
          <a:stretch/>
        </p:blipFill>
        <p:spPr>
          <a:xfrm>
            <a:off x="6775560" y="3772080"/>
            <a:ext cx="1942920" cy="2135160"/>
          </a:xfrm>
          <a:prstGeom prst="rect">
            <a:avLst/>
          </a:prstGeom>
          <a:ln w="0">
            <a:noFill/>
          </a:ln>
        </p:spPr>
      </p:pic>
      <p:sp>
        <p:nvSpPr>
          <p:cNvPr id="1201" name="Rectangle 10"/>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02" name="Freeform 11"/>
          <p:cNvSpPr/>
          <p:nvPr/>
        </p:nvSpPr>
        <p:spPr>
          <a:xfrm>
            <a:off x="0" y="6060960"/>
            <a:ext cx="1038240" cy="506520"/>
          </a:xfrm>
          <a:custGeom>
            <a:avLst/>
            <a:gdLst/>
            <a:ahLst/>
            <a:rect l="l" t="t" r="r" b="b"/>
            <a:pathLst>
              <a:path w="1038036" h="506277">
                <a:moveTo>
                  <a:pt x="0" y="0"/>
                </a:moveTo>
                <a:lnTo>
                  <a:pt x="182880" y="0"/>
                </a:lnTo>
                <a:lnTo>
                  <a:pt x="291705" y="0"/>
                </a:lnTo>
                <a:lnTo>
                  <a:pt x="291705" y="151"/>
                </a:lnTo>
                <a:lnTo>
                  <a:pt x="692049" y="705"/>
                </a:lnTo>
                <a:lnTo>
                  <a:pt x="782744" y="705"/>
                </a:lnTo>
                <a:cubicBezTo>
                  <a:pt x="787553" y="705"/>
                  <a:pt x="792363" y="5473"/>
                  <a:pt x="797001" y="5473"/>
                </a:cubicBezTo>
                <a:cubicBezTo>
                  <a:pt x="797001" y="10242"/>
                  <a:pt x="801982" y="10242"/>
                  <a:pt x="801982" y="10242"/>
                </a:cubicBezTo>
                <a:lnTo>
                  <a:pt x="1030951" y="239185"/>
                </a:lnTo>
                <a:cubicBezTo>
                  <a:pt x="1040398" y="248722"/>
                  <a:pt x="1040398" y="258259"/>
                  <a:pt x="1030951" y="267797"/>
                </a:cubicBezTo>
                <a:lnTo>
                  <a:pt x="801982" y="496740"/>
                </a:lnTo>
                <a:cubicBezTo>
                  <a:pt x="800436" y="498363"/>
                  <a:pt x="798547" y="499885"/>
                  <a:pt x="797001" y="501508"/>
                </a:cubicBezTo>
                <a:cubicBezTo>
                  <a:pt x="792363" y="506277"/>
                  <a:pt x="787553" y="506277"/>
                  <a:pt x="782744" y="506277"/>
                </a:cubicBezTo>
                <a:lnTo>
                  <a:pt x="692049" y="506277"/>
                </a:lnTo>
                <a:lnTo>
                  <a:pt x="291705" y="505140"/>
                </a:lnTo>
                <a:lnTo>
                  <a:pt x="291705" y="506277"/>
                </a:lnTo>
                <a:lnTo>
                  <a:pt x="0" y="506277"/>
                </a:lnTo>
                <a:lnTo>
                  <a:pt x="0" y="0"/>
                </a:lnTo>
                <a:close/>
              </a:path>
            </a:pathLst>
          </a:custGeom>
          <a:solidFill>
            <a:srgbClr val="35353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203" name="PlaceHolder 1"/>
          <p:cNvSpPr>
            <a:spLocks noGrp="1"/>
          </p:cNvSpPr>
          <p:nvPr>
            <p:ph type="title"/>
          </p:nvPr>
        </p:nvSpPr>
        <p:spPr>
          <a:xfrm>
            <a:off x="649440" y="644400"/>
            <a:ext cx="3649680" cy="126072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500" spc="-1" strike="noStrike">
                <a:solidFill>
                  <a:srgbClr val="178dbb"/>
                </a:solidFill>
                <a:latin typeface="Century Gothic"/>
              </a:rPr>
              <a:t>Авангард-новаторство во всех областях искусства.</a:t>
            </a:r>
            <a:endParaRPr b="0" lang="en-US" sz="2500" spc="-1" strike="noStrike">
              <a:solidFill>
                <a:srgbClr val="178dbb"/>
              </a:solidFill>
              <a:latin typeface="Century Gothic"/>
            </a:endParaRPr>
          </a:p>
        </p:txBody>
      </p:sp>
      <p:sp>
        <p:nvSpPr>
          <p:cNvPr id="1204" name=""/>
          <p:cNvSpPr txBox="1"/>
          <p:nvPr/>
        </p:nvSpPr>
        <p:spPr>
          <a:xfrm>
            <a:off x="649440" y="2133720"/>
            <a:ext cx="3649680" cy="3774960"/>
          </a:xfrm>
          <a:prstGeom prst="rect">
            <a:avLst/>
          </a:prstGeom>
          <a:noFill/>
          <a:ln w="0">
            <a:noFill/>
          </a:ln>
        </p:spPr>
        <p:txBody>
          <a:bodyPr anchor="t">
            <a:normAutofit fontScale="97000"/>
          </a:bodyPr>
          <a:p>
            <a:pPr marL="332640" indent="-3326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404040"/>
                </a:solidFill>
                <a:latin typeface="Century Gothic"/>
              </a:rPr>
              <a:t>Означает-идущий впереди. Отражает стихийный бунт художника против действительности.</a:t>
            </a:r>
            <a:endParaRPr b="0" lang="en-US" sz="2000" spc="-1" strike="noStrike">
              <a:solidFill>
                <a:srgbClr val="404040"/>
              </a:solidFill>
              <a:latin typeface="Century Gothic"/>
            </a:endParaRPr>
          </a:p>
          <a:p>
            <a:pPr marL="332640" indent="-3326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404040"/>
                </a:solidFill>
                <a:latin typeface="Century Gothic"/>
              </a:rPr>
              <a:t>Включает в себя:</a:t>
            </a:r>
            <a:br>
              <a:rPr sz="2000"/>
            </a:br>
            <a:r>
              <a:rPr b="0" lang="ru-RU" sz="2000" spc="-1" strike="noStrike">
                <a:solidFill>
                  <a:srgbClr val="404040"/>
                </a:solidFill>
                <a:latin typeface="Century Gothic"/>
              </a:rPr>
              <a:t>1.Абстракционизм.</a:t>
            </a:r>
            <a:br>
              <a:rPr sz="2000"/>
            </a:br>
            <a:r>
              <a:rPr b="0" lang="ru-RU" sz="2000" spc="-1" strike="noStrike">
                <a:solidFill>
                  <a:srgbClr val="404040"/>
                </a:solidFill>
                <a:latin typeface="Century Gothic"/>
              </a:rPr>
              <a:t>2.Кубизм</a:t>
            </a:r>
            <a:br>
              <a:rPr sz="2000"/>
            </a:br>
            <a:r>
              <a:rPr b="0" lang="ru-RU" sz="2000" spc="-1" strike="noStrike">
                <a:solidFill>
                  <a:srgbClr val="404040"/>
                </a:solidFill>
                <a:latin typeface="Century Gothic"/>
              </a:rPr>
              <a:t>3.Фовизм</a:t>
            </a:r>
            <a:br>
              <a:rPr sz="2000"/>
            </a:br>
            <a:r>
              <a:rPr b="0" lang="ru-RU" sz="2000" spc="-1" strike="noStrike">
                <a:solidFill>
                  <a:srgbClr val="404040"/>
                </a:solidFill>
                <a:latin typeface="Century Gothic"/>
              </a:rPr>
              <a:t>4.Супрематизм</a:t>
            </a:r>
            <a:br>
              <a:rPr sz="2000"/>
            </a:br>
            <a:r>
              <a:rPr b="0" lang="ru-RU" sz="2000" spc="-1" strike="noStrike">
                <a:solidFill>
                  <a:srgbClr val="404040"/>
                </a:solidFill>
                <a:latin typeface="Century Gothic"/>
              </a:rPr>
              <a:t>5.Сюрреализм</a:t>
            </a:r>
            <a:br>
              <a:rPr sz="2000"/>
            </a:br>
            <a:r>
              <a:rPr b="0" lang="ru-RU" sz="2000" spc="-1" strike="noStrike">
                <a:solidFill>
                  <a:srgbClr val="404040"/>
                </a:solidFill>
                <a:latin typeface="Century Gothic"/>
              </a:rPr>
              <a:t>6.Экспрессионизм</a:t>
            </a: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4281480" y="186840"/>
            <a:ext cx="891072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600" spc="-1" strike="noStrike">
                <a:solidFill>
                  <a:srgbClr val="178dbb"/>
                </a:solidFill>
                <a:latin typeface="Century Gothic"/>
              </a:rPr>
              <a:t>Поп-арт.</a:t>
            </a:r>
            <a:endParaRPr b="0" lang="en-US" sz="3600" spc="-1" strike="noStrike">
              <a:solidFill>
                <a:srgbClr val="178dbb"/>
              </a:solidFill>
              <a:latin typeface="Century Gothic"/>
            </a:endParaRPr>
          </a:p>
        </p:txBody>
      </p:sp>
      <p:sp>
        <p:nvSpPr>
          <p:cNvPr id="1206" name=""/>
          <p:cNvSpPr txBox="1"/>
          <p:nvPr/>
        </p:nvSpPr>
        <p:spPr>
          <a:xfrm>
            <a:off x="6705720" y="1468080"/>
            <a:ext cx="4682880" cy="3778200"/>
          </a:xfrm>
          <a:prstGeom prst="rect">
            <a:avLst/>
          </a:prstGeom>
          <a:noFill/>
          <a:ln w="0">
            <a:noFill/>
          </a:ln>
        </p:spPr>
        <p:txBody>
          <a:bodyPr anchor="t">
            <a:normAutofit/>
          </a:bodyPr>
          <a:p>
            <a:pPr marL="343080" indent="-343080">
              <a:lnSpc>
                <a:spcPct val="90000"/>
              </a:lnSpc>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Художественное течение, основой которого служит массовая культура потребления. Объектами творчества выступают популярные бренды, кино, реклама и прочие широко известные символы того или иного общества. Ионизирует над идеалами и кумирами современного общества, через доступные и понятные обывателю символы и стереотипы.</a:t>
            </a:r>
            <a:endParaRPr b="0" lang="en-US" sz="1800" spc="-1" strike="noStrike">
              <a:solidFill>
                <a:srgbClr val="404040"/>
              </a:solidFill>
              <a:latin typeface="Century Gothic"/>
            </a:endParaRPr>
          </a:p>
          <a:p>
            <a:pPr marL="343080" indent="-343080">
              <a:lnSpc>
                <a:spcPct val="90000"/>
              </a:lnSpc>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Представители: Блейк,Вессельман,Лихтенштейн.</a:t>
            </a:r>
            <a:endParaRPr b="0" lang="en-US" sz="1800" spc="-1" strike="noStrike">
              <a:solidFill>
                <a:srgbClr val="404040"/>
              </a:solidFill>
              <a:latin typeface="Century Gothic"/>
            </a:endParaRPr>
          </a:p>
        </p:txBody>
      </p:sp>
      <p:pic>
        <p:nvPicPr>
          <p:cNvPr id="1207" name="Рисунок 3" descr=""/>
          <p:cNvPicPr/>
          <p:nvPr/>
        </p:nvPicPr>
        <p:blipFill>
          <a:blip r:embed="rId1"/>
          <a:stretch/>
        </p:blipFill>
        <p:spPr>
          <a:xfrm>
            <a:off x="3875040" y="1455840"/>
            <a:ext cx="2104920" cy="2487600"/>
          </a:xfrm>
          <a:prstGeom prst="rect">
            <a:avLst/>
          </a:prstGeom>
          <a:ln w="0">
            <a:noFill/>
          </a:ln>
        </p:spPr>
      </p:pic>
      <p:pic>
        <p:nvPicPr>
          <p:cNvPr id="1208" name="Рисунок 4" descr=""/>
          <p:cNvPicPr/>
          <p:nvPr/>
        </p:nvPicPr>
        <p:blipFill>
          <a:blip r:embed="rId2"/>
          <a:stretch/>
        </p:blipFill>
        <p:spPr>
          <a:xfrm>
            <a:off x="3875040" y="3943440"/>
            <a:ext cx="2104920" cy="2104920"/>
          </a:xfrm>
          <a:prstGeom prst="rect">
            <a:avLst/>
          </a:prstGeom>
          <a:ln w="0">
            <a:noFill/>
          </a:ln>
        </p:spPr>
      </p:pic>
      <p:pic>
        <p:nvPicPr>
          <p:cNvPr id="1209" name="Рисунок 5" descr=""/>
          <p:cNvPicPr/>
          <p:nvPr/>
        </p:nvPicPr>
        <p:blipFill>
          <a:blip r:embed="rId3"/>
          <a:stretch/>
        </p:blipFill>
        <p:spPr>
          <a:xfrm>
            <a:off x="939960" y="1468440"/>
            <a:ext cx="2976480" cy="457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pic>
        <p:nvPicPr>
          <p:cNvPr id="1210" name="Рисунок 7" descr=""/>
          <p:cNvPicPr/>
          <p:nvPr/>
        </p:nvPicPr>
        <p:blipFill>
          <a:blip r:embed="rId1"/>
          <a:stretch/>
        </p:blipFill>
        <p:spPr>
          <a:xfrm>
            <a:off x="6091200" y="835200"/>
            <a:ext cx="2639880" cy="2319120"/>
          </a:xfrm>
          <a:prstGeom prst="rect">
            <a:avLst/>
          </a:prstGeom>
          <a:ln w="0">
            <a:noFill/>
          </a:ln>
        </p:spPr>
      </p:pic>
      <p:pic>
        <p:nvPicPr>
          <p:cNvPr id="1211" name="Рисунок 5" descr=""/>
          <p:cNvPicPr/>
          <p:nvPr/>
        </p:nvPicPr>
        <p:blipFill>
          <a:blip r:embed="rId2"/>
          <a:stretch/>
        </p:blipFill>
        <p:spPr>
          <a:xfrm>
            <a:off x="7018200" y="3508200"/>
            <a:ext cx="3586320" cy="2384640"/>
          </a:xfrm>
          <a:prstGeom prst="rect">
            <a:avLst/>
          </a:prstGeom>
          <a:ln w="0">
            <a:noFill/>
          </a:ln>
        </p:spPr>
      </p:pic>
      <p:pic>
        <p:nvPicPr>
          <p:cNvPr id="1212" name="Рисунок 6" descr=""/>
          <p:cNvPicPr/>
          <p:nvPr/>
        </p:nvPicPr>
        <p:blipFill>
          <a:blip r:embed="rId3"/>
          <a:stretch/>
        </p:blipFill>
        <p:spPr>
          <a:xfrm>
            <a:off x="8891640" y="1117440"/>
            <a:ext cx="2639880" cy="1754280"/>
          </a:xfrm>
          <a:prstGeom prst="rect">
            <a:avLst/>
          </a:prstGeom>
          <a:ln w="0">
            <a:noFill/>
          </a:ln>
        </p:spPr>
      </p:pic>
      <p:sp>
        <p:nvSpPr>
          <p:cNvPr id="1213" name="PlaceHolder 1"/>
          <p:cNvSpPr>
            <a:spLocks noGrp="1"/>
          </p:cNvSpPr>
          <p:nvPr>
            <p:ph type="title"/>
          </p:nvPr>
        </p:nvSpPr>
        <p:spPr>
          <a:xfrm>
            <a:off x="1687680" y="623520"/>
            <a:ext cx="4038480" cy="128124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178dbb"/>
                </a:solidFill>
                <a:latin typeface="Century Gothic"/>
              </a:rPr>
              <a:t>Гиперреализм-симуляция чего-то, что никогда в действительности не существовало.</a:t>
            </a:r>
            <a:endParaRPr b="0" lang="en-US" sz="2400" spc="-1" strike="noStrike">
              <a:solidFill>
                <a:srgbClr val="178dbb"/>
              </a:solidFill>
              <a:latin typeface="Century Gothic"/>
            </a:endParaRPr>
          </a:p>
        </p:txBody>
      </p:sp>
      <p:sp>
        <p:nvSpPr>
          <p:cNvPr id="1214" name=""/>
          <p:cNvSpPr txBox="1"/>
          <p:nvPr/>
        </p:nvSpPr>
        <p:spPr>
          <a:xfrm>
            <a:off x="1684080" y="2133360"/>
            <a:ext cx="4041720" cy="3778200"/>
          </a:xfrm>
          <a:prstGeom prst="rect">
            <a:avLst/>
          </a:prstGeom>
          <a:noFill/>
          <a:ln w="0">
            <a:noFill/>
          </a:ln>
        </p:spPr>
        <p:txBody>
          <a:bodyPr anchor="t">
            <a:normAutofit fontScale="93000"/>
          </a:bodyPr>
          <a:p>
            <a:pPr marL="318960" indent="-31896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entury Gothic"/>
              </a:rPr>
              <a:t>Это направление в живописи,в котором картины напоминают фотографии. Гиперреалисты создают ложную реальность, убедительную иллюзию. Как фотореализм симулировал аналоговую фотографию, так гиперреализм использует цифровые изображения.</a:t>
            </a:r>
            <a:br>
              <a:rPr sz="1800"/>
            </a:br>
            <a:r>
              <a:rPr b="0" lang="ru-RU" sz="1800" spc="-1" strike="noStrike">
                <a:solidFill>
                  <a:srgbClr val="000000"/>
                </a:solidFill>
                <a:latin typeface="Century Gothic"/>
              </a:rPr>
              <a:t>Утверждение абсолютной абсурдности и бездуховности мира.</a:t>
            </a:r>
            <a:endParaRPr b="0" lang="en-US" sz="1800" spc="-1" strike="noStrike">
              <a:solidFill>
                <a:srgbClr val="404040"/>
              </a:solidFill>
              <a:latin typeface="Century Gothic"/>
            </a:endParaRPr>
          </a:p>
          <a:p>
            <a:pPr marL="318960" indent="-31896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entury Gothic"/>
              </a:rPr>
              <a:t>Представители: Клоз,Гертч,Монори.</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sp>
        <p:nvSpPr>
          <p:cNvPr id="1215" name="Rectangle 7"/>
          <p:cNvSpPr/>
          <p:nvPr/>
        </p:nvSpPr>
        <p:spPr>
          <a:xfrm>
            <a:off x="-7920" y="0"/>
            <a:ext cx="12207960" cy="68580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pic>
        <p:nvPicPr>
          <p:cNvPr id="1216" name="Рисунок 3" descr=""/>
          <p:cNvPicPr/>
          <p:nvPr/>
        </p:nvPicPr>
        <p:blipFill>
          <a:blip r:embed="rId1"/>
          <a:stretch/>
        </p:blipFill>
        <p:spPr>
          <a:xfrm>
            <a:off x="4827600" y="0"/>
            <a:ext cx="7364520" cy="6858000"/>
          </a:xfrm>
          <a:prstGeom prst="rect">
            <a:avLst/>
          </a:prstGeom>
          <a:ln w="0">
            <a:noFill/>
          </a:ln>
        </p:spPr>
      </p:pic>
      <p:grpSp>
        <p:nvGrpSpPr>
          <p:cNvPr id="1217" name="Group 8"/>
          <p:cNvGrpSpPr/>
          <p:nvPr/>
        </p:nvGrpSpPr>
        <p:grpSpPr>
          <a:xfrm>
            <a:off x="4835520" y="228600"/>
            <a:ext cx="2852640" cy="6638760"/>
            <a:chOff x="4835520" y="228600"/>
            <a:chExt cx="2852640" cy="6638760"/>
          </a:xfrm>
        </p:grpSpPr>
        <p:sp>
          <p:nvSpPr>
            <p:cNvPr id="1218" name="Freeform 11"/>
            <p:cNvSpPr/>
            <p:nvPr/>
          </p:nvSpPr>
          <p:spPr>
            <a:xfrm>
              <a:off x="483552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19" name="Freeform 12"/>
            <p:cNvSpPr/>
            <p:nvPr/>
          </p:nvSpPr>
          <p:spPr>
            <a:xfrm>
              <a:off x="4964040" y="3156480"/>
              <a:ext cx="64692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20" name="Freeform 13"/>
            <p:cNvSpPr/>
            <p:nvPr/>
          </p:nvSpPr>
          <p:spPr>
            <a:xfrm>
              <a:off x="5642640" y="5447160"/>
              <a:ext cx="60948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21" name="Freeform 14"/>
            <p:cNvSpPr/>
            <p:nvPr/>
          </p:nvSpPr>
          <p:spPr>
            <a:xfrm>
              <a:off x="579564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22" name="Freeform 15"/>
            <p:cNvSpPr/>
            <p:nvPr/>
          </p:nvSpPr>
          <p:spPr>
            <a:xfrm>
              <a:off x="4935960" y="3201120"/>
              <a:ext cx="82224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23" name="Freeform 16"/>
            <p:cNvSpPr/>
            <p:nvPr/>
          </p:nvSpPr>
          <p:spPr>
            <a:xfrm>
              <a:off x="485784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24" name="Freeform 17"/>
            <p:cNvSpPr/>
            <p:nvPr/>
          </p:nvSpPr>
          <p:spPr>
            <a:xfrm>
              <a:off x="491364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25" name="Freeform 18"/>
            <p:cNvSpPr/>
            <p:nvPr/>
          </p:nvSpPr>
          <p:spPr>
            <a:xfrm>
              <a:off x="560556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26" name="Freeform 19"/>
            <p:cNvSpPr/>
            <p:nvPr/>
          </p:nvSpPr>
          <p:spPr>
            <a:xfrm>
              <a:off x="5610960" y="1398960"/>
              <a:ext cx="207720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27" name="Freeform 20"/>
            <p:cNvSpPr/>
            <p:nvPr/>
          </p:nvSpPr>
          <p:spPr>
            <a:xfrm>
              <a:off x="575820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28" name="Freeform 21"/>
            <p:cNvSpPr/>
            <p:nvPr/>
          </p:nvSpPr>
          <p:spPr>
            <a:xfrm>
              <a:off x="560556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29" name="Freeform 22"/>
            <p:cNvSpPr/>
            <p:nvPr/>
          </p:nvSpPr>
          <p:spPr>
            <a:xfrm>
              <a:off x="5685480" y="6244920"/>
              <a:ext cx="23868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230" name="Group 21"/>
          <p:cNvGrpSpPr/>
          <p:nvPr/>
        </p:nvGrpSpPr>
        <p:grpSpPr>
          <a:xfrm>
            <a:off x="4676760" y="0"/>
            <a:ext cx="2357280" cy="6853320"/>
            <a:chOff x="4676760" y="0"/>
            <a:chExt cx="2357280" cy="6853320"/>
          </a:xfrm>
        </p:grpSpPr>
        <p:sp>
          <p:nvSpPr>
            <p:cNvPr id="1231" name="Freeform 27"/>
            <p:cNvSpPr/>
            <p:nvPr/>
          </p:nvSpPr>
          <p:spPr>
            <a:xfrm>
              <a:off x="467676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32" name="Freeform 28"/>
            <p:cNvSpPr/>
            <p:nvPr/>
          </p:nvSpPr>
          <p:spPr>
            <a:xfrm>
              <a:off x="519984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33" name="Freeform 29"/>
            <p:cNvSpPr/>
            <p:nvPr/>
          </p:nvSpPr>
          <p:spPr>
            <a:xfrm>
              <a:off x="565596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34" name="Freeform 30"/>
            <p:cNvSpPr/>
            <p:nvPr/>
          </p:nvSpPr>
          <p:spPr>
            <a:xfrm>
              <a:off x="517104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35" name="Freeform 31"/>
            <p:cNvSpPr/>
            <p:nvPr/>
          </p:nvSpPr>
          <p:spPr>
            <a:xfrm>
              <a:off x="511740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36" name="Freeform 32"/>
            <p:cNvSpPr/>
            <p:nvPr/>
          </p:nvSpPr>
          <p:spPr>
            <a:xfrm>
              <a:off x="576144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37" name="Freeform 33"/>
            <p:cNvSpPr/>
            <p:nvPr/>
          </p:nvSpPr>
          <p:spPr>
            <a:xfrm>
              <a:off x="515196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38" name="Freeform 34"/>
            <p:cNvSpPr/>
            <p:nvPr/>
          </p:nvSpPr>
          <p:spPr>
            <a:xfrm>
              <a:off x="562356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39" name="Freeform 35"/>
            <p:cNvSpPr/>
            <p:nvPr/>
          </p:nvSpPr>
          <p:spPr>
            <a:xfrm>
              <a:off x="572328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40" name="Freeform 36"/>
            <p:cNvSpPr/>
            <p:nvPr/>
          </p:nvSpPr>
          <p:spPr>
            <a:xfrm>
              <a:off x="562356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41" name="Freeform 37"/>
            <p:cNvSpPr/>
            <p:nvPr/>
          </p:nvSpPr>
          <p:spPr>
            <a:xfrm>
              <a:off x="562356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42" name="Freeform 38"/>
            <p:cNvSpPr/>
            <p:nvPr/>
          </p:nvSpPr>
          <p:spPr>
            <a:xfrm>
              <a:off x="565596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pic>
        <p:nvPicPr>
          <p:cNvPr id="1243" name="Рисунок 4" descr=""/>
          <p:cNvPicPr/>
          <p:nvPr/>
        </p:nvPicPr>
        <p:blipFill>
          <a:blip r:embed="rId2"/>
          <a:stretch/>
        </p:blipFill>
        <p:spPr>
          <a:xfrm>
            <a:off x="-3240" y="0"/>
            <a:ext cx="4705560" cy="3429000"/>
          </a:xfrm>
          <a:prstGeom prst="rect">
            <a:avLst/>
          </a:prstGeom>
          <a:ln w="0">
            <a:noFill/>
          </a:ln>
        </p:spPr>
      </p:pic>
      <p:pic>
        <p:nvPicPr>
          <p:cNvPr id="1244" name="Рисунок 5" descr=""/>
          <p:cNvPicPr/>
          <p:nvPr/>
        </p:nvPicPr>
        <p:blipFill>
          <a:blip r:embed="rId3"/>
          <a:stretch/>
        </p:blipFill>
        <p:spPr>
          <a:xfrm>
            <a:off x="-1440" y="3429000"/>
            <a:ext cx="4705200" cy="3429000"/>
          </a:xfrm>
          <a:prstGeom prst="rect">
            <a:avLst/>
          </a:prstGeom>
          <a:ln w="0">
            <a:noFill/>
          </a:ln>
        </p:spPr>
      </p:pic>
      <p:sp>
        <p:nvSpPr>
          <p:cNvPr id="1245" name="Straight Connector 34"/>
          <p:cNvSpPr/>
          <p:nvPr/>
        </p:nvSpPr>
        <p:spPr>
          <a:xfrm>
            <a:off x="-17640" y="3429000"/>
            <a:ext cx="4662720" cy="0"/>
          </a:xfrm>
          <a:prstGeom prst="line">
            <a:avLst/>
          </a:prstGeom>
          <a:ln cap="rnd" w="50760">
            <a:solidFill>
              <a:srgbClr val="2e536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46" name="Rectangle 35"/>
          <p:cNvSpPr/>
          <p:nvPr/>
        </p:nvSpPr>
        <p:spPr>
          <a:xfrm>
            <a:off x="4645080" y="0"/>
            <a:ext cx="18396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47" name="Freeform 11"/>
          <p:cNvSpPr/>
          <p:nvPr/>
        </p:nvSpPr>
        <p:spPr>
          <a:xfrm flipV="1">
            <a:off x="464508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48" name="PlaceHolder 1"/>
          <p:cNvSpPr>
            <a:spLocks noGrp="1"/>
          </p:cNvSpPr>
          <p:nvPr>
            <p:ph type="title"/>
          </p:nvPr>
        </p:nvSpPr>
        <p:spPr>
          <a:xfrm>
            <a:off x="6483240" y="623520"/>
            <a:ext cx="502128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600" spc="-1" strike="noStrike">
                <a:solidFill>
                  <a:srgbClr val="178dbb"/>
                </a:solidFill>
                <a:latin typeface="Century Gothic"/>
              </a:rPr>
              <a:t>Концептуализм.</a:t>
            </a:r>
            <a:endParaRPr b="0" lang="en-US" sz="3600" spc="-1" strike="noStrike">
              <a:solidFill>
                <a:srgbClr val="178dbb"/>
              </a:solidFill>
              <a:latin typeface="Century Gothic"/>
            </a:endParaRPr>
          </a:p>
        </p:txBody>
      </p:sp>
      <p:sp>
        <p:nvSpPr>
          <p:cNvPr id="1249" name=""/>
          <p:cNvSpPr txBox="1"/>
          <p:nvPr/>
        </p:nvSpPr>
        <p:spPr>
          <a:xfrm>
            <a:off x="6438600" y="2133360"/>
            <a:ext cx="5065560" cy="3778200"/>
          </a:xfrm>
          <a:prstGeom prst="rect">
            <a:avLst/>
          </a:prstGeom>
          <a:noFill/>
          <a:ln w="0">
            <a:noFill/>
          </a:ln>
        </p:spPr>
        <p:txBody>
          <a:bodyPr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Искусство интелектуальное. Здесь важно не изображение,а его смысл.</a:t>
            </a: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Художник выражает свое отношение к социальным, политическим, технологическим вещам и процессам. Во многих случаях зритель и сам художник становятся неотъемлемой частью этого искусства и его основных концепций.</a:t>
            </a:r>
            <a:endParaRPr b="0" lang="en-US" sz="1800" spc="-1" strike="noStrike">
              <a:solidFill>
                <a:srgbClr val="404040"/>
              </a:solidFill>
              <a:latin typeface="Century Gothic"/>
            </a:endParaRPr>
          </a:p>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Представители: Кошут,Вейнер,Бери.</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sp>
        <p:nvSpPr>
          <p:cNvPr id="1250" name="Rectangle 12"/>
          <p:cNvSpPr/>
          <p:nvPr/>
        </p:nvSpPr>
        <p:spPr>
          <a:xfrm>
            <a:off x="0" y="0"/>
            <a:ext cx="12192120" cy="685332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pic>
        <p:nvPicPr>
          <p:cNvPr id="1251" name="Рисунок 5" descr=""/>
          <p:cNvPicPr/>
          <p:nvPr/>
        </p:nvPicPr>
        <p:blipFill>
          <a:blip r:embed="rId1"/>
          <a:stretch/>
        </p:blipFill>
        <p:spPr>
          <a:xfrm>
            <a:off x="4673520" y="644400"/>
            <a:ext cx="4044960" cy="3032280"/>
          </a:xfrm>
          <a:prstGeom prst="rect">
            <a:avLst/>
          </a:prstGeom>
          <a:ln w="0">
            <a:noFill/>
          </a:ln>
        </p:spPr>
      </p:pic>
      <p:pic>
        <p:nvPicPr>
          <p:cNvPr id="1252" name="Рисунок 4" descr=""/>
          <p:cNvPicPr/>
          <p:nvPr/>
        </p:nvPicPr>
        <p:blipFill>
          <a:blip r:embed="rId2"/>
          <a:stretch/>
        </p:blipFill>
        <p:spPr>
          <a:xfrm>
            <a:off x="8820000" y="647640"/>
            <a:ext cx="2687760" cy="5261040"/>
          </a:xfrm>
          <a:prstGeom prst="rect">
            <a:avLst/>
          </a:prstGeom>
          <a:ln w="0">
            <a:noFill/>
          </a:ln>
        </p:spPr>
      </p:pic>
      <p:pic>
        <p:nvPicPr>
          <p:cNvPr id="1253" name="Рисунок 6" descr=""/>
          <p:cNvPicPr/>
          <p:nvPr/>
        </p:nvPicPr>
        <p:blipFill>
          <a:blip r:embed="rId3"/>
          <a:stretch/>
        </p:blipFill>
        <p:spPr>
          <a:xfrm>
            <a:off x="4673520" y="3772080"/>
            <a:ext cx="2000160" cy="2135160"/>
          </a:xfrm>
          <a:prstGeom prst="rect">
            <a:avLst/>
          </a:prstGeom>
          <a:ln w="0">
            <a:noFill/>
          </a:ln>
        </p:spPr>
      </p:pic>
      <p:pic>
        <p:nvPicPr>
          <p:cNvPr id="1254" name="Рисунок 3" descr=""/>
          <p:cNvPicPr/>
          <p:nvPr/>
        </p:nvPicPr>
        <p:blipFill>
          <a:blip r:embed="rId4"/>
          <a:srcRect l="15966" t="0" r="-4" b="-4"/>
          <a:stretch/>
        </p:blipFill>
        <p:spPr>
          <a:xfrm>
            <a:off x="6775560" y="3772080"/>
            <a:ext cx="1942920" cy="2135160"/>
          </a:xfrm>
          <a:prstGeom prst="rect">
            <a:avLst/>
          </a:prstGeom>
          <a:ln w="0">
            <a:noFill/>
          </a:ln>
        </p:spPr>
      </p:pic>
      <p:sp>
        <p:nvSpPr>
          <p:cNvPr id="1255" name="Rectangle 13"/>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56" name="Freeform 11"/>
          <p:cNvSpPr/>
          <p:nvPr/>
        </p:nvSpPr>
        <p:spPr>
          <a:xfrm>
            <a:off x="0" y="6060960"/>
            <a:ext cx="1038240" cy="506520"/>
          </a:xfrm>
          <a:custGeom>
            <a:avLst/>
            <a:gdLst/>
            <a:ahLst/>
            <a:rect l="l" t="t" r="r" b="b"/>
            <a:pathLst>
              <a:path w="1038036" h="506277">
                <a:moveTo>
                  <a:pt x="0" y="0"/>
                </a:moveTo>
                <a:lnTo>
                  <a:pt x="182880" y="0"/>
                </a:lnTo>
                <a:lnTo>
                  <a:pt x="291705" y="0"/>
                </a:lnTo>
                <a:lnTo>
                  <a:pt x="291705" y="151"/>
                </a:lnTo>
                <a:lnTo>
                  <a:pt x="692049" y="705"/>
                </a:lnTo>
                <a:lnTo>
                  <a:pt x="782744" y="705"/>
                </a:lnTo>
                <a:cubicBezTo>
                  <a:pt x="787553" y="705"/>
                  <a:pt x="792363" y="5473"/>
                  <a:pt x="797001" y="5473"/>
                </a:cubicBezTo>
                <a:cubicBezTo>
                  <a:pt x="797001" y="10242"/>
                  <a:pt x="801982" y="10242"/>
                  <a:pt x="801982" y="10242"/>
                </a:cubicBezTo>
                <a:lnTo>
                  <a:pt x="1030951" y="239185"/>
                </a:lnTo>
                <a:cubicBezTo>
                  <a:pt x="1040398" y="248722"/>
                  <a:pt x="1040398" y="258259"/>
                  <a:pt x="1030951" y="267797"/>
                </a:cubicBezTo>
                <a:lnTo>
                  <a:pt x="801982" y="496740"/>
                </a:lnTo>
                <a:cubicBezTo>
                  <a:pt x="800436" y="498363"/>
                  <a:pt x="798547" y="499885"/>
                  <a:pt x="797001" y="501508"/>
                </a:cubicBezTo>
                <a:cubicBezTo>
                  <a:pt x="792363" y="506277"/>
                  <a:pt x="787553" y="506277"/>
                  <a:pt x="782744" y="506277"/>
                </a:cubicBezTo>
                <a:lnTo>
                  <a:pt x="692049" y="506277"/>
                </a:lnTo>
                <a:lnTo>
                  <a:pt x="291705" y="505140"/>
                </a:lnTo>
                <a:lnTo>
                  <a:pt x="291705" y="506277"/>
                </a:lnTo>
                <a:lnTo>
                  <a:pt x="0" y="506277"/>
                </a:lnTo>
                <a:lnTo>
                  <a:pt x="0" y="0"/>
                </a:lnTo>
                <a:close/>
              </a:path>
            </a:pathLst>
          </a:custGeom>
          <a:solidFill>
            <a:srgbClr val="35353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257" name="PlaceHolder 1"/>
          <p:cNvSpPr>
            <a:spLocks noGrp="1"/>
          </p:cNvSpPr>
          <p:nvPr>
            <p:ph type="title"/>
          </p:nvPr>
        </p:nvSpPr>
        <p:spPr>
          <a:xfrm>
            <a:off x="649440" y="644400"/>
            <a:ext cx="3649680" cy="1260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000" spc="-1" strike="noStrike">
                <a:solidFill>
                  <a:srgbClr val="178dbb"/>
                </a:solidFill>
                <a:latin typeface="Century Gothic"/>
              </a:rPr>
              <a:t>Оп-арт.</a:t>
            </a:r>
            <a:endParaRPr b="0" lang="en-US" sz="4000" spc="-1" strike="noStrike">
              <a:solidFill>
                <a:srgbClr val="178dbb"/>
              </a:solidFill>
              <a:latin typeface="Century Gothic"/>
            </a:endParaRPr>
          </a:p>
        </p:txBody>
      </p:sp>
      <p:sp>
        <p:nvSpPr>
          <p:cNvPr id="1258" name=""/>
          <p:cNvSpPr txBox="1"/>
          <p:nvPr/>
        </p:nvSpPr>
        <p:spPr>
          <a:xfrm>
            <a:off x="649440" y="2133720"/>
            <a:ext cx="3649680" cy="3774960"/>
          </a:xfrm>
          <a:prstGeom prst="rect">
            <a:avLst/>
          </a:prstGeom>
          <a:noFill/>
          <a:ln w="0">
            <a:noFill/>
          </a:ln>
        </p:spPr>
        <p:txBody>
          <a:bodyPr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404040"/>
                </a:solidFill>
                <a:latin typeface="Century Gothic"/>
              </a:rPr>
              <a:t>Художественное течение,использующее различные оптические иллюзии, основанные на особенностях восприятия плоских и пространственных фигур.</a:t>
            </a:r>
            <a:endParaRPr b="0" lang="en-US" sz="2000" spc="-1" strike="noStrike">
              <a:solidFill>
                <a:srgbClr val="404040"/>
              </a:solidFill>
              <a:latin typeface="Century Gothic"/>
            </a:endParaRPr>
          </a:p>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404040"/>
                </a:solidFill>
                <a:latin typeface="Century Gothic"/>
              </a:rPr>
              <a:t>Представители: Агам,Анушкевич,Райли.</a:t>
            </a: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pic>
        <p:nvPicPr>
          <p:cNvPr id="1259" name="Рисунок 3" descr=""/>
          <p:cNvPicPr/>
          <p:nvPr/>
        </p:nvPicPr>
        <p:blipFill>
          <a:blip r:embed="rId1"/>
          <a:stretch/>
        </p:blipFill>
        <p:spPr>
          <a:xfrm>
            <a:off x="8896320" y="623880"/>
            <a:ext cx="2648160" cy="2562120"/>
          </a:xfrm>
          <a:prstGeom prst="rect">
            <a:avLst/>
          </a:prstGeom>
          <a:ln w="0">
            <a:noFill/>
          </a:ln>
        </p:spPr>
      </p:pic>
      <p:pic>
        <p:nvPicPr>
          <p:cNvPr id="1260" name="Рисунок 4" descr=""/>
          <p:cNvPicPr/>
          <p:nvPr/>
        </p:nvPicPr>
        <p:blipFill>
          <a:blip r:embed="rId2"/>
          <a:stretch/>
        </p:blipFill>
        <p:spPr>
          <a:xfrm>
            <a:off x="6107040" y="623880"/>
            <a:ext cx="2646360" cy="2562120"/>
          </a:xfrm>
          <a:prstGeom prst="rect">
            <a:avLst/>
          </a:prstGeom>
          <a:ln w="0">
            <a:noFill/>
          </a:ln>
        </p:spPr>
      </p:pic>
      <p:pic>
        <p:nvPicPr>
          <p:cNvPr id="1261" name="Рисунок 5" descr=""/>
          <p:cNvPicPr/>
          <p:nvPr/>
        </p:nvPicPr>
        <p:blipFill>
          <a:blip r:embed="rId3"/>
          <a:stretch/>
        </p:blipFill>
        <p:spPr>
          <a:xfrm>
            <a:off x="8896320" y="3328920"/>
            <a:ext cx="2648160" cy="2563920"/>
          </a:xfrm>
          <a:prstGeom prst="rect">
            <a:avLst/>
          </a:prstGeom>
          <a:ln w="0">
            <a:noFill/>
          </a:ln>
        </p:spPr>
      </p:pic>
      <p:pic>
        <p:nvPicPr>
          <p:cNvPr id="1262" name="Рисунок 6" descr=""/>
          <p:cNvPicPr/>
          <p:nvPr/>
        </p:nvPicPr>
        <p:blipFill>
          <a:blip r:embed="rId4"/>
          <a:stretch/>
        </p:blipFill>
        <p:spPr>
          <a:xfrm>
            <a:off x="6107040" y="3328920"/>
            <a:ext cx="2646360" cy="2563920"/>
          </a:xfrm>
          <a:prstGeom prst="rect">
            <a:avLst/>
          </a:prstGeom>
          <a:ln w="0">
            <a:noFill/>
          </a:ln>
        </p:spPr>
      </p:pic>
      <p:sp>
        <p:nvSpPr>
          <p:cNvPr id="1263" name="PlaceHolder 1"/>
          <p:cNvSpPr>
            <a:spLocks noGrp="1"/>
          </p:cNvSpPr>
          <p:nvPr>
            <p:ph type="title"/>
          </p:nvPr>
        </p:nvSpPr>
        <p:spPr>
          <a:xfrm>
            <a:off x="1687320" y="623520"/>
            <a:ext cx="413676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178dbb"/>
                </a:solidFill>
                <a:latin typeface="Century Gothic"/>
              </a:rPr>
              <a:t>Кинетическое искусство.</a:t>
            </a:r>
            <a:endParaRPr b="0" lang="en-US" sz="3200" spc="-1" strike="noStrike">
              <a:solidFill>
                <a:srgbClr val="178dbb"/>
              </a:solidFill>
              <a:latin typeface="Century Gothic"/>
            </a:endParaRPr>
          </a:p>
        </p:txBody>
      </p:sp>
      <p:sp>
        <p:nvSpPr>
          <p:cNvPr id="1264" name=""/>
          <p:cNvSpPr txBox="1"/>
          <p:nvPr/>
        </p:nvSpPr>
        <p:spPr>
          <a:xfrm>
            <a:off x="1684440" y="2133360"/>
            <a:ext cx="4140000" cy="3778200"/>
          </a:xfrm>
          <a:prstGeom prst="rect">
            <a:avLst/>
          </a:prstGeom>
          <a:noFill/>
          <a:ln w="0">
            <a:noFill/>
          </a:ln>
        </p:spPr>
        <p:txBody>
          <a:bodyPr anchor="t">
            <a:normAutofit fontScale="91000"/>
          </a:bodyPr>
          <a:p>
            <a:pPr marL="312120" indent="-312120">
              <a:lnSpc>
                <a:spcPct val="80000"/>
              </a:lnSpc>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Century Gothic"/>
              </a:rPr>
              <a:t>Направление в современном искусстве, обыгрывающее эффекты реального движения всего произведения или отдельных его составляющих. Кинетизм основывается на представлении о том, что с помощью света и движения можно создать произведение искусства. Объекты представляют собой движущиеся установки, производящие при перемещении интересные сочетания света и тени, иногда звучащие. Эти тщательно сконструированные устройства из металла, стекла или других материалов, соединённые с мигающими световыми устройствами, получили название </a:t>
            </a:r>
            <a:r>
              <a:rPr b="0" i="1" lang="ru-RU" sz="1600" spc="-1" strike="noStrike">
                <a:solidFill>
                  <a:srgbClr val="000000"/>
                </a:solidFill>
                <a:latin typeface="Century Gothic"/>
              </a:rPr>
              <a:t>«мобилей»</a:t>
            </a:r>
            <a:r>
              <a:rPr b="0" lang="ru-RU" sz="1600" spc="-1" strike="noStrike">
                <a:solidFill>
                  <a:srgbClr val="000000"/>
                </a:solidFill>
                <a:latin typeface="Century Gothic"/>
              </a:rPr>
              <a:t>.</a:t>
            </a:r>
            <a:endParaRPr b="0" lang="en-US" sz="1600" spc="-1" strike="noStrike">
              <a:solidFill>
                <a:srgbClr val="404040"/>
              </a:solidFill>
              <a:latin typeface="Century Gothic"/>
            </a:endParaRPr>
          </a:p>
          <a:p>
            <a:pPr marL="312120" indent="-312120">
              <a:lnSpc>
                <a:spcPct val="80000"/>
              </a:lnSpc>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Century Gothic"/>
              </a:rPr>
              <a:t>Представители: Бентон, Шеффер, Янсен, Эмери.</a:t>
            </a:r>
            <a:endParaRPr b="0" lang="en-US" sz="1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1-28T14:05:57Z</dcterms:created>
  <dc:creator>Юлия Морозова</dc:creator>
  <dc:description/>
  <dc:language>en-US</dc:language>
  <cp:lastModifiedBy>DNS</cp:lastModifiedBy>
  <dcterms:modified xsi:type="dcterms:W3CDTF">2016-12-04T17:58:24Z</dcterms:modified>
  <cp:revision>9</cp:revision>
  <dc:subject/>
  <dc:title>Изобразительное искусство.</dc:title>
</cp:coreProperties>
</file>