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F0BF0-E590-48EF-A05D-73D92A972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CB9B1-407C-472E-BF4A-97DF2BA35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1E2B44-35D0-4A81-BA9E-3D816E799E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BC9D82-2B19-4793-B87B-BA7B07CAF0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336056-BA0E-431D-BB0A-60002D9D2D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09CB0-4BA5-4470-A074-3BE1AF2AE0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18BD05-2C12-4857-ADD8-2F4800B802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F2583-ED50-4C66-9012-56BC62BD1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6ABBB-EE0B-4EA0-B0A3-8CA98461AB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0EAC9E-ABD3-471C-9577-ABEB6960C8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E1B65A-E602-44B6-A045-FB7BBE5366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E53802-D5D6-4A83-B06F-A6027D0815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0557E-8825-45D7-81EF-E3429CB17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8F7306-FF68-41EA-A737-6CBC156CA0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822DC0-22D3-4C7B-BCCA-780042C706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91FFBA-DC67-428F-8A7A-049857CA72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7FB120-6E04-4230-B9E7-BD1A9752B7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018E32-36BE-4582-86CE-12DA92C9F7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28E2D0-738E-48D6-8645-C8D33886B2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F6B3D6-6165-4EDA-8FE3-B7F44B36B4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15B070-E5B2-412F-BC81-26186BC2C8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06969B-9755-4C41-A46D-9EA29C55AD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B53416-3AEB-4F02-ADE8-64DC5657BF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A7328-53C1-43E5-B0E7-06C18CB24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BF48B9-17AD-4F80-8458-6F4025C51A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C34499-7971-4390-8E79-95DE28060C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00978A-5134-4809-9B0A-2B822C9DA9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12A151-90CF-41DC-8F6E-5A1FE70251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9B485F-FAB1-483E-ABE4-E570BC7E96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78E5A6-CE85-4352-9967-FFF0770FAD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EB8F9A-8C95-44D0-9E77-0336DAFBDE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CA15EB-CAC9-4F34-BAB1-BA463254C5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F7ACD2-67DC-41F9-91DC-4858926FFA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70D5BF-302C-448B-823A-2A36D11F3C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19472-2E02-47D7-9BBE-19168AE36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076193-4653-4EB4-9973-F9E3705EE6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FD63F2-E7C1-4470-8CA0-CCA9D15EFD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0B6B37-B89C-433E-87E0-4859FA4D19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173CE3-F54C-4047-94DA-C7431F517D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35A08C-ABC5-4161-9626-3253E7E2DF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D646EA-D241-450B-B1B7-5D6B0137F6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DCE27E-D4CD-423D-8E6D-F908EC6259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D99AF2-3CB5-4D53-BB46-316A7D0F6D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C3A4FC-7466-43BA-8995-26A9C1BFDB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7803C6-61BF-47FD-822E-5888A5735C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1768F-4041-49AA-A17D-8ECDD9FC8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2BCAF9-D918-4B1B-AE07-82021F37FA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7E5357-909A-4BA3-A602-D5CF508150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EB6952-7D98-4746-81FE-282A866FBC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C5F3170-2F3A-4D6F-96B4-6F5179672F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9A786B8-10D2-4EA1-9A3E-5B5C99B71E6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507BEBB-68BC-4CAC-98B8-70EBAD9053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EA99F0-ECDF-4B57-9DF2-FE59130C15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A2AA82-08AB-4B4A-B82F-CDAE5325CD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D3D057-82CA-4D3F-A1B1-A4CAAA5954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90BB01-2490-4DF3-B888-8CCECE2811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2813B-78D9-4970-983B-6F57C9017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E58EA1-E17A-4A0D-988B-FB6A435DF6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616C39-2BE9-4E21-938B-9417DA76B3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69B016-C2A7-4681-B691-E1F87A8264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888C16-4681-452B-A406-4C833F341A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102F4F-4704-435A-B97F-9F0A95302F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C4335AB-EA69-4589-A367-BC87B29E44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0E89FB-8142-40EF-A5A8-392A00950AF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83E4AF-0D6B-44AA-A455-E3CF48FC703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EF6C14-5A1D-4C08-BE8C-D6BE587836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DE3F89-4B13-4F2E-8881-62BE24D515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D2910-7284-4127-9537-754C974C5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9DBDAC-36EA-4E1D-809F-406D48EB41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3AD6EA-BDF7-4169-A10D-D22E31459B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C45F2A-EC02-4DCA-B2D5-5738EB445B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FE4011-B78D-443E-8A53-6F57B7B413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DB7FB6-8A01-4E06-9D73-B1EC8AE97E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20A882-AD41-40AA-9A7E-C651E5E46C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2A7F6F-3A0D-42A4-AD66-5FD06C7ADF7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F9B97A6-DB2E-4129-8799-60931E54AC8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110B94-BFCD-4740-AB53-9A3B313CC32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9F8FFB3-C1BB-409F-9A91-42A0F4B4B21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321C2-C1DF-4E5F-87BC-D3D12B936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09B8B89-BE22-4467-AA63-070F964E24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BA8BF4-245B-462C-A379-B77026BD579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2307EE-44B1-48FE-A706-94159EFEA3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9DBEEA-1F34-4A8A-A5CF-C4CE46C6C29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7DABA14-D3DA-4B74-9C7E-97655A65AD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ABF89A-E114-42C0-A511-093ED9EE3F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EB7406-020F-476E-86A4-5F7180CDA2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6CDD54-F015-456C-A83A-36245FD426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1180CED-ACE5-49D1-9FDC-8D483D60141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30E01B7-0FDE-4EA4-8817-819F420A077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6740E-5387-4939-96E8-8A2E67E0E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46E6EAB-BAE7-4478-9DF4-54F301E5E2B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85ADEFE-9C13-4B94-B0A0-92309E05A02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7AFA543-4878-44E6-8D82-EE194F1400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2F365DA-844A-4F0C-BAA2-92B6CD02B76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5E1EB37-7909-4B2C-8E4A-A656F6581A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8A77B9-EA1A-4019-B7CC-2E2019273C6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5AFDAC-FBB2-4864-ABD8-6346AB361B1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79FDC8-BD2B-438B-A51F-71748BE942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12A71D-9540-463F-9450-0DDEE4D729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4ADE19-8FF0-46FA-88A0-79F7FFCB13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E59C0-8783-463C-A24F-B8C763E94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B9AC89-ADC1-49C1-9771-C86AC8E991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2CF0BC1-A6C7-4346-8F0B-7D375A01328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C6953AF-DCA3-48C0-8B93-715574FD715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6DC4B03-8FBA-45BE-85C6-5E786333FEB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B3001A6-655C-4DAC-8170-1134B8336D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BF0837F-2887-4B53-A88A-A4B447AD129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789CC0-8BB6-405C-A3B5-A55949F6D1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3130AB7-9C09-40D5-85B8-2E402830DF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3797B9-E892-4965-A010-F740F57C708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55DA03-2FBC-4B01-9A58-26CFCF3C15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6C2D5-6617-465D-A3AB-1CD6F1599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E5397-E4AB-4EE9-98C5-56C1BBE54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5B60DE-3A84-4CAD-A18D-CFBCA976BC5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EA15789-D9F9-4B5F-9B84-158DF0A60E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5E05D5F-979A-4AD1-A9F4-98F8585C3E7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E753F6E-6FDA-4EB0-8ABB-1820D8F7BDA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6D6CAB0-7024-412D-ABA4-5F722B01FCB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C6B36-7C89-4AAE-B90C-3DA0301E8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66617-708B-4E4B-BA9A-427EB172E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B8ADC-42F0-4A7A-A8A7-123E0C54A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D0F9A-E03A-4D9B-9C9D-CEBBB2072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9C9A52-A3B2-4A01-8306-0D39AF8C03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B53A9-4E3C-4C16-BB3A-D307CF274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885DE-160D-4A9F-A11A-42B2D36887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3E51A-24E3-4B26-B177-35315115C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B0316-5C2E-4EAA-8769-9239BEBA1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82A2E-761C-437A-9563-EA3C55805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7C2D7-0683-4D20-9B2E-AC67BC225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1F5D5-F5AB-4BF6-96E5-9F88D74AF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33A99-4305-4624-8B79-05AE8A536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EEBAC-4DA3-4042-B23F-DB0B3D9D4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511AC-4F67-49AA-A0DC-AB5905CFD9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B2A51B-21C9-4990-AAFB-B83DB18FB3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8C3CF2-2F3B-492B-AB34-DEDCDE4CE8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F37582-91F5-4C55-BF95-016B12BA2C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48F7A6-0ED8-4986-ADD0-A3AEFB392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53AAA3-A0B3-4141-9D47-945B181D7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96584-0957-4076-B3C1-F19E8213A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35585F-97F0-4C83-8E5A-9150A170A5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473BB-673D-44EA-83AB-B2B0352AF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767DA-D675-4090-9241-E5E9D15E7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7C3A1-7B48-4BCC-BE6F-28D162DBF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22278-6AD5-4D9E-8E5C-C09B9DE52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67965-C98D-451D-8125-DD13952F9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7394BD-FE1D-4526-B14E-0C36E8A765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15EB6C-CC47-4A1D-A074-F3740F6ADF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68FD35-529A-46A7-93E2-5F7757E80E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D64E24-686A-4F53-87EE-744A64935A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3CACE-C9DC-47B9-8EFB-CCF9F8370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72A48-99B2-47FC-83C8-FA6B616598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72FA2A-F5F6-4EFC-9183-9121EAB54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D5DED-0C75-46E3-94B3-4004B7DE8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9D18FF-183F-4253-8C14-7CED3CAAD2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83F428-3353-4428-A94D-FD8A28D4F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402269-7A96-4386-A368-8500BF160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71368-95C5-42F9-9D66-E262B718A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4763BE-9341-4AF7-AA18-CB7041E1A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2E38E9-3CC0-4E28-92B9-BEA375E7BA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7C8332-D15F-4A7B-BE40-06B5266998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7DD2-B793-4E80-A6D8-08AF5B1A9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A188C4-40E2-4733-A409-039592497A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689253-BAC6-4FE9-B6C8-650ADEEB4D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EC5265-F4CA-49F7-9BDC-D648F65B94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A6A394-D9BC-4BED-975D-197579484D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0F37DC-650F-4D32-9970-FB3DD529D7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4691B2-0E87-42F4-BAEE-647CEE2EAA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E71591-83AF-4B21-96F9-25A768415A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D6E6F-4820-46D6-B535-78C91A885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5A6AF-0208-476A-B149-FF5478671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6BE5B-16CA-46A2-B3F9-D2860DAF6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B1F6-51AE-4E47-BDDF-8D5EAEE62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A73051-C34F-481A-B956-66ECCB9CB0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AF5BC2-907D-412B-B8FF-13FFB9014E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5121D4-E1DE-4F58-89D8-DA656D5C88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BC276F-E6EB-4C4A-A710-314E3E5F32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7D47C-CC21-49A2-800E-813A6D315C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729CB1-C448-4B77-96BE-BDB726660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7D0D77-3F60-4F72-BA2D-006CC41614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3587A3-6067-4CF1-BA2A-F2FB070000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58243F-9C92-4DB5-92EC-F0CABC8071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73E43-7FCB-437C-A9BC-62AB254D58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47657-2E9E-4694-A1C6-84D51928B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080D37-5C81-4EE3-A076-5D1050790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EE081E-5891-4607-A42C-06E47075A5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7F1F92-98D4-4A3B-AC1A-7759A69B1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ABC575-6ECB-4FFE-88B9-BCC908F9F4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D839DC-77A0-4CB6-99E9-5B39F6DF4D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E3BB74-DFFB-4B5D-BBF9-964110D563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9F9DFD-B690-4153-92C0-44AC843CF4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33CBF6-25C1-4D84-8E99-A1770025AD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667759-90BB-4E79-AE0D-921F15DF58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4DE1A6-DD1A-45C4-BCC7-E31638DA25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16033-11BF-4B07-ACCB-F77FDC50D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BA8A2-79B6-4E01-B87A-DE20B848C1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14CB5-B985-4A2C-BF2D-20C0A7B9B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31892-6460-4DE7-ABCD-3168306C94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D756D2-A50C-4E3F-8988-8499559B7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66F08C-A02A-4462-8C8F-98ED291919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2CED74-AC00-483B-B0E8-378A2208B6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FD7324-54CF-4EB2-8AE2-F1A0140E5D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3B15A6-089B-45F8-83F9-BA047E9E0A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36DFB4-7FD3-4F28-980D-200AD552BF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406E76-14EF-44EF-9203-BF6A690154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CEDA6-2D9E-4C6A-A86A-740C5033609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121A8-761C-4699-95BA-BD55C12421D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75B23-D141-436E-914E-825EB565323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379A5-E140-4E33-AD28-9EB6180588A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CCF6D-289F-46A2-8A06-88B0E285A4A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CE6A7-A647-4931-BCA3-C8C80EA10D0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F5B60-E57C-4A96-96B2-723387F50C0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309CD-0D79-410C-A317-21933D7B15F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4A144-196B-4DCB-8059-348BDE634BF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919F6-6BAC-46B1-BE3E-CE51315F9B5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38618-B7F7-40EE-BA51-4DB7DAE55C0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7B66A-4C15-4CB1-AEE3-D93F6E8378A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BD283-3C40-4240-9FF7-E976209F9A8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D18B7-378C-427E-B0C8-6F054F1F2E8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F6326-8373-43D4-BD33-C7CD7DEE03B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AA5AB-D600-4F66-A1B3-C8148972D28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FE8AF-9FFD-4A3E-B863-343609652E0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76" name="Rectangle 7"/>
          <p:cNvSpPr/>
          <p:nvPr/>
        </p:nvSpPr>
        <p:spPr>
          <a:xfrm>
            <a:off x="0" y="0"/>
            <a:ext cx="1218888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177" name="Рисунок 3" descr=""/>
          <p:cNvPicPr/>
          <p:nvPr/>
        </p:nvPicPr>
        <p:blipFill>
          <a:blip r:embed="rId1"/>
          <a:stretch/>
        </p:blipFill>
        <p:spPr>
          <a:xfrm>
            <a:off x="7075440" y="1930320"/>
            <a:ext cx="4152960" cy="2990880"/>
          </a:xfrm>
          <a:prstGeom prst="rect">
            <a:avLst/>
          </a:prstGeom>
          <a:ln w="0">
            <a:noFill/>
          </a:ln>
        </p:spPr>
      </p:pic>
      <p:sp>
        <p:nvSpPr>
          <p:cNvPr id="1178" name="Rectangle 8"/>
          <p:cNvSpPr/>
          <p:nvPr/>
        </p:nvSpPr>
        <p:spPr>
          <a:xfrm>
            <a:off x="0" y="0"/>
            <a:ext cx="6111720" cy="6858000"/>
          </a:xfrm>
          <a:prstGeom prst="rect">
            <a:avLst/>
          </a:prstGeom>
          <a:solidFill>
            <a:srgbClr val="172935">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9" name="Freeform 27"/>
          <p:cNvSpPr/>
          <p:nvPr/>
        </p:nvSpPr>
        <p:spPr>
          <a:xfrm>
            <a:off x="0" y="5032440"/>
            <a:ext cx="6881760" cy="857160"/>
          </a:xfrm>
          <a:custGeom>
            <a:avLst/>
            <a:gdLst/>
            <a:ahLst/>
            <a:rect l="l" t="t" r="r" b="b"/>
            <a:pathLst>
              <a:path w="6881206" h="857047">
                <a:moveTo>
                  <a:pt x="0" y="0"/>
                </a:moveTo>
                <a:cubicBezTo>
                  <a:pt x="0" y="0"/>
                  <a:pt x="0" y="0"/>
                  <a:pt x="653445" y="0"/>
                </a:cubicBezTo>
                <a:cubicBezTo>
                  <a:pt x="653445" y="0"/>
                  <a:pt x="653445" y="0"/>
                  <a:pt x="1156123" y="0"/>
                </a:cubicBezTo>
                <a:lnTo>
                  <a:pt x="1380221" y="0"/>
                </a:lnTo>
                <a:cubicBezTo>
                  <a:pt x="1380221" y="0"/>
                  <a:pt x="1380221" y="0"/>
                  <a:pt x="1444324" y="0"/>
                </a:cubicBezTo>
                <a:lnTo>
                  <a:pt x="1522072" y="0"/>
                </a:lnTo>
                <a:lnTo>
                  <a:pt x="1596570" y="0"/>
                </a:lnTo>
                <a:cubicBezTo>
                  <a:pt x="1668686" y="0"/>
                  <a:pt x="1764840" y="0"/>
                  <a:pt x="1893047" y="0"/>
                </a:cubicBezTo>
                <a:cubicBezTo>
                  <a:pt x="1893047" y="0"/>
                  <a:pt x="1893047" y="0"/>
                  <a:pt x="1978260" y="0"/>
                </a:cubicBezTo>
                <a:lnTo>
                  <a:pt x="2032793" y="0"/>
                </a:lnTo>
                <a:lnTo>
                  <a:pt x="2095032" y="0"/>
                </a:lnTo>
                <a:cubicBezTo>
                  <a:pt x="2196025" y="0"/>
                  <a:pt x="2347515" y="0"/>
                  <a:pt x="2574748" y="0"/>
                </a:cubicBezTo>
                <a:lnTo>
                  <a:pt x="2712413" y="0"/>
                </a:lnTo>
                <a:lnTo>
                  <a:pt x="2724164" y="0"/>
                </a:lnTo>
                <a:lnTo>
                  <a:pt x="2806423" y="0"/>
                </a:lnTo>
                <a:lnTo>
                  <a:pt x="2975563" y="0"/>
                </a:lnTo>
                <a:lnTo>
                  <a:pt x="3029696" y="0"/>
                </a:lnTo>
                <a:lnTo>
                  <a:pt x="3216247" y="0"/>
                </a:lnTo>
                <a:lnTo>
                  <a:pt x="3464491" y="0"/>
                </a:lnTo>
                <a:lnTo>
                  <a:pt x="3476820" y="0"/>
                </a:lnTo>
                <a:lnTo>
                  <a:pt x="3508932" y="0"/>
                </a:lnTo>
                <a:cubicBezTo>
                  <a:pt x="3508932" y="0"/>
                  <a:pt x="3508932" y="0"/>
                  <a:pt x="3518154" y="0"/>
                </a:cubicBezTo>
                <a:lnTo>
                  <a:pt x="3563124" y="0"/>
                </a:lnTo>
                <a:lnTo>
                  <a:pt x="3568615" y="0"/>
                </a:lnTo>
                <a:lnTo>
                  <a:pt x="3582711" y="0"/>
                </a:lnTo>
                <a:lnTo>
                  <a:pt x="3607047" y="0"/>
                </a:lnTo>
                <a:lnTo>
                  <a:pt x="3711363" y="0"/>
                </a:lnTo>
                <a:lnTo>
                  <a:pt x="3757936" y="0"/>
                </a:lnTo>
                <a:lnTo>
                  <a:pt x="3914505" y="0"/>
                </a:lnTo>
                <a:lnTo>
                  <a:pt x="4099165" y="0"/>
                </a:lnTo>
                <a:cubicBezTo>
                  <a:pt x="4099165" y="0"/>
                  <a:pt x="4099165" y="0"/>
                  <a:pt x="4176573" y="0"/>
                </a:cubicBezTo>
                <a:cubicBezTo>
                  <a:pt x="4176573" y="0"/>
                  <a:pt x="4176573" y="0"/>
                  <a:pt x="4211043" y="0"/>
                </a:cubicBezTo>
                <a:lnTo>
                  <a:pt x="4249415" y="0"/>
                </a:lnTo>
                <a:lnTo>
                  <a:pt x="4292911" y="0"/>
                </a:lnTo>
                <a:cubicBezTo>
                  <a:pt x="4370470" y="0"/>
                  <a:pt x="4499735" y="0"/>
                  <a:pt x="4715176" y="0"/>
                </a:cubicBezTo>
                <a:lnTo>
                  <a:pt x="4749035" y="0"/>
                </a:lnTo>
                <a:lnTo>
                  <a:pt x="5107279" y="0"/>
                </a:lnTo>
                <a:lnTo>
                  <a:pt x="5446306" y="0"/>
                </a:lnTo>
                <a:lnTo>
                  <a:pt x="5654500" y="0"/>
                </a:lnTo>
                <a:lnTo>
                  <a:pt x="5879355" y="0"/>
                </a:lnTo>
                <a:lnTo>
                  <a:pt x="6374171" y="0"/>
                </a:lnTo>
                <a:lnTo>
                  <a:pt x="6382691" y="0"/>
                </a:lnTo>
                <a:cubicBezTo>
                  <a:pt x="6392367" y="0"/>
                  <a:pt x="6402043" y="5258"/>
                  <a:pt x="6406881" y="10516"/>
                </a:cubicBezTo>
                <a:cubicBezTo>
                  <a:pt x="6406881" y="10516"/>
                  <a:pt x="6411719" y="10516"/>
                  <a:pt x="6411719" y="15774"/>
                </a:cubicBezTo>
                <a:cubicBezTo>
                  <a:pt x="6411719" y="15774"/>
                  <a:pt x="6411719" y="15774"/>
                  <a:pt x="6412418" y="16534"/>
                </a:cubicBezTo>
                <a:lnTo>
                  <a:pt x="6413765" y="17998"/>
                </a:lnTo>
                <a:lnTo>
                  <a:pt x="6418286" y="21854"/>
                </a:lnTo>
                <a:cubicBezTo>
                  <a:pt x="6439669" y="40092"/>
                  <a:pt x="6525203" y="113046"/>
                  <a:pt x="6867337" y="404863"/>
                </a:cubicBezTo>
                <a:cubicBezTo>
                  <a:pt x="6885830" y="415379"/>
                  <a:pt x="6885830" y="436411"/>
                  <a:pt x="6867337" y="452185"/>
                </a:cubicBezTo>
                <a:cubicBezTo>
                  <a:pt x="6867337" y="452185"/>
                  <a:pt x="6867337" y="452185"/>
                  <a:pt x="6491457" y="772784"/>
                </a:cubicBezTo>
                <a:lnTo>
                  <a:pt x="6413765" y="839050"/>
                </a:lnTo>
                <a:lnTo>
                  <a:pt x="6411719" y="841273"/>
                </a:lnTo>
                <a:cubicBezTo>
                  <a:pt x="6411719" y="841273"/>
                  <a:pt x="6406881" y="841273"/>
                  <a:pt x="6406881" y="846531"/>
                </a:cubicBezTo>
                <a:cubicBezTo>
                  <a:pt x="6402043" y="851789"/>
                  <a:pt x="6392367" y="857047"/>
                  <a:pt x="6382691" y="857047"/>
                </a:cubicBezTo>
                <a:lnTo>
                  <a:pt x="6374171" y="857047"/>
                </a:lnTo>
                <a:lnTo>
                  <a:pt x="6368680" y="857047"/>
                </a:lnTo>
                <a:lnTo>
                  <a:pt x="6348221" y="857047"/>
                </a:lnTo>
                <a:lnTo>
                  <a:pt x="6330248" y="857047"/>
                </a:lnTo>
                <a:lnTo>
                  <a:pt x="6266353" y="857047"/>
                </a:lnTo>
                <a:lnTo>
                  <a:pt x="6225932" y="857047"/>
                </a:lnTo>
                <a:lnTo>
                  <a:pt x="6106926" y="857047"/>
                </a:lnTo>
                <a:lnTo>
                  <a:pt x="6022790" y="857047"/>
                </a:lnTo>
                <a:lnTo>
                  <a:pt x="5844088" y="857047"/>
                </a:lnTo>
                <a:lnTo>
                  <a:pt x="5687880" y="857047"/>
                </a:lnTo>
                <a:lnTo>
                  <a:pt x="5451985" y="857047"/>
                </a:lnTo>
                <a:lnTo>
                  <a:pt x="5188261" y="857047"/>
                </a:lnTo>
                <a:lnTo>
                  <a:pt x="4904764" y="857047"/>
                </a:lnTo>
                <a:lnTo>
                  <a:pt x="4490989" y="857047"/>
                </a:lnTo>
                <a:lnTo>
                  <a:pt x="4176573" y="857047"/>
                </a:lnTo>
                <a:cubicBezTo>
                  <a:pt x="4176573" y="857047"/>
                  <a:pt x="4176573" y="857047"/>
                  <a:pt x="4099165" y="857047"/>
                </a:cubicBezTo>
                <a:cubicBezTo>
                  <a:pt x="4099165" y="857047"/>
                  <a:pt x="4099165" y="857047"/>
                  <a:pt x="4089943" y="857047"/>
                </a:cubicBezTo>
                <a:lnTo>
                  <a:pt x="4057940" y="857047"/>
                </a:lnTo>
                <a:lnTo>
                  <a:pt x="4025386" y="857047"/>
                </a:lnTo>
                <a:cubicBezTo>
                  <a:pt x="3988496" y="857047"/>
                  <a:pt x="3933162" y="857047"/>
                  <a:pt x="3850160" y="857047"/>
                </a:cubicBezTo>
                <a:lnTo>
                  <a:pt x="3563124" y="857047"/>
                </a:lnTo>
                <a:lnTo>
                  <a:pt x="3550795" y="857047"/>
                </a:lnTo>
                <a:lnTo>
                  <a:pt x="3508932" y="857047"/>
                </a:lnTo>
                <a:cubicBezTo>
                  <a:pt x="3508932" y="857047"/>
                  <a:pt x="3508932" y="857047"/>
                  <a:pt x="3483683" y="857047"/>
                </a:cubicBezTo>
                <a:lnTo>
                  <a:pt x="3464491" y="857047"/>
                </a:lnTo>
                <a:lnTo>
                  <a:pt x="3452740" y="857047"/>
                </a:lnTo>
                <a:lnTo>
                  <a:pt x="3423719" y="857047"/>
                </a:lnTo>
                <a:lnTo>
                  <a:pt x="3370481" y="857047"/>
                </a:lnTo>
                <a:lnTo>
                  <a:pt x="3306946" y="857047"/>
                </a:lnTo>
                <a:lnTo>
                  <a:pt x="3147208" y="857047"/>
                </a:lnTo>
                <a:lnTo>
                  <a:pt x="3114429" y="857047"/>
                </a:lnTo>
                <a:lnTo>
                  <a:pt x="2960658" y="857047"/>
                </a:lnTo>
                <a:lnTo>
                  <a:pt x="2827230" y="857047"/>
                </a:lnTo>
                <a:lnTo>
                  <a:pt x="2712413" y="857047"/>
                </a:lnTo>
                <a:lnTo>
                  <a:pt x="2680242" y="857047"/>
                </a:lnTo>
                <a:lnTo>
                  <a:pt x="2603835" y="857047"/>
                </a:lnTo>
                <a:lnTo>
                  <a:pt x="2455042" y="857047"/>
                </a:lnTo>
                <a:lnTo>
                  <a:pt x="2426415" y="857047"/>
                </a:lnTo>
                <a:lnTo>
                  <a:pt x="2209736" y="857047"/>
                </a:lnTo>
                <a:lnTo>
                  <a:pt x="1893047" y="857047"/>
                </a:lnTo>
                <a:cubicBezTo>
                  <a:pt x="1893047" y="857047"/>
                  <a:pt x="1893047" y="857047"/>
                  <a:pt x="1885034" y="857047"/>
                </a:cubicBezTo>
                <a:lnTo>
                  <a:pt x="1843786" y="857047"/>
                </a:lnTo>
                <a:lnTo>
                  <a:pt x="1828944" y="857047"/>
                </a:lnTo>
                <a:cubicBezTo>
                  <a:pt x="1764840" y="857047"/>
                  <a:pt x="1636634" y="857047"/>
                  <a:pt x="1380221" y="857047"/>
                </a:cubicBezTo>
                <a:lnTo>
                  <a:pt x="1333065" y="857047"/>
                </a:lnTo>
                <a:cubicBezTo>
                  <a:pt x="1136016" y="857047"/>
                  <a:pt x="910816" y="857047"/>
                  <a:pt x="653445" y="857047"/>
                </a:cubicBezTo>
                <a:cubicBezTo>
                  <a:pt x="653445" y="857047"/>
                  <a:pt x="653445" y="857047"/>
                  <a:pt x="0" y="857047"/>
                </a:cubicBezTo>
                <a:cubicBezTo>
                  <a:pt x="0" y="857047"/>
                  <a:pt x="0" y="857047"/>
                  <a:pt x="0" y="0"/>
                </a:cubicBezTo>
                <a:close/>
              </a:path>
            </a:pathLst>
          </a:custGeom>
          <a:solidFill>
            <a:srgbClr val="353535"/>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180" name="PlaceHolder 1"/>
          <p:cNvSpPr>
            <a:spLocks noGrp="1"/>
          </p:cNvSpPr>
          <p:nvPr>
            <p:ph type="title"/>
          </p:nvPr>
        </p:nvSpPr>
        <p:spPr>
          <a:xfrm>
            <a:off x="539280" y="966600"/>
            <a:ext cx="5281560" cy="3943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feffff"/>
                </a:solidFill>
                <a:latin typeface="Century Gothic"/>
              </a:rPr>
              <a:t>Изобразительное искусство 2-ой половины 20 в.</a:t>
            </a:r>
            <a:endParaRPr b="0" lang="en-US" sz="4000" spc="-1" strike="noStrike">
              <a:solidFill>
                <a:srgbClr val="178dbb"/>
              </a:solidFill>
              <a:latin typeface="Century Gothic"/>
            </a:endParaRPr>
          </a:p>
        </p:txBody>
      </p:sp>
      <p:sp>
        <p:nvSpPr>
          <p:cNvPr id="1181" name="PlaceHolder 2"/>
          <p:cNvSpPr>
            <a:spLocks noGrp="1"/>
          </p:cNvSpPr>
          <p:nvPr>
            <p:ph type="subTitle"/>
          </p:nvPr>
        </p:nvSpPr>
        <p:spPr>
          <a:xfrm>
            <a:off x="7368840" y="5338800"/>
            <a:ext cx="5280120" cy="1101600"/>
          </a:xfrm>
          <a:prstGeom prst="rect">
            <a:avLst/>
          </a:prstGeom>
          <a:noFill/>
          <a:ln w="0">
            <a:noFill/>
          </a:ln>
        </p:spPr>
        <p:txBody>
          <a:bodyPr anchor="ctr">
            <a:no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Century Gothic"/>
              </a:rPr>
              <a:t>Выполнили:</a:t>
            </a:r>
            <a:br>
              <a:rPr sz="1600"/>
            </a:br>
            <a:r>
              <a:rPr b="0" lang="ru-RU" sz="1600" spc="-1" strike="noStrike">
                <a:solidFill>
                  <a:srgbClr val="000000"/>
                </a:solidFill>
                <a:latin typeface="Century Gothic"/>
              </a:rPr>
              <a:t>ученицы 9 класса</a:t>
            </a:r>
            <a:br>
              <a:rPr sz="1600"/>
            </a:br>
            <a:r>
              <a:rPr b="0" lang="ru-RU" sz="1600" spc="-1" strike="noStrike">
                <a:solidFill>
                  <a:srgbClr val="000000"/>
                </a:solidFill>
                <a:latin typeface="Century Gothic"/>
              </a:rPr>
              <a:t>МБОУ «Вяткинская СОШ»</a:t>
            </a:r>
            <a:br>
              <a:rPr sz="1600"/>
            </a:br>
            <a:r>
              <a:rPr b="0" lang="ru-RU" sz="1600" spc="-1" strike="noStrike">
                <a:solidFill>
                  <a:srgbClr val="000000"/>
                </a:solidFill>
                <a:latin typeface="Century Gothic"/>
              </a:rPr>
              <a:t>Морозова Юлия,</a:t>
            </a:r>
            <a:br>
              <a:rPr sz="1600"/>
            </a:br>
            <a:r>
              <a:rPr b="0" lang="ru-RU" sz="1600" spc="-1" strike="noStrike">
                <a:solidFill>
                  <a:srgbClr val="000000"/>
                </a:solidFill>
                <a:latin typeface="Century Gothic"/>
              </a:rPr>
              <a:t>Филиппова Анастасия (1),</a:t>
            </a:r>
            <a:br>
              <a:rPr sz="1600"/>
            </a:br>
            <a:r>
              <a:rPr b="0" lang="ru-RU" sz="1600" spc="-1" strike="noStrike">
                <a:solidFill>
                  <a:srgbClr val="000000"/>
                </a:solidFill>
                <a:latin typeface="Century Gothic"/>
              </a:rPr>
              <a:t>Филиппова Анастасия (2),</a:t>
            </a:r>
            <a:br>
              <a:rPr sz="1600"/>
            </a:br>
            <a:r>
              <a:rPr b="0" lang="ru-RU" sz="1600" spc="-1" strike="noStrike">
                <a:solidFill>
                  <a:srgbClr val="000000"/>
                </a:solidFill>
                <a:latin typeface="Century Gothic"/>
              </a:rPr>
              <a:t>Филиппова Надежда.</a:t>
            </a: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2963880" y="1617840"/>
            <a:ext cx="8912160" cy="128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6600" spc="-1" strike="noStrike">
                <a:solidFill>
                  <a:srgbClr val="178dbb"/>
                </a:solidFill>
                <a:latin typeface="Century Gothic"/>
              </a:rPr>
              <a:t>Спасибо</a:t>
            </a:r>
            <a:br>
              <a:rPr sz="6600"/>
            </a:br>
            <a:r>
              <a:rPr b="0" lang="ru-RU" sz="6600" spc="-1" strike="noStrike">
                <a:solidFill>
                  <a:srgbClr val="178dbb"/>
                </a:solidFill>
                <a:latin typeface="Century Gothic"/>
              </a:rPr>
              <a:t>за </a:t>
            </a:r>
            <a:br>
              <a:rPr sz="6600"/>
            </a:br>
            <a:r>
              <a:rPr b="0" lang="ru-RU" sz="6600" spc="-1" strike="noStrike">
                <a:solidFill>
                  <a:srgbClr val="178dbb"/>
                </a:solidFill>
                <a:latin typeface="Century Gothic"/>
              </a:rPr>
              <a:t>внимание!</a:t>
            </a:r>
            <a:endParaRPr b="0" lang="en-US" sz="6600" spc="-1" strike="noStrike">
              <a:solidFill>
                <a:srgbClr val="178dbb"/>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78dbb"/>
                </a:solidFill>
                <a:latin typeface="Century Gothic"/>
              </a:rPr>
              <a:t>Содержание.</a:t>
            </a:r>
            <a:endParaRPr b="0" lang="en-US" sz="3600" spc="-1" strike="noStrike">
              <a:solidFill>
                <a:srgbClr val="178dbb"/>
              </a:solidFill>
              <a:latin typeface="Century Gothic"/>
            </a:endParaRPr>
          </a:p>
        </p:txBody>
      </p:sp>
      <p:sp>
        <p:nvSpPr>
          <p:cNvPr id="1183" name=""/>
          <p:cNvSpPr txBox="1"/>
          <p:nvPr/>
        </p:nvSpPr>
        <p:spPr>
          <a:xfrm>
            <a:off x="2588760" y="2133360"/>
            <a:ext cx="8915400" cy="3778200"/>
          </a:xfrm>
          <a:prstGeom prst="rect">
            <a:avLst/>
          </a:prstGeom>
          <a:noFill/>
          <a:ln w="0">
            <a:noFill/>
          </a:ln>
        </p:spPr>
        <p:txBody>
          <a:bodyPr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Абстрактный экспрессионизм.</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Авангард.</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Поп-арт.</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Гиперреализм.</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Концептуализм.</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п-арт.</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Кинетическое искусство.</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84" name="Rectangle 8"/>
          <p:cNvSpPr/>
          <p:nvPr/>
        </p:nvSpPr>
        <p:spPr>
          <a:xfrm>
            <a:off x="-7920" y="0"/>
            <a:ext cx="1220796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185" name="Рисунок 4" descr=""/>
          <p:cNvPicPr/>
          <p:nvPr/>
        </p:nvPicPr>
        <p:blipFill>
          <a:blip r:embed="rId1"/>
          <a:srcRect l="0" t="20578" r="0" b="15102"/>
          <a:stretch/>
        </p:blipFill>
        <p:spPr>
          <a:xfrm>
            <a:off x="8229600" y="0"/>
            <a:ext cx="3960720" cy="1708200"/>
          </a:xfrm>
          <a:prstGeom prst="rect">
            <a:avLst/>
          </a:prstGeom>
          <a:ln w="0">
            <a:noFill/>
          </a:ln>
        </p:spPr>
      </p:pic>
      <p:pic>
        <p:nvPicPr>
          <p:cNvPr id="1186" name="Рисунок 5" descr=""/>
          <p:cNvPicPr/>
          <p:nvPr/>
        </p:nvPicPr>
        <p:blipFill>
          <a:blip r:embed="rId2"/>
          <a:srcRect l="0" t="22745" r="0" b="23165"/>
          <a:stretch/>
        </p:blipFill>
        <p:spPr>
          <a:xfrm>
            <a:off x="8231040" y="3430440"/>
            <a:ext cx="3961080" cy="1716120"/>
          </a:xfrm>
          <a:prstGeom prst="rect">
            <a:avLst/>
          </a:prstGeom>
          <a:ln w="0">
            <a:noFill/>
          </a:ln>
        </p:spPr>
      </p:pic>
      <p:pic>
        <p:nvPicPr>
          <p:cNvPr id="1187" name="Рисунок 6" descr=""/>
          <p:cNvPicPr/>
          <p:nvPr/>
        </p:nvPicPr>
        <p:blipFill>
          <a:blip r:embed="rId3"/>
          <a:stretch/>
        </p:blipFill>
        <p:spPr>
          <a:xfrm>
            <a:off x="8231040" y="1708200"/>
            <a:ext cx="3961080" cy="1730160"/>
          </a:xfrm>
          <a:prstGeom prst="rect">
            <a:avLst/>
          </a:prstGeom>
          <a:ln w="0">
            <a:noFill/>
          </a:ln>
        </p:spPr>
      </p:pic>
      <p:sp>
        <p:nvSpPr>
          <p:cNvPr id="1188" name="Straight Connector 9"/>
          <p:cNvSpPr/>
          <p:nvPr/>
        </p:nvSpPr>
        <p:spPr>
          <a:xfrm>
            <a:off x="8244000" y="1704960"/>
            <a:ext cx="3940200" cy="19080"/>
          </a:xfrm>
          <a:prstGeom prst="line">
            <a:avLst/>
          </a:prstGeom>
          <a:ln cap="sq" w="50760">
            <a:solidFill>
              <a:srgbClr val="233e4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entury Gothic"/>
            </a:endParaRPr>
          </a:p>
        </p:txBody>
      </p:sp>
      <p:sp>
        <p:nvSpPr>
          <p:cNvPr id="1189" name="Straight Connector 10"/>
          <p:cNvSpPr/>
          <p:nvPr/>
        </p:nvSpPr>
        <p:spPr>
          <a:xfrm>
            <a:off x="8244000" y="3417840"/>
            <a:ext cx="3940200" cy="20520"/>
          </a:xfrm>
          <a:prstGeom prst="line">
            <a:avLst/>
          </a:prstGeom>
          <a:ln cap="sq" w="50760">
            <a:solidFill>
              <a:srgbClr val="233e4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entury Gothic"/>
            </a:endParaRPr>
          </a:p>
        </p:txBody>
      </p:sp>
      <p:pic>
        <p:nvPicPr>
          <p:cNvPr id="1190" name="Рисунок 3" descr=""/>
          <p:cNvPicPr/>
          <p:nvPr/>
        </p:nvPicPr>
        <p:blipFill>
          <a:blip r:embed="rId4"/>
          <a:srcRect l="0" t="10563" r="0" b="32445"/>
          <a:stretch/>
        </p:blipFill>
        <p:spPr>
          <a:xfrm>
            <a:off x="8231040" y="5141880"/>
            <a:ext cx="3961080" cy="1716120"/>
          </a:xfrm>
          <a:prstGeom prst="rect">
            <a:avLst/>
          </a:prstGeom>
          <a:ln w="0">
            <a:noFill/>
          </a:ln>
        </p:spPr>
      </p:pic>
      <p:sp>
        <p:nvSpPr>
          <p:cNvPr id="1191" name="Straight Connector 11"/>
          <p:cNvSpPr/>
          <p:nvPr/>
        </p:nvSpPr>
        <p:spPr>
          <a:xfrm>
            <a:off x="8244000" y="5130720"/>
            <a:ext cx="3940200" cy="20880"/>
          </a:xfrm>
          <a:prstGeom prst="line">
            <a:avLst/>
          </a:prstGeom>
          <a:ln cap="sq" w="50760">
            <a:solidFill>
              <a:srgbClr val="233e4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entury Gothic"/>
            </a:endParaRPr>
          </a:p>
        </p:txBody>
      </p:sp>
      <p:sp>
        <p:nvSpPr>
          <p:cNvPr id="1192" name="Rectangle 12"/>
          <p:cNvSpPr/>
          <p:nvPr/>
        </p:nvSpPr>
        <p:spPr>
          <a:xfrm>
            <a:off x="0" y="0"/>
            <a:ext cx="8229600" cy="6858000"/>
          </a:xfrm>
          <a:prstGeom prst="rect">
            <a:avLst/>
          </a:prstGeom>
          <a:solidFill>
            <a:srgbClr val="172935">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3" name="Freeform 5"/>
          <p:cNvSpPr/>
          <p:nvPr/>
        </p:nvSpPr>
        <p:spPr>
          <a:xfrm>
            <a:off x="0" y="458640"/>
            <a:ext cx="9042480" cy="1035360"/>
          </a:xfrm>
          <a:custGeom>
            <a:avLst/>
            <a:gdLst/>
            <a:ahLst/>
            <a:rect l="l" t="t" r="r" b="b"/>
            <a:pathLst>
              <a:path w="1902" h="163">
                <a:moveTo>
                  <a:pt x="1900" y="77"/>
                </a:moveTo>
                <a:cubicBezTo>
                  <a:pt x="1826" y="3"/>
                  <a:pt x="1826" y="3"/>
                  <a:pt x="1826" y="3"/>
                </a:cubicBezTo>
                <a:cubicBezTo>
                  <a:pt x="1825" y="2"/>
                  <a:pt x="1825" y="2"/>
                  <a:pt x="1825" y="2"/>
                </a:cubicBezTo>
                <a:cubicBezTo>
                  <a:pt x="1823" y="1"/>
                  <a:pt x="1821" y="0"/>
                  <a:pt x="1819" y="0"/>
                </a:cubicBezTo>
                <a:cubicBezTo>
                  <a:pt x="1363" y="0"/>
                  <a:pt x="1363" y="0"/>
                  <a:pt x="1363" y="0"/>
                </a:cubicBezTo>
                <a:cubicBezTo>
                  <a:pt x="1348" y="0"/>
                  <a:pt x="1348" y="0"/>
                  <a:pt x="1348" y="0"/>
                </a:cubicBezTo>
                <a:cubicBezTo>
                  <a:pt x="1225" y="0"/>
                  <a:pt x="1225" y="0"/>
                  <a:pt x="1225" y="0"/>
                </a:cubicBezTo>
                <a:cubicBezTo>
                  <a:pt x="1033" y="0"/>
                  <a:pt x="1033" y="0"/>
                  <a:pt x="1033" y="0"/>
                </a:cubicBezTo>
                <a:cubicBezTo>
                  <a:pt x="892" y="0"/>
                  <a:pt x="892" y="0"/>
                  <a:pt x="892" y="0"/>
                </a:cubicBezTo>
                <a:cubicBezTo>
                  <a:pt x="786" y="0"/>
                  <a:pt x="786" y="0"/>
                  <a:pt x="786" y="0"/>
                </a:cubicBezTo>
                <a:cubicBezTo>
                  <a:pt x="577" y="0"/>
                  <a:pt x="577" y="0"/>
                  <a:pt x="577" y="0"/>
                </a:cubicBezTo>
                <a:cubicBezTo>
                  <a:pt x="562" y="0"/>
                  <a:pt x="562" y="0"/>
                  <a:pt x="562" y="0"/>
                </a:cubicBezTo>
                <a:cubicBezTo>
                  <a:pt x="439" y="0"/>
                  <a:pt x="439" y="0"/>
                  <a:pt x="439" y="0"/>
                </a:cubicBezTo>
                <a:cubicBezTo>
                  <a:pt x="106" y="0"/>
                  <a:pt x="106" y="0"/>
                  <a:pt x="106" y="0"/>
                </a:cubicBezTo>
                <a:cubicBezTo>
                  <a:pt x="0" y="0"/>
                  <a:pt x="0" y="0"/>
                  <a:pt x="0" y="0"/>
                </a:cubicBezTo>
                <a:cubicBezTo>
                  <a:pt x="0" y="163"/>
                  <a:pt x="0" y="163"/>
                  <a:pt x="0" y="163"/>
                </a:cubicBezTo>
                <a:cubicBezTo>
                  <a:pt x="106" y="163"/>
                  <a:pt x="106" y="163"/>
                  <a:pt x="106" y="163"/>
                </a:cubicBezTo>
                <a:cubicBezTo>
                  <a:pt x="439" y="163"/>
                  <a:pt x="439" y="163"/>
                  <a:pt x="439" y="163"/>
                </a:cubicBezTo>
                <a:cubicBezTo>
                  <a:pt x="562" y="163"/>
                  <a:pt x="562" y="163"/>
                  <a:pt x="562" y="163"/>
                </a:cubicBezTo>
                <a:cubicBezTo>
                  <a:pt x="577" y="163"/>
                  <a:pt x="577" y="163"/>
                  <a:pt x="577" y="163"/>
                </a:cubicBezTo>
                <a:cubicBezTo>
                  <a:pt x="786" y="163"/>
                  <a:pt x="786" y="163"/>
                  <a:pt x="786" y="163"/>
                </a:cubicBezTo>
                <a:cubicBezTo>
                  <a:pt x="892" y="163"/>
                  <a:pt x="892" y="163"/>
                  <a:pt x="892" y="163"/>
                </a:cubicBezTo>
                <a:cubicBezTo>
                  <a:pt x="1033" y="163"/>
                  <a:pt x="1033" y="163"/>
                  <a:pt x="1033" y="163"/>
                </a:cubicBezTo>
                <a:cubicBezTo>
                  <a:pt x="1225" y="163"/>
                  <a:pt x="1225" y="163"/>
                  <a:pt x="1225" y="163"/>
                </a:cubicBezTo>
                <a:cubicBezTo>
                  <a:pt x="1348" y="163"/>
                  <a:pt x="1348" y="163"/>
                  <a:pt x="1348" y="163"/>
                </a:cubicBezTo>
                <a:cubicBezTo>
                  <a:pt x="1363" y="163"/>
                  <a:pt x="1363" y="163"/>
                  <a:pt x="1363" y="163"/>
                </a:cubicBezTo>
                <a:cubicBezTo>
                  <a:pt x="1819" y="163"/>
                  <a:pt x="1819" y="163"/>
                  <a:pt x="1819" y="163"/>
                </a:cubicBezTo>
                <a:cubicBezTo>
                  <a:pt x="1821" y="163"/>
                  <a:pt x="1823" y="162"/>
                  <a:pt x="1825" y="161"/>
                </a:cubicBezTo>
                <a:cubicBezTo>
                  <a:pt x="1825" y="160"/>
                  <a:pt x="1825" y="160"/>
                  <a:pt x="1826" y="160"/>
                </a:cubicBezTo>
                <a:cubicBezTo>
                  <a:pt x="1900" y="86"/>
                  <a:pt x="1900" y="86"/>
                  <a:pt x="1900" y="86"/>
                </a:cubicBezTo>
                <a:cubicBezTo>
                  <a:pt x="1902" y="83"/>
                  <a:pt x="1902" y="79"/>
                  <a:pt x="1900" y="77"/>
                </a:cubicBezTo>
                <a:close/>
              </a:path>
            </a:pathLst>
          </a:custGeom>
          <a:solidFill>
            <a:srgbClr val="353535"/>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194" name="PlaceHolder 1"/>
          <p:cNvSpPr>
            <a:spLocks noGrp="1"/>
          </p:cNvSpPr>
          <p:nvPr>
            <p:ph type="title"/>
          </p:nvPr>
        </p:nvSpPr>
        <p:spPr>
          <a:xfrm>
            <a:off x="541440" y="587160"/>
            <a:ext cx="7146720" cy="779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effff"/>
                </a:solidFill>
                <a:latin typeface="Century Gothic"/>
              </a:rPr>
              <a:t>Абстрактный экспрессионизм.</a:t>
            </a:r>
            <a:endParaRPr b="0" lang="en-US" sz="3200" spc="-1" strike="noStrike">
              <a:solidFill>
                <a:srgbClr val="178dbb"/>
              </a:solidFill>
              <a:latin typeface="Century Gothic"/>
            </a:endParaRPr>
          </a:p>
        </p:txBody>
      </p:sp>
      <p:sp>
        <p:nvSpPr>
          <p:cNvPr id="1195" name=""/>
          <p:cNvSpPr txBox="1"/>
          <p:nvPr/>
        </p:nvSpPr>
        <p:spPr>
          <a:xfrm>
            <a:off x="541440" y="1838160"/>
            <a:ext cx="7146720" cy="4073760"/>
          </a:xfrm>
          <a:prstGeom prst="rect">
            <a:avLst/>
          </a:prstGeom>
          <a:noFill/>
          <a:ln w="0">
            <a:noFill/>
          </a:ln>
        </p:spPr>
        <p:txBody>
          <a:bodyPr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effff"/>
                </a:solidFill>
                <a:latin typeface="Century Gothic"/>
              </a:rPr>
              <a:t>Движение художников, рисующих быстро и на больших полотнах, с использованием негеометрических штрихов, больших кистей, иногда капая красками на холст, для полнейшего выявления эмоций. Экспрессивный метод покраски здесь часто имеет такое же значение, как само рисование. Целью художника при таком творческом методе является спонтанное выражение внутреннего мира в хаотических формах, не организованных логическим мышлением.</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effff"/>
                </a:solidFill>
                <a:latin typeface="Century Gothic"/>
              </a:rPr>
              <a:t>Представители: Пикассо,Клайн,Куннинг,Дюбюффе,Сазерленд.</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96" name="Rectangle 9"/>
          <p:cNvSpPr/>
          <p:nvPr/>
        </p:nvSpPr>
        <p:spPr>
          <a:xfrm>
            <a:off x="0" y="0"/>
            <a:ext cx="12192120" cy="68533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197" name="Рисунок 4" descr=""/>
          <p:cNvPicPr/>
          <p:nvPr/>
        </p:nvPicPr>
        <p:blipFill>
          <a:blip r:embed="rId1"/>
          <a:stretch/>
        </p:blipFill>
        <p:spPr>
          <a:xfrm>
            <a:off x="4673520" y="644400"/>
            <a:ext cx="4044960" cy="3032280"/>
          </a:xfrm>
          <a:prstGeom prst="rect">
            <a:avLst/>
          </a:prstGeom>
          <a:ln w="0">
            <a:noFill/>
          </a:ln>
        </p:spPr>
      </p:pic>
      <p:pic>
        <p:nvPicPr>
          <p:cNvPr id="1198" name="Рисунок 6" descr=""/>
          <p:cNvPicPr/>
          <p:nvPr/>
        </p:nvPicPr>
        <p:blipFill>
          <a:blip r:embed="rId2"/>
          <a:stretch/>
        </p:blipFill>
        <p:spPr>
          <a:xfrm>
            <a:off x="8820000" y="647640"/>
            <a:ext cx="2687760" cy="5261040"/>
          </a:xfrm>
          <a:prstGeom prst="rect">
            <a:avLst/>
          </a:prstGeom>
          <a:ln w="0">
            <a:noFill/>
          </a:ln>
        </p:spPr>
      </p:pic>
      <p:pic>
        <p:nvPicPr>
          <p:cNvPr id="1199" name="Рисунок 5" descr=""/>
          <p:cNvPicPr/>
          <p:nvPr/>
        </p:nvPicPr>
        <p:blipFill>
          <a:blip r:embed="rId3"/>
          <a:stretch/>
        </p:blipFill>
        <p:spPr>
          <a:xfrm>
            <a:off x="4673520" y="3772080"/>
            <a:ext cx="2000160" cy="2135160"/>
          </a:xfrm>
          <a:prstGeom prst="rect">
            <a:avLst/>
          </a:prstGeom>
          <a:ln w="0">
            <a:noFill/>
          </a:ln>
        </p:spPr>
      </p:pic>
      <p:pic>
        <p:nvPicPr>
          <p:cNvPr id="1200" name="Рисунок 7" descr=""/>
          <p:cNvPicPr/>
          <p:nvPr/>
        </p:nvPicPr>
        <p:blipFill>
          <a:blip r:embed="rId4"/>
          <a:stretch/>
        </p:blipFill>
        <p:spPr>
          <a:xfrm>
            <a:off x="6775560" y="3772080"/>
            <a:ext cx="1942920" cy="2135160"/>
          </a:xfrm>
          <a:prstGeom prst="rect">
            <a:avLst/>
          </a:prstGeom>
          <a:ln w="0">
            <a:noFill/>
          </a:ln>
        </p:spPr>
      </p:pic>
      <p:sp>
        <p:nvSpPr>
          <p:cNvPr id="1201" name="Rectangle 10"/>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2" name="Freeform 11"/>
          <p:cNvSpPr/>
          <p:nvPr/>
        </p:nvSpPr>
        <p:spPr>
          <a:xfrm>
            <a:off x="0" y="6060960"/>
            <a:ext cx="1038240" cy="506520"/>
          </a:xfrm>
          <a:custGeom>
            <a:avLst/>
            <a:gdLst/>
            <a:ahLst/>
            <a:rect l="l" t="t" r="r" b="b"/>
            <a:pathLst>
              <a:path w="1038036" h="506277">
                <a:moveTo>
                  <a:pt x="0" y="0"/>
                </a:moveTo>
                <a:lnTo>
                  <a:pt x="182880" y="0"/>
                </a:lnTo>
                <a:lnTo>
                  <a:pt x="291705" y="0"/>
                </a:lnTo>
                <a:lnTo>
                  <a:pt x="291705" y="151"/>
                </a:lnTo>
                <a:lnTo>
                  <a:pt x="692049" y="705"/>
                </a:lnTo>
                <a:lnTo>
                  <a:pt x="782744" y="705"/>
                </a:lnTo>
                <a:cubicBezTo>
                  <a:pt x="787553" y="705"/>
                  <a:pt x="792363" y="5473"/>
                  <a:pt x="797001" y="5473"/>
                </a:cubicBezTo>
                <a:cubicBezTo>
                  <a:pt x="797001" y="10242"/>
                  <a:pt x="801982" y="10242"/>
                  <a:pt x="801982" y="10242"/>
                </a:cubicBezTo>
                <a:lnTo>
                  <a:pt x="1030951" y="239185"/>
                </a:lnTo>
                <a:cubicBezTo>
                  <a:pt x="1040398" y="248722"/>
                  <a:pt x="1040398" y="258259"/>
                  <a:pt x="1030951" y="267797"/>
                </a:cubicBezTo>
                <a:lnTo>
                  <a:pt x="801982" y="496740"/>
                </a:lnTo>
                <a:cubicBezTo>
                  <a:pt x="800436" y="498363"/>
                  <a:pt x="798547" y="499885"/>
                  <a:pt x="797001" y="501508"/>
                </a:cubicBezTo>
                <a:cubicBezTo>
                  <a:pt x="792363" y="506277"/>
                  <a:pt x="787553" y="506277"/>
                  <a:pt x="782744" y="506277"/>
                </a:cubicBezTo>
                <a:lnTo>
                  <a:pt x="692049" y="506277"/>
                </a:lnTo>
                <a:lnTo>
                  <a:pt x="291705" y="505140"/>
                </a:lnTo>
                <a:lnTo>
                  <a:pt x="291705" y="506277"/>
                </a:lnTo>
                <a:lnTo>
                  <a:pt x="0" y="506277"/>
                </a:lnTo>
                <a:lnTo>
                  <a:pt x="0" y="0"/>
                </a:lnTo>
                <a:close/>
              </a:path>
            </a:pathLst>
          </a:custGeom>
          <a:solidFill>
            <a:srgbClr val="3535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03" name="PlaceHolder 1"/>
          <p:cNvSpPr>
            <a:spLocks noGrp="1"/>
          </p:cNvSpPr>
          <p:nvPr>
            <p:ph type="title"/>
          </p:nvPr>
        </p:nvSpPr>
        <p:spPr>
          <a:xfrm>
            <a:off x="649440" y="644400"/>
            <a:ext cx="3649680" cy="126072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178dbb"/>
                </a:solidFill>
                <a:latin typeface="Century Gothic"/>
              </a:rPr>
              <a:t>Авангард-новаторство во всех областях искусства.</a:t>
            </a:r>
            <a:endParaRPr b="0" lang="en-US" sz="2500" spc="-1" strike="noStrike">
              <a:solidFill>
                <a:srgbClr val="178dbb"/>
              </a:solidFill>
              <a:latin typeface="Century Gothic"/>
            </a:endParaRPr>
          </a:p>
        </p:txBody>
      </p:sp>
      <p:sp>
        <p:nvSpPr>
          <p:cNvPr id="1204" name=""/>
          <p:cNvSpPr txBox="1"/>
          <p:nvPr/>
        </p:nvSpPr>
        <p:spPr>
          <a:xfrm>
            <a:off x="649440" y="2133720"/>
            <a:ext cx="3649680" cy="3774960"/>
          </a:xfrm>
          <a:prstGeom prst="rect">
            <a:avLst/>
          </a:prstGeom>
          <a:noFill/>
          <a:ln w="0">
            <a:noFill/>
          </a:ln>
        </p:spPr>
        <p:txBody>
          <a:bodyPr anchor="t">
            <a:normAutofit fontScale="97000"/>
          </a:bodyPr>
          <a:p>
            <a:pPr marL="332640" indent="-3326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Century Gothic"/>
              </a:rPr>
              <a:t>Означает-идущий впереди. Отражает стихийный бунт художника против действительности.</a:t>
            </a:r>
            <a:endParaRPr b="0" lang="en-US" sz="2000" spc="-1" strike="noStrike">
              <a:solidFill>
                <a:srgbClr val="404040"/>
              </a:solidFill>
              <a:latin typeface="Century Gothic"/>
            </a:endParaRPr>
          </a:p>
          <a:p>
            <a:pPr marL="332640" indent="-3326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Century Gothic"/>
              </a:rPr>
              <a:t>Включает в себя:</a:t>
            </a:r>
            <a:br>
              <a:rPr sz="2000"/>
            </a:br>
            <a:r>
              <a:rPr b="0" lang="ru-RU" sz="2000" spc="-1" strike="noStrike">
                <a:solidFill>
                  <a:srgbClr val="404040"/>
                </a:solidFill>
                <a:latin typeface="Century Gothic"/>
              </a:rPr>
              <a:t>1.Абстракционизм.</a:t>
            </a:r>
            <a:br>
              <a:rPr sz="2000"/>
            </a:br>
            <a:r>
              <a:rPr b="0" lang="ru-RU" sz="2000" spc="-1" strike="noStrike">
                <a:solidFill>
                  <a:srgbClr val="404040"/>
                </a:solidFill>
                <a:latin typeface="Century Gothic"/>
              </a:rPr>
              <a:t>2.Кубизм</a:t>
            </a:r>
            <a:br>
              <a:rPr sz="2000"/>
            </a:br>
            <a:r>
              <a:rPr b="0" lang="ru-RU" sz="2000" spc="-1" strike="noStrike">
                <a:solidFill>
                  <a:srgbClr val="404040"/>
                </a:solidFill>
                <a:latin typeface="Century Gothic"/>
              </a:rPr>
              <a:t>3.Фовизм</a:t>
            </a:r>
            <a:br>
              <a:rPr sz="2000"/>
            </a:br>
            <a:r>
              <a:rPr b="0" lang="ru-RU" sz="2000" spc="-1" strike="noStrike">
                <a:solidFill>
                  <a:srgbClr val="404040"/>
                </a:solidFill>
                <a:latin typeface="Century Gothic"/>
              </a:rPr>
              <a:t>4.Супрематизм</a:t>
            </a:r>
            <a:br>
              <a:rPr sz="2000"/>
            </a:br>
            <a:r>
              <a:rPr b="0" lang="ru-RU" sz="2000" spc="-1" strike="noStrike">
                <a:solidFill>
                  <a:srgbClr val="404040"/>
                </a:solidFill>
                <a:latin typeface="Century Gothic"/>
              </a:rPr>
              <a:t>5.Сюрреализм</a:t>
            </a:r>
            <a:br>
              <a:rPr sz="2000"/>
            </a:br>
            <a:r>
              <a:rPr b="0" lang="ru-RU" sz="2000" spc="-1" strike="noStrike">
                <a:solidFill>
                  <a:srgbClr val="404040"/>
                </a:solidFill>
                <a:latin typeface="Century Gothic"/>
              </a:rPr>
              <a:t>6.Экспрессионизм</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281480" y="186840"/>
            <a:ext cx="8910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78dbb"/>
                </a:solidFill>
                <a:latin typeface="Century Gothic"/>
              </a:rPr>
              <a:t>Поп-арт.</a:t>
            </a:r>
            <a:endParaRPr b="0" lang="en-US" sz="3600" spc="-1" strike="noStrike">
              <a:solidFill>
                <a:srgbClr val="178dbb"/>
              </a:solidFill>
              <a:latin typeface="Century Gothic"/>
            </a:endParaRPr>
          </a:p>
        </p:txBody>
      </p:sp>
      <p:sp>
        <p:nvSpPr>
          <p:cNvPr id="1206" name=""/>
          <p:cNvSpPr txBox="1"/>
          <p:nvPr/>
        </p:nvSpPr>
        <p:spPr>
          <a:xfrm>
            <a:off x="6705720" y="1468080"/>
            <a:ext cx="4682880" cy="3778200"/>
          </a:xfrm>
          <a:prstGeom prst="rect">
            <a:avLst/>
          </a:prstGeom>
          <a:noFill/>
          <a:ln w="0">
            <a:noFill/>
          </a:ln>
        </p:spPr>
        <p:txBody>
          <a:bodyPr anchor="t">
            <a:normAutofit/>
          </a:bodyPr>
          <a:p>
            <a:pPr marL="343080" indent="-343080">
              <a:lnSpc>
                <a:spcPct val="9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Художественное течение, основой которого служит массовая культура потребления. Объектами творчества выступают популярные бренды, кино, реклама и прочие широко известные символы того или иного общества. Ионизирует над идеалами и кумирами современного общества, через доступные и понятные обывателю символы и стереотипы.</a:t>
            </a:r>
            <a:endParaRPr b="0" lang="en-US" sz="1800" spc="-1" strike="noStrike">
              <a:solidFill>
                <a:srgbClr val="404040"/>
              </a:solidFill>
              <a:latin typeface="Century Gothic"/>
            </a:endParaRPr>
          </a:p>
          <a:p>
            <a:pPr marL="343080" indent="-343080">
              <a:lnSpc>
                <a:spcPct val="9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Представители: Блейк,Вессельман,Лихтенштейн.</a:t>
            </a:r>
            <a:endParaRPr b="0" lang="en-US" sz="1800" spc="-1" strike="noStrike">
              <a:solidFill>
                <a:srgbClr val="404040"/>
              </a:solidFill>
              <a:latin typeface="Century Gothic"/>
            </a:endParaRPr>
          </a:p>
        </p:txBody>
      </p:sp>
      <p:pic>
        <p:nvPicPr>
          <p:cNvPr id="1207" name="Рисунок 3" descr=""/>
          <p:cNvPicPr/>
          <p:nvPr/>
        </p:nvPicPr>
        <p:blipFill>
          <a:blip r:embed="rId1"/>
          <a:stretch/>
        </p:blipFill>
        <p:spPr>
          <a:xfrm>
            <a:off x="3875040" y="1455840"/>
            <a:ext cx="2104920" cy="2487600"/>
          </a:xfrm>
          <a:prstGeom prst="rect">
            <a:avLst/>
          </a:prstGeom>
          <a:ln w="0">
            <a:noFill/>
          </a:ln>
        </p:spPr>
      </p:pic>
      <p:pic>
        <p:nvPicPr>
          <p:cNvPr id="1208" name="Рисунок 4" descr=""/>
          <p:cNvPicPr/>
          <p:nvPr/>
        </p:nvPicPr>
        <p:blipFill>
          <a:blip r:embed="rId2"/>
          <a:stretch/>
        </p:blipFill>
        <p:spPr>
          <a:xfrm>
            <a:off x="3875040" y="3943440"/>
            <a:ext cx="2104920" cy="2104920"/>
          </a:xfrm>
          <a:prstGeom prst="rect">
            <a:avLst/>
          </a:prstGeom>
          <a:ln w="0">
            <a:noFill/>
          </a:ln>
        </p:spPr>
      </p:pic>
      <p:pic>
        <p:nvPicPr>
          <p:cNvPr id="1209" name="Рисунок 5" descr=""/>
          <p:cNvPicPr/>
          <p:nvPr/>
        </p:nvPicPr>
        <p:blipFill>
          <a:blip r:embed="rId3"/>
          <a:stretch/>
        </p:blipFill>
        <p:spPr>
          <a:xfrm>
            <a:off x="939960" y="1468440"/>
            <a:ext cx="297648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pic>
        <p:nvPicPr>
          <p:cNvPr id="1210" name="Рисунок 7" descr=""/>
          <p:cNvPicPr/>
          <p:nvPr/>
        </p:nvPicPr>
        <p:blipFill>
          <a:blip r:embed="rId1"/>
          <a:stretch/>
        </p:blipFill>
        <p:spPr>
          <a:xfrm>
            <a:off x="6091200" y="835200"/>
            <a:ext cx="2639880" cy="2319120"/>
          </a:xfrm>
          <a:prstGeom prst="rect">
            <a:avLst/>
          </a:prstGeom>
          <a:ln w="0">
            <a:noFill/>
          </a:ln>
        </p:spPr>
      </p:pic>
      <p:pic>
        <p:nvPicPr>
          <p:cNvPr id="1211" name="Рисунок 5" descr=""/>
          <p:cNvPicPr/>
          <p:nvPr/>
        </p:nvPicPr>
        <p:blipFill>
          <a:blip r:embed="rId2"/>
          <a:stretch/>
        </p:blipFill>
        <p:spPr>
          <a:xfrm>
            <a:off x="7018200" y="3508200"/>
            <a:ext cx="3586320" cy="2384640"/>
          </a:xfrm>
          <a:prstGeom prst="rect">
            <a:avLst/>
          </a:prstGeom>
          <a:ln w="0">
            <a:noFill/>
          </a:ln>
        </p:spPr>
      </p:pic>
      <p:pic>
        <p:nvPicPr>
          <p:cNvPr id="1212" name="Рисунок 6" descr=""/>
          <p:cNvPicPr/>
          <p:nvPr/>
        </p:nvPicPr>
        <p:blipFill>
          <a:blip r:embed="rId3"/>
          <a:stretch/>
        </p:blipFill>
        <p:spPr>
          <a:xfrm>
            <a:off x="8891640" y="1117440"/>
            <a:ext cx="2639880" cy="1754280"/>
          </a:xfrm>
          <a:prstGeom prst="rect">
            <a:avLst/>
          </a:prstGeom>
          <a:ln w="0">
            <a:noFill/>
          </a:ln>
        </p:spPr>
      </p:pic>
      <p:sp>
        <p:nvSpPr>
          <p:cNvPr id="1213" name="PlaceHolder 1"/>
          <p:cNvSpPr>
            <a:spLocks noGrp="1"/>
          </p:cNvSpPr>
          <p:nvPr>
            <p:ph type="title"/>
          </p:nvPr>
        </p:nvSpPr>
        <p:spPr>
          <a:xfrm>
            <a:off x="1687680" y="623520"/>
            <a:ext cx="4038480" cy="12812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78dbb"/>
                </a:solidFill>
                <a:latin typeface="Century Gothic"/>
              </a:rPr>
              <a:t>Гиперреализм-симуляция чего-то, что никогда в действительности не существовало.</a:t>
            </a:r>
            <a:endParaRPr b="0" lang="en-US" sz="2400" spc="-1" strike="noStrike">
              <a:solidFill>
                <a:srgbClr val="178dbb"/>
              </a:solidFill>
              <a:latin typeface="Century Gothic"/>
            </a:endParaRPr>
          </a:p>
        </p:txBody>
      </p:sp>
      <p:sp>
        <p:nvSpPr>
          <p:cNvPr id="1214" name=""/>
          <p:cNvSpPr txBox="1"/>
          <p:nvPr/>
        </p:nvSpPr>
        <p:spPr>
          <a:xfrm>
            <a:off x="1684080" y="2133360"/>
            <a:ext cx="4041720" cy="3778200"/>
          </a:xfrm>
          <a:prstGeom prst="rect">
            <a:avLst/>
          </a:prstGeom>
          <a:noFill/>
          <a:ln w="0">
            <a:noFill/>
          </a:ln>
        </p:spPr>
        <p:txBody>
          <a:bodyPr anchor="t">
            <a:normAutofit fontScale="93000"/>
          </a:bodyPr>
          <a:p>
            <a:pPr marL="318960" indent="-31896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Это направление в живописи,в котором картины напоминают фотографии. Гиперреалисты создают ложную реальность, убедительную иллюзию. Как фотореализм симулировал аналоговую фотографию, так гиперреализм использует цифровые изображения.</a:t>
            </a:r>
            <a:br>
              <a:rPr sz="1800"/>
            </a:br>
            <a:r>
              <a:rPr b="0" lang="ru-RU" sz="1800" spc="-1" strike="noStrike">
                <a:solidFill>
                  <a:srgbClr val="000000"/>
                </a:solidFill>
                <a:latin typeface="Century Gothic"/>
              </a:rPr>
              <a:t>Утверждение абсолютной абсурдности и бездуховности мира.</a:t>
            </a:r>
            <a:endParaRPr b="0" lang="en-US" sz="1800" spc="-1" strike="noStrike">
              <a:solidFill>
                <a:srgbClr val="404040"/>
              </a:solidFill>
              <a:latin typeface="Century Gothic"/>
            </a:endParaRPr>
          </a:p>
          <a:p>
            <a:pPr marL="318960" indent="-31896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Представители: Клоз,Гертч,Монори.</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215" name="Rectangle 7"/>
          <p:cNvSpPr/>
          <p:nvPr/>
        </p:nvSpPr>
        <p:spPr>
          <a:xfrm>
            <a:off x="-7920" y="0"/>
            <a:ext cx="1220796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216" name="Рисунок 3" descr=""/>
          <p:cNvPicPr/>
          <p:nvPr/>
        </p:nvPicPr>
        <p:blipFill>
          <a:blip r:embed="rId1"/>
          <a:stretch/>
        </p:blipFill>
        <p:spPr>
          <a:xfrm>
            <a:off x="4827600" y="0"/>
            <a:ext cx="7364520" cy="6858000"/>
          </a:xfrm>
          <a:prstGeom prst="rect">
            <a:avLst/>
          </a:prstGeom>
          <a:ln w="0">
            <a:noFill/>
          </a:ln>
        </p:spPr>
      </p:pic>
      <p:grpSp>
        <p:nvGrpSpPr>
          <p:cNvPr id="1217" name="Group 8"/>
          <p:cNvGrpSpPr/>
          <p:nvPr/>
        </p:nvGrpSpPr>
        <p:grpSpPr>
          <a:xfrm>
            <a:off x="4835520" y="228600"/>
            <a:ext cx="2852640" cy="6638760"/>
            <a:chOff x="4835520" y="228600"/>
            <a:chExt cx="2852640" cy="6638760"/>
          </a:xfrm>
        </p:grpSpPr>
        <p:sp>
          <p:nvSpPr>
            <p:cNvPr id="1218" name="Freeform 11"/>
            <p:cNvSpPr/>
            <p:nvPr/>
          </p:nvSpPr>
          <p:spPr>
            <a:xfrm>
              <a:off x="483552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19" name="Freeform 12"/>
            <p:cNvSpPr/>
            <p:nvPr/>
          </p:nvSpPr>
          <p:spPr>
            <a:xfrm>
              <a:off x="4964040" y="3156480"/>
              <a:ext cx="6469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0" name="Freeform 13"/>
            <p:cNvSpPr/>
            <p:nvPr/>
          </p:nvSpPr>
          <p:spPr>
            <a:xfrm>
              <a:off x="5642640" y="5447160"/>
              <a:ext cx="60948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1" name="Freeform 14"/>
            <p:cNvSpPr/>
            <p:nvPr/>
          </p:nvSpPr>
          <p:spPr>
            <a:xfrm>
              <a:off x="579564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2" name="Freeform 15"/>
            <p:cNvSpPr/>
            <p:nvPr/>
          </p:nvSpPr>
          <p:spPr>
            <a:xfrm>
              <a:off x="4935960" y="3201120"/>
              <a:ext cx="82224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3" name="Freeform 16"/>
            <p:cNvSpPr/>
            <p:nvPr/>
          </p:nvSpPr>
          <p:spPr>
            <a:xfrm>
              <a:off x="485784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4" name="Freeform 17"/>
            <p:cNvSpPr/>
            <p:nvPr/>
          </p:nvSpPr>
          <p:spPr>
            <a:xfrm>
              <a:off x="491364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5" name="Freeform 18"/>
            <p:cNvSpPr/>
            <p:nvPr/>
          </p:nvSpPr>
          <p:spPr>
            <a:xfrm>
              <a:off x="560556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6" name="Freeform 19"/>
            <p:cNvSpPr/>
            <p:nvPr/>
          </p:nvSpPr>
          <p:spPr>
            <a:xfrm>
              <a:off x="5610960" y="1398960"/>
              <a:ext cx="207720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7" name="Freeform 20"/>
            <p:cNvSpPr/>
            <p:nvPr/>
          </p:nvSpPr>
          <p:spPr>
            <a:xfrm>
              <a:off x="575820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8" name="Freeform 21"/>
            <p:cNvSpPr/>
            <p:nvPr/>
          </p:nvSpPr>
          <p:spPr>
            <a:xfrm>
              <a:off x="560556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9" name="Freeform 22"/>
            <p:cNvSpPr/>
            <p:nvPr/>
          </p:nvSpPr>
          <p:spPr>
            <a:xfrm>
              <a:off x="5685480" y="6244920"/>
              <a:ext cx="2386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230" name="Group 21"/>
          <p:cNvGrpSpPr/>
          <p:nvPr/>
        </p:nvGrpSpPr>
        <p:grpSpPr>
          <a:xfrm>
            <a:off x="4676760" y="0"/>
            <a:ext cx="2357280" cy="6853320"/>
            <a:chOff x="4676760" y="0"/>
            <a:chExt cx="2357280" cy="6853320"/>
          </a:xfrm>
        </p:grpSpPr>
        <p:sp>
          <p:nvSpPr>
            <p:cNvPr id="1231" name="Freeform 27"/>
            <p:cNvSpPr/>
            <p:nvPr/>
          </p:nvSpPr>
          <p:spPr>
            <a:xfrm>
              <a:off x="467676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2" name="Freeform 28"/>
            <p:cNvSpPr/>
            <p:nvPr/>
          </p:nvSpPr>
          <p:spPr>
            <a:xfrm>
              <a:off x="519984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3" name="Freeform 29"/>
            <p:cNvSpPr/>
            <p:nvPr/>
          </p:nvSpPr>
          <p:spPr>
            <a:xfrm>
              <a:off x="565596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4" name="Freeform 30"/>
            <p:cNvSpPr/>
            <p:nvPr/>
          </p:nvSpPr>
          <p:spPr>
            <a:xfrm>
              <a:off x="517104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5" name="Freeform 31"/>
            <p:cNvSpPr/>
            <p:nvPr/>
          </p:nvSpPr>
          <p:spPr>
            <a:xfrm>
              <a:off x="511740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6" name="Freeform 32"/>
            <p:cNvSpPr/>
            <p:nvPr/>
          </p:nvSpPr>
          <p:spPr>
            <a:xfrm>
              <a:off x="576144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7" name="Freeform 33"/>
            <p:cNvSpPr/>
            <p:nvPr/>
          </p:nvSpPr>
          <p:spPr>
            <a:xfrm>
              <a:off x="515196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8" name="Freeform 34"/>
            <p:cNvSpPr/>
            <p:nvPr/>
          </p:nvSpPr>
          <p:spPr>
            <a:xfrm>
              <a:off x="562356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9" name="Freeform 35"/>
            <p:cNvSpPr/>
            <p:nvPr/>
          </p:nvSpPr>
          <p:spPr>
            <a:xfrm>
              <a:off x="572328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0" name="Freeform 36"/>
            <p:cNvSpPr/>
            <p:nvPr/>
          </p:nvSpPr>
          <p:spPr>
            <a:xfrm>
              <a:off x="562356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1" name="Freeform 37"/>
            <p:cNvSpPr/>
            <p:nvPr/>
          </p:nvSpPr>
          <p:spPr>
            <a:xfrm>
              <a:off x="562356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2" name="Freeform 38"/>
            <p:cNvSpPr/>
            <p:nvPr/>
          </p:nvSpPr>
          <p:spPr>
            <a:xfrm>
              <a:off x="565596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pic>
        <p:nvPicPr>
          <p:cNvPr id="1243" name="Рисунок 4" descr=""/>
          <p:cNvPicPr/>
          <p:nvPr/>
        </p:nvPicPr>
        <p:blipFill>
          <a:blip r:embed="rId2"/>
          <a:stretch/>
        </p:blipFill>
        <p:spPr>
          <a:xfrm>
            <a:off x="-3240" y="0"/>
            <a:ext cx="4705560" cy="3429000"/>
          </a:xfrm>
          <a:prstGeom prst="rect">
            <a:avLst/>
          </a:prstGeom>
          <a:ln w="0">
            <a:noFill/>
          </a:ln>
        </p:spPr>
      </p:pic>
      <p:pic>
        <p:nvPicPr>
          <p:cNvPr id="1244" name="Рисунок 5" descr=""/>
          <p:cNvPicPr/>
          <p:nvPr/>
        </p:nvPicPr>
        <p:blipFill>
          <a:blip r:embed="rId3"/>
          <a:stretch/>
        </p:blipFill>
        <p:spPr>
          <a:xfrm>
            <a:off x="-1440" y="3429000"/>
            <a:ext cx="4705200" cy="3429000"/>
          </a:xfrm>
          <a:prstGeom prst="rect">
            <a:avLst/>
          </a:prstGeom>
          <a:ln w="0">
            <a:noFill/>
          </a:ln>
        </p:spPr>
      </p:pic>
      <p:sp>
        <p:nvSpPr>
          <p:cNvPr id="1245" name="Straight Connector 34"/>
          <p:cNvSpPr/>
          <p:nvPr/>
        </p:nvSpPr>
        <p:spPr>
          <a:xfrm>
            <a:off x="-17640" y="3429000"/>
            <a:ext cx="4662720" cy="0"/>
          </a:xfrm>
          <a:prstGeom prst="line">
            <a:avLst/>
          </a:prstGeom>
          <a:ln cap="rnd" w="50760">
            <a:solidFill>
              <a:srgbClr val="2e53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6" name="Rectangle 35"/>
          <p:cNvSpPr/>
          <p:nvPr/>
        </p:nvSpPr>
        <p:spPr>
          <a:xfrm>
            <a:off x="4645080" y="0"/>
            <a:ext cx="18396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7" name="Freeform 11"/>
          <p:cNvSpPr/>
          <p:nvPr/>
        </p:nvSpPr>
        <p:spPr>
          <a:xfrm flipV="1">
            <a:off x="464508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8" name="PlaceHolder 1"/>
          <p:cNvSpPr>
            <a:spLocks noGrp="1"/>
          </p:cNvSpPr>
          <p:nvPr>
            <p:ph type="title"/>
          </p:nvPr>
        </p:nvSpPr>
        <p:spPr>
          <a:xfrm>
            <a:off x="6483240" y="623520"/>
            <a:ext cx="502128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78dbb"/>
                </a:solidFill>
                <a:latin typeface="Century Gothic"/>
              </a:rPr>
              <a:t>Концептуализм.</a:t>
            </a:r>
            <a:endParaRPr b="0" lang="en-US" sz="3600" spc="-1" strike="noStrike">
              <a:solidFill>
                <a:srgbClr val="178dbb"/>
              </a:solidFill>
              <a:latin typeface="Century Gothic"/>
            </a:endParaRPr>
          </a:p>
        </p:txBody>
      </p:sp>
      <p:sp>
        <p:nvSpPr>
          <p:cNvPr id="1249" name=""/>
          <p:cNvSpPr txBox="1"/>
          <p:nvPr/>
        </p:nvSpPr>
        <p:spPr>
          <a:xfrm>
            <a:off x="6438600" y="2133360"/>
            <a:ext cx="5065560" cy="3778200"/>
          </a:xfrm>
          <a:prstGeom prst="rect">
            <a:avLst/>
          </a:prstGeom>
          <a:noFill/>
          <a:ln w="0">
            <a:noFill/>
          </a:ln>
        </p:spPr>
        <p:txBody>
          <a:bodyPr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Искусство интелектуальное. Здесь важно не изображение,а его смысл.</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Художник выражает свое отношение к социальным, политическим, технологическим вещам и процессам. Во многих случаях зритель и сам художник становятся неотъемлемой частью этого искусства и его основных концепций.</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Представители: Кошут,Вейнер,Бери.</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250" name="Rectangle 12"/>
          <p:cNvSpPr/>
          <p:nvPr/>
        </p:nvSpPr>
        <p:spPr>
          <a:xfrm>
            <a:off x="0" y="0"/>
            <a:ext cx="12192120" cy="68533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251" name="Рисунок 5" descr=""/>
          <p:cNvPicPr/>
          <p:nvPr/>
        </p:nvPicPr>
        <p:blipFill>
          <a:blip r:embed="rId1"/>
          <a:stretch/>
        </p:blipFill>
        <p:spPr>
          <a:xfrm>
            <a:off x="4673520" y="644400"/>
            <a:ext cx="4044960" cy="3032280"/>
          </a:xfrm>
          <a:prstGeom prst="rect">
            <a:avLst/>
          </a:prstGeom>
          <a:ln w="0">
            <a:noFill/>
          </a:ln>
        </p:spPr>
      </p:pic>
      <p:pic>
        <p:nvPicPr>
          <p:cNvPr id="1252" name="Рисунок 4" descr=""/>
          <p:cNvPicPr/>
          <p:nvPr/>
        </p:nvPicPr>
        <p:blipFill>
          <a:blip r:embed="rId2"/>
          <a:stretch/>
        </p:blipFill>
        <p:spPr>
          <a:xfrm>
            <a:off x="8820000" y="647640"/>
            <a:ext cx="2687760" cy="5261040"/>
          </a:xfrm>
          <a:prstGeom prst="rect">
            <a:avLst/>
          </a:prstGeom>
          <a:ln w="0">
            <a:noFill/>
          </a:ln>
        </p:spPr>
      </p:pic>
      <p:pic>
        <p:nvPicPr>
          <p:cNvPr id="1253" name="Рисунок 6" descr=""/>
          <p:cNvPicPr/>
          <p:nvPr/>
        </p:nvPicPr>
        <p:blipFill>
          <a:blip r:embed="rId3"/>
          <a:stretch/>
        </p:blipFill>
        <p:spPr>
          <a:xfrm>
            <a:off x="4673520" y="3772080"/>
            <a:ext cx="2000160" cy="2135160"/>
          </a:xfrm>
          <a:prstGeom prst="rect">
            <a:avLst/>
          </a:prstGeom>
          <a:ln w="0">
            <a:noFill/>
          </a:ln>
        </p:spPr>
      </p:pic>
      <p:pic>
        <p:nvPicPr>
          <p:cNvPr id="1254" name="Рисунок 3" descr=""/>
          <p:cNvPicPr/>
          <p:nvPr/>
        </p:nvPicPr>
        <p:blipFill>
          <a:blip r:embed="rId4"/>
          <a:srcRect l="15966" t="0" r="-4" b="-4"/>
          <a:stretch/>
        </p:blipFill>
        <p:spPr>
          <a:xfrm>
            <a:off x="6775560" y="3772080"/>
            <a:ext cx="1942920" cy="2135160"/>
          </a:xfrm>
          <a:prstGeom prst="rect">
            <a:avLst/>
          </a:prstGeom>
          <a:ln w="0">
            <a:noFill/>
          </a:ln>
        </p:spPr>
      </p:pic>
      <p:sp>
        <p:nvSpPr>
          <p:cNvPr id="1255" name="Rectangle 13"/>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56" name="Freeform 11"/>
          <p:cNvSpPr/>
          <p:nvPr/>
        </p:nvSpPr>
        <p:spPr>
          <a:xfrm>
            <a:off x="0" y="6060960"/>
            <a:ext cx="1038240" cy="506520"/>
          </a:xfrm>
          <a:custGeom>
            <a:avLst/>
            <a:gdLst/>
            <a:ahLst/>
            <a:rect l="l" t="t" r="r" b="b"/>
            <a:pathLst>
              <a:path w="1038036" h="506277">
                <a:moveTo>
                  <a:pt x="0" y="0"/>
                </a:moveTo>
                <a:lnTo>
                  <a:pt x="182880" y="0"/>
                </a:lnTo>
                <a:lnTo>
                  <a:pt x="291705" y="0"/>
                </a:lnTo>
                <a:lnTo>
                  <a:pt x="291705" y="151"/>
                </a:lnTo>
                <a:lnTo>
                  <a:pt x="692049" y="705"/>
                </a:lnTo>
                <a:lnTo>
                  <a:pt x="782744" y="705"/>
                </a:lnTo>
                <a:cubicBezTo>
                  <a:pt x="787553" y="705"/>
                  <a:pt x="792363" y="5473"/>
                  <a:pt x="797001" y="5473"/>
                </a:cubicBezTo>
                <a:cubicBezTo>
                  <a:pt x="797001" y="10242"/>
                  <a:pt x="801982" y="10242"/>
                  <a:pt x="801982" y="10242"/>
                </a:cubicBezTo>
                <a:lnTo>
                  <a:pt x="1030951" y="239185"/>
                </a:lnTo>
                <a:cubicBezTo>
                  <a:pt x="1040398" y="248722"/>
                  <a:pt x="1040398" y="258259"/>
                  <a:pt x="1030951" y="267797"/>
                </a:cubicBezTo>
                <a:lnTo>
                  <a:pt x="801982" y="496740"/>
                </a:lnTo>
                <a:cubicBezTo>
                  <a:pt x="800436" y="498363"/>
                  <a:pt x="798547" y="499885"/>
                  <a:pt x="797001" y="501508"/>
                </a:cubicBezTo>
                <a:cubicBezTo>
                  <a:pt x="792363" y="506277"/>
                  <a:pt x="787553" y="506277"/>
                  <a:pt x="782744" y="506277"/>
                </a:cubicBezTo>
                <a:lnTo>
                  <a:pt x="692049" y="506277"/>
                </a:lnTo>
                <a:lnTo>
                  <a:pt x="291705" y="505140"/>
                </a:lnTo>
                <a:lnTo>
                  <a:pt x="291705" y="506277"/>
                </a:lnTo>
                <a:lnTo>
                  <a:pt x="0" y="506277"/>
                </a:lnTo>
                <a:lnTo>
                  <a:pt x="0" y="0"/>
                </a:lnTo>
                <a:close/>
              </a:path>
            </a:pathLst>
          </a:custGeom>
          <a:solidFill>
            <a:srgbClr val="3535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57" name="PlaceHolder 1"/>
          <p:cNvSpPr>
            <a:spLocks noGrp="1"/>
          </p:cNvSpPr>
          <p:nvPr>
            <p:ph type="title"/>
          </p:nvPr>
        </p:nvSpPr>
        <p:spPr>
          <a:xfrm>
            <a:off x="649440" y="644400"/>
            <a:ext cx="3649680" cy="126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178dbb"/>
                </a:solidFill>
                <a:latin typeface="Century Gothic"/>
              </a:rPr>
              <a:t>Оп-арт.</a:t>
            </a:r>
            <a:endParaRPr b="0" lang="en-US" sz="4000" spc="-1" strike="noStrike">
              <a:solidFill>
                <a:srgbClr val="178dbb"/>
              </a:solidFill>
              <a:latin typeface="Century Gothic"/>
            </a:endParaRPr>
          </a:p>
        </p:txBody>
      </p:sp>
      <p:sp>
        <p:nvSpPr>
          <p:cNvPr id="1258" name=""/>
          <p:cNvSpPr txBox="1"/>
          <p:nvPr/>
        </p:nvSpPr>
        <p:spPr>
          <a:xfrm>
            <a:off x="649440" y="2133720"/>
            <a:ext cx="3649680" cy="3774960"/>
          </a:xfrm>
          <a:prstGeom prst="rect">
            <a:avLst/>
          </a:prstGeom>
          <a:noFill/>
          <a:ln w="0">
            <a:noFill/>
          </a:ln>
        </p:spPr>
        <p:txBody>
          <a:bodyPr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Century Gothic"/>
              </a:rPr>
              <a:t>Художественное течение,использующее различные оптические иллюзии, основанные на особенностях восприятия плоских и пространственных фигур.</a:t>
            </a:r>
            <a:endParaRPr b="0" lang="en-US" sz="20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Century Gothic"/>
              </a:rPr>
              <a:t>Представители: Агам,Анушкевич,Райли.</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pic>
        <p:nvPicPr>
          <p:cNvPr id="1259" name="Рисунок 3" descr=""/>
          <p:cNvPicPr/>
          <p:nvPr/>
        </p:nvPicPr>
        <p:blipFill>
          <a:blip r:embed="rId1"/>
          <a:stretch/>
        </p:blipFill>
        <p:spPr>
          <a:xfrm>
            <a:off x="8896320" y="623880"/>
            <a:ext cx="2648160" cy="2562120"/>
          </a:xfrm>
          <a:prstGeom prst="rect">
            <a:avLst/>
          </a:prstGeom>
          <a:ln w="0">
            <a:noFill/>
          </a:ln>
        </p:spPr>
      </p:pic>
      <p:pic>
        <p:nvPicPr>
          <p:cNvPr id="1260" name="Рисунок 4" descr=""/>
          <p:cNvPicPr/>
          <p:nvPr/>
        </p:nvPicPr>
        <p:blipFill>
          <a:blip r:embed="rId2"/>
          <a:stretch/>
        </p:blipFill>
        <p:spPr>
          <a:xfrm>
            <a:off x="6107040" y="623880"/>
            <a:ext cx="2646360" cy="2562120"/>
          </a:xfrm>
          <a:prstGeom prst="rect">
            <a:avLst/>
          </a:prstGeom>
          <a:ln w="0">
            <a:noFill/>
          </a:ln>
        </p:spPr>
      </p:pic>
      <p:pic>
        <p:nvPicPr>
          <p:cNvPr id="1261" name="Рисунок 5" descr=""/>
          <p:cNvPicPr/>
          <p:nvPr/>
        </p:nvPicPr>
        <p:blipFill>
          <a:blip r:embed="rId3"/>
          <a:stretch/>
        </p:blipFill>
        <p:spPr>
          <a:xfrm>
            <a:off x="8896320" y="3328920"/>
            <a:ext cx="2648160" cy="2563920"/>
          </a:xfrm>
          <a:prstGeom prst="rect">
            <a:avLst/>
          </a:prstGeom>
          <a:ln w="0">
            <a:noFill/>
          </a:ln>
        </p:spPr>
      </p:pic>
      <p:pic>
        <p:nvPicPr>
          <p:cNvPr id="1262" name="Рисунок 6" descr=""/>
          <p:cNvPicPr/>
          <p:nvPr/>
        </p:nvPicPr>
        <p:blipFill>
          <a:blip r:embed="rId4"/>
          <a:stretch/>
        </p:blipFill>
        <p:spPr>
          <a:xfrm>
            <a:off x="6107040" y="3328920"/>
            <a:ext cx="2646360" cy="2563920"/>
          </a:xfrm>
          <a:prstGeom prst="rect">
            <a:avLst/>
          </a:prstGeom>
          <a:ln w="0">
            <a:noFill/>
          </a:ln>
        </p:spPr>
      </p:pic>
      <p:sp>
        <p:nvSpPr>
          <p:cNvPr id="1263" name="PlaceHolder 1"/>
          <p:cNvSpPr>
            <a:spLocks noGrp="1"/>
          </p:cNvSpPr>
          <p:nvPr>
            <p:ph type="title"/>
          </p:nvPr>
        </p:nvSpPr>
        <p:spPr>
          <a:xfrm>
            <a:off x="1687320" y="623520"/>
            <a:ext cx="413676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178dbb"/>
                </a:solidFill>
                <a:latin typeface="Century Gothic"/>
              </a:rPr>
              <a:t>Кинетическое искусство.</a:t>
            </a:r>
            <a:endParaRPr b="0" lang="en-US" sz="3200" spc="-1" strike="noStrike">
              <a:solidFill>
                <a:srgbClr val="178dbb"/>
              </a:solidFill>
              <a:latin typeface="Century Gothic"/>
            </a:endParaRPr>
          </a:p>
        </p:txBody>
      </p:sp>
      <p:sp>
        <p:nvSpPr>
          <p:cNvPr id="1264" name=""/>
          <p:cNvSpPr txBox="1"/>
          <p:nvPr/>
        </p:nvSpPr>
        <p:spPr>
          <a:xfrm>
            <a:off x="1684440" y="2133360"/>
            <a:ext cx="4140000" cy="3778200"/>
          </a:xfrm>
          <a:prstGeom prst="rect">
            <a:avLst/>
          </a:prstGeom>
          <a:noFill/>
          <a:ln w="0">
            <a:noFill/>
          </a:ln>
        </p:spPr>
        <p:txBody>
          <a:bodyPr anchor="t">
            <a:normAutofit fontScale="91000"/>
          </a:bodyPr>
          <a:p>
            <a:pPr marL="312120" indent="-312120">
              <a:lnSpc>
                <a:spcPct val="8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Century Gothic"/>
              </a:rPr>
              <a:t>Направление в современном искусстве, обыгрывающее эффекты реального движения всего произведения или отдельных его составляющих. Кинетизм основывается на представлении о том, что с помощью света и движения можно создать произведение искусства. Объекты представляют собой движущиеся установки, производящие при перемещении интересные сочетания света и тени, иногда звучащие. Эти тщательно сконструированные устройства из металла, стекла или других материалов, соединённые с мигающими световыми устройствами, получили название </a:t>
            </a:r>
            <a:r>
              <a:rPr b="0" i="1" lang="ru-RU" sz="1600" spc="-1" strike="noStrike">
                <a:solidFill>
                  <a:srgbClr val="000000"/>
                </a:solidFill>
                <a:latin typeface="Century Gothic"/>
              </a:rPr>
              <a:t>«мобилей»</a:t>
            </a:r>
            <a:r>
              <a:rPr b="0" lang="ru-RU" sz="1600" spc="-1" strike="noStrike">
                <a:solidFill>
                  <a:srgbClr val="000000"/>
                </a:solidFill>
                <a:latin typeface="Century Gothic"/>
              </a:rPr>
              <a:t>.</a:t>
            </a:r>
            <a:endParaRPr b="0" lang="en-US" sz="1600" spc="-1" strike="noStrike">
              <a:solidFill>
                <a:srgbClr val="404040"/>
              </a:solidFill>
              <a:latin typeface="Century Gothic"/>
            </a:endParaRPr>
          </a:p>
          <a:p>
            <a:pPr marL="312120" indent="-312120">
              <a:lnSpc>
                <a:spcPct val="8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Century Gothic"/>
              </a:rPr>
              <a:t>Представители: Бентон, Шеффер, Янсен, Эмери.</a:t>
            </a: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4:05:57Z</dcterms:created>
  <dc:creator>Юлия Морозова</dc:creator>
  <dc:description/>
  <dc:language>en-US</dc:language>
  <cp:lastModifiedBy>DNS</cp:lastModifiedBy>
  <dcterms:modified xsi:type="dcterms:W3CDTF">2016-12-04T17:58:24Z</dcterms:modified>
  <cp:revision>9</cp:revision>
  <dc:subject/>
  <dc:title>Изобразительное искусство.</dc:title>
</cp:coreProperties>
</file>