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7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30.jpeg" ContentType="image/jpeg"/>
  <Override PartName="/ppt/media/image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24.png" ContentType="image/png"/>
  <Override PartName="/ppt/media/image25.gif" ContentType="image/gif"/>
  <Override PartName="/ppt/media/image29.png" ContentType="image/png"/>
  <Override PartName="/ppt/media/image6.gif" ContentType="image/gif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42F-573E-4DE1-8947-8A985A3D8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C017-9CBD-41E9-8B9A-FFA4DDA6D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245-D6B7-40C9-B390-6A0D8E50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193-4025-4CBD-B1CD-88A09B99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B90-6358-451B-9783-FA07EC0F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C46-8ABA-4E8A-9B82-5AFDBEFE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D5C7-DCDB-428F-A74E-64249BEC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11F1-4BFD-48E1-A4BE-F8FB43C3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858F-594C-4892-8B8B-830FBB03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8D1D-1C88-4FE7-A5E1-05B17AAF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4CB8-C046-4C3D-AFE9-572EEC58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BB96-2A3E-423B-A98C-4A729881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B3FA-EA8E-4EEA-9FE2-BB2222E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478-8C9D-4D14-B790-8C89F36A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77E7-E2DC-4D40-9374-8401FA7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3BBB-C518-4094-9717-AA4A9E84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451C-6CE2-4D2E-A543-730A3B44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9FE8-1328-4F0A-9A34-2C55B071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8113-1828-4DA0-8BF0-39001932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E40E-0B66-41C4-910B-E1D966AB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40CF-5B5D-466C-B554-3F88851B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10FE-9C18-448B-B2E3-9121C061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50DE-C487-43E3-BCA9-566EE7A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B616-A95C-4034-8E2C-6E845619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9AE-66EB-4B3B-B7B6-E6661FD7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F152-49E9-4F63-BCEB-73900ABF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6167-0C30-4EBB-9F16-67AE6A8D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7E66-3FFA-45BB-BE12-0FCA42AC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B774-FCA0-4CF1-9CB3-B9FE80C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D5E7-9B3E-409B-A143-7C385D10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8FBD7-4775-4B47-AC44-AF8D54E4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7DEE-2862-49AE-8AA6-68C5DB74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7E472-4C08-4A7A-8BAA-4CD1BC2E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2F5A-8D2E-46B3-B72E-705B7358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6C94-D440-42E7-8130-23BF672D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711-43D5-4752-89C1-3C08AE2C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520AC-C0F2-4932-9D28-1497C75E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0BBC0-985B-4D17-917F-22CFCC7D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1D4C-748F-410C-A58F-8DF47512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4E48-1171-4ABB-8EC5-C0DEFA10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99F99-B0B7-4D86-ACA6-624427AD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AE5A4-252A-4879-AB24-5CAEC1D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2AEA-D451-43AD-8B00-54589F9B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F094-C04E-40EC-BD56-1FF2F350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6FDC-34BA-42CE-AA03-3AC7568C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A2599-8FDA-41B0-A168-07017F42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9FA-D943-4D36-A978-C50913E6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BE793-7226-4D27-964F-1B8B6630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E2A2E-47C2-4F08-B2D9-BA2534EF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657B7-72AF-4C92-8ED4-C0CD5628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32F22-7F25-4B49-A3D9-E7555BC1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FC837-71AC-4D90-BA6D-172EFB2B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F66A9-EBDE-4923-AD10-C296BF10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03296-BEC1-473C-983C-F193270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4FF3B-20E0-472D-8E17-042F354C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87361-C475-4D4B-A28F-218AE2B7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8EC4D-0904-4959-81B3-FA8CBFAC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84E-04D5-40BD-BBDE-50757473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9B294-C297-450A-A2A0-9DA93D92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22D6-1813-443C-AF8D-24629A7C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2AC4B-F607-45F6-87A9-1522F962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04DE1-C8EC-46A8-8B14-CE993BDD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E7695-F272-41F8-BF00-2A62E753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626D3-BB5C-4DD3-A953-694D2C16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344C9-02AB-4DBF-B0E6-41D44671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B486-73C8-474F-B71F-9AAF606C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3D5C-AA8E-4B6E-A2E7-BA4935E1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3148B-2B17-4FA5-B25E-D49DFB3C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C46-D88A-4696-810E-9A0B3C1B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C7238-B5C3-44A8-B1BB-82B05E46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1DEA6-606F-4E3F-B9E9-8516D2BA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7DAF9-28AB-4C1A-B448-C1C40A9F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91617-876F-4DB9-B616-2487D2AF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228F3-0186-443B-B18A-CC4550AB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401FC-8BB4-4C17-A8E5-2B607819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78D9B-F314-4FEE-BB02-6AC99A74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E7876-9E6E-4B89-8B43-333FA687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C6E27-ED49-498C-BA46-278CF3C1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88CE6-94DA-4288-BAC1-1CF96493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B94-1540-4AF2-AAE5-81F4B3B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CBDA4-3F87-4135-B95A-A731D4FF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A8552-BF1D-4BAA-A525-E04EEFA5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42511-EF5D-4FAA-B887-7FB51686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422F3-74BA-4E88-961E-D3A902E9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EEDFC-E554-4BCB-A9CB-C4A7F2B2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64A-2162-44C4-A68D-AA4154E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374D-B715-4926-A111-001CDAFA8E05}" type="slidenum">
              <a:rPr b="0" lang="ru-RU" sz="1200" spc="-1" strike="noStrike">
                <a:solidFill>
                  <a:srgbClr val="b5a788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1B87-7ECB-4438-A7CC-93E42FBC7BE2}" type="slidenum">
              <a:rPr b="0" lang="ru-RU" sz="1200" spc="-1" strike="noStrike">
                <a:solidFill>
                  <a:srgbClr val="b5a788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37B9-68B0-479E-B6A1-15EA0926FC19}" type="slidenum">
              <a:rPr b="0" lang="ru-RU" sz="1200" spc="-1" strike="noStrike">
                <a:solidFill>
                  <a:srgbClr val="b5a788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0D1F-A491-4DA2-8D49-330A108436A3}" type="slidenum">
              <a:rPr b="0" lang="ru-RU" sz="1200" spc="-1" strike="noStrike">
                <a:solidFill>
                  <a:srgbClr val="b5a788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69A5-BD59-47F6-BD2A-C0414AD4F1F5}" type="slidenum">
              <a:rPr b="0" lang="ru-RU" sz="1200" spc="-1" strike="noStrike">
                <a:solidFill>
                  <a:srgbClr val="b5a788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6D64-F641-4154-B71B-5B52DCD635E0}" type="slidenum">
              <a:rPr b="0" lang="ru-RU" sz="1200" spc="-1" strike="noStrike">
                <a:solidFill>
                  <a:srgbClr val="b5a788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6922-F7B7-411B-B9EE-D486095F29B2}" type="slidenum">
              <a:rPr b="0" lang="ru-RU" sz="1200" spc="-1" strike="noStrike">
                <a:solidFill>
                  <a:srgbClr val="b5a788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4"/>
          <p:cNvSpPr/>
          <p:nvPr/>
        </p:nvSpPr>
        <p:spPr>
          <a:xfrm>
            <a:off x="684360" y="2840040"/>
            <a:ext cx="7775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Прямоугольник 1"/>
          <p:cNvSpPr/>
          <p:nvPr/>
        </p:nvSpPr>
        <p:spPr>
          <a:xfrm>
            <a:off x="1476360" y="260280"/>
            <a:ext cx="719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602480" cy="6467400"/>
          </a:xfrm>
          <a:prstGeom prst="rect">
            <a:avLst/>
          </a:prstGeom>
          <a:gradFill rotWithShape="0">
            <a:gsLst>
              <a:gs pos="0">
                <a:srgbClr val="97c5d7"/>
              </a:gs>
              <a:gs pos="100000">
                <a:srgbClr val="e1ecf1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химических            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реакций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6" descr="C:\Users\Компьютер\Desktop\5e85e491bf68304f0d13321266e7dac1.gif"/>
          <p:cNvPicPr/>
          <p:nvPr/>
        </p:nvPicPr>
        <p:blipFill>
          <a:blip r:embed="rId1"/>
          <a:stretch/>
        </p:blipFill>
        <p:spPr>
          <a:xfrm>
            <a:off x="1643040" y="385920"/>
            <a:ext cx="1419120" cy="1276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Users\Компьютер\Desktop\anmated_doll_0002.gif"/>
          <p:cNvPicPr/>
          <p:nvPr/>
        </p:nvPicPr>
        <p:blipFill>
          <a:blip r:embed="rId2"/>
          <a:stretch/>
        </p:blipFill>
        <p:spPr>
          <a:xfrm>
            <a:off x="1446120" y="3429000"/>
            <a:ext cx="2928960" cy="3139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е индикаторов на растворы кислоты,   щелочи  и воды.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Picture 3" descr="159 Изменение цвета индикаторов в щелочной среде  Ахлебинин А"/>
          <p:cNvPicPr/>
          <p:nvPr/>
        </p:nvPicPr>
        <p:blipFill>
          <a:blip r:embed="rId1"/>
          <a:stretch/>
        </p:blipFill>
        <p:spPr>
          <a:xfrm>
            <a:off x="3132000" y="2249640"/>
            <a:ext cx="4789800" cy="43844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071720" y="1557360"/>
            <a:ext cx="78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менение цвета  (окраски индикатора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orbel"/>
              </a:rPr>
              <a:t>          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МЕДИ С АЗОТНОЙ  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КИСЛОТО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126792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деление газ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6" descr="Картинки по запросу картинки выделение газа"/>
          <p:cNvPicPr/>
          <p:nvPr/>
        </p:nvPicPr>
        <p:blipFill>
          <a:blip r:embed="rId1"/>
          <a:stretch/>
        </p:blipFill>
        <p:spPr>
          <a:xfrm>
            <a:off x="1979640" y="1916280"/>
            <a:ext cx="6313320" cy="4392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042920" y="404280"/>
            <a:ext cx="7850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химических реакций по различным признакам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ислу и составу исходных и полученных веществ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делению или поглощению энергии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менению степени окисления химических элемент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ьзование катализатор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85920" y="277920"/>
            <a:ext cx="75722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соединения.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8440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e</a:t>
            </a:r>
            <a:r>
              <a:rPr b="1" lang="en-US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411280" y="162864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2268360" y="1844640"/>
            <a:ext cx="7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1285920" y="494028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акция соединения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реакция, при которой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из двух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0" i="1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нескольких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стых веществ образуется 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одно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ожное веществ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0.046 L 0.09219 0.30814 E">
                                      <p:cBhvr>
                                        <p:cTn id="104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5249 L -0.01667 0.30428 E">
                                      <p:cBhvr>
                                        <p:cTn id="106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разложен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1777680"/>
            <a:ext cx="12952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411280" y="1628640"/>
            <a:ext cx="6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403280" y="177336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0" y="2071800"/>
            <a:ext cx="38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Comic Sans MS"/>
              </a:rPr>
              <a:t>→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419640" y="3056040"/>
            <a:ext cx="572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разложения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это реакция, при которой одно сложное вещество распадается на два или несколько простых или сложных вещест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5 0.08946 L 0.06719 0.45654 E">
                                      <p:cBhvr>
                                        <p:cTn id="117" dur="2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75 0.11419 L 0.28542 0.47064 E">
                                      <p:cBhvr>
                                        <p:cTn id="119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замещен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4000" y="5229000"/>
            <a:ext cx="1439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</a:t>
            </a: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835280" y="5229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2627280" y="5013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3276720" y="5013360"/>
            <a:ext cx="1296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1116000" y="184464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замещения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это реакция, при которой атомы простого вещества замещают атомы в сложном веществ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Rectangle 14"/>
          <p:cNvSpPr/>
          <p:nvPr/>
        </p:nvSpPr>
        <p:spPr>
          <a:xfrm>
            <a:off x="900000" y="551664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4140360" y="558972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98 -0.02288 C -0.0349 -0.0349 -0.03229 -0.04623 -0.03038 -0.05848 C -0.03108 -0.06842 -0.03108 -0.07836 -0.03264 -0.08807 C -0.03333 -0.09246 -0.03698 -0.09547 -0.03698 -0.09986 C -0.03698 -0.11766 -0.03507 -0.13546 -0.03264 -0.15302 C -0.02934 -0.17776 -0.00365 -0.18169 0.00955 -0.19163 C 0.01962 -0.19926 0.01979 -0.2055 0.03177 -0.2092 C 0.04445 -0.22052 0.05938 -0.23277 0.07413 -0.23878 C 0.08316 -0.24688 0.09254 -0.25034 0.10295 -0.25358 C 0.11597 -0.26236 0.12899 -0.27415 0.14288 -0.28039 C 0.19774 -0.27947 0.2526 -0.28016 0.30747 -0.27739 C 0.32135 -0.27669 0.33594 -0.26514 0.34965 -0.26259 C 0.35903 -0.22491 0.37344 -0.16897 0.34514 -0.14123 C 0.32535 -0.12182 0.28247 -0.11511 0.25851 -0.11165 C 0.25035 -0.11049 0.24219 -0.11003 0.23403 -0.10864 C 0.225 -0.10702 0.20747 -0.10286 0.20747 -0.10263 C 0.20347 -0.09616 0.19913 -0.09084 0.19826 -0.08206 C 0.19427 -0.03305 0.2026 -0.05316 0.19184 -0.03166 C 0.19097 -0.02774 0.19045 -0.02381 0.18958 -0.01988 C 0.18889 -0.01687 0.18733 -0.01109 0.18733 -0.01086 E">
                                      <p:cBhvr>
                                        <p:cTn id="130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96 0.02358 C -0.00018 0.04254 -0.03421 0.01688 -0.01476 0.03837 C -0.01216 0.04115 -0.00868 0.04207 -0.00573 0.04438 C 0.01319 0.05918 0.03211 0.07444 0.05416 0.07975 C 0.05937 0.08091 0.06458 0.08183 0.06979 0.08276 C 0.08159 0.08484 0.10538 0.08877 0.10538 0.089 C 0.11857 0.09524 0.1335 0.09917 0.14531 0.10934 C 0.17343 0.10749 0.20156 0.1061 0.22968 0.10356 C 0.24479 0.10217 0.25729 0.08761 0.27204 0.08276 C 0.28993 0.07074 0.30816 0.06843 0.3276 0.06496 C 0.34045 0.06265 0.35086 0.05502 0.36302 0.05016 C 0.36961 0.04739 0.37639 0.04646 0.38316 0.04438 C 0.39027 0.03791 0.39583 0.03005 0.40312 0.02358 C 0.40989 0.00994 0.41093 -0.00624 0.41649 -0.0208 C 0.42152 -0.06403 0.42291 -0.06888 0.41649 -0.13615 C 0.41579 -0.14332 0.41076 -0.1484 0.40746 -0.15395 C 0.39357 -0.1773 0.3809 -0.21267 0.35868 -0.22191 C 0.34566 -0.23509 0.3342 -0.25982 0.31857 -0.2663 C 0.30329 -0.28178 0.2868 -0.29658 0.26979 -0.3079 C 0.26354 -0.31207 0.25833 -0.319 0.25191 -0.3227 C 0.22795 -0.33611 0.20104 -0.3442 0.17639 -0.35506 C 0.15642 -0.36384 0.13611 -0.37448 0.11649 -0.38465 C 0.02812 -0.38326 -0.01632 -0.39343 -0.08577 -0.36986 C -0.0948 -0.362 -0.10591 -0.3546 -0.11476 -0.34628 C -0.11736 -0.34397 -0.11875 -0.3398 -0.12136 -0.33749 C -0.12396 -0.33495 -0.12743 -0.33403 -0.13021 -0.33148 C -0.14306 -0.32016 -0.15521 -0.30721 -0.16806 -0.29588 C -0.17952 -0.28571 -0.18455 -0.27554 -0.19254 -0.26052 C -0.19462 -0.25659 -0.19914 -0.24873 -0.19914 -0.2485 C -0.20226 -0.23231 -0.20573 -0.23231 -0.2125 -0.21914 C -0.21684 -0.2018 -0.21372 -0.2129 -0.22361 -0.18654 C -0.22535 -0.18169 -0.22639 -0.16759 -0.22796 -0.16274 C -0.23056 -0.15464 -0.23438 -0.14725 -0.23698 -0.13916 C -0.23976 -0.1306 -0.24792 -0.11928 -0.24809 -0.10957 C -0.24879 -0.07906 -0.24809 -0.04831 -0.24809 -0.0178 E">
                                      <p:cBhvr>
                                        <p:cTn id="133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обмен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9280" y="1628640"/>
            <a:ext cx="169092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g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692360" y="1700280"/>
            <a:ext cx="309708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</a:t>
            </a:r>
            <a:r>
              <a:rPr b="0" lang="en-US" sz="7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4140360" y="17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300720" y="1628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6875640" y="16286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1071720" y="3500280"/>
            <a:ext cx="792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обмена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это  реакция, при которой два  сложных вещества обмениваются своими составными частя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45 -0.17221 C -0.04254 -0.18446 -0.04028 -0.19787 -0.03768 -0.21035 C -0.03646 -0.21636 -0.03664 -0.22353 -0.03334 -0.22815 C -0.02882 -0.23393 -0.02448 -0.23971 -0.01997 -0.24572 C -0.00938 -0.25982 -0.01511 -0.25566 -0.00434 -0.26075 C -0.00209 -0.26283 0.00017 -0.26421 0.00225 -0.26652 C 0.00468 -0.2693 0.00642 -0.27277 0.00902 -0.27577 C 0.01632 -0.28224 0.01857 -0.28109 0.02673 -0.28432 C 0.04097 -0.28987 0.05503 -0.29796 0.06892 -0.3049 C 0.07812 -0.30952 0.08368 -0.31669 0.0934 -0.31992 C 0.10868 -0.3331 0.10173 -0.32917 0.11336 -0.33449 C 0.12118 -0.34258 0.13003 -0.34766 0.13784 -0.35529 C 0.15208 -0.36893 0.1368 -0.36061 0.15121 -0.36708 C 0.16527 -0.36592 0.18229 -0.37263 0.1934 -0.36107 C 0.2118 -0.34211 0.22066 -0.31045 0.2401 -0.29311 C 0.25069 -0.27415 0.25382 -0.2545 0.26232 -0.23393 C 0.26666 -0.2233 0.27291 -0.21451 0.27777 -0.20434 C 0.28559 -0.1877 0.28993 -0.17013 0.29791 -0.15395 C 0.30017 -0.13777 0.30104 -0.1202 0.30451 -0.10379 C 0.30625 -0.09524 0.31111 -0.0883 0.31336 -0.07998 C 0.31597 -0.06981 0.31857 -0.04762 0.32013 -0.0356 C 0.321 0.00185 0.31753 0.04022 0.32448 0.07652 C 0.32986 0.10495 0.33941 0.13223 0.3467 0.1595 C 0.35121 0.17615 0.35156 0.19302 0.35555 0.2099 C 0.35711 0.23949 0.35729 0.2693 0.36007 0.29866 C 0.36041 0.30213 0.36354 0.30421 0.36458 0.30745 C 0.3684 0.31947 0.37031 0.33357 0.37343 0.34582 C 0.37569 0.3553 0.38507 0.3583 0.39114 0.36385 C 0.42673 0.39598 0.41545 0.38997 0.43559 0.39922 C 0.47986 0.39298 0.4427 0.40338 0.46666 0.38743 C 0.47083 0.38465 0.48003 0.38142 0.48003 0.38165 C 0.48958 0.3687 0.49809 0.35206 0.51111 0.34582 C 0.51371 0.33542 0.51684 0.31716 0.52222 0.30745 C 0.52882 0.29566 0.53159 0.29889 0.53559 0.28687 C 0.53993 0.2737 0.5427 0.2589 0.5467 0.2455 C 0.55347 0.22307 0.5493 0.2344 0.55347 0.21591 C 0.55555 0.20689 0.55781 0.19811 0.56007 0.18909 C 0.56076 0.18609 0.56232 0.18008 0.56232 0.18008 C 0.56302 0.17245 0.56302 0.16436 0.56458 0.15673 C 0.56527 0.15326 0.56823 0.15118 0.56892 0.14771 C 0.57135 0.13708 0.57135 0.12575 0.57343 0.11512 C 0.57413 0.10033 0.57569 0.0853 0.57569 0.07074 C 0.57569 0.0393 0.57517 0.00763 0.57343 -0.02381 C 0.57309 -0.02889 0.57118 -0.0141 0.57118 -0.00901 E">
                                      <p:cBhvr>
                                        <p:cTn id="150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3769 C -0.01302 0.06243 -0.01181 0.08717 -0.01458 0.11168 C -0.01493 0.11515 -0.01945 0.11492 -0.02118 0.11769 C -0.02257 0.12 -0.02222 0.12393 -0.02344 0.12648 C -0.02813 0.13665 -0.03958 0.15168 -0.04566 0.15908 C -0.05521 0.17041 -0.06719 0.17734 -0.07674 0.18867 C -0.08142 0.19422 -0.08507 0.20139 -0.09011 0.20648 C -0.09306 0.20948 -0.09653 0.21156 -0.09896 0.21526 C -0.10851 0.22937 -0.11181 0.2437 -0.12344 0.25388 C -0.13212 0.2733 -0.13247 0.27214 -0.14792 0.28047 C -0.15712 0.29295 -0.16528 0.30405 -0.17674 0.31307 C -0.18247 0.31746 -0.18889 0.32 -0.19445 0.32486 C -0.21389 0.34197 -0.23368 0.35237 -0.25677 0.35746 C -0.32604 0.39353 -0.31372 0.3644 -0.45677 0.35746 C -0.47847 0.34775 -0.49965 0.33758 -0.52118 0.32786 C -0.53212 0.31561 -0.54288 0.30844 -0.55452 0.29827 C -0.56528 0.27885 -0.56771 0.25388 -0.57674 0.23307 C -0.60191 0.17549 -0.58247 0.22729 -0.59445 0.19468 C -0.59774 0.17249 -0.60486 0.13665 -0.61458 0.11769 C -0.61198 0.01665 -0.62622 0.05041 -0.5967 0.0111 E">
                                      <p:cBhvr>
                                        <p:cTn id="152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472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деление или поглощение энергии: 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1197000"/>
            <a:ext cx="79930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акции, протекающие с выделением энергии (тепла), называются 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зотермическим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К ним относятся реакции горения, например серы: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+ O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= SO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+ Q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уется оксид серы (IV), выделение энергии обозначают + Q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акции, требующие затрат энергии, т. е. протекающие с поглощением энергии, называются  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ндотермическим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Эндотермической является реакция разложения воды под действием электрического ток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H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 = 2H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+ O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− Q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 реакции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258560" y="1447560"/>
            <a:ext cx="777708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акции, сопровождающиеся изменением степеней окисления элементов, т. е. переходом электронов,называются                         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кислительно-восстановительными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+ S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= Fe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+2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−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1258920" y="3789360"/>
            <a:ext cx="76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алитические реакции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водятся в присутстви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ализаторов –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ществ, которые, не вступая в химическое взаимодействие, способны изменять скорость реа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имическое явление ускорения реакции с помощью катализатор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ожительным катализом или просто катализ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деление или поглощение энерг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16000" y="836280"/>
            <a:ext cx="781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зотермические реакции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— это реакции, происходящие с выделением теплоты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(г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+ 2О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(г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= СО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(г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+ 2Н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(г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+ 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ндотермические реакции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— 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реакции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происходящие с поглощением теплот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(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кр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кр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+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(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г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,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пловой эффект химической реакции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- 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количество выделенной или поглощенной теплоты в результате химической 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акции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А</a:t>
            </a: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Picture 6" descr="C:\Users\Компьютер\Desktop\d8744d83e514.gif"/>
          <p:cNvPicPr/>
          <p:nvPr/>
        </p:nvPicPr>
        <p:blipFill>
          <a:blip r:embed="rId1"/>
          <a:stretch/>
        </p:blipFill>
        <p:spPr>
          <a:xfrm>
            <a:off x="5924520" y="3429000"/>
            <a:ext cx="3219480" cy="32194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1143000" y="1371600"/>
            <a:ext cx="7893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ПОВТОРИТЬ И ОБОБЩИТЬ ЗНАНИЯ СТУДЕНТОВ  О  ХИМИЧЕСКИХ ПРЕВРАЩЕНИЯХ, ПРИЗНАКАХ  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ТИПАХ  ХИМИЧЕСКИХ РЕАКЦ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ЗАКРЕПИТЬ   НАВЫКИ СОСТАВЛЕНИЯ ХИМИЧЕСКИХ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УРАВНЕН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ПРОДОЛЖИТЬ ФОРМИРОВАН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ПРАКТИЧЕСКИХ НАВЫКОВ ПРИ ВЫПОЛНЕНИ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ЛАБОРАТОРНЫХ ОПЫ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2"/>
          <a:stretch/>
        </p:blipFill>
        <p:spPr>
          <a:xfrm>
            <a:off x="1143000" y="3643200"/>
            <a:ext cx="4143240" cy="2143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"/>
          <p:cNvPicPr/>
          <p:nvPr/>
        </p:nvPicPr>
        <p:blipFill>
          <a:blip r:embed="rId3"/>
          <a:stretch/>
        </p:blipFill>
        <p:spPr>
          <a:xfrm>
            <a:off x="2286000" y="514368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28840" y="244080"/>
            <a:ext cx="71755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агрегатному состоянию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116000" y="836280"/>
            <a:ext cx="781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фазовому состоянию реагентов реакции бывают 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могенные 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однородные) и 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етерогенные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неоднородные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омогенных реакциях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е взаимодействующие вещества находятся в одной фазе (газовой, жидкой или твердой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етерогенных процессах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реагенты, принимающие участие в реакции, находятся в разных фазах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етерогенные двухфазные реакции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в зависимости от агрегатного состояния исходных веществ бывают следующих типов: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 в системе «газ – твердое тело»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между двумя несмешивающимися жидкостями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в системе «газ – жидкость»;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в системе «жидкость – твердая фаза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2151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отнесите: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150920" y="1052640"/>
          <a:ext cx="7499520" cy="3276360"/>
        </p:xfrm>
        <a:graphic>
          <a:graphicData uri="http://schemas.openxmlformats.org/drawingml/2006/table">
            <a:tbl>
              <a:tblPr/>
              <a:tblGrid>
                <a:gridCol w="2557440"/>
                <a:gridCol w="4942080"/>
              </a:tblGrid>
              <a:tr h="743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) разложения, гетероген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it-IT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 2Al + 3H</a:t>
                      </a:r>
                      <a:r>
                        <a:rPr b="0" lang="it-IT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it-IT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→ Al</a:t>
                      </a:r>
                      <a:r>
                        <a:rPr b="0" lang="it-IT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SO</a:t>
                      </a:r>
                      <a:r>
                        <a:rPr b="0" lang="it-IT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it-IT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it-IT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+3H</a:t>
                      </a:r>
                      <a:r>
                        <a:rPr b="0" lang="it-IT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4ebf1"/>
                    </a:solidFill>
                  </a:tcPr>
                </a:tc>
              </a:tr>
              <a:tr h="743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) соединения, гомоген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pt-BR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 H</a:t>
                      </a:r>
                      <a:r>
                        <a:rPr b="0" lang="pt-BR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pt-BR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+ BaCl</a:t>
                      </a:r>
                      <a:r>
                        <a:rPr b="0" lang="pt-BR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→ BaSO</a:t>
                      </a:r>
                      <a:r>
                        <a:rPr b="0" lang="pt-BR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+ 2HCl +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4ebf1"/>
                    </a:solidFill>
                  </a:tcPr>
                </a:tc>
              </a:tr>
              <a:tr h="743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) обмена, экзотермическ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ru-RU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 2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+ O</a:t>
                      </a:r>
                      <a:r>
                        <a:rPr b="0" lang="en-US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→ 2H</a:t>
                      </a:r>
                      <a:r>
                        <a:rPr b="0" lang="en-US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4ebf1"/>
                    </a:solidFill>
                  </a:tcPr>
                </a:tc>
              </a:tr>
              <a:tr h="1048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) замещения, окислительно - восстановитель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pt-BR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 2 NaOH → Na</a:t>
                      </a:r>
                      <a:r>
                        <a:rPr b="0" lang="pt-BR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 + H</a:t>
                      </a:r>
                      <a:r>
                        <a:rPr b="0" lang="pt-BR" sz="20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4ebf1"/>
                    </a:solidFill>
                  </a:tcPr>
                </a:tc>
              </a:tr>
            </a:tbl>
          </a:graphicData>
        </a:graphic>
      </p:graphicFrame>
      <p:grpSp>
        <p:nvGrpSpPr>
          <p:cNvPr id="402" name="Прямоугольник 4"/>
          <p:cNvGrpSpPr/>
          <p:nvPr/>
        </p:nvGrpSpPr>
        <p:grpSpPr>
          <a:xfrm>
            <a:off x="3511440" y="5962680"/>
            <a:ext cx="3584520" cy="663480"/>
            <a:chOff x="3511440" y="5962680"/>
            <a:chExt cx="3584520" cy="663480"/>
          </a:xfrm>
        </p:grpSpPr>
        <p:pic>
          <p:nvPicPr>
            <p:cNvPr id="40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511440" y="5962680"/>
              <a:ext cx="3584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3635280" y="6029280"/>
              <a:ext cx="338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-Г</a:t>
              </a:r>
              <a:r>
                <a:rPr b="1" lang="ru-RU" sz="2000" spc="-1" strike="noStrike" baseline="-25000">
                  <a:solidFill>
                    <a:srgbClr val="ff0000"/>
                  </a:solidFill>
                  <a:latin typeface="Times New Roman"/>
                  <a:ea typeface="Times New Roman"/>
                </a:rPr>
                <a:t>1 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; Б-В</a:t>
              </a:r>
              <a:r>
                <a:rPr b="1" lang="ru-RU" sz="2000" spc="-1" strike="noStrike" baseline="-25000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;  В-Б</a:t>
              </a:r>
              <a:r>
                <a:rPr b="1" lang="ru-RU" sz="2000" spc="-1" strike="noStrike" baseline="-25000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;  Г-А</a:t>
              </a:r>
              <a:r>
                <a:rPr b="1" lang="ru-RU" sz="2000" spc="-1" strike="noStrike" baseline="-25000">
                  <a:solidFill>
                    <a:srgbClr val="ff0000"/>
                  </a:solidFill>
                  <a:latin typeface="Times New Roman"/>
                  <a:ea typeface="Times New Roman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5" name="Прямоугольник 5"/>
          <p:cNvGrpSpPr/>
          <p:nvPr/>
        </p:nvGrpSpPr>
        <p:grpSpPr>
          <a:xfrm>
            <a:off x="3133800" y="6004080"/>
            <a:ext cx="3962160" cy="604800"/>
            <a:chOff x="3133800" y="6004080"/>
            <a:chExt cx="3962160" cy="604800"/>
          </a:xfrm>
        </p:grpSpPr>
        <p:pic>
          <p:nvPicPr>
            <p:cNvPr id="406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33800" y="6004080"/>
              <a:ext cx="396216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203640" y="6056280"/>
              <a:ext cx="38163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08" name="Picture 4" descr="D:\Мама\Images\Картинки\ХИМКАР\Hourglass_rotates.gif"/>
          <p:cNvPicPr/>
          <p:nvPr/>
        </p:nvPicPr>
        <p:blipFill>
          <a:blip r:embed="rId3"/>
          <a:stretch/>
        </p:blipFill>
        <p:spPr>
          <a:xfrm>
            <a:off x="3659040" y="3851280"/>
            <a:ext cx="2519640" cy="2657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ТРЕТИЙ ЛИШНИЙ-1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071360" y="114264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NaCl = 2Na + Cl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MgO + C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gC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S + 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S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11" name="Text Box 4"/>
          <p:cNvGrpSpPr/>
          <p:nvPr/>
        </p:nvGrpSpPr>
        <p:grpSpPr>
          <a:xfrm>
            <a:off x="328680" y="4121280"/>
            <a:ext cx="7821720" cy="2114280"/>
            <a:chOff x="328680" y="4121280"/>
            <a:chExt cx="7821720" cy="2114280"/>
          </a:xfrm>
        </p:grpSpPr>
        <p:pic>
          <p:nvPicPr>
            <p:cNvPr id="412" name="Text Box 4" descr=""/>
            <p:cNvPicPr/>
            <p:nvPr/>
          </p:nvPicPr>
          <p:blipFill>
            <a:blip r:embed="rId1"/>
            <a:stretch/>
          </p:blipFill>
          <p:spPr>
            <a:xfrm>
              <a:off x="328680" y="4121280"/>
              <a:ext cx="782172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611280" y="4267080"/>
              <a:ext cx="7467480" cy="15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твет: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NaCl = 2Na + Cl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comb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ТРЕТИЙ ЛИШНИЙ-2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00080" y="1294920"/>
            <a:ext cx="80359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Na + H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 = 2NaOH + H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2CO + 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C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2KBr +Cl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KCl + Br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16" name="Text Box 4"/>
          <p:cNvGrpSpPr/>
          <p:nvPr/>
        </p:nvGrpSpPr>
        <p:grpSpPr>
          <a:xfrm>
            <a:off x="115920" y="4346640"/>
            <a:ext cx="8351640" cy="1809720"/>
            <a:chOff x="115920" y="4346640"/>
            <a:chExt cx="8351640" cy="1809720"/>
          </a:xfrm>
        </p:grpSpPr>
        <p:pic>
          <p:nvPicPr>
            <p:cNvPr id="417" name="Text Box 4" descr=""/>
            <p:cNvPicPr/>
            <p:nvPr/>
          </p:nvPicPr>
          <p:blipFill>
            <a:blip r:embed="rId1"/>
            <a:stretch/>
          </p:blipFill>
          <p:spPr>
            <a:xfrm>
              <a:off x="115920" y="4346640"/>
              <a:ext cx="835164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395280" y="4495680"/>
              <a:ext cx="8001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Ответ: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CO + O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= 2CO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comb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4000" y="-10008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амостоятельная  работ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ариант 1                             Вариант 2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№ 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:расставьте коэффициенты и определите тип реакции в следующих уравнениях реакций:</a:t>
            </a:r>
            <a:br>
              <a:rPr sz="2200"/>
            </a:b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А) 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Ca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+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O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Corbel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=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                                    А)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+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O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Corbel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=    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Б) 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Mg(OH)</a:t>
            </a:r>
            <a:r>
              <a:rPr b="1" lang="en-US" sz="1200" spc="-1" strike="noStrike">
                <a:solidFill>
                  <a:srgbClr val="0000ff"/>
                </a:solidFill>
                <a:latin typeface="Gill Sans MT"/>
              </a:rPr>
              <a:t>2</a:t>
            </a:r>
            <a:r>
              <a:rPr b="1" lang="ru-RU" sz="12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+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HCl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=                                       Б)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KOH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+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Gill Sans MT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SO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Corbel"/>
              </a:rPr>
              <a:t>4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=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В) 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H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Corbel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+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CuO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=                                                   В)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H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Corbel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+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FeO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=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Г)  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CaCO</a:t>
            </a:r>
            <a:r>
              <a:rPr b="1" lang="en-US" sz="1400" spc="-1" strike="noStrike">
                <a:solidFill>
                  <a:srgbClr val="0000ff"/>
                </a:solidFill>
                <a:latin typeface="Gill Sans MT"/>
              </a:rPr>
              <a:t>3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=;                                                      Г)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Cu(OH)</a:t>
            </a:r>
            <a:r>
              <a:rPr b="1" lang="en-US" sz="1200" spc="-1" strike="noStrike">
                <a:solidFill>
                  <a:srgbClr val="0000ff"/>
                </a:solidFill>
                <a:latin typeface="Gill Sans MT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=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Д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)  MgO + HNO</a:t>
            </a:r>
            <a:r>
              <a:rPr b="1" lang="en-US" sz="1200" spc="-1" strike="noStrike">
                <a:solidFill>
                  <a:srgbClr val="0000ff"/>
                </a:solidFill>
                <a:latin typeface="Gill Sans MT"/>
              </a:rPr>
              <a:t>3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=</a:t>
            </a:r>
            <a:r>
              <a:rPr b="0" lang="ru-RU" sz="1800" spc="-1" strike="noStrike">
                <a:solidFill>
                  <a:srgbClr val="0000ff"/>
                </a:solidFill>
                <a:latin typeface="Corbel"/>
              </a:rPr>
              <a:t>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Д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Gill Sans MT"/>
              </a:rPr>
              <a:t>CaO + HCl =</a:t>
            </a:r>
            <a:br>
              <a:rPr sz="1800"/>
            </a:br>
            <a:br>
              <a:rPr sz="1800"/>
            </a:b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№ </a:t>
            </a:r>
            <a:r>
              <a:rPr b="1" i="1" lang="en-US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ставьте уравнения химических реакций, расставьте коэффициенты и укажите их тип:     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а)  оксид бария + серная кислота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</a:rPr>
              <a:t>→  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а)гидроксид магния → </a:t>
            </a:r>
            <a:br>
              <a:rPr sz="1800"/>
            </a:b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б)  гидроксид железа (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) →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б)нитрат серебра  + хлорид натрия →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71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Проверка выполненной работы  </a:t>
            </a: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Вариант 1                                   Вариант 2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356840" y="2492280"/>
            <a:ext cx="728676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O + 2HCl = BaCl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H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i="1" lang="en-US" sz="3200" spc="-1" strike="noStrike">
                <a:solidFill>
                  <a:srgbClr val="0000ff"/>
                </a:solidFill>
                <a:latin typeface="Gill Sans MT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g(OH)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 MgO 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(OH)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FeO 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NO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aCl =AgCl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aNO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Прямоугольник 1"/>
          <p:cNvSpPr/>
          <p:nvPr/>
        </p:nvSpPr>
        <p:spPr>
          <a:xfrm>
            <a:off x="1476360" y="90792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№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Прямоугольник 2"/>
          <p:cNvSpPr/>
          <p:nvPr/>
        </p:nvSpPr>
        <p:spPr>
          <a:xfrm>
            <a:off x="1042920" y="1125360"/>
            <a:ext cx="7993080" cy="59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Ca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2CaO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g(OH)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HCl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gCl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2H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KOH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K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H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O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O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Fe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H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        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CO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O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CO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)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(OH)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CuO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H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 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MgO + HNO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g(NO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+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H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Д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O +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Cl = CaCl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H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№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777440" cy="619308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1"/>
          <p:cNvSpPr/>
          <p:nvPr/>
        </p:nvSpPr>
        <p:spPr>
          <a:xfrm>
            <a:off x="1692360" y="549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вам сегодня понравилось на уро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1332000" y="1413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:                                         работа с конспект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1428840" y="3082680"/>
            <a:ext cx="72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вас понравилось сегодня на уроке?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и урока. Оценки за ур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34920" y="476280"/>
            <a:ext cx="6769080" cy="1944720"/>
          </a:xfrm>
          <a:prstGeom prst="rect">
            <a:avLst/>
          </a:prstGeom>
          <a:solidFill>
            <a:srgbClr val="d7dde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работу на уроке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9" name="Picture 8" descr=""/>
          <p:cNvPicPr/>
          <p:nvPr/>
        </p:nvPicPr>
        <p:blipFill>
          <a:blip r:embed="rId1"/>
          <a:stretch/>
        </p:blipFill>
        <p:spPr>
          <a:xfrm>
            <a:off x="1214280" y="2786040"/>
            <a:ext cx="3302280" cy="383868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3" descr="http://cs620230.vk.me/v620230866/6a21/IMu4KMMl2ug.jpg"/>
          <p:cNvPicPr/>
          <p:nvPr/>
        </p:nvPicPr>
        <p:blipFill>
          <a:blip r:embed="rId2"/>
          <a:stretch/>
        </p:blipFill>
        <p:spPr>
          <a:xfrm>
            <a:off x="4214880" y="2571840"/>
            <a:ext cx="4514760" cy="2609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ы для повторения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71360" y="1599840"/>
            <a:ext cx="8072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Что изучает химия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Какие классы неорганических веществ вы знаете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Что такое физические превращения или химические реакции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Каковы признаки химических реакций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4"/>
          <p:cNvSpPr/>
          <p:nvPr/>
        </p:nvSpPr>
        <p:spPr>
          <a:xfrm>
            <a:off x="4449600" y="32288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Прямоугольник 5"/>
          <p:cNvSpPr/>
          <p:nvPr/>
        </p:nvSpPr>
        <p:spPr>
          <a:xfrm>
            <a:off x="4449600" y="32288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Прямоугольник 7"/>
          <p:cNvGrpSpPr/>
          <p:nvPr/>
        </p:nvGrpSpPr>
        <p:grpSpPr>
          <a:xfrm>
            <a:off x="1103400" y="523800"/>
            <a:ext cx="8083440" cy="5896080"/>
            <a:chOff x="1103400" y="523800"/>
            <a:chExt cx="8083440" cy="5896080"/>
          </a:xfrm>
        </p:grpSpPr>
        <p:pic>
          <p:nvPicPr>
            <p:cNvPr id="340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103400" y="523800"/>
              <a:ext cx="8083440" cy="58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258920" y="612720"/>
              <a:ext cx="770580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спомним, какие явления называются физическими и химическими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Физические явления</a:t>
              </a:r>
              <a:r>
                <a:rPr b="1" i="1" lang="ru-RU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-это любые изменения вещества, не при водящие к изменению состава и строения его молекул, например изменение агрегатного состояния веществ, хотя кристалл и газ, например, обладают различными физическими свойствами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Химические явления </a:t>
              </a:r>
              <a:r>
                <a:rPr b="1" i="1" lang="ru-RU" sz="24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– это явления, при которых одни вещества превращаются в другие, отличающиеся от исходных составом и свойствами, и при этом не происходит изменения состава ядер атомов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"/>
          <p:cNvSpPr/>
          <p:nvPr/>
        </p:nvSpPr>
        <p:spPr>
          <a:xfrm>
            <a:off x="1332000" y="18900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ть, какие процессы относятся к физическим, а какие – к химическим и распределите их по двум колонка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аяние снега, образование патины на памятниках, коррозия металла,  плавление серебра, обработка раны перекисью водорода,  возгонка йода, ректификация жидкого воздуха, сжигание газ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 явления              Химические явл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Картинки по запросу картинки анимации обработка раны перекисью водорода"/>
          <p:cNvPicPr/>
          <p:nvPr/>
        </p:nvPicPr>
        <p:blipFill>
          <a:blip r:embed="rId1"/>
          <a:stretch/>
        </p:blipFill>
        <p:spPr>
          <a:xfrm>
            <a:off x="1187280" y="189000"/>
            <a:ext cx="4241880" cy="2830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Картинки по запросу картинки анимации образование патины на памятниках"/>
          <p:cNvPicPr/>
          <p:nvPr/>
        </p:nvPicPr>
        <p:blipFill>
          <a:blip r:embed="rId2"/>
          <a:stretch/>
        </p:blipFill>
        <p:spPr>
          <a:xfrm>
            <a:off x="4572000" y="3141720"/>
            <a:ext cx="4321080" cy="345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Картинки по запросу картинки анимации плавление серебра"/>
          <p:cNvPicPr/>
          <p:nvPr/>
        </p:nvPicPr>
        <p:blipFill>
          <a:blip r:embed="rId3"/>
          <a:stretch/>
        </p:blipFill>
        <p:spPr>
          <a:xfrm>
            <a:off x="1187280" y="3141720"/>
            <a:ext cx="3333960" cy="345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Картинки по запросу картинки анимации таяние снега"/>
          <p:cNvPicPr/>
          <p:nvPr/>
        </p:nvPicPr>
        <p:blipFill>
          <a:blip r:embed="rId4"/>
          <a:stretch/>
        </p:blipFill>
        <p:spPr>
          <a:xfrm>
            <a:off x="5559480" y="189000"/>
            <a:ext cx="3333600" cy="2830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Картинки по запросу картинки анимации коррозия автомобиля"/>
          <p:cNvPicPr/>
          <p:nvPr/>
        </p:nvPicPr>
        <p:blipFill>
          <a:blip r:embed="rId1"/>
          <a:stretch/>
        </p:blipFill>
        <p:spPr>
          <a:xfrm>
            <a:off x="1258920" y="189000"/>
            <a:ext cx="4051440" cy="324000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4"/>
          <p:cNvSpPr/>
          <p:nvPr/>
        </p:nvSpPr>
        <p:spPr>
          <a:xfrm>
            <a:off x="168120" y="-152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320760" y="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8" descr="Картинки по запросу картинки анимации сжигание природного газа"/>
          <p:cNvPicPr/>
          <p:nvPr/>
        </p:nvPicPr>
        <p:blipFill>
          <a:blip r:embed="rId2"/>
          <a:stretch/>
        </p:blipFill>
        <p:spPr>
          <a:xfrm>
            <a:off x="4246560" y="3429000"/>
            <a:ext cx="4743360" cy="3171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Картинки по запросу картинки анимации возгонка йода"/>
          <p:cNvPicPr/>
          <p:nvPr/>
        </p:nvPicPr>
        <p:blipFill>
          <a:blip r:embed="rId3"/>
          <a:stretch/>
        </p:blipFill>
        <p:spPr>
          <a:xfrm>
            <a:off x="5435640" y="152280"/>
            <a:ext cx="3554280" cy="3246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Картинки по запросу картинки жидкого воздуха"/>
          <p:cNvPicPr/>
          <p:nvPr/>
        </p:nvPicPr>
        <p:blipFill>
          <a:blip r:embed="rId4"/>
          <a:stretch/>
        </p:blipFill>
        <p:spPr>
          <a:xfrm>
            <a:off x="1116000" y="3429000"/>
            <a:ext cx="4033800" cy="3289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187280" y="115560"/>
            <a:ext cx="763272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знаки  химической реакци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деление тепла и све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ЕНИЕ СВЕЧ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5" descr="Картинки по запросу картинки горящей свечи"/>
          <p:cNvPicPr/>
          <p:nvPr/>
        </p:nvPicPr>
        <p:blipFill>
          <a:blip r:embed="rId1"/>
          <a:stretch/>
        </p:blipFill>
        <p:spPr>
          <a:xfrm>
            <a:off x="1903320" y="1989000"/>
            <a:ext cx="6621480" cy="4392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4581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i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я между раствором хлорида кальция и раствором щелочи.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Picture 3" descr="156 Выпадение осадка Ахлебинин А"/>
          <p:cNvPicPr/>
          <p:nvPr/>
        </p:nvPicPr>
        <p:blipFill>
          <a:blip r:embed="rId1"/>
          <a:stretch/>
        </p:blipFill>
        <p:spPr>
          <a:xfrm>
            <a:off x="2058840" y="2276640"/>
            <a:ext cx="5832720" cy="399708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1"/>
          <p:cNvSpPr/>
          <p:nvPr/>
        </p:nvSpPr>
        <p:spPr>
          <a:xfrm>
            <a:off x="1692360" y="476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падение осад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45:23Z</dcterms:created>
  <dc:creator>Дрон</dc:creator>
  <dc:description/>
  <dc:language>en-US</dc:language>
  <cp:lastModifiedBy>Компутер</cp:lastModifiedBy>
  <dcterms:modified xsi:type="dcterms:W3CDTF">2016-12-04T12:42:49Z</dcterms:modified>
  <cp:revision>119</cp:revision>
  <dc:subject/>
  <dc:title>Типы химических реакций:</dc:title>
</cp:coreProperties>
</file>