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327-04F0-4EE6-99A6-CD665670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0A5-D2FD-4A42-A9A4-BC9E4C2C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46C-AF2E-40DF-8F5C-FDD8D899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4D8-1655-448B-B76A-43093E7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704-0DC5-48F5-AA0B-9293D464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31B-94EA-4F6E-8F7C-C8DB1C5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862-8164-47D2-B914-AE320EF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46B-6001-4213-ABAE-97919DE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203-6940-417F-B4AC-3E57969D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69D-DF8B-4599-ADA8-39ABC0F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2A3-1EF7-4F56-B564-73DAF60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75A-2C6A-4796-84EC-A492A11C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F26-D21C-4FAB-98D6-EDF16BC80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58920" y="981000"/>
            <a:ext cx="6626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пект индивидуального занят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 посмотрим, что у них сегодня на обед. Суп из гороха, какой он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ороховы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:\Конспект индивидуального занятия Звук [С] Подготовительный этап\Слайд11.JPG"/>
          <p:cNvPicPr/>
          <p:nvPr/>
        </p:nvPicPr>
        <p:blipFill>
          <a:blip r:embed="rId1"/>
          <a:stretch/>
        </p:blipFill>
        <p:spPr>
          <a:xfrm>
            <a:off x="1330200" y="1268280"/>
            <a:ext cx="6786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юре из картофеля, какое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ртофельно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:\Конспект индивидуального занятия Звук [С] Подготовительный этап\Слайд12.JPG"/>
          <p:cNvPicPr/>
          <p:nvPr/>
        </p:nvPicPr>
        <p:blipFill>
          <a:blip r:embed="rId1"/>
          <a:stretch/>
        </p:blipFill>
        <p:spPr>
          <a:xfrm>
            <a:off x="971640" y="930240"/>
            <a:ext cx="74167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385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т из моркови, какой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Морковны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:\Конспект индивидуального занятия Звук [С] Подготовительный этап\Слайд13.JPG"/>
          <p:cNvPicPr/>
          <p:nvPr/>
        </p:nvPicPr>
        <p:blipFill>
          <a:blip r:embed="rId1"/>
          <a:stretch/>
        </p:blipFill>
        <p:spPr>
          <a:xfrm>
            <a:off x="874800" y="1054080"/>
            <a:ext cx="75596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320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т из груш, какой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рушевы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:\Конспект индивидуального занятия Звук [С] Подготовительный этап\Слайд14.JPG"/>
          <p:cNvPicPr/>
          <p:nvPr/>
        </p:nvPicPr>
        <p:blipFill>
          <a:blip r:embed="rId1"/>
          <a:stretch/>
        </p:blipFill>
        <p:spPr>
          <a:xfrm>
            <a:off x="861840" y="981000"/>
            <a:ext cx="73105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774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и из яблок, какие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Яблочны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:\Конспект индивидуального занятия Звук [С] Подготовительный этап\Слайд15.JPG"/>
          <p:cNvPicPr/>
          <p:nvPr/>
        </p:nvPicPr>
        <p:blipFill>
          <a:blip r:embed="rId1"/>
          <a:stretch/>
        </p:blipFill>
        <p:spPr>
          <a:xfrm>
            <a:off x="932040" y="981000"/>
            <a:ext cx="7272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68360" y="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ели Лягушка и Мышка-норушка, и захотели поспать (Упражнение «Язычок спит на кроватке». Опускание спинки языка. Кончик языка прижать к нижним резцам, спинку опустить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:\Конспект индивидуального занятия Звук [С] Подготовительный этап\Слайд16.JPG"/>
          <p:cNvPicPr/>
          <p:nvPr/>
        </p:nvPicPr>
        <p:blipFill>
          <a:blip r:embed="rId1"/>
          <a:stretch/>
        </p:blipFill>
        <p:spPr>
          <a:xfrm>
            <a:off x="755640" y="1628640"/>
            <a:ext cx="7505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24000" y="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нули. Снится мышке – норушке как маленький мышонок плачет, а мама мышка поет ему колыбельную. А-А-А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:\Конспект индивидуального занятия Звук [С] Подготовительный этап\Слайд17.JPG"/>
          <p:cNvPicPr/>
          <p:nvPr/>
        </p:nvPicPr>
        <p:blipFill>
          <a:blip r:embed="rId1"/>
          <a:stretch/>
        </p:blipFill>
        <p:spPr>
          <a:xfrm>
            <a:off x="1042920" y="836640"/>
            <a:ext cx="7104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050920" y="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ягушке –квакушке снится как у маленького лягушонка зубки болят и он стонет О-О-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:\Конспект индивидуального занятия Звук [С] Подготовительный этап\Слайд18.JPG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468360" y="404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т и едет на паровозике стоматолог, лягушонку зубки лечить У-У-У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:\Конспект индивидуального занятия Звук [С] Подготовительный этап\Слайд19.JPG"/>
          <p:cNvPicPr/>
          <p:nvPr/>
        </p:nvPicPr>
        <p:blipFill>
          <a:blip r:embed="rId1"/>
          <a:stretch/>
        </p:blipFill>
        <p:spPr>
          <a:xfrm>
            <a:off x="611280" y="1700280"/>
            <a:ext cx="79642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кал мимо заяц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енки пе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То песенку такую споет ФФФФФ(длительный выд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, то такую Т-Т-Т. (короткий выдох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друг налетел опять ветер сильный (дуем через трубочку). Во время зайчик увидел теремок. Остановился и говорит: «Пустите меня в теремок»(ребенок говорит как зайчик). А у него с собой полная корзинка 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:\Конспект индивидуального занятия Звук [С] Подготовительный этап\Слайд20.JPG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684360" y="1197000"/>
            <a:ext cx="806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артикуляционного аппарата для постановки зву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должать учить выполнять артикуляционные упражнения для звука [с] в полном объ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Формировать длительную направленную воздушную стр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пражнять в различении слов, близких по звуч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Формировать умение определять наличие звука [с] в ряду зву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Закрепить названия овощей, фруктов и соответствующ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ающие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ировать умения образовывать относительные прилага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Развивать мимическую выразительность, память, внимани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стное восприятие, мелкую мотор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из сказки «Теремок; картинки для упражнения «Обед»: кастрюля (суп) — горох; салатник (салат) — морковь; тарелка (пюре) — карто­фель; чашка (компот) — груша; пироги — яблоко; предметные картинки (кость, кастрюля, сосиска); разрезная картинка с изображением ово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00000" y="1764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ьчиковая игра «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у зай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очки Фрукты в корзиноч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блоки и гру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щайтесь, кушайт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ки и слив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лые, красивы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-ка на ра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нее этих фруктов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:\Конспект индивидуального занятия Звук [С] Подготовительный этап\Слайд21.JPG"/>
          <p:cNvPicPr/>
          <p:nvPr/>
        </p:nvPicPr>
        <p:blipFill>
          <a:blip r:embed="rId1"/>
          <a:stretch/>
        </p:blipFill>
        <p:spPr>
          <a:xfrm>
            <a:off x="3147840" y="2603520"/>
            <a:ext cx="58737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зинка тяжелая, нелегко зайцу было ее не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дует на кончик широкого язы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:\Конспект индивидуального занятия Звук [С] Подготовительный этап\Слайд22.JPG"/>
          <p:cNvPicPr/>
          <p:nvPr/>
        </p:nvPicPr>
        <p:blipFill>
          <a:blip r:embed="rId1"/>
          <a:stretch/>
        </p:blipFill>
        <p:spPr>
          <a:xfrm>
            <a:off x="539640" y="757080"/>
            <a:ext cx="815508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68360" y="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зайчик проситься в теремок, пустили зайца в теремок и стали жить все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:\Конспект индивидуального занятия Звук [С] Подготовительный этап\Слайд23.JPG"/>
          <p:cNvPicPr/>
          <p:nvPr/>
        </p:nvPicPr>
        <p:blipFill>
          <a:blip r:embed="rId1"/>
          <a:stretch/>
        </p:blipFill>
        <p:spPr>
          <a:xfrm>
            <a:off x="1692360" y="836640"/>
            <a:ext cx="56163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95280" y="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л Зайчик с дороги и пошел спать. «Спи, глазок, спи, другой. Спит правый глаз — просыпается. Спит левый глаз — просыпается». Поочередное открывание и закрывание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:\Конспект индивидуального занятия Звук [С] Подготовительный этап\Слайд24.JPG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это время бежит мимо лисичка-сестричка. Бежит, хвостиком следы заметает (упражнение почистим зуб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:\Конспект индивидуального занятия Звук [С] Подготовительный этап\Слайд25.JPG"/>
          <p:cNvPicPr/>
          <p:nvPr/>
        </p:nvPicPr>
        <p:blipFill>
          <a:blip r:embed="rId1"/>
          <a:stretch/>
        </p:blipFill>
        <p:spPr>
          <a:xfrm>
            <a:off x="1116000" y="1165320"/>
            <a:ext cx="7056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456000" y="18900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ет она о вкусном обеде. Покажи, о чем мечтает лисичка, тогда когда услышишь правиль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фть — тость — кошть — 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пчик — тупчик — суптик — суп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шишка — соситка — фосифка — сос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идела лисичка теремок, постучала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ебенок проговаривает нужную фразу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просилась в теремочке жить. Пустили ее в тере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:\Конспект индивидуального занятия Звук [С] Подготовительный этап\Слайд27.JPG"/>
          <p:cNvPicPr/>
          <p:nvPr/>
        </p:nvPicPr>
        <p:blipFill>
          <a:blip r:embed="rId1"/>
          <a:stretch/>
        </p:blipFill>
        <p:spPr>
          <a:xfrm>
            <a:off x="826920" y="1125360"/>
            <a:ext cx="74901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лисичка в теремочке жить не тужить. Вот пришла ночь. Надо свечку зажечь. Светло в теремке стало, а за окном буря поднялась, воет ( Упр.«Воет буря». Поднести к нижней губе пузырек с узким горлышком и подуть. Если при этом появляется шум, значит, воздушная струя направлена правильн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:\Конспект индивидуального занятия Звук [С] Подготовительный этап\Слайд28.JPG"/>
          <p:cNvPicPr/>
          <p:nvPr/>
        </p:nvPicPr>
        <p:blipFill>
          <a:blip r:embed="rId1"/>
          <a:stretch/>
        </p:blipFill>
        <p:spPr>
          <a:xfrm>
            <a:off x="611280" y="1628640"/>
            <a:ext cx="7961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утро бежит мимо волчок — серый бочок, несет с собой какой-то мешок. Не удержал, уронил мешок, все из него рассып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 волчку все собр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собирает разрезную картинку «Овощи»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же уронил волчок? Как это назвать одним словом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азывае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:\Конспект индивидуального занятия Звук [С] Подготовительный этап\Слайд29.JPG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учался волчо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бенок проговаривает нужную фразу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или его в терем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H:\Конспект индивидуального занятия Звук [С] Подготовительный этап\Слайд30.JPG"/>
          <p:cNvPicPr/>
          <p:nvPr/>
        </p:nvPicPr>
        <p:blipFill>
          <a:blip r:embed="rId1"/>
          <a:stretch/>
        </p:blipFill>
        <p:spPr>
          <a:xfrm>
            <a:off x="539640" y="1341360"/>
            <a:ext cx="8015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равствуй, садись поудобней перед ноутбуком, сегодня мы будем рассказывать сказ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узнал эту сказку? Как она называется? А каких персонажей сказки ты видишь? Начни со слов я виж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 улыбнемся нашим персонажем и я начну рассказывать сказку, а ты мне будешь помо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:\Конспект индивидуального занятия Звук [С] Подготовительный этап\Слайд4.JPG"/>
          <p:cNvPicPr/>
          <p:nvPr/>
        </p:nvPicPr>
        <p:blipFill>
          <a:blip r:embed="rId1"/>
          <a:stretch/>
        </p:blipFill>
        <p:spPr>
          <a:xfrm>
            <a:off x="1008000" y="2133720"/>
            <a:ext cx="7128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79280" y="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отелось волчку покататься с горке на велосипеде и помчался он( Упр «Велосипед спустился с горки». Улыбнуться, опустить кончик языка за нижние зубы, спинку поднять «горочкой». Сделать выд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 продолжительного сильного выдоха при длительном произнесении звукосочет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ффффф, ыфффф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:\Конспект индивидуального занятия Звук [С] Подготовительный этап\Слайд31.JPG"/>
          <p:cNvPicPr/>
          <p:nvPr/>
        </p:nvPicPr>
        <p:blipFill>
          <a:blip r:embed="rId1"/>
          <a:stretch/>
        </p:blipFill>
        <p:spPr>
          <a:xfrm>
            <a:off x="684360" y="1557360"/>
            <a:ext cx="79200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0" y="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ится волку кататься на велосипеде(Упр. Губы в улыбке (счет до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осипед едет по кочкам». Поочередное поднимание вверх углов рта (с помощью и без помощи ру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:\Конспект индивидуального занятия Звук [С] Подготовительный этап\Слайд32.JPG"/>
          <p:cNvPicPr/>
          <p:nvPr/>
        </p:nvPicPr>
        <p:blipFill>
          <a:blip r:embed="rId1"/>
          <a:stretch/>
        </p:blipFill>
        <p:spPr>
          <a:xfrm>
            <a:off x="468360" y="1341360"/>
            <a:ext cx="8165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ут пришел большой..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ь. Остановился около терем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Лопата»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ромко постучалс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оговаривает нужную фразу громким, сердитым голос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:\Конспект индивидуального занятия Звук [С] Подготовительный этап\Слайд33.JPG"/>
          <p:cNvPicPr/>
          <p:nvPr/>
        </p:nvPicPr>
        <p:blipFill>
          <a:blip r:embed="rId1"/>
          <a:stretch/>
        </p:blipFill>
        <p:spPr>
          <a:xfrm>
            <a:off x="1476360" y="1125360"/>
            <a:ext cx="60483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ятались все звери в теремке, боятся медвед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держивает кончик языка за нижними зубами)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пустили медведя в теремок. Тогда он полез на теремок. Заскрипел теремок: с-с-с. Как только услышишь, что теремок скрипит, крикни громко зверям: «Убегайте!» Слушай внимательно: ф, с, ш, т, з, с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:\Конспект индивидуального занятия Звук [С] Подготовительный этап\Слайд34.JPG"/>
          <p:cNvPicPr/>
          <p:nvPr/>
        </p:nvPicPr>
        <p:blipFill>
          <a:blip r:embed="rId1"/>
          <a:stretch/>
        </p:blipFill>
        <p:spPr>
          <a:xfrm>
            <a:off x="1042920" y="1268280"/>
            <a:ext cx="7135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мал медведь терем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дует на кончик широкого языка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ы помог зверям, предупредил их. Никто не пострадал! Вот и сказке конец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то слушал — молодец! А кто рассказывать ее помогал, тот — умница! Понравилась тебе сказка? Что тебе запомнилось или понравилось делать на занят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:\Конспект индивидуального занятия Звук [С] Подготовительный этап\Слайд35.JPG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68360" y="18900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Е.А. Борисова: «Индивидуальные логопедические занятия с дошкольника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. А. Пожиленко: «Методические рекомендации по постановке у детей звук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],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144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т в поле теремок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т он за забор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Забор» 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766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жит мимо мышка-норушка. Постучалась, а ей никто не отвечает. Тогда мышка попробовала дверь откры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Ворота»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:\Конспект индивидуального занятия Звук [С] Подготовительный этап\Слайд6.JPG"/>
          <p:cNvPicPr/>
          <p:nvPr/>
        </p:nvPicPr>
        <p:blipFill>
          <a:blip r:embed="rId1"/>
          <a:stretch/>
        </p:blipFill>
        <p:spPr>
          <a:xfrm>
            <a:off x="971640" y="1197000"/>
            <a:ext cx="72723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рь открылась. Мышка сначала испугалась, давай покажем как она испугалась, потом удивилась, покажи, а потом обрадовалась, как мышка обрадовалась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:\Конспект индивидуального занятия Звук [С] Подготовительный этап\Слайд7.JPG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шла в теремок и стала там жить.Навела в теремке поряд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я «Покусаем язычок, «Пошлепаем по язычку» 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ела отдохну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Лопата»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:\Конспект индивидуального занятия Звук [С] Подготовительный этап\Слайд8.JPG"/>
          <p:cNvPicPr/>
          <p:nvPr/>
        </p:nvPicPr>
        <p:blipFill>
          <a:blip r:embed="rId1"/>
          <a:stretch/>
        </p:blipFill>
        <p:spPr>
          <a:xfrm>
            <a:off x="863640" y="1197000"/>
            <a:ext cx="7416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ла мимо лягушка-квакушка. Увидела теремок, остановилась на крылеч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Лопата»). Лягушка – квакушк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шивает: «Кто в теремочке живет?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помогает произносить фраз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:\Конспект индивидуального занятия Звук [С] Подготовительный этап\Слайд9.JPG"/>
          <p:cNvPicPr/>
          <p:nvPr/>
        </p:nvPicPr>
        <p:blipFill>
          <a:blip r:embed="rId1"/>
          <a:stretch/>
        </p:blipFill>
        <p:spPr>
          <a:xfrm>
            <a:off x="765000" y="1484280"/>
            <a:ext cx="761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 впустила лягушку, стали они вмес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ь. Растопили пе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дует на кончик широкого языка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 обед гот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:\Конспект индивидуального занятия Звук [С] Подготовительный этап\Слайд10.JPG"/>
          <p:cNvPicPr/>
          <p:nvPr/>
        </p:nvPicPr>
        <p:blipFill>
          <a:blip r:embed="rId1"/>
          <a:stretch/>
        </p:blipFill>
        <p:spPr>
          <a:xfrm>
            <a:off x="900000" y="1197000"/>
            <a:ext cx="73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6:42Z</dcterms:created>
  <dc:creator>BEST</dc:creator>
  <dc:description/>
  <dc:language>en-US</dc:language>
  <cp:lastModifiedBy>Admin</cp:lastModifiedBy>
  <dcterms:modified xsi:type="dcterms:W3CDTF">2016-12-04T14:30:42Z</dcterms:modified>
  <cp:revision>40</cp:revision>
  <dc:subject/>
  <dc:title>Конспекты индивидуальных занятий Звук С Подготовительный этап</dc:title>
</cp:coreProperties>
</file>