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A531-C119-4FF0-8394-36003A5B5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3652-E5C3-4C35-A71E-F7F4C27B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25D7-ABBD-43C6-B12B-A7E61F04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9538-8DC9-4565-A159-6B1C3DEEE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ADEE-87B6-4206-85D3-01B8762C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F8EA-9F63-41C9-89FE-E358494A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B03A-38D8-473B-901F-3C9B34EE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ED57-1875-464D-AD75-4A2A760D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8363-0884-424B-9CAE-11919C65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EE4D-906C-46AD-AC09-1745EDD1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B1B3-47D5-4F2C-9A5D-023AC952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214B-1FBB-439B-B2FB-2874DA14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3D0D-53CF-4E9E-9180-138359386A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:\Конспект индивидуального занятия Звук [С] Подготовительный этап.jpg"/>
          <p:cNvPicPr/>
          <p:nvPr/>
        </p:nvPicPr>
        <p:blipFill>
          <a:blip r:embed="rId1"/>
          <a:stretch/>
        </p:blipFill>
        <p:spPr>
          <a:xfrm>
            <a:off x="-1440" y="1440"/>
            <a:ext cx="914544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1258920" y="981000"/>
            <a:ext cx="662616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спект индивидуального заняти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вук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]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дготовительный эта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9"/>
          <p:cNvSpPr/>
          <p:nvPr/>
        </p:nvSpPr>
        <p:spPr>
          <a:xfrm>
            <a:off x="0" y="0"/>
            <a:ext cx="914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вай посмотрим, что у них сегодня на обед. Суп из гороха, какой он?.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Гороховый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H:\Конспект индивидуального занятия Звук [С] Подготовительный этап\Слайд11.JPG"/>
          <p:cNvPicPr/>
          <p:nvPr/>
        </p:nvPicPr>
        <p:blipFill>
          <a:blip r:embed="rId1"/>
          <a:stretch/>
        </p:blipFill>
        <p:spPr>
          <a:xfrm>
            <a:off x="1330200" y="1268280"/>
            <a:ext cx="678672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0" y="0"/>
            <a:ext cx="3276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юре из картофеля, какое?.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Картофельное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H:\Конспект индивидуального занятия Звук [С] Подготовительный этап\Слайд12.JPG"/>
          <p:cNvPicPr/>
          <p:nvPr/>
        </p:nvPicPr>
        <p:blipFill>
          <a:blip r:embed="rId1"/>
          <a:stretch/>
        </p:blipFill>
        <p:spPr>
          <a:xfrm>
            <a:off x="971640" y="930240"/>
            <a:ext cx="741672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0" y="0"/>
            <a:ext cx="3851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лат из моркови, какой?.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Морковный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H:\Конспект индивидуального занятия Звук [С] Подготовительный этап\Слайд13.JPG"/>
          <p:cNvPicPr/>
          <p:nvPr/>
        </p:nvPicPr>
        <p:blipFill>
          <a:blip r:embed="rId1"/>
          <a:stretch/>
        </p:blipFill>
        <p:spPr>
          <a:xfrm>
            <a:off x="874800" y="1054080"/>
            <a:ext cx="755964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0" y="0"/>
            <a:ext cx="3203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от из груш, какой?.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Грушевый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H:\Конспект индивидуального занятия Звук [С] Подготовительный этап\Слайд14.JPG"/>
          <p:cNvPicPr/>
          <p:nvPr/>
        </p:nvPicPr>
        <p:blipFill>
          <a:blip r:embed="rId1"/>
          <a:stretch/>
        </p:blipFill>
        <p:spPr>
          <a:xfrm>
            <a:off x="861840" y="981000"/>
            <a:ext cx="7310520" cy="52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0" y="0"/>
            <a:ext cx="7740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роги из яблок, какие?.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Яблочные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H:\Конспект индивидуального занятия Звук [С] Подготовительный этап\Слайд15.JPG"/>
          <p:cNvPicPr/>
          <p:nvPr/>
        </p:nvPicPr>
        <p:blipFill>
          <a:blip r:embed="rId1"/>
          <a:stretch/>
        </p:blipFill>
        <p:spPr>
          <a:xfrm>
            <a:off x="932040" y="981000"/>
            <a:ext cx="7272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468360" y="0"/>
            <a:ext cx="83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ели Лягушка и Мышка-норушка, и захотели поспать (Упражнение «Язычок спит на кроватке». Опускание спинки языка. Кончик языка прижать к нижним резцам, спинку опустить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:\Конспект индивидуального занятия Звук [С] Подготовительный этап\Слайд16.JPG"/>
          <p:cNvPicPr/>
          <p:nvPr/>
        </p:nvPicPr>
        <p:blipFill>
          <a:blip r:embed="rId1"/>
          <a:stretch/>
        </p:blipFill>
        <p:spPr>
          <a:xfrm>
            <a:off x="755640" y="1628640"/>
            <a:ext cx="75056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324000" y="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нули. Снится мышке – норушке как маленький мышонок плачет, а мама мышка поет ему колыбельную. А-А-А-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H:\Конспект индивидуального занятия Звук [С] Подготовительный этап\Слайд17.JPG"/>
          <p:cNvPicPr/>
          <p:nvPr/>
        </p:nvPicPr>
        <p:blipFill>
          <a:blip r:embed="rId1"/>
          <a:stretch/>
        </p:blipFill>
        <p:spPr>
          <a:xfrm>
            <a:off x="1042920" y="836640"/>
            <a:ext cx="71042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2050920" y="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лягушке –квакушке снится как у маленького лягушонка зубки болят и он стонет О-О-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H:\Конспект индивидуального занятия Звук [С] Подготовительный этап\Слайд18.JPG"/>
          <p:cNvPicPr/>
          <p:nvPr/>
        </p:nvPicPr>
        <p:blipFill>
          <a:blip r:embed="rId1"/>
          <a:stretch/>
        </p:blipFill>
        <p:spPr>
          <a:xfrm>
            <a:off x="684360" y="836640"/>
            <a:ext cx="777528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468360" y="404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вот и едет на паровозике стоматолог, лягушонку зубки лечить У-У-У-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:\Конспект индивидуального занятия Звук [С] Подготовительный этап\Слайд19.JPG"/>
          <p:cNvPicPr/>
          <p:nvPr/>
        </p:nvPicPr>
        <p:blipFill>
          <a:blip r:embed="rId1"/>
          <a:stretch/>
        </p:blipFill>
        <p:spPr>
          <a:xfrm>
            <a:off x="611280" y="1700280"/>
            <a:ext cx="79642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0" y="0"/>
            <a:ext cx="9144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акал мимо заяц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сенки пел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То песенку такую споет ФФФФФ(длительный выдо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), то такую Т-Т-Т. (короткий выдох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друг налетел опять ветер сильный (дуем через трубочку). Во время зайчик увидел теремок. Остановился и говорит: «Пустите меня в теремок»(ребенок говорит как зайчик). А у него с собой полная корзинка фру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H:\Конспект индивидуального занятия Звук [С] Подготовительный этап\Слайд20.JPG"/>
          <p:cNvPicPr/>
          <p:nvPr/>
        </p:nvPicPr>
        <p:blipFill>
          <a:blip r:embed="rId1"/>
          <a:stretch/>
        </p:blipFill>
        <p:spPr>
          <a:xfrm>
            <a:off x="1116000" y="1484280"/>
            <a:ext cx="705636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H:\Конспект индивидуального занятия Звук [С] Подготовительный этап.jpg"/>
          <p:cNvPicPr/>
          <p:nvPr/>
        </p:nvPicPr>
        <p:blipFill>
          <a:blip r:embed="rId1"/>
          <a:stretch/>
        </p:blipFill>
        <p:spPr>
          <a:xfrm>
            <a:off x="-1440" y="1440"/>
            <a:ext cx="914544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684360" y="1197000"/>
            <a:ext cx="8064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ка артикуляционного аппарата для постановки звук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Продолжать учить выполнять артикуляционные упражнения для звука [с] в полном объе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Формировать длительную направленную воздушную стр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Упражнять в различении слов, близких по звуч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Формировать умение определять наличие звука [с] в ряду зву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Закрепить названия овощей, фруктов и соответствующ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бщающие пон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Формировать умения образовывать относительные прилагатель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Развивать мимическую выразительность, память, внимани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остное восприятие, мелкую мотори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РУ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инки из сказки «Теремок; картинки для упражнения «Обед»: кастрюля (суп) — горох; салатник (салат) — морковь; тарелка (пюре) — карто­фель; чашка (компот) — груша; пироги — яблоко; предметные картинки (кость, кастрюля, сосиска); разрезная картинка с изображением ово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900000" y="17640"/>
            <a:ext cx="691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льчиковая игра «Фрукт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 у зай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мочки Фрукты в корзиночк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блоки и груш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ощайтесь, кушайте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ики и слив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лые, красивы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мотри-ка на ранет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уснее этих фруктов не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H:\Конспект индивидуального занятия Звук [С] Подготовительный этап\Слайд21.JPG"/>
          <p:cNvPicPr/>
          <p:nvPr/>
        </p:nvPicPr>
        <p:blipFill>
          <a:blip r:embed="rId1"/>
          <a:stretch/>
        </p:blipFill>
        <p:spPr>
          <a:xfrm>
            <a:off x="3147840" y="2603520"/>
            <a:ext cx="587376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0" y="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зинка тяжелая, нелегко зайцу было ее нест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ребенок дует на кончик широкого язык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H:\Конспект индивидуального занятия Звук [С] Подготовительный этап\Слайд22.JPG"/>
          <p:cNvPicPr/>
          <p:nvPr/>
        </p:nvPicPr>
        <p:blipFill>
          <a:blip r:embed="rId1"/>
          <a:stretch/>
        </p:blipFill>
        <p:spPr>
          <a:xfrm>
            <a:off x="539640" y="757080"/>
            <a:ext cx="8155080" cy="576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468360" y="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 зайчик проситься в теремок, пустили зайца в теремок и стали жить все вме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H:\Конспект индивидуального занятия Звук [С] Подготовительный этап\Слайд23.JPG"/>
          <p:cNvPicPr/>
          <p:nvPr/>
        </p:nvPicPr>
        <p:blipFill>
          <a:blip r:embed="rId1"/>
          <a:stretch/>
        </p:blipFill>
        <p:spPr>
          <a:xfrm>
            <a:off x="1692360" y="836640"/>
            <a:ext cx="561636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395280" y="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л Зайчик с дороги и пошел спать. «Спи, глазок, спи, другой. Спит правый глаз — просыпается. Спит левый глаз — просыпается». Поочередное открывание и закрывание гл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H:\Конспект индивидуального занятия Звук [С] Подготовительный этап\Слайд24.JPG"/>
          <p:cNvPicPr/>
          <p:nvPr/>
        </p:nvPicPr>
        <p:blipFill>
          <a:blip r:embed="rId1"/>
          <a:stretch/>
        </p:blipFill>
        <p:spPr>
          <a:xfrm>
            <a:off x="2340000" y="981000"/>
            <a:ext cx="439272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в это время бежит мимо лисичка-сестричка. Бежит, хвостиком следы заметает (упражнение почистим зубк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H:\Конспект индивидуального занятия Звук [С] Подготовительный этап\Слайд25.JPG"/>
          <p:cNvPicPr/>
          <p:nvPr/>
        </p:nvPicPr>
        <p:blipFill>
          <a:blip r:embed="rId1"/>
          <a:stretch/>
        </p:blipFill>
        <p:spPr>
          <a:xfrm>
            <a:off x="1116000" y="1165320"/>
            <a:ext cx="705636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H:\Конспект индивидуального занятия Звук [С] Подготовительный этап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3456000" y="189000"/>
            <a:ext cx="56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чтает она о вкусном обеде. Покажи, о чем мечтает лисичка, тогда когда услышишь правильное 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фть — тость — кошть — к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упчик — тупчик — суптик — супч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ошишка — соситка — фосифка — соси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идела лисичка теремок, постучалас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ребенок проговаривает нужную фразу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опросилась в теремочке жить. Пустили ее в терем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H:\Конспект индивидуального занятия Звук [С] Подготовительный этап\Слайд27.JPG"/>
          <p:cNvPicPr/>
          <p:nvPr/>
        </p:nvPicPr>
        <p:blipFill>
          <a:blip r:embed="rId1"/>
          <a:stretch/>
        </p:blipFill>
        <p:spPr>
          <a:xfrm>
            <a:off x="826920" y="1125360"/>
            <a:ext cx="749016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а лисичка в теремочке жить не тужить. Вот пришла ночь. Надо свечку зажечь. Светло в теремке стало, а за окном буря поднялась, воет ( Упр.«Воет буря». Поднести к нижней губе пузырек с узким горлышком и подуть. Если при этом появляется шум, значит, воздушная струя направлена правильно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H:\Конспект индивидуального занятия Звук [С] Подготовительный этап\Слайд28.JPG"/>
          <p:cNvPicPr/>
          <p:nvPr/>
        </p:nvPicPr>
        <p:blipFill>
          <a:blip r:embed="rId1"/>
          <a:stretch/>
        </p:blipFill>
        <p:spPr>
          <a:xfrm>
            <a:off x="611280" y="1628640"/>
            <a:ext cx="79614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5"/>
          <p:cNvSpPr/>
          <p:nvPr/>
        </p:nvSpPr>
        <p:spPr>
          <a:xfrm>
            <a:off x="0" y="0"/>
            <a:ext cx="9144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 утро бежит мимо волчок — серый бочок, несет с собой какой-то мешок. Не удержал, уронил мешок, все из него рассып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оги волчку все собрат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ребенок собирает разрезную картинку «Овощи»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же уронил волчок? Как это назвать одним словом?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Называет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H:\Конспект индивидуального занятия Звук [С] Подготовительный этап\Слайд29.JPG"/>
          <p:cNvPicPr/>
          <p:nvPr/>
        </p:nvPicPr>
        <p:blipFill>
          <a:blip r:embed="rId1"/>
          <a:stretch/>
        </p:blipFill>
        <p:spPr>
          <a:xfrm>
            <a:off x="755640" y="1341360"/>
            <a:ext cx="770400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учался волчок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ебенок проговаривает нужную фразу)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или его в терем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H:\Конспект индивидуального занятия Звук [С] Подготовительный этап\Слайд30.JPG"/>
          <p:cNvPicPr/>
          <p:nvPr/>
        </p:nvPicPr>
        <p:blipFill>
          <a:blip r:embed="rId1"/>
          <a:stretch/>
        </p:blipFill>
        <p:spPr>
          <a:xfrm>
            <a:off x="539640" y="1341360"/>
            <a:ext cx="80154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0" y="0"/>
            <a:ext cx="914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равствуй, садись поудобней перед ноутбуком, сегодня мы будем рассказывать сказк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узнал эту сказку? Как она называется? А каких персонажей сказки ты видишь? Начни со слов я виж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вай улыбнемся нашим персонажем и я начну рассказывать сказку, а ты мне будешь помог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H:\Конспект индивидуального занятия Звук [С] Подготовительный этап\Слайд4.JPG"/>
          <p:cNvPicPr/>
          <p:nvPr/>
        </p:nvPicPr>
        <p:blipFill>
          <a:blip r:embed="rId1"/>
          <a:stretch/>
        </p:blipFill>
        <p:spPr>
          <a:xfrm>
            <a:off x="1008000" y="2133720"/>
            <a:ext cx="712800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179280" y="0"/>
            <a:ext cx="896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хотелось волчку покататься с горке на велосипеде и помчался он( Упр «Велосипед спустился с горки». Улыбнуться, опустить кончик языка за нижние зубы, спинку поднять «горочкой». Сделать выдо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ботка продолжительного сильного выдоха при длительном произнесении звукосочетаний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ффффф, ыфффф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H:\Конспект индивидуального занятия Звук [С] Подготовительный этап\Слайд31.JPG"/>
          <p:cNvPicPr/>
          <p:nvPr/>
        </p:nvPicPr>
        <p:blipFill>
          <a:blip r:embed="rId1"/>
          <a:stretch/>
        </p:blipFill>
        <p:spPr>
          <a:xfrm>
            <a:off x="684360" y="1557360"/>
            <a:ext cx="79200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0" y="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равится волку кататься на велосипеде(Упр. Губы в улыбке (счет до 1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елосипед едет по кочкам». Поочередное поднимание вверх углов рта (с помощью и без помощи рук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H:\Конспект индивидуального занятия Звук [С] Подготовительный этап\Слайд32.JPG"/>
          <p:cNvPicPr/>
          <p:nvPr/>
        </p:nvPicPr>
        <p:blipFill>
          <a:blip r:embed="rId1"/>
          <a:stretch/>
        </p:blipFill>
        <p:spPr>
          <a:xfrm>
            <a:off x="468360" y="1341360"/>
            <a:ext cx="81658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6"/>
          <p:cNvSpPr/>
          <p:nvPr/>
        </p:nvSpPr>
        <p:spPr>
          <a:xfrm>
            <a:off x="0" y="0"/>
            <a:ext cx="9144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тут пришел большой..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дведь. Остановился около теремк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упражнение «Лопата»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громко постучался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Проговаривает нужную фразу громким, сердитым голосом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H:\Конспект индивидуального занятия Звук [С] Подготовительный этап\Слайд33.JPG"/>
          <p:cNvPicPr/>
          <p:nvPr/>
        </p:nvPicPr>
        <p:blipFill>
          <a:blip r:embed="rId1"/>
          <a:stretch/>
        </p:blipFill>
        <p:spPr>
          <a:xfrm>
            <a:off x="1476360" y="1125360"/>
            <a:ext cx="604836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рятались все звери в теремке, боятся медведя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удерживает кончик языка за нижними зубами)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пустили медведя в теремок. Тогда он полез на теремок. Заскрипел теремок: с-с-с. Как только услышишь, что теремок скрипит, крикни громко зверям: «Убегайте!» Слушай внимательно: ф, с, ш, т, з, с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H:\Конспект индивидуального занятия Звук [С] Подготовительный этап\Слайд34.JPG"/>
          <p:cNvPicPr/>
          <p:nvPr/>
        </p:nvPicPr>
        <p:blipFill>
          <a:blip r:embed="rId1"/>
          <a:stretch/>
        </p:blipFill>
        <p:spPr>
          <a:xfrm>
            <a:off x="1042920" y="1268280"/>
            <a:ext cx="713592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мал медведь терем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дует на кончик широкого языка)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ты помог зверям, предупредил их. Никто не пострадал! Вот и сказке конец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кто слушал — молодец! А кто рассказывать ее помогал, тот — умница! Понравилась тебе сказка? Что тебе запомнилось или понравилось делать на заняти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H:\Конспект индивидуального занятия Звук [С] Подготовительный этап\Слайд35.JPG"/>
          <p:cNvPicPr/>
          <p:nvPr/>
        </p:nvPicPr>
        <p:blipFill>
          <a:blip r:embed="rId1"/>
          <a:stretch/>
        </p:blipFill>
        <p:spPr>
          <a:xfrm>
            <a:off x="1116000" y="1341360"/>
            <a:ext cx="6912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468360" y="189000"/>
            <a:ext cx="849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чник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Е.А. Борисова: «Индивидуальные логопедические занятия с дошкольниками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Е. А. Пожиленко: «Методические рекомендации по постановке у детей звук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],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,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,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H:\Конспект индивидуального занятия Звук [С] Подготовительный этап.jpg"/>
          <p:cNvPicPr/>
          <p:nvPr/>
        </p:nvPicPr>
        <p:blipFill>
          <a:blip r:embed="rId1"/>
          <a:stretch/>
        </p:blipFill>
        <p:spPr>
          <a:xfrm>
            <a:off x="1440" y="-255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79280" y="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ит в поле теремок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ит он за забором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упражнение «Забор» 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0" y="0"/>
            <a:ext cx="766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0"/>
            <a:ext cx="55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жит мимо мышка-норушка. Постучалась, а ей никто не отвечает. Тогда мышка попробовала дверь открыт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упражнение «Ворота»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H:\Конспект индивидуального занятия Звук [С] Подготовительный этап\Слайд6.JPG"/>
          <p:cNvPicPr/>
          <p:nvPr/>
        </p:nvPicPr>
        <p:blipFill>
          <a:blip r:embed="rId1"/>
          <a:stretch/>
        </p:blipFill>
        <p:spPr>
          <a:xfrm>
            <a:off x="971640" y="1197000"/>
            <a:ext cx="727236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0" y="0"/>
            <a:ext cx="914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ерь открылась. Мышка сначала испугалась, давай покажем как она испугалась, потом удивилась, покажи, а потом обрадовалась, как мышка обрадовалась?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H:\Конспект индивидуального занятия Звук [С] Подготовительный этап\Слайд7.JPG"/>
          <p:cNvPicPr/>
          <p:nvPr/>
        </p:nvPicPr>
        <p:blipFill>
          <a:blip r:embed="rId1"/>
          <a:stretch/>
        </p:blipFill>
        <p:spPr>
          <a:xfrm>
            <a:off x="324000" y="836640"/>
            <a:ext cx="84960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7"/>
          <p:cNvSpPr/>
          <p:nvPr/>
        </p:nvSpPr>
        <p:spPr>
          <a:xfrm>
            <a:off x="0" y="0"/>
            <a:ext cx="9144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шла в теремок и стала там жить.Навела в теремке поряд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упражнения «Покусаем язычок, «Пошлепаем по язычку» 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ела отдохнут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упражнение «Лопата»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H:\Конспект индивидуального занятия Звук [С] Подготовительный этап\Слайд8.JPG"/>
          <p:cNvPicPr/>
          <p:nvPr/>
        </p:nvPicPr>
        <p:blipFill>
          <a:blip r:embed="rId1"/>
          <a:stretch/>
        </p:blipFill>
        <p:spPr>
          <a:xfrm>
            <a:off x="863640" y="1197000"/>
            <a:ext cx="741672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0" y="0"/>
            <a:ext cx="9144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ыгала мимо лягушка-квакушка. Увидела теремок, остановилась на крылечк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упражнение «Лопата»). Лягушка – квакушка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ашивает: «Кто в теремочке живет?»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Ребенок помогает произносить фраз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H:\Конспект индивидуального занятия Звук [С] Подготовительный этап\Слайд9.JPG"/>
          <p:cNvPicPr/>
          <p:nvPr/>
        </p:nvPicPr>
        <p:blipFill>
          <a:blip r:embed="rId1"/>
          <a:stretch/>
        </p:blipFill>
        <p:spPr>
          <a:xfrm>
            <a:off x="765000" y="1484280"/>
            <a:ext cx="761400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шка впустила лягушку, стали они вмест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ть. Растопили печк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ребенок дует на кончик широкого языка)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и обед готов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H:\Конспект индивидуального занятия Звук [С] Подготовительный этап\Слайд10.JPG"/>
          <p:cNvPicPr/>
          <p:nvPr/>
        </p:nvPicPr>
        <p:blipFill>
          <a:blip r:embed="rId1"/>
          <a:stretch/>
        </p:blipFill>
        <p:spPr>
          <a:xfrm>
            <a:off x="900000" y="1197000"/>
            <a:ext cx="734400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1:06:42Z</dcterms:created>
  <dc:creator>BEST</dc:creator>
  <dc:description/>
  <dc:language>en-US</dc:language>
  <cp:lastModifiedBy>Admin</cp:lastModifiedBy>
  <dcterms:modified xsi:type="dcterms:W3CDTF">2016-12-04T14:30:42Z</dcterms:modified>
  <cp:revision>40</cp:revision>
  <dc:subject/>
  <dc:title>Конспекты индивидуальных занятий Звук С Подготовительный этап</dc:title>
</cp:coreProperties>
</file>