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CB66-3B4A-43B0-866F-B869183A8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C68B-95B5-4D0E-91CD-3B18C7BE5B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09E-C506-40F7-A18C-992BF623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65A-FA30-42BD-91C0-D0276E75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ACF-38BC-430D-A6BC-55D7C8FE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05C-CBEB-4A2B-9D7A-375661AB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009-0483-4503-81C4-E6A2052B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F8A-0FB7-4E4A-BEC7-6981AE8D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0D4-A51A-4BAD-AADD-53B3FB4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398-1DED-4D39-A529-2C5380D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8BB-EE99-42E8-9683-639DE891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1F2-51BC-4661-90F1-845D498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FBC-6BD6-4003-9764-51F2A99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FE-354B-4712-8CCF-96EBA71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48A-FF2F-42C7-B3B0-A7D5E2A9B7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46c0a"/>
                </a:solidFill>
                <a:latin typeface="Calibri"/>
              </a:rPr>
              <a:t>Трагедия Холокост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images.myshared.ru/5/491753/slide_19.jpg"/>
          <p:cNvPicPr/>
          <p:nvPr/>
        </p:nvPicPr>
        <p:blipFill>
          <a:blip r:embed="rId1"/>
          <a:stretch/>
        </p:blipFill>
        <p:spPr>
          <a:xfrm>
            <a:off x="0" y="-50004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зентация к уроку музык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ма: «Дети – жертвы Холокоста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олнил: Учитель музыки Е.А.Яруши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опросы для обсужд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Дайте определение понятию «геноцид»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опросы для обсужд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первые явления геноцида как угнетение, непринятие другого народа проявился в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IX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веке.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:\Музыка и Холокост\Танго_Смерти_Яновский лагерь.jpg"/>
          <p:cNvPicPr/>
          <p:nvPr/>
        </p:nvPicPr>
        <p:blipFill>
          <a:blip r:embed="rId2"/>
          <a:stretch/>
        </p:blipFill>
        <p:spPr>
          <a:xfrm>
            <a:off x="357120" y="21420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&amp;KHcy;&amp;ocy;&amp;lcy;&amp;ocy;&amp;kcy;&amp;ocy;&amp;scy;&amp;tcy;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&amp;KHcy;&amp;ocy;&amp;lcy;&amp;ocy;&amp;kcy;&amp;ocy;&amp;scy;&amp;tcy;"/>
          <p:cNvPicPr/>
          <p:nvPr/>
        </p:nvPicPr>
        <p:blipFill>
          <a:blip r:embed="rId2"/>
          <a:stretch/>
        </p:blipFill>
        <p:spPr>
          <a:xfrm>
            <a:off x="214200" y="428760"/>
            <a:ext cx="85726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&amp;KHcy;&amp;ocy;&amp;lcy;&amp;ocy;&amp;kcy;&amp;ocy;&amp;scy;&amp;tcy;"/>
          <p:cNvPicPr/>
          <p:nvPr/>
        </p:nvPicPr>
        <p:blipFill>
          <a:blip r:embed="rId1"/>
          <a:stretch/>
        </p:blipFill>
        <p:spPr>
          <a:xfrm>
            <a:off x="428760" y="500040"/>
            <a:ext cx="82515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&amp;KHcy;&amp;ocy;&amp;lcy;&amp;ocy;&amp;kcy;&amp;ocy;&amp;scy;&amp;tcy;"/>
          <p:cNvPicPr/>
          <p:nvPr/>
        </p:nvPicPr>
        <p:blipFill>
          <a:blip r:embed="rId1"/>
          <a:stretch/>
        </p:blipFill>
        <p:spPr>
          <a:xfrm>
            <a:off x="642960" y="285840"/>
            <a:ext cx="8143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&amp;KHcy;&amp;ocy;&amp;lcy;&amp;ocy;&amp;kcy;&amp;ocy;&amp;scy;&amp;tcy;"/>
          <p:cNvPicPr/>
          <p:nvPr/>
        </p:nvPicPr>
        <p:blipFill>
          <a:blip r:embed="rId2"/>
          <a:stretch/>
        </p:blipFill>
        <p:spPr>
          <a:xfrm>
            <a:off x="285840" y="428760"/>
            <a:ext cx="86677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9640" y="112536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олее 2 млн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вреев, проживавших на территории СССР погибли от рук нацистов и их пособник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ллея в честь праведников Народов мира в Иерусалим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572000" y="1500120"/>
            <a:ext cx="3597120" cy="5138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179280" y="5516640"/>
            <a:ext cx="4572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ЧЕСТЬ КАЖДОГО ПРАВЕДНИКА НА ЭТОЙ АЛЛЕЕ ПОСАЖЕНЫ ДЕРЕВЬЯ И РАСТ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250920" y="436572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раиль присваивает имя Праведник мира каждому человеку на земном шаре, спасшему жизнь хотя бы одного евре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2096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амятник. Трагедия народов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З. Церетели. Поклонная гор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D:\Ohana\Мои документы\Интегрированный урок Трагедия Холокоста. Конечная версия\Памятник. Трагедия народов. ск.ю З. Церетели. Поклонная гора.jpg"/>
          <p:cNvPicPr/>
          <p:nvPr/>
        </p:nvPicPr>
        <p:blipFill>
          <a:blip r:embed="rId1"/>
          <a:stretch/>
        </p:blipFill>
        <p:spPr>
          <a:xfrm>
            <a:off x="857160" y="1714680"/>
            <a:ext cx="6784920" cy="4525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Ohana\Мои документы\Интегрированный урок Трагедия Холокоста. Конечная версия\1271504596_xolokost.jpg"/>
          <p:cNvPicPr/>
          <p:nvPr/>
        </p:nvPicPr>
        <p:blipFill>
          <a:blip r:embed="rId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2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forumkiev.com/attachments/14824d1274850960-belsen-lib1.jpg"/>
          <p:cNvPicPr/>
          <p:nvPr/>
        </p:nvPicPr>
        <p:blipFill>
          <a:blip r:embed="rId2"/>
          <a:stretch/>
        </p:blipFill>
        <p:spPr>
          <a:xfrm>
            <a:off x="714240" y="428760"/>
            <a:ext cx="7715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ca.su/img/picture/Sep/23/a18305574e3af5c3d394e692aea74ad0/5.jpg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stmegi.com/upload/iblock/f25/f25b6f8f2904e8c864ef8c2b0094a181.jpg"/>
          <p:cNvPicPr/>
          <p:nvPr/>
        </p:nvPicPr>
        <p:blipFill>
          <a:blip r:embed="rId2"/>
          <a:stretch/>
        </p:blipFill>
        <p:spPr>
          <a:xfrm>
            <a:off x="500040" y="35712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furtherglory.files.wordpress.com/2013/08/crematorium03.jpg"/>
          <p:cNvPicPr/>
          <p:nvPr/>
        </p:nvPicPr>
        <p:blipFill>
          <a:blip r:embed="rId2"/>
          <a:stretch/>
        </p:blipFill>
        <p:spPr>
          <a:xfrm>
            <a:off x="428760" y="214200"/>
            <a:ext cx="8358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rulibs.com/ru_zar/ref_encyc/nepomnyaschiy/3/i_041.jpg"/>
          <p:cNvPicPr/>
          <p:nvPr/>
        </p:nvPicPr>
        <p:blipFill>
          <a:blip r:embed="rId2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Что такое «Холокост»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ОЛОКОСТ -  (англ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Holocaust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от греч.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okaustos 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сесожжение, жертвоприношение с помощью огня), наиболее распространенный термин, обозначающий преследования и уничтожение евреев нацистами и их пособниками после прихода к власти в Германии Гитлера и до окончания Второй мировой войны в Европе (в 1933 – 1945 годах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4T07:43:46Z</dcterms:modified>
  <cp:revision>59</cp:revision>
  <dc:subject/>
  <dc:title>Слайд 1</dc:title>
</cp:coreProperties>
</file>