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054-AC8D-4CB0-AE4E-1FECEE9E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72A-35F1-4FC3-B7FB-EFB2035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97C-F34E-48AD-A5F0-FA9CE641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12A-B78C-49DA-8C13-B004617E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9F0B-D9C6-413F-98E0-2037FE57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C557-E01F-4550-8B56-01FF679F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FE5D-D278-45B9-9C98-A0EDE9FA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E73-5832-42A8-AF20-571A516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0F8-A056-43FB-8FA2-C74FB66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BAF0-A5CB-46EA-BB47-7791C38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4A26-207A-402C-B381-3322213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2DE-2169-4CE0-A9D6-95FAED3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3BE5-B01E-4F12-80DF-8B8E498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401A-1EBB-45E3-8E55-B883161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86C2-D945-4017-8C96-971841EF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477-49E5-4766-8CED-113AF6FA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8478-F25E-4E0D-B7BA-35E689CA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21C-FB8A-452E-BDDA-E85B50D1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262-37E4-4CFC-BC4B-6F2866D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1BE-C9E2-4CEE-AD96-334569E8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4BD-E003-4558-A659-93C6B9C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4A0-4297-4E98-9E41-6518572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342-BA5B-4508-B4E0-14B75AE3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F68-B7B7-44BB-8C09-40D1D63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B31F-22B5-4683-9130-94E2FF798B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EE27-4EB5-4D06-B0EC-C8D085F03C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2781360"/>
            <a:ext cx="6400800" cy="1985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Личный план по самообразованию в условиях внедрения ФГОС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678440" cy="258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Программа по самообразованию учителя химии Пименовой Е.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ема самообразовани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7415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Тема: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Развитие творческого потенциала субъектов образовательного процесса в условиях введения ФГОС второго поколения по хими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прерывное совершенствование уровня педагогического мастерства учителя, его эрудиции и компетенции в условиях введения ФГОС второго поколения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Сроки реализации программы: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14г. – 2018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052640"/>
            <a:ext cx="8208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своего теоретического, научно - методического уровн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высокого методического уровня проведения всех видов занятий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в учебный процесс систем   информационного обеспечения занятий автоматизированных систем обучения, современных образовательных технолог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омпетентностей у учащихся при использовании, системно-деятельностного подхода в образовании и принципов педагогики успех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 и распространение  собственного педагогического опыт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едполагаемый результат деятельност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000" y="1916280"/>
            <a:ext cx="791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  социально - адаптированной  личност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лючевых компетенций у учащихся, навыка применения полученных знаний для решения  жизненных задач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теоретического уровня знани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от профессиональной позиции педагог - предметник к позиции педагог - профессионал, педагог - эксперт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спространение собственного педагогического опыт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рганизационно- диагностический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052640"/>
          <a:ext cx="7274160" cy="4449600"/>
        </p:xfrm>
        <a:graphic>
          <a:graphicData uri="http://schemas.openxmlformats.org/drawingml/2006/table">
            <a:tbl>
              <a:tblPr/>
              <a:tblGrid>
                <a:gridCol w="451080"/>
                <a:gridCol w="4298760"/>
                <a:gridCol w="1484280"/>
                <a:gridCol w="10400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метка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оретическое изучение темы.   Изучение новинок  методической литературы и нормативной документации по ФГОС. Журналы и газеты: «Химия», «Воспитание школьников», «Первое сентября», «Классный руководител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ие квалификации по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нормативных документов по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верждение аттестации на высшую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инновационных методов работы ведущих учителей района, области, стра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ие своего уровня педагогического мастер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ка знаний и умений учащихся, изучение противоречий и проб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687096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Теоретический эта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55640" y="1413000"/>
          <a:ext cx="7201080" cy="3589200"/>
        </p:xfrm>
        <a:graphic>
          <a:graphicData uri="http://schemas.openxmlformats.org/drawingml/2006/table">
            <a:tbl>
              <a:tblPr/>
              <a:tblGrid>
                <a:gridCol w="415800"/>
                <a:gridCol w="3060720"/>
                <a:gridCol w="1924200"/>
                <a:gridCol w="18003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метка 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психологических особенностей развития детей подростков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комство, изучение, анализ методической литературы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работ учителей -нова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 -2015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3. Практическая деятельность. 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1 Использование современных образовательных технологий и ИКТ в области обучения и воспита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268280"/>
          <a:ext cx="7775640" cy="4265640"/>
        </p:xfrm>
        <a:graphic>
          <a:graphicData uri="http://schemas.openxmlformats.org/drawingml/2006/table">
            <a:tbl>
              <a:tblPr/>
              <a:tblGrid>
                <a:gridCol w="447480"/>
                <a:gridCol w="4202280"/>
                <a:gridCol w="1677960"/>
                <a:gridCol w="1447920"/>
              </a:tblGrid>
              <a:tr h="397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метка 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ение технологических карт по основным темам химии и разработка системы оценивания УУ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ение программы дополнительного образования согласно требованиям ФГОС второго поко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дополнительного образования по хим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ение собственных презентаций и использование их в процессе воспитательной работе с  коллективом класса.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ление собственных разработок в электронном виде  и использование их на уроках химии и во внеклассной рабо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дрение инновационных образовательных технологий в процессе обучения и воспит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мере изуч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ование готовых демонстрационно-энциклопедических программ из серий «Виртуальная школа Кирилла и Мефодия», «Энциклопедия Кирилла и Мефодия», коллекции цифровых видеофильмов по хим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мере надоб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2 Работа с учащимися на уроках и во внеурочное врем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11280" y="1123920"/>
          <a:ext cx="7705800" cy="4203720"/>
        </p:xfrm>
        <a:graphic>
          <a:graphicData uri="http://schemas.openxmlformats.org/drawingml/2006/table">
            <a:tbl>
              <a:tblPr/>
              <a:tblGrid>
                <a:gridCol w="431640"/>
                <a:gridCol w="4753080"/>
                <a:gridCol w="2521080"/>
              </a:tblGrid>
              <a:tr h="54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 мероприят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ершенствовать систему подготовки к экзаменам в форме ЕЭГ  и ГИА во всех класс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лнять дидактический материал (КИМы для ЕЭГ и ГИА) на основании ежегодных изменени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биться активного  и  результативного участия учащихся в олимпиадах  и НОУ, конкурсах по предмет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влечение учащихся в различные конкурсы и турниры «Всероссийский химический турнир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 год «Всероссийский химический турнир» очное и заочное участ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дрение программы дополнительного образования согласно требованиям ФГОС второго поколен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влекать учащихся  в поиск дополнительной информации из различных носителей (СМИ, учебного текста, дополнительной литературы и др.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709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Итоговый этап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1 Обобщение и распространение собственного педагогического опы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1125360"/>
          <a:ext cx="7704000" cy="4532400"/>
        </p:xfrm>
        <a:graphic>
          <a:graphicData uri="http://schemas.openxmlformats.org/drawingml/2006/table">
            <a:tbl>
              <a:tblPr/>
              <a:tblGrid>
                <a:gridCol w="444600"/>
                <a:gridCol w="3227400"/>
                <a:gridCol w="1871640"/>
                <a:gridCol w="216036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метка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тупление перед коллегами на заседаниях  ШМО, РМО, педсоветах, на Всероссийских конференциях по проблемам химического обра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здание авторских презентаций по теме сам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плану работы ШМО, РМО, Всероссийских конференций по проблемам химическ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г, 2016год Всероссийская конференция учителей химии по проблемам химическ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бликации статей в С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че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 г и 2014г, 2016год сборник Всероссийской конференции учителей. Кадровый резерв российской хи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страция на сайте творческих учител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е в работе сайта творческих учителей (обсуждение работ, представление своих работ на конкур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у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2 Участие в конкурсах педагогического мастер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26920" y="1052640"/>
          <a:ext cx="7345440" cy="4392360"/>
        </p:xfrm>
        <a:graphic>
          <a:graphicData uri="http://schemas.openxmlformats.org/drawingml/2006/table">
            <a:tbl>
              <a:tblPr/>
              <a:tblGrid>
                <a:gridCol w="432000"/>
                <a:gridCol w="2116080"/>
                <a:gridCol w="1575000"/>
                <a:gridCol w="3222360"/>
              </a:tblGrid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 мероприят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метка 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4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е во Всероссийских профессиональных и педагогических конкурс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0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г-Всероссийский конкурс педагогического мастерства по применению ЭОР в образовательном процессе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г – получатель гранта Губернатора Нижегородской области в рамках приоритетного национального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е в фестивале педагогических ид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0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год Всероссийский Интернет-конкурс «Прояви себя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е в  школьных конкурс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плану работы шко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ожения о конкурс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ие в районных  конкурс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плану работу РМ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казы  и полож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687096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годня общество испытывает самые глубокие и стремительные перемены за всю свою историю. На смену прежнему стилю жизни, когда одного образования хватало на всю жизнь, приходит новый жизненный стандарт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ОБРАЗОВАНИЕ ДЛЯ ВСЕХ, ОБРАЗОВАНИЕ ЧЕРЕЗ ВСЮ ЖИЗНЬ…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5280" y="1557000"/>
            <a:ext cx="76960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ним из путей непрерывного профессионального развития педагога является самообразовани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это один из добровольных путей повышения профессионального мастерства педагог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6960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 "выживание" (первый год работы, который отмечен личными профессиональными затруднениям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 "адаптация" (от 2 до 5 лет работы, характеризуется особым вниманием учителя к своей профессиональной деятельност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 "зрелость" (от 6 до 8 лет работы, характеризуется стремлением переосмыслить свой опыт и желанием самостоятельного педагогического исследования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971640" y="47628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Стадии профессионального становления педагога по классификации Р. Фуллер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8728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расширение культурного кругозор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развитие интеллек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мировоззренческая подготов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дидактическая подготов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воспитательная подготов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психологическая подготов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дефектологическая подготов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частнометодическая подготовк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подготовка в сфере ИК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1429560" y="54936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я самообраз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870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апы составления личного плана самообразования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рганизационно- диагност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164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бор и определение темы самообразова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ланирование работы по теме самообразова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бор методической литературы, работа с картотекой и видеотекой методического кабинета, библиотекой, изучение опыта педагогов на интернет-сайта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лиз состояния учебно-воспитательного процесса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ка знаний и умений детей в данной области, выявление противоречий, нуждающихся в коррекц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Форма отчетност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плана работы по самообразованию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библиографического списка литературы по теме самообразова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и обоснование актуальности проблемы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психологических особенностей развития детей подросткового возрас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накомство, изучение, анализ методической литературы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 отчет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и оформление методической копилки (составление примерного перспективного план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1765080" y="333360"/>
            <a:ext cx="57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Теоретическое изуч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9280" y="1341360"/>
            <a:ext cx="7696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диагностика развития дет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бор и разработка методических материалов, способствующих достижению це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методических разработок, дидактического материал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а отчетнос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результатов диагност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методических разработ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1368360" y="549360"/>
            <a:ext cx="63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акт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436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чет по теме самообразования на педсовете, РМО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консультаций для педагогов и родителей по тем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 педагогического опыта работы через участие в семинарах, конференциях, печатные работ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ормы отчетнос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развития дете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методических рекомендац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ьи по обобщению собственного педагогического опыт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3066120" y="40464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Итогов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5:34:23Z</dcterms:created>
  <dc:creator>ученик    4</dc:creator>
  <dc:description/>
  <dc:language>en-US</dc:language>
  <cp:lastModifiedBy>USER</cp:lastModifiedBy>
  <dcterms:modified xsi:type="dcterms:W3CDTF">2016-11-28T20:25:05Z</dcterms:modified>
  <cp:revision>30</cp:revision>
  <dc:subject/>
  <dc:title>Физические свойства предельных одноосновных карбоновых кислот.</dc:title>
</cp:coreProperties>
</file>