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784-ADB4-4821-BD3A-98DA8F25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00A-3CA5-4604-B62B-304ECE0D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CE8-87E9-4A73-9A01-D7FF11FE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5F3-EEC3-4F99-86FB-CA33151C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56D3-54B3-4663-ACCD-9929ABE9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5848-5E5F-4737-8AE4-CC1BD3E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6B50-68F2-45CB-A089-3235C760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CD22-26D4-4D40-B3EE-33539D9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CE28-83A4-4044-B46D-3284FAF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65E-AC70-4CE5-B5AB-0BC6F089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2530-CE1B-464D-BA84-A6635D0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1CF-665A-4A86-85F7-700AF2D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93F-4858-40D1-8591-93A3B47B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F6B6-9CFA-4F96-B022-A2C1B431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AB70-21F5-48E9-8483-B31CA5DE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D4A9-9C7F-419E-8A67-C64B688A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201A-9955-4C00-9D8C-CE6C65A3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78B-BA03-4207-97E9-186E3B2A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CA0-D5A8-47E7-9CB1-6C0FCE4D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AC0-1B9E-402E-BC75-B497B5C4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1BD-81AC-4C98-9B21-B69D7416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300-B162-4BCE-AFFB-9B8D8C8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BBC-DB59-4BDE-AE81-BE2503A2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CAF-DE40-4FE1-A14D-FFA94966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48B9-1D21-4D28-9E1A-1F6A8D03DD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10"/>
          <p:cNvGrpSpPr/>
          <p:nvPr/>
        </p:nvGrpSpPr>
        <p:grpSpPr>
          <a:xfrm>
            <a:off x="0" y="0"/>
            <a:ext cx="9144000" cy="7010280"/>
            <a:chOff x="0" y="0"/>
            <a:chExt cx="9144000" cy="7010280"/>
          </a:xfrm>
        </p:grpSpPr>
        <p:pic>
          <p:nvPicPr>
            <p:cNvPr id="47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6 Imagen" descr="Dibujo.bmp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DF08-F34A-4C50-A975-ED43BF0C38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-1523880" y="0"/>
            <a:ext cx="106678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Заголовок 1" descr=""/>
          <p:cNvPicPr/>
          <p:nvPr/>
        </p:nvPicPr>
        <p:blipFill>
          <a:blip r:embed="rId3"/>
          <a:stretch/>
        </p:blipFill>
        <p:spPr>
          <a:xfrm>
            <a:off x="689040" y="262080"/>
            <a:ext cx="7772400" cy="1438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Comic Sans MS"/>
              </a:rPr>
              <a:t>МЕНЮ ДЛЯ ВАР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7" descr=""/>
          <p:cNvPicPr/>
          <p:nvPr/>
        </p:nvPicPr>
        <p:blipFill>
          <a:blip r:embed="rId1"/>
          <a:stretch/>
        </p:blipFill>
        <p:spPr>
          <a:xfrm>
            <a:off x="-1523880" y="0"/>
            <a:ext cx="106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118" name="Rectangle 3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WordArt 8"/>
          <p:cNvSpPr txBox="1"/>
          <p:nvPr/>
        </p:nvSpPr>
        <p:spPr>
          <a:xfrm rot="21260400">
            <a:off x="971640" y="1628640"/>
            <a:ext cx="691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04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ermes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04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ermes"/>
              <a:ea typeface="Herme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7900" spc="-1" strike="noStrike">
                <a:solidFill>
                  <a:srgbClr val="6600ff"/>
                </a:solidFill>
                <a:latin typeface="Calibri"/>
              </a:rPr>
              <a:t>ЖЕЛАЕМ ЗДОРОВЬЯ !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6" descr=""/>
          <p:cNvPicPr/>
          <p:nvPr/>
        </p:nvPicPr>
        <p:blipFill>
          <a:blip r:embed="rId1"/>
          <a:stretch/>
        </p:blipFill>
        <p:spPr>
          <a:xfrm>
            <a:off x="-152388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460960" y="3244680"/>
            <a:ext cx="42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47560" indent="-411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федра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2460960" y="3244680"/>
            <a:ext cx="42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47560" indent="-411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федра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Всем известно, всем понятно,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Что здоровым быть приятно,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Только надо знать,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ак здоровым стать!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G:\ЖИРЫ УГЛЕВОД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-1523880" y="0"/>
            <a:ext cx="10667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9"/>
          <p:cNvSpPr/>
          <p:nvPr/>
        </p:nvSpPr>
        <p:spPr>
          <a:xfrm>
            <a:off x="395280" y="2565360"/>
            <a:ext cx="8280360" cy="3457440"/>
          </a:xfrm>
          <a:prstGeom prst="roundRect">
            <a:avLst>
              <a:gd name="adj" fmla="val 16667"/>
            </a:avLst>
          </a:prstGeom>
          <a:solidFill>
            <a:srgbClr val="ddfb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539640" y="476280"/>
            <a:ext cx="631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еловеку нужно е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бы встать и чтобы се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бы прыгать, кувырка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сни петь, дружить, смея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б расти и развив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 при этом не боле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ужно правильно пит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 самых юных лет уме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Изображение 3" descr="10540726_1463427207272442_8131982089131679245_o.jpg"/>
          <p:cNvPicPr/>
          <p:nvPr/>
        </p:nvPicPr>
        <p:blipFill>
          <a:blip r:embed="rId1"/>
          <a:stretch/>
        </p:blipFill>
        <p:spPr>
          <a:xfrm>
            <a:off x="14400" y="379440"/>
            <a:ext cx="91440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Изображение 2" descr="молочка.jpg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Изображение 2" descr="ребенку.jpg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075600" cy="6861240"/>
            <a:chOff x="0" y="0"/>
            <a:chExt cx="9075600" cy="686124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271440" y="28764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9"/>
          <p:cNvSpPr/>
          <p:nvPr/>
        </p:nvSpPr>
        <p:spPr>
          <a:xfrm>
            <a:off x="395280" y="2565360"/>
            <a:ext cx="8280360" cy="3457440"/>
          </a:xfrm>
          <a:prstGeom prst="roundRect">
            <a:avLst>
              <a:gd name="adj" fmla="val 16667"/>
            </a:avLst>
          </a:prstGeom>
          <a:solidFill>
            <a:srgbClr val="ddfb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1042920" y="476280"/>
            <a:ext cx="7345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вертик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Жирная, густая, назвалась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Как репка жёлт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ем больше дыр, тем лучше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Знаменит он на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кусный, кисленький 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горизонт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Верхний слой мол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юбимое лакомство к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Жидкое, а не вода, белое, а не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6:11:07Z</dcterms:created>
  <dc:creator>Юлия</dc:creator>
  <dc:description/>
  <dc:language>en-US</dc:language>
  <cp:lastModifiedBy>Учитель</cp:lastModifiedBy>
  <dcterms:modified xsi:type="dcterms:W3CDTF">2015-12-16T07:07:22Z</dcterms:modified>
  <cp:revision>57</cp:revision>
  <dc:subject/>
  <dc:title>Слайд 1</dc:title>
</cp:coreProperties>
</file>