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241-4C05-49B3-8868-A705D1D7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7A9-3C31-4D5A-8FD7-EA6231B4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FD7-B444-4D41-ADFE-6AA496DD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ABE-3448-43E2-BF56-45D0E322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1955-8349-459B-A289-D9404674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0908-2EDE-4F0E-9379-13558C00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6958-8DFB-411E-8528-DE209381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0F08-72C8-4EA3-8B07-23C5A025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D6F9-6BCC-41A9-9EE2-B115646E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CDAA-6832-4615-B45F-AEFBD2D6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6605-B6D4-4FFA-B8EA-F59F2E95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513-A765-4F1D-B3E2-FC639B2D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43B6-C9DF-4055-9DE1-80803A09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3F8B-A1B5-42B5-AE5B-2342073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6559-5F62-4A08-AA39-1AAB746D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C12F-E908-4E3F-9FCB-AB5FAB3E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CA3B-EA37-4D4A-B47D-887791D9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434-E971-464D-8F62-097FEFEB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EDE-EB1E-4E11-A40D-B035C106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80A-E513-421A-94D7-FC8A78ED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C80-84C0-468B-AE78-7742A0D4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A74-EC94-4891-8060-4ADF5AB5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5F2-F5B1-4473-AE98-2091DE4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F19-92E5-4202-ADFB-A3068CC9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4A39-4FA4-440E-85A6-7B6A1BCDE5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64D-3F76-4AB3-899E-4393708C93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y Country at a Glance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eksandrina V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132000" y="1268280"/>
            <a:ext cx="3311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J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4" name="Picture 5" descr="karta"/>
          <p:cNvPicPr/>
          <p:nvPr/>
        </p:nvPicPr>
        <p:blipFill>
          <a:blip r:embed="rId1"/>
          <a:stretch/>
        </p:blipFill>
        <p:spPr>
          <a:xfrm>
            <a:off x="5796000" y="3933720"/>
            <a:ext cx="3348000" cy="2924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9" descr="96FB71EF-27CB-4586-92E8-9465CBA153B8_mw800_mh600_s"/>
          <p:cNvPicPr/>
          <p:nvPr/>
        </p:nvPicPr>
        <p:blipFill>
          <a:blip r:embed="rId1"/>
          <a:stretch/>
        </p:blipFill>
        <p:spPr>
          <a:xfrm>
            <a:off x="108000" y="3456000"/>
            <a:ext cx="4535280" cy="340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172803_image_large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246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1"/>
          <p:cNvSpPr/>
          <p:nvPr/>
        </p:nvSpPr>
        <p:spPr>
          <a:xfrm>
            <a:off x="0" y="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 is my native country. When foreigners hear words “Russia”, “Russian people “ they often think about  severe winter, bears, forests and backwardness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2"/>
          <p:cNvSpPr/>
          <p:nvPr/>
        </p:nvSpPr>
        <p:spPr>
          <a:xfrm>
            <a:off x="4716360" y="393372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I think of Russia  I imagine Moscow, ancient cathedrals, nice cities, modern factories, kind  and hospitable people, my village Shchelka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4" descr="3bb0d620b6e2d751ab6ecba11e5"/>
          <p:cNvPicPr/>
          <p:nvPr/>
        </p:nvPicPr>
        <p:blipFill>
          <a:blip r:embed="rId1"/>
          <a:stretch/>
        </p:blipFill>
        <p:spPr>
          <a:xfrm>
            <a:off x="0" y="4170240"/>
            <a:ext cx="4537080" cy="2687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971280" y="260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 has a two-headed eagle as its symbo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as introduced in 149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ational flag of Russia is made up of  whit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u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 colour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d stripe  symbolizes strengt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ide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other national symbol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uch as  a white birch. the Kreml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erent regions  of Russia have their own emblem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region uses   a tower and a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am proud to live in the Russian Fed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russia map"/>
          <p:cNvPicPr/>
          <p:nvPr/>
        </p:nvPicPr>
        <p:blipFill>
          <a:blip r:embed="rId1"/>
          <a:stretch/>
        </p:blipFill>
        <p:spPr>
          <a:xfrm>
            <a:off x="0" y="0"/>
            <a:ext cx="9144000" cy="5526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4427640" y="1989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c984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342080" y="3246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56652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1838520" y="60930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ational flag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479px-Coat_of_Arms_of_the_Russian_Federation"/>
          <p:cNvPicPr/>
          <p:nvPr/>
        </p:nvPicPr>
        <p:blipFill>
          <a:blip r:embed="rId1"/>
          <a:stretch/>
        </p:blipFill>
        <p:spPr>
          <a:xfrm>
            <a:off x="0" y="0"/>
            <a:ext cx="4038480" cy="4789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2c0e4d47893a850d6db52436651"/>
          <p:cNvPicPr/>
          <p:nvPr/>
        </p:nvPicPr>
        <p:blipFill>
          <a:blip r:embed="rId2"/>
          <a:stretch/>
        </p:blipFill>
        <p:spPr>
          <a:xfrm>
            <a:off x="4859280" y="4432320"/>
            <a:ext cx="42847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3:58:42Z</dcterms:created>
  <dc:creator>User</dc:creator>
  <dc:description/>
  <dc:language>en-US</dc:language>
  <cp:lastModifiedBy>Администратор</cp:lastModifiedBy>
  <dcterms:modified xsi:type="dcterms:W3CDTF">2011-12-29T05:07:36Z</dcterms:modified>
  <cp:revision>10</cp:revision>
  <dc:subject/>
  <dc:title>Слайд 1</dc:title>
</cp:coreProperties>
</file>