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B1D-DFB7-4767-A5CF-00F219D9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5D2-5FEA-477C-8164-F1181000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177-8339-42D7-A7B2-B019BDD7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F3E-17E8-424B-A3F9-CCF41DDA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B0B-3F09-432F-AA00-DCF66176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D62-D524-4142-98E6-75CB6D27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1D4-D64D-4F07-877A-0D573561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C9C-8093-4696-828A-B2B48776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250-AB2E-46D0-9D1D-FB079949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088-C726-4C6D-92AF-FB9D0CA6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857-4EF1-4EA2-99D2-1680B653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813-A86B-4C58-8840-77705933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5B7D-1C36-492F-9215-A5AB1E46DC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Направл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7216920"/>
            <a:ext cx="6400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692360" y="4292640"/>
            <a:ext cx="934920" cy="720720"/>
          </a:xfrm>
          <a:prstGeom prst="leftArrow">
            <a:avLst>
              <a:gd name="adj1" fmla="val 50000"/>
              <a:gd name="adj2" fmla="val 32430"/>
            </a:avLst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3780000" y="4292640"/>
            <a:ext cx="863280" cy="865080"/>
          </a:xfrm>
          <a:prstGeom prst="upArrow">
            <a:avLst>
              <a:gd name="adj1" fmla="val 50000"/>
              <a:gd name="adj2" fmla="val 2505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4932360" y="4365720"/>
            <a:ext cx="86364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6443640" y="4653000"/>
            <a:ext cx="1152720" cy="863640"/>
          </a:xfrm>
          <a:prstGeom prst="rightArrow">
            <a:avLst>
              <a:gd name="adj1" fmla="val 50000"/>
              <a:gd name="adj2" fmla="val 3336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1187280" y="1197000"/>
            <a:ext cx="792360" cy="792000"/>
          </a:xfrm>
          <a:custGeom>
            <a:avLst/>
            <a:gdLst>
              <a:gd name="textAreaLeft" fmla="*/ 0 w 792360"/>
              <a:gd name="textAreaRight" fmla="*/ 223920 w 792360"/>
              <a:gd name="textAreaTop" fmla="*/ 30456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3708360" y="765000"/>
            <a:ext cx="1584360" cy="1079640"/>
          </a:xfrm>
          <a:custGeom>
            <a:avLst/>
            <a:gdLst>
              <a:gd name="textAreaLeft" fmla="*/ 226080 w 1584360"/>
              <a:gd name="textAreaRight" fmla="*/ 1358280 w 1584360"/>
              <a:gd name="textAreaTop" fmla="*/ 617040 h 1079640"/>
              <a:gd name="textAreaBottom" fmla="*/ 925560 h 1079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7020000" y="692280"/>
            <a:ext cx="1439640" cy="1152360"/>
          </a:xfrm>
          <a:custGeom>
            <a:avLst/>
            <a:gdLst>
              <a:gd name="textAreaLeft" fmla="*/ 144000 w 1439640"/>
              <a:gd name="textAreaRight" fmla="*/ 1296000 w 1439640"/>
              <a:gd name="textAreaTop" fmla="*/ 658440 h 1152360"/>
              <a:gd name="textAreaBottom" fmla="*/ 987840 h 1152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7164360" y="2708280"/>
            <a:ext cx="1152720" cy="100800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11280" y="2781360"/>
            <a:ext cx="1657080" cy="718920"/>
          </a:xfrm>
          <a:prstGeom prst="leftRightArrow">
            <a:avLst>
              <a:gd name="adj1" fmla="val 50000"/>
              <a:gd name="adj2" fmla="val 4588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74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рисунке одной линией показан путь, по которому детей из дома везут в школу, а другой — путь, по ко­торому дети идут из школы домой. Как ты думаешь, каким цветом какой путь изображён? Как на этих линиях показать, где начало, а где конец пути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0" y="981000"/>
            <a:ext cx="44956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C:\Users\User\Pictures\img008.jpg"/>
          <p:cNvPicPr/>
          <p:nvPr/>
        </p:nvPicPr>
        <p:blipFill>
          <a:blip r:embed="rId1"/>
          <a:stretch/>
        </p:blipFill>
        <p:spPr>
          <a:xfrm>
            <a:off x="1862280" y="200160"/>
            <a:ext cx="541944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life.mosmetod.ru/files/image/health/sport/jump/%D0%92%D1%8B%D0%B1%D0%BE%D1%80_%D0%BD%D0%B0%D0%BF%D1%80%D0%B0%D0%B2%D0%BB%D0%B5%D0%BD%D0%B8%D1%8F.jpg"/>
          <p:cNvPicPr/>
          <p:nvPr/>
        </p:nvPicPr>
        <p:blipFill>
          <a:blip r:embed="rId1"/>
          <a:stretch/>
        </p:blipFill>
        <p:spPr>
          <a:xfrm>
            <a:off x="826920" y="836640"/>
            <a:ext cx="715356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http://ok-t.ru/mydocxru/baza3/152921751744.files/image311.gif"/>
          <p:cNvPicPr/>
          <p:nvPr/>
        </p:nvPicPr>
        <p:blipFill>
          <a:blip r:embed="rId1"/>
          <a:stretch/>
        </p:blipFill>
        <p:spPr>
          <a:xfrm>
            <a:off x="755640" y="1197000"/>
            <a:ext cx="7523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cheap-auto.ru/media/f/pdd/b/162.jpg"/>
          <p:cNvPicPr/>
          <p:nvPr/>
        </p:nvPicPr>
        <p:blipFill>
          <a:blip r:embed="rId1"/>
          <a:stretch/>
        </p:blipFill>
        <p:spPr>
          <a:xfrm>
            <a:off x="684360" y="1268280"/>
            <a:ext cx="8064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prv0.lori-images.net/dorozhnyi-ukazatel-napravleniya-k-aeroportu-0003715248-preview.jpg"/>
          <p:cNvPicPr/>
          <p:nvPr/>
        </p:nvPicPr>
        <p:blipFill>
          <a:blip r:embed="rId1"/>
          <a:stretch/>
        </p:blipFill>
        <p:spPr>
          <a:xfrm>
            <a:off x="468360" y="476280"/>
            <a:ext cx="8064360" cy="60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infostatus.ru/upload/medialibrary/b9a/road-sign-6911.gif"/>
          <p:cNvPicPr/>
          <p:nvPr/>
        </p:nvPicPr>
        <p:blipFill>
          <a:blip r:embed="rId1"/>
          <a:stretch/>
        </p:blipFill>
        <p:spPr>
          <a:xfrm>
            <a:off x="900000" y="836640"/>
            <a:ext cx="720108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go3.imgsmail.ru/imgpreview?key=5a8bc16517da3f09&amp;mb=imgdb_preview_488"/>
          <p:cNvPicPr/>
          <p:nvPr/>
        </p:nvPicPr>
        <p:blipFill>
          <a:blip r:embed="rId1"/>
          <a:stretch/>
        </p:blipFill>
        <p:spPr>
          <a:xfrm>
            <a:off x="1692360" y="765000"/>
            <a:ext cx="5472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7:57:15Z</dcterms:created>
  <dc:creator>1</dc:creator>
  <dc:description/>
  <dc:language>en-US</dc:language>
  <cp:lastModifiedBy>User</cp:lastModifiedBy>
  <dcterms:modified xsi:type="dcterms:W3CDTF">2016-12-04T11:56:53Z</dcterms:modified>
  <cp:revision>15</cp:revision>
  <dc:subject/>
  <dc:title>Направления</dc:title>
</cp:coreProperties>
</file>