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D14-B02D-4FCF-9EE3-0658CA03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27A-7556-40B9-87F2-538E700F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1CD-3EFD-4AD5-A3B0-EB7BC8EF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154-96C9-4451-B97A-18F7E088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EEC-A55E-4828-B34B-3A73E36C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9015-4B8D-45A0-903D-357AC72C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64F6-83BE-44F8-B3C5-F042AA13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B56C-2586-437C-8DC4-C8EA788F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C3E5-4467-4121-8B70-DBF0EBD8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1083-0040-479E-A16D-6D13A668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B835-863F-4682-BBFC-CF9C43B3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9B7-6129-4D0F-9991-429F31FB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C535-0268-4EB8-A927-FC1629E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502B-1CD5-468A-8DF9-6D3C545F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DC61-B7D2-48A7-8DBF-371A3DF5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210A-9D9E-440F-A885-08FA8F37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916-FE80-4E46-BC29-1028329D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BB31-9968-4680-8940-210627C9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13EA-F546-4A66-B2DF-DCF53809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0DD4-9E8F-4430-9F91-39CFEE08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AC2F-E410-496F-A74A-1E27626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2931-C11F-41DA-83D6-EEC8D0C8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040-1F19-40AB-BA87-8AD49B26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9DA1-D099-4BD4-A23C-00CB3030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5A37-464B-41CD-8DEB-A416C8C4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6B3C-85D1-43DB-BC1A-622F21B2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3B36-7D14-4BBC-82C9-A5855B43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4955-CFCB-46EF-B413-643DE6A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4601-383E-4B3F-B11C-36824115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2B49-433E-44EC-A390-8953B09E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CE58-16FB-47DF-9233-2076C3CA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CB0CC-0FCE-47B9-9401-73BA9BF3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F5FF-5909-4554-A3D4-1948B298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427-FFCC-40EC-8BA6-61F6A4B3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E5DC-3B81-4DA2-8ED3-F9C6682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671B7-530A-4CCA-B7BD-1BCDA1E6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3242-212F-4AAD-9EC7-153001FA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0179D-195A-4E3B-9103-5A4A402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E343-CE0A-4417-AE0C-C9ADC82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F101-7F1D-4B0F-A87E-D52B1DA7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8DF41-72B3-49F1-958C-114B733E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F2DE8-9A95-4FC6-B8C3-EA418F90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3F69-88AF-4973-A428-B2150851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59F-2BD9-4167-AE4A-4DD32F33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0E2-9A70-48CD-AFE9-8446D37F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2D7-53C5-41AD-A84F-B3211B32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969-16A5-4FB4-AA04-E050698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05D-EFFC-4C0D-9788-3E6919F9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2CA6-75C3-4279-AF06-6CA424C6DD1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82DE-2CED-43BE-BF2E-A5F58482519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7638-72BA-420C-A0BD-EB0F63F8AEE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BC8E-F89D-43B2-8F81-7737C9EB231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>
            <a:alpha val="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1"/>
          <a:stretch/>
        </p:blipFill>
        <p:spPr>
          <a:xfrm>
            <a:off x="-60480" y="-36360"/>
            <a:ext cx="9259920" cy="204768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ая соединительная линия 3"/>
          <p:cNvSpPr/>
          <p:nvPr/>
        </p:nvSpPr>
        <p:spPr>
          <a:xfrm flipV="1">
            <a:off x="0" y="1499760"/>
            <a:ext cx="14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5"/>
          <p:cNvSpPr/>
          <p:nvPr/>
        </p:nvSpPr>
        <p:spPr>
          <a:xfrm>
            <a:off x="214200" y="2000160"/>
            <a:ext cx="8786880" cy="180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7"/>
          <p:cNvSpPr/>
          <p:nvPr/>
        </p:nvSpPr>
        <p:spPr>
          <a:xfrm>
            <a:off x="285840" y="2071800"/>
            <a:ext cx="8572320" cy="1440"/>
          </a:xfrm>
          <a:prstGeom prst="line">
            <a:avLst/>
          </a:prstGeom>
          <a:ln w="2232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10" descr="девушка.png"/>
          <p:cNvPicPr/>
          <p:nvPr/>
        </p:nvPicPr>
        <p:blipFill>
          <a:blip r:embed="rId2"/>
          <a:stretch/>
        </p:blipFill>
        <p:spPr>
          <a:xfrm>
            <a:off x="785880" y="2714760"/>
            <a:ext cx="1590480" cy="32382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3" descr="куклы.png"/>
          <p:cNvPicPr/>
          <p:nvPr/>
        </p:nvPicPr>
        <p:blipFill>
          <a:blip r:embed="rId3"/>
          <a:stretch/>
        </p:blipFill>
        <p:spPr>
          <a:xfrm>
            <a:off x="2571840" y="2286000"/>
            <a:ext cx="2690640" cy="33829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4"/>
          <p:cNvSpPr/>
          <p:nvPr/>
        </p:nvSpPr>
        <p:spPr>
          <a:xfrm>
            <a:off x="5286240" y="5357880"/>
            <a:ext cx="3357720" cy="1357200"/>
          </a:xfrm>
          <a:prstGeom prst="rect">
            <a:avLst/>
          </a:prstGeom>
          <a:solidFill>
            <a:srgbClr val="b0dfa1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nstantia"/>
              </a:rPr>
              <a:t>МКДОУ Верхнемамонский детский сад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nstantia"/>
              </a:rPr>
              <a:t>Воспитатель : Чёлник Н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14200" y="1000080"/>
            <a:ext cx="29289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2" descr="133896.doc_html_434f752d.jpg"/>
          <p:cNvPicPr/>
          <p:nvPr/>
        </p:nvPicPr>
        <p:blipFill>
          <a:blip r:embed="rId1"/>
          <a:stretch/>
        </p:blipFill>
        <p:spPr>
          <a:xfrm>
            <a:off x="4929120" y="1000080"/>
            <a:ext cx="2500560" cy="51436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857160" y="857160"/>
            <a:ext cx="35719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Мужская одеж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Воронеж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была более однотипной , чем  женская . В состав костюма входили рубаха , порты , пояс , обувь , головной у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71800" y="78552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Обувь Воронежского края , можно разделить на плетёную и шитую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Содержимое 5" descr="130585_600.jpg"/>
          <p:cNvPicPr/>
          <p:nvPr/>
        </p:nvPicPr>
        <p:blipFill>
          <a:blip r:embed="rId1"/>
          <a:stretch/>
        </p:blipFill>
        <p:spPr>
          <a:xfrm>
            <a:off x="357120" y="1928880"/>
            <a:ext cx="4038840" cy="302112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8" descr="image1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38840" cy="2938680"/>
          </a:xfrm>
          <a:prstGeom prst="rect">
            <a:avLst/>
          </a:prstGeom>
          <a:ln w="0">
            <a:noFill/>
          </a:ln>
        </p:spPr>
      </p:pic>
    </p:spTree>
  </p:cSld>
  <p:transition advTm="800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669960" y="706320"/>
            <a:ext cx="7761240" cy="2659320"/>
          </a:xfrm>
          <a:prstGeom prst="rect">
            <a:avLst/>
          </a:prstGeom>
          <a:ln w="0">
            <a:noFill/>
          </a:ln>
        </p:spPr>
      </p:pic>
    </p:spTree>
  </p:cSld>
  <p:transition advTm="13000"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779480" y="701640"/>
            <a:ext cx="6510600" cy="3164040"/>
          </a:xfrm>
          <a:prstGeom prst="rect">
            <a:avLst/>
          </a:prstGeom>
          <a:ln w="0">
            <a:noFill/>
          </a:ln>
        </p:spPr>
      </p:pic>
    </p:spTree>
  </p:cSld>
  <p:transition advTm="8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884160" y="701640"/>
            <a:ext cx="7888320" cy="3516480"/>
          </a:xfrm>
          <a:prstGeom prst="rect">
            <a:avLst/>
          </a:prstGeom>
          <a:ln w="0">
            <a:noFill/>
          </a:ln>
        </p:spPr>
      </p:pic>
    </p:spTree>
  </p:cSld>
  <p:transition advTm="8000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Традиционный женский костюм Воронежской Губернии включал в себя : головной убор, расшитую рубаху ,  понёву, передник , пояс-покромку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3" descr="kostyum1.jpg"/>
          <p:cNvPicPr/>
          <p:nvPr/>
        </p:nvPicPr>
        <p:blipFill>
          <a:blip r:embed="rId1"/>
          <a:stretch/>
        </p:blipFill>
        <p:spPr>
          <a:xfrm>
            <a:off x="3143160" y="2000160"/>
            <a:ext cx="2428920" cy="4286520"/>
          </a:xfrm>
          <a:prstGeom prst="rect">
            <a:avLst/>
          </a:prstGeom>
          <a:ln w="0">
            <a:noFill/>
          </a:ln>
        </p:spPr>
      </p:pic>
    </p:spTree>
  </p:cSld>
  <p:transition advTm="8000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Основой женского костюма была рубаха , которую использовали как нательную и выходную одежду . Рубаху обычно шили из двух частей :верхней- «стан»,и нижней – «подстава»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5" descr="4rACqpoXrog.jpg"/>
          <p:cNvPicPr/>
          <p:nvPr/>
        </p:nvPicPr>
        <p:blipFill>
          <a:blip r:embed="rId1"/>
          <a:stretch/>
        </p:blipFill>
        <p:spPr>
          <a:xfrm>
            <a:off x="3278160" y="2428920"/>
            <a:ext cx="258768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Понёва-это юбка , состоящая из трёх полотнищ шерстяной или хлопчатобумажной ткани , стянутая на талии узким пояском . Чёрные окна квадратов символизировали участки черноземного поля , а полосы означали овраги , дороги, тропы , межи и реки на земле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4" descr="понёва-19.jpg"/>
          <p:cNvPicPr/>
          <p:nvPr/>
        </p:nvPicPr>
        <p:blipFill>
          <a:blip r:embed="rId1"/>
          <a:stretch/>
        </p:blipFill>
        <p:spPr>
          <a:xfrm>
            <a:off x="3143160" y="2857680"/>
            <a:ext cx="2924280" cy="375264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Головной убор Воронежского края разнообразен . Это –кокошник ,сорока , кичка. Кокошник выполнен мастерицей  Верхнемамонского района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19" descr=""/>
          <p:cNvPicPr/>
          <p:nvPr/>
        </p:nvPicPr>
        <p:blipFill>
          <a:blip r:embed="rId1"/>
          <a:stretch/>
        </p:blipFill>
        <p:spPr>
          <a:xfrm>
            <a:off x="285840" y="2143080"/>
            <a:ext cx="3143160" cy="22366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1071720" y="4500720"/>
            <a:ext cx="29289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8" descr="23929_original.jpg"/>
          <p:cNvPicPr/>
          <p:nvPr/>
        </p:nvPicPr>
        <p:blipFill>
          <a:blip r:embed="rId2"/>
          <a:stretch/>
        </p:blipFill>
        <p:spPr>
          <a:xfrm>
            <a:off x="3643200" y="32148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9" descr="кика головной убор.jpg"/>
          <p:cNvPicPr/>
          <p:nvPr/>
        </p:nvPicPr>
        <p:blipFill>
          <a:blip r:embed="rId3"/>
          <a:stretch/>
        </p:blipFill>
        <p:spPr>
          <a:xfrm>
            <a:off x="6357960" y="4143240"/>
            <a:ext cx="2438280" cy="2210040"/>
          </a:xfrm>
          <a:prstGeom prst="rect">
            <a:avLst/>
          </a:prstGeom>
          <a:ln w="0">
            <a:noFill/>
          </a:ln>
        </p:spPr>
      </p:pic>
    </p:spTree>
  </p:cSld>
  <p:transition advTm="8000"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На территории Воронежского края известны украшения нагрудные , височные, ушные , ручные , наспинные ,поясные. Особенно любимы были круглые сетчатые воротники: «монисто», «ожерелок » и «гайтан»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4" descr="i (1).jpg"/>
          <p:cNvPicPr/>
          <p:nvPr/>
        </p:nvPicPr>
        <p:blipFill>
          <a:blip r:embed="rId1"/>
          <a:stretch/>
        </p:blipFill>
        <p:spPr>
          <a:xfrm>
            <a:off x="1071720" y="3071880"/>
            <a:ext cx="3309840" cy="296388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5" descr="gaytan.jpg"/>
          <p:cNvPicPr/>
          <p:nvPr/>
        </p:nvPicPr>
        <p:blipFill>
          <a:blip r:embed="rId2"/>
          <a:stretch/>
        </p:blipFill>
        <p:spPr>
          <a:xfrm>
            <a:off x="5786280" y="3000240"/>
            <a:ext cx="1857600" cy="3071880"/>
          </a:xfrm>
          <a:prstGeom prst="rect">
            <a:avLst/>
          </a:prstGeom>
          <a:ln w="0">
            <a:noFill/>
          </a:ln>
        </p:spPr>
      </p:pic>
    </p:spTree>
  </p:cSld>
  <p:transition advTm="8000">
    <p:split dir="out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c9f8">
            <a:alpha val="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0080" y="7045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nstantia"/>
              </a:rPr>
              <a:t>В воронежском народном костюме обязательно присутствуют цвета : белый , красный , чёрный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kostum-voroneg.jpg"/>
          <p:cNvPicPr/>
          <p:nvPr/>
        </p:nvPicPr>
        <p:blipFill>
          <a:blip r:embed="rId1"/>
          <a:stretch/>
        </p:blipFill>
        <p:spPr>
          <a:xfrm>
            <a:off x="3214800" y="1967040"/>
            <a:ext cx="2571480" cy="4324320"/>
          </a:xfrm>
          <a:prstGeom prst="rect">
            <a:avLst/>
          </a:prstGeom>
          <a:ln w="0">
            <a:noFill/>
          </a:ln>
        </p:spPr>
      </p:pic>
    </p:spTree>
  </p:cSld>
  <p:transition advTm="8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12:07:28Z</dcterms:created>
  <dc:creator>user</dc:creator>
  <dc:description/>
  <dc:language>en-US</dc:language>
  <cp:lastModifiedBy>user</cp:lastModifiedBy>
  <dcterms:modified xsi:type="dcterms:W3CDTF">2016-11-28T18:18:22Z</dcterms:modified>
  <cp:revision>38</cp:revision>
  <dc:subject/>
  <dc:title>Слайд 1</dc:title>
</cp:coreProperties>
</file>