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5F4-34DE-48D5-8495-32B5386C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A31-3FF2-4CFA-892C-7C2F9CE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A87-108E-4314-8E45-8851A9D3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621-B400-4A6A-927A-F596E43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F691-BFD2-4109-9D28-F85CDF7B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A330-E77B-4C40-81E4-F87F128B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0FA0-9B9D-434E-81F2-8032C70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378-4446-49F6-A094-C6CD07D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34B2-6979-459F-A4B0-9EE6E55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8333-6BC1-49A4-B902-E463632E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C0B8-43A6-4983-A764-A13903F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AD3-9F3D-4120-86D9-EEFEB35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45ED-C497-40B7-BCE9-BB8A9CA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C475-D3A5-4B64-B443-9797362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81F-C7FB-4198-B6C8-68A6AFE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84F-9506-47ED-AE19-118FD847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0F49-75C5-4C72-923E-5C134C77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C20-1B70-44EF-8CB2-39CB00F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6C7-98AE-4521-98EE-0DD8BB0A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1EB-1D41-4F7D-9A4E-42E32CE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526-72FB-4F8E-B271-1C3F30FA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790-F060-49B7-AD7E-39A9502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8C7-58D6-483C-AEF1-288421A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1C8-1F22-48B5-AE97-F33D2CC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5056-B872-4A16-8693-6BE5DFDEF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54C-11C1-494A-B109-7F90BF110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бразование государств на территории Росс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истории и обществознания ГБОУ Школа 2033 Кантан Ольга Евгеньев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рядок управл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помните, как называется система управления государством в древней Греци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емокра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ереводится это слов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ласть наро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то такие архон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авит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их избирал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 народном собра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то мог принимать участие в выборах, т.е. являлся гражданин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ужчина, свободный, старше 30 лет, родившийся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анном полис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оспорское государ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тели – цари, власть передается по наследств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6" descr="image49601"/>
          <p:cNvPicPr/>
          <p:nvPr/>
        </p:nvPicPr>
        <p:blipFill>
          <a:blip r:embed="rId1"/>
          <a:stretch/>
        </p:blipFill>
        <p:spPr>
          <a:xfrm>
            <a:off x="6516720" y="2205000"/>
            <a:ext cx="1771560" cy="426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mitr_b"/>
          <p:cNvPicPr/>
          <p:nvPr/>
        </p:nvPicPr>
        <p:blipFill>
          <a:blip r:embed="rId2"/>
          <a:stretch/>
        </p:blipFill>
        <p:spPr>
          <a:xfrm>
            <a:off x="3132000" y="2781360"/>
            <a:ext cx="3175200" cy="3205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hlem"/>
          <p:cNvPicPr/>
          <p:nvPr/>
        </p:nvPicPr>
        <p:blipFill>
          <a:blip r:embed="rId3"/>
          <a:stretch/>
        </p:blipFill>
        <p:spPr>
          <a:xfrm>
            <a:off x="395280" y="2637000"/>
            <a:ext cx="273672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кифское цар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ифы-кочевн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ифы-земледельц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6-20"/>
          <p:cNvPicPr/>
          <p:nvPr/>
        </p:nvPicPr>
        <p:blipFill>
          <a:blip r:embed="rId1"/>
          <a:stretch/>
        </p:blipFill>
        <p:spPr>
          <a:xfrm>
            <a:off x="4716360" y="2997360"/>
            <a:ext cx="4032360" cy="190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Lady-worrior"/>
          <p:cNvPicPr/>
          <p:nvPr/>
        </p:nvPicPr>
        <p:blipFill>
          <a:blip r:embed="rId2"/>
          <a:stretch/>
        </p:blipFill>
        <p:spPr>
          <a:xfrm>
            <a:off x="1332000" y="2421000"/>
            <a:ext cx="2932200" cy="41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rybka1"/>
          <p:cNvPicPr/>
          <p:nvPr/>
        </p:nvPicPr>
        <p:blipFill>
          <a:blip r:embed="rId1"/>
          <a:stretch/>
        </p:blipFill>
        <p:spPr>
          <a:xfrm>
            <a:off x="900000" y="692280"/>
            <a:ext cx="4254480" cy="2400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img_015_1"/>
          <p:cNvPicPr/>
          <p:nvPr/>
        </p:nvPicPr>
        <p:blipFill>
          <a:blip r:embed="rId2"/>
          <a:stretch/>
        </p:blipFill>
        <p:spPr>
          <a:xfrm>
            <a:off x="3059280" y="3357720"/>
            <a:ext cx="496728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1" descr="Понтийское царство.jpg"/>
          <p:cNvPicPr/>
          <p:nvPr/>
        </p:nvPicPr>
        <p:blipFill>
          <a:blip r:embed="rId1"/>
          <a:stretch/>
        </p:blipFill>
        <p:spPr>
          <a:xfrm>
            <a:off x="2135160" y="0"/>
            <a:ext cx="70088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" descr="Митридат Евпатор.jpg"/>
          <p:cNvPicPr/>
          <p:nvPr/>
        </p:nvPicPr>
        <p:blipFill>
          <a:blip r:embed="rId2"/>
          <a:stretch/>
        </p:blipFill>
        <p:spPr>
          <a:xfrm>
            <a:off x="0" y="0"/>
            <a:ext cx="3414600" cy="2276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278280" y="249228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итридат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впато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870600" cy="90792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юркский кагана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-7 вв н.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 Монголии до Волг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чев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Хазарский каган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261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жнее Поволжье, Северный Кавказ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азов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ход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оседл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. Ит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удаиз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map9"/>
          <p:cNvPicPr/>
          <p:nvPr/>
        </p:nvPicPr>
        <p:blipFill>
          <a:blip r:embed="rId1"/>
          <a:stretch/>
        </p:blipFill>
        <p:spPr>
          <a:xfrm>
            <a:off x="3851280" y="2511360"/>
            <a:ext cx="47545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ликая Булгар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7 в. От Кубани до Днеп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лгария на Балканском полуостров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жско-камская Булгар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епость Каза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22г. Принятие исла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img051120081357351"/>
          <p:cNvPicPr/>
          <p:nvPr/>
        </p:nvPicPr>
        <p:blipFill>
          <a:blip r:embed="rId1"/>
          <a:stretch/>
        </p:blipFill>
        <p:spPr>
          <a:xfrm>
            <a:off x="5508720" y="422100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image_7_1_5228"/>
          <p:cNvPicPr/>
          <p:nvPr/>
        </p:nvPicPr>
        <p:blipFill>
          <a:blip r:embed="rId2"/>
          <a:stretch/>
        </p:blipFill>
        <p:spPr>
          <a:xfrm>
            <a:off x="324000" y="3284640"/>
            <a:ext cx="40687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ители лесной полосы Восточной Европ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69608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Балтийского моря до Уральских г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емена: балты, чудь, меря, весь, мурома, черемись, мордва и д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iry1"/>
          <p:cNvPicPr/>
          <p:nvPr/>
        </p:nvPicPr>
        <p:blipFill>
          <a:blip r:embed="rId1"/>
          <a:stretch/>
        </p:blipFill>
        <p:spPr>
          <a:xfrm>
            <a:off x="2411280" y="3500280"/>
            <a:ext cx="4537080" cy="303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метьте науки, изучающие жизнь людей в древ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хеолог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родове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00720" y="1700280"/>
            <a:ext cx="1657080" cy="2881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2euh7gi"/>
          <p:cNvPicPr/>
          <p:nvPr/>
        </p:nvPicPr>
        <p:blipFill>
          <a:blip r:embed="rId1"/>
          <a:stretch/>
        </p:blipFill>
        <p:spPr>
          <a:xfrm>
            <a:off x="6804000" y="2924280"/>
            <a:ext cx="1781280" cy="371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73190"/>
          <p:cNvPicPr/>
          <p:nvPr/>
        </p:nvPicPr>
        <p:blipFill>
          <a:blip r:embed="rId2"/>
          <a:stretch/>
        </p:blipFill>
        <p:spPr>
          <a:xfrm>
            <a:off x="2627280" y="260280"/>
            <a:ext cx="3780000" cy="261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img"/>
          <p:cNvPicPr/>
          <p:nvPr/>
        </p:nvPicPr>
        <p:blipFill>
          <a:blip r:embed="rId3"/>
          <a:stretch/>
        </p:blipFill>
        <p:spPr>
          <a:xfrm>
            <a:off x="684360" y="3645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ukrash2"/>
          <p:cNvPicPr/>
          <p:nvPr/>
        </p:nvPicPr>
        <p:blipFill>
          <a:blip r:embed="rId4"/>
          <a:stretch/>
        </p:blipFill>
        <p:spPr>
          <a:xfrm>
            <a:off x="2916360" y="2924280"/>
            <a:ext cx="3062160" cy="36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1844280"/>
            <a:ext cx="3778200" cy="259236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Скифское цар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Хазарский кагана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олжская Булгар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Тюркский кагана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5280" y="1844280"/>
            <a:ext cx="3929040" cy="26082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. Среднее Поволжь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. Степи Евраз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. Северное Причерноморь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. Нижнее Поволжь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Расположите орудия труда в том порядке, как они были созданы человеком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Изделия из к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Деревянная дубина, скребл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Соха с железным лемех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Лук и стре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Каменная мотыг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4436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– 1 – 2 – 4 -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2916360" y="4292640"/>
            <a:ext cx="3384360" cy="79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метьте основные занятия людей эпохи неоли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емледел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болов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Ювелирное дел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х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мышленное производ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товод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ргов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08360" y="184464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364000" y="1700280"/>
            <a:ext cx="1943280" cy="439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5"/>
          <p:cNvGrpSpPr/>
          <p:nvPr/>
        </p:nvGrpSpPr>
        <p:grpSpPr>
          <a:xfrm>
            <a:off x="1979640" y="1700280"/>
            <a:ext cx="6194520" cy="4080960"/>
            <a:chOff x="1979640" y="1700280"/>
            <a:chExt cx="6194520" cy="4080960"/>
          </a:xfrm>
        </p:grpSpPr>
        <p:sp>
          <p:nvSpPr>
            <p:cNvPr id="166" name="Pyr1"/>
            <p:cNvSpPr/>
            <p:nvPr/>
          </p:nvSpPr>
          <p:spPr>
            <a:xfrm>
              <a:off x="4389840" y="1700280"/>
              <a:ext cx="1388520" cy="904680"/>
            </a:xfrm>
            <a:custGeom>
              <a:avLst/>
              <a:gdLst>
                <a:gd name="textAreaLeft" fmla="*/ 347040 w 1388520"/>
                <a:gd name="textAreaRight" fmla="*/ 1041480 w 1388520"/>
                <a:gd name="textAreaTop" fmla="*/ 494280 h 904680"/>
                <a:gd name="textAreaBottom" fmla="*/ 862920 h 90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Pyr2"/>
            <p:cNvSpPr/>
            <p:nvPr/>
          </p:nvSpPr>
          <p:spPr>
            <a:xfrm>
              <a:off x="3585960" y="2604960"/>
              <a:ext cx="2989080" cy="1061280"/>
            </a:xfrm>
            <a:custGeom>
              <a:avLst/>
              <a:gdLst>
                <a:gd name="textAreaLeft" fmla="*/ 801000 w 2989080"/>
                <a:gd name="textAreaRight" fmla="*/ 2188080 w 2989080"/>
                <a:gd name="textAreaTop" fmla="*/ 24840 h 1061280"/>
                <a:gd name="textAreaBottom" fmla="*/ 1036440 h 106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Pyr3"/>
            <p:cNvSpPr/>
            <p:nvPr/>
          </p:nvSpPr>
          <p:spPr>
            <a:xfrm>
              <a:off x="2790720" y="3666240"/>
              <a:ext cx="4579200" cy="1059840"/>
            </a:xfrm>
            <a:custGeom>
              <a:avLst/>
              <a:gdLst>
                <a:gd name="textAreaLeft" fmla="*/ 1121400 w 4579200"/>
                <a:gd name="textAreaRight" fmla="*/ 3457800 w 4579200"/>
                <a:gd name="textAreaTop" fmla="*/ 24840 h 1059840"/>
                <a:gd name="textAreaBottom" fmla="*/ 1035000 h 105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Pyr4"/>
            <p:cNvSpPr/>
            <p:nvPr/>
          </p:nvSpPr>
          <p:spPr>
            <a:xfrm>
              <a:off x="1979640" y="4720320"/>
              <a:ext cx="6194520" cy="1060920"/>
            </a:xfrm>
            <a:custGeom>
              <a:avLst/>
              <a:gdLst>
                <a:gd name="textAreaLeft" fmla="*/ 941760 w 6194520"/>
                <a:gd name="textAreaRight" fmla="*/ 4964760 w 6194520"/>
                <a:gd name="textAreaTop" fmla="*/ 24840 h 1060920"/>
                <a:gd name="textAreaBottom" fmla="*/ 1036080 h 106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AutoShape 20"/>
          <p:cNvSpPr/>
          <p:nvPr/>
        </p:nvSpPr>
        <p:spPr>
          <a:xfrm>
            <a:off x="1547640" y="6308640"/>
            <a:ext cx="71640" cy="73080"/>
          </a:xfrm>
          <a:prstGeom prst="flowChartExtra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емя, род, союз племен, родовая общ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4556520" y="4869000"/>
            <a:ext cx="9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538080" y="393372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довая общ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4466520" y="28526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569480" y="19162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ю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еме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окраинах античного ми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еческий города-государства Северного Причерномор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ифское цар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юркские народы и их государ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тели лесной полосы Восточной Евро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еверное Причерноморь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herno-figurnaja_amfora"/>
          <p:cNvPicPr/>
          <p:nvPr/>
        </p:nvPicPr>
        <p:blipFill>
          <a:blip r:embed="rId1"/>
          <a:stretch/>
        </p:blipFill>
        <p:spPr>
          <a:xfrm>
            <a:off x="1547640" y="4762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tmp1200-8"/>
          <p:cNvPicPr/>
          <p:nvPr/>
        </p:nvPicPr>
        <p:blipFill>
          <a:blip r:embed="rId1"/>
          <a:stretch/>
        </p:blipFill>
        <p:spPr>
          <a:xfrm>
            <a:off x="1908000" y="1197000"/>
            <a:ext cx="4897440" cy="42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9:31:50Z</dcterms:created>
  <dc:creator>Customer</dc:creator>
  <dc:description/>
  <dc:language>en-US</dc:language>
  <cp:lastModifiedBy>Computer</cp:lastModifiedBy>
  <dcterms:modified xsi:type="dcterms:W3CDTF">2016-12-04T09:47:43Z</dcterms:modified>
  <cp:revision>14</cp:revision>
  <dc:subject/>
  <dc:title>Образование государств</dc:title>
</cp:coreProperties>
</file>