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AD2-E47F-4735-A0EA-C3DE1C66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8AC-D3C7-46F2-8584-37544564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354-3F04-4E17-902A-94E1733C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800-48B4-414A-95B3-BC200A6A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801B-B2DA-47CB-99D9-E01A6ACD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E6F9-CB14-4CCD-8982-72F936E7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60BB-4B7C-462D-92EB-1C2CC779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33D-02D4-485E-BDA0-E165DEBC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416-B34B-46ED-9422-39EA3A0A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6E3-B3D7-4C79-8F44-6A99C411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8CA-77D6-4D0C-8E9D-6B268538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21E-52F0-4271-8CAB-C75EDBEE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0714-2BCC-46AF-91BA-F3BFDE30E7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4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32523"/>
                </a:solidFill>
                <a:latin typeface="Calibri"/>
              </a:rPr>
              <a:t>А ты умеешь вести себя в театр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cs5928.vk.me/g37728023/a_dc18dcb4.jpg"/>
          <p:cNvPicPr/>
          <p:nvPr/>
        </p:nvPicPr>
        <p:blipFill>
          <a:blip r:embed="rId1"/>
          <a:stretch/>
        </p:blipFill>
        <p:spPr>
          <a:xfrm>
            <a:off x="1785960" y="0"/>
            <a:ext cx="5429160" cy="443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TextBox 3"/>
          <p:cNvSpPr/>
          <p:nvPr/>
        </p:nvSpPr>
        <p:spPr>
          <a:xfrm>
            <a:off x="4572000" y="55944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Трошева Ольга Линовна воспитатель МАДОУ «ЦРР-детский сад №19» г.Сыктывк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0" y="437508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Не вставай со своего места, пока не закончится спектакль. Не торопись в гардероб за верхней одеждой, как будто тебе не понравился спектакль и ты стремишься поскорее убежать дом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www.zarubejom.com/news/images/4235_big.jpg"/>
          <p:cNvPicPr/>
          <p:nvPr/>
        </p:nvPicPr>
        <p:blipFill>
          <a:blip r:embed="rId1"/>
          <a:stretch/>
        </p:blipFill>
        <p:spPr>
          <a:xfrm>
            <a:off x="357120" y="1157400"/>
            <a:ext cx="4084560" cy="28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Picture 4" descr="http://komionline.ru/media/images/2011/08/25/10.JPG"/>
          <p:cNvPicPr/>
          <p:nvPr/>
        </p:nvPicPr>
        <p:blipFill>
          <a:blip r:embed="rId2"/>
          <a:stretch/>
        </p:blipFill>
        <p:spPr>
          <a:xfrm>
            <a:off x="4656240" y="214200"/>
            <a:ext cx="4130640" cy="27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0" y="37861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Хорошие спектак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концерты классической музы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долго хранятся в памя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Пусть же впечатление от н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не будет испорчено незн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элементарных правил п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cs6004.vk.me/u53946248/155661162/y_c1f7b82f.jpg"/>
          <p:cNvPicPr/>
          <p:nvPr/>
        </p:nvPicPr>
        <p:blipFill>
          <a:blip r:embed="rId1"/>
          <a:stretch/>
        </p:blipFill>
        <p:spPr>
          <a:xfrm>
            <a:off x="5643720" y="-71280"/>
            <a:ext cx="3357360" cy="415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Picture 4" descr="http://cs6004.vk.me/u53946248/155661162/x_e3929f4a.jpg"/>
          <p:cNvPicPr/>
          <p:nvPr/>
        </p:nvPicPr>
        <p:blipFill>
          <a:blip r:embed="rId2"/>
          <a:stretch/>
        </p:blipFill>
        <p:spPr>
          <a:xfrm>
            <a:off x="404640" y="357120"/>
            <a:ext cx="5096160" cy="30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35337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 гардеробе подавай своё пальто гардеробщику, перекинув его через барь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Не забудь заранее проверить, не оторвалась ли вешалка на твоём пальто, чтобы не было стыдно перед окружающими за свою неряшлив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ttp://www.gravirka.ru/uploads/posts/2009-07/1246636382_nall1.jpg"/>
          <p:cNvPicPr/>
          <p:nvPr/>
        </p:nvPicPr>
        <p:blipFill>
          <a:blip r:embed="rId1"/>
          <a:stretch/>
        </p:blipFill>
        <p:spPr>
          <a:xfrm>
            <a:off x="5786280" y="1643040"/>
            <a:ext cx="2857680" cy="1762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Picture 6" descr="http://szala.ru/wp-content/uploads/2013/05/8654024137_5cc6ae45b8_b.jpg"/>
          <p:cNvPicPr/>
          <p:nvPr/>
        </p:nvPicPr>
        <p:blipFill>
          <a:blip r:embed="rId2"/>
          <a:stretch/>
        </p:blipFill>
        <p:spPr>
          <a:xfrm>
            <a:off x="500040" y="299880"/>
            <a:ext cx="4476600" cy="29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000080" y="5002200"/>
            <a:ext cx="721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Если ты пришёл в театр с большой сумкой или пакетом, сдай их в гардеро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www.s2m.com.ua/pics/prod/thumb/314_big_verona.jpg"/>
          <p:cNvPicPr/>
          <p:nvPr/>
        </p:nvPicPr>
        <p:blipFill>
          <a:blip r:embed="rId1"/>
          <a:stretch/>
        </p:blipFill>
        <p:spPr>
          <a:xfrm>
            <a:off x="571680" y="1042920"/>
            <a:ext cx="3429000" cy="260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Picture 4" descr="http://santoro.ru/39-161-large/podarochnyy-paket-ruby-bolschoy.jpg"/>
          <p:cNvPicPr/>
          <p:nvPr/>
        </p:nvPicPr>
        <p:blipFill>
          <a:blip r:embed="rId2"/>
          <a:stretch/>
        </p:blipFill>
        <p:spPr>
          <a:xfrm>
            <a:off x="4786200" y="0"/>
            <a:ext cx="4286520" cy="428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0" y="43038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Пробираясь к своему месту, надо прох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доль ряда кресел лицом к уже сидящим зрител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предварительно сказав: «Разрешите пройт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Проходить к ним спиной некультур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primamedia.ru/f/big/352/351811.jpg"/>
          <p:cNvPicPr/>
          <p:nvPr/>
        </p:nvPicPr>
        <p:blipFill>
          <a:blip r:embed="rId1"/>
          <a:stretch/>
        </p:blipFill>
        <p:spPr>
          <a:xfrm>
            <a:off x="1643040" y="243000"/>
            <a:ext cx="6000840" cy="39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0" y="40258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Садись на то место, которое указано в твоём билете. Если же твоё место оказалось вдруг занятым и его не хотят освобождать, не вступай в спор — попроси капельдинера уладить это недоразум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as.baikal.tv/news/newsmedia/32/32666/img/kapeldineri125000!.jpg"/>
          <p:cNvPicPr/>
          <p:nvPr/>
        </p:nvPicPr>
        <p:blipFill>
          <a:blip r:embed="rId1"/>
          <a:stretch/>
        </p:blipFill>
        <p:spPr>
          <a:xfrm>
            <a:off x="142920" y="357120"/>
            <a:ext cx="4222800" cy="339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8" descr="http://as.baikal.tv/news/newsmedia/32/32666/img/kapeldineri20000!.jpg"/>
          <p:cNvPicPr/>
          <p:nvPr/>
        </p:nvPicPr>
        <p:blipFill>
          <a:blip r:embed="rId2"/>
          <a:stretch/>
        </p:blipFill>
        <p:spPr>
          <a:xfrm>
            <a:off x="4714920" y="357120"/>
            <a:ext cx="425916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428760" y="521820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Сидя в кресле, не клади руки на оба подлокот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www.taberik.org/articles/simurg-2013/simurg-2013-01.jpg"/>
          <p:cNvPicPr/>
          <p:nvPr/>
        </p:nvPicPr>
        <p:blipFill>
          <a:blip r:embed="rId1"/>
          <a:stretch/>
        </p:blipFill>
        <p:spPr>
          <a:xfrm>
            <a:off x="1333440" y="452520"/>
            <a:ext cx="6667560" cy="447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0" y="43038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 высшей степени невежливо во время спектакля обращаться с вопросами к соседям, комментировать происходящее на сцене, разговаривать, шелестеть программкой, шуршать обертками, 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ttps://encrypted-tbn3.gstatic.com/images?q=tbn:ANd9GcRNZNOukdUZpNfEIoXKqYAgyUwRYMDKB8zU6t7lfKb9tbpf0ohj"/>
          <p:cNvPicPr/>
          <p:nvPr/>
        </p:nvPicPr>
        <p:blipFill>
          <a:blip r:embed="rId1"/>
          <a:stretch/>
        </p:blipFill>
        <p:spPr>
          <a:xfrm>
            <a:off x="4654440" y="1346040"/>
            <a:ext cx="4203720" cy="279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6" descr="https://encrypted-tbn2.gstatic.com/images?q=tbn:ANd9GcR3pbNYu_ZSGVUoorWhu-07AQH9qVHD9qVCXDwWQHHw1Qb02665"/>
          <p:cNvPicPr/>
          <p:nvPr/>
        </p:nvPicPr>
        <p:blipFill>
          <a:blip r:embed="rId2"/>
          <a:stretch/>
        </p:blipFill>
        <p:spPr>
          <a:xfrm>
            <a:off x="285840" y="214200"/>
            <a:ext cx="418608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ww.osd.ru/ftproot/users/0013348/al0000591/0000090_big.jpg"/>
          <p:cNvPicPr/>
          <p:nvPr/>
        </p:nvPicPr>
        <p:blipFill>
          <a:blip r:embed="rId1"/>
          <a:stretch/>
        </p:blipFill>
        <p:spPr>
          <a:xfrm>
            <a:off x="1749600" y="241200"/>
            <a:ext cx="5680080" cy="425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TextBox 2"/>
          <p:cNvSpPr/>
          <p:nvPr/>
        </p:nvSpPr>
        <p:spPr>
          <a:xfrm>
            <a:off x="0" y="45007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 антракте не мчись в буфет, расталкивая окружающих. Если тебе дали денег на пирожные, а ты пришёл в театр с друзьями, пригласи их в буфет и уг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0" y="42861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Главное правило, неукоснительно соблюдаемое воспитанным человеком в театре, — поддержание глубокой тишины. Мобильные телефоны нужно обязательно выключить до начала представ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mobiguru.ru/f/image/4/9/0/3/6/49036683_nokia_c2-06_1.jpg"/>
          <p:cNvPicPr/>
          <p:nvPr/>
        </p:nvPicPr>
        <p:blipFill>
          <a:blip r:embed="rId1"/>
          <a:stretch/>
        </p:blipFill>
        <p:spPr>
          <a:xfrm>
            <a:off x="5786280" y="357120"/>
            <a:ext cx="328644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Picture 4" descr="http://sever.lg.ua/sites/sever.lg.ua/files/zapret_mob.jpg"/>
          <p:cNvPicPr/>
          <p:nvPr/>
        </p:nvPicPr>
        <p:blipFill>
          <a:blip r:embed="rId2"/>
          <a:stretch/>
        </p:blipFill>
        <p:spPr>
          <a:xfrm>
            <a:off x="6691320" y="2028960"/>
            <a:ext cx="2381400" cy="240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6" descr="http://www.tnaneve.spb.ru/pic/annot/saltan/02.jpg"/>
          <p:cNvPicPr/>
          <p:nvPr/>
        </p:nvPicPr>
        <p:blipFill>
          <a:blip r:embed="rId3"/>
          <a:stretch/>
        </p:blipFill>
        <p:spPr>
          <a:xfrm>
            <a:off x="371520" y="311040"/>
            <a:ext cx="5200560" cy="376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18:59:03Z</dcterms:created>
  <dc:creator>yana</dc:creator>
  <dc:description/>
  <dc:language>en-US</dc:language>
  <cp:lastModifiedBy>Дом-1</cp:lastModifiedBy>
  <dcterms:modified xsi:type="dcterms:W3CDTF">2016-12-04T12:14:27Z</dcterms:modified>
  <cp:revision>22</cp:revision>
  <dc:subject/>
  <dc:title>Правила поведения в театре</dc:title>
</cp:coreProperties>
</file>