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15F-8B25-472F-9389-9FA49217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E88-E474-47D1-855E-3BE58DAF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265-022B-458C-B193-2E311E27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04B-642A-4A5E-9C1B-648361B9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F8B-B5CA-4F17-9B08-7762670C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B5C-ED4A-42BD-BA5A-3707801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0B0-22BB-4900-90BB-4B1DA54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4D5-3DD4-44E7-AF0A-91FF04F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0AF-844F-4176-9CA9-4C0F4F2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471-2938-4542-99E7-B693B29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CAA-B23A-409B-AF3A-117F7D7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5DF-5A33-4ABC-B723-CB81F18F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840-D137-469C-BE0C-310D04A07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-531720"/>
            <a:ext cx="8424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3200" spc="1" strike="noStrike">
              <a:ln w="1260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85840" y="2928960"/>
            <a:ext cx="8497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cc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Impact"/>
              </a:rPr>
              <a:t>История шахмат</a:t>
            </a:r>
            <a:endParaRPr b="0" lang="en-US" sz="32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cc00"/>
                  </a:gs>
                  <a:gs pos="100000">
                    <a:srgbClr val="ff66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84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59280" y="-360"/>
            <a:ext cx="6084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Древний Египет - «тау» (1270 лет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ревняя Греции – «петте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(V в. до н.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ревний Рим – «латрункул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(I–II вв. до н.э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3780000" y="3429000"/>
            <a:ext cx="4870440" cy="32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5"/>
          <p:cNvPicPr/>
          <p:nvPr/>
        </p:nvPicPr>
        <p:blipFill>
          <a:blip r:embed="rId2"/>
          <a:stretch/>
        </p:blipFill>
        <p:spPr>
          <a:xfrm>
            <a:off x="179280" y="404640"/>
            <a:ext cx="2828880" cy="4999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8"/>
          <p:cNvPicPr/>
          <p:nvPr/>
        </p:nvPicPr>
        <p:blipFill>
          <a:blip r:embed="rId1"/>
          <a:stretch/>
        </p:blipFill>
        <p:spPr>
          <a:xfrm>
            <a:off x="1979640" y="1125360"/>
            <a:ext cx="5388120" cy="551196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611280" y="0"/>
            <a:ext cx="82818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Impact"/>
              </a:rPr>
              <a:t>Чатуранга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p:transition spd="med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1280" y="1341000"/>
            <a:ext cx="4932360" cy="21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«Шах» -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ластитель в опасности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«Шах мат» - 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ластитель поги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7"/>
          <p:cNvPicPr/>
          <p:nvPr/>
        </p:nvPicPr>
        <p:blipFill>
          <a:blip r:embed="rId1"/>
          <a:stretch/>
        </p:blipFill>
        <p:spPr>
          <a:xfrm>
            <a:off x="179280" y="260280"/>
            <a:ext cx="4135680" cy="6292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9.jpg"/>
          <p:cNvPicPr/>
          <p:nvPr/>
        </p:nvPicPr>
        <p:blipFill>
          <a:blip r:embed="rId2"/>
          <a:stretch/>
        </p:blipFill>
        <p:spPr>
          <a:xfrm>
            <a:off x="5148360" y="3860640"/>
            <a:ext cx="3601800" cy="27864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4427640" y="260280"/>
            <a:ext cx="471636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Шатранг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00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27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В Россию эту игру завезли в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IX – X </a:t>
            </a:r>
            <a:r>
              <a:rPr b="1" i="1" lang="ru-RU" sz="4400" spc="-1" strike="noStrike">
                <a:solidFill>
                  <a:srgbClr val="800000"/>
                </a:solidFill>
                <a:latin typeface="Arial"/>
              </a:rPr>
              <a:t>ве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5" descr="IMGP8396.JPG"/>
          <p:cNvPicPr/>
          <p:nvPr/>
        </p:nvPicPr>
        <p:blipFill>
          <a:blip r:embed="rId1"/>
          <a:stretch/>
        </p:blipFill>
        <p:spPr>
          <a:xfrm>
            <a:off x="1619280" y="1628640"/>
            <a:ext cx="5905440" cy="4981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7:51:48Z</dcterms:created>
  <dc:creator>Соколова</dc:creator>
  <dc:description/>
  <dc:language>en-US</dc:language>
  <cp:lastModifiedBy>Учитель</cp:lastModifiedBy>
  <dcterms:modified xsi:type="dcterms:W3CDTF">2016-12-02T10:50:02Z</dcterms:modified>
  <cp:revision>62</cp:revision>
  <dc:subject/>
  <dc:title>Слайд 1</dc:title>
</cp:coreProperties>
</file>