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2D9-5EB2-42FC-8C40-70FD2E63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DC3-F510-4D83-8179-2EE3E521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D9F-0268-4B43-A14B-21B4FCE3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A7B-EC3E-4D6E-89C3-715C2DDA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2E0-6D02-4E6B-99CB-3950190E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3F8-0860-4E9E-80EE-50F98B77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1ED-5B84-4EE4-8945-32896517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801-FEB8-4E73-89B7-759CB28B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507-1A99-49DD-A452-AE1F5852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684-9E23-4A76-97E4-F09E295B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A9D-3F63-4629-B250-4F863E76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86F1-FEE4-4D73-AE64-19447851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C35D-204C-46CA-99E0-FAEF1B3CE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8;&#1079;&#1086;&#1073;&#1088;&#1072;&#1078;&#1077;&#1085;&#1080;&#1077;:Chess_piece_-_White_king.jp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8;&#1079;&#1086;&#1073;&#1088;&#1072;&#1078;&#1077;&#1085;&#1080;&#1077;:Chess_piece_-_White_queen.jpg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Arial"/>
              </a:rPr>
              <a:t>«Спорьте, заблуждайтесь, ошибайтесь, но, ради Бога, размышляйте, </a:t>
            </a:r>
            <a:br>
              <a:rPr sz="6000"/>
            </a:br>
            <a:r>
              <a:rPr b="1" i="1" lang="ru-RU" sz="6000" spc="-1" strike="noStrike">
                <a:solidFill>
                  <a:srgbClr val="800000"/>
                </a:solidFill>
                <a:latin typeface="Arial"/>
              </a:rPr>
              <a:t>и хотя криво – </a:t>
            </a:r>
            <a:br>
              <a:rPr sz="6000"/>
            </a:br>
            <a:r>
              <a:rPr b="1" i="1" lang="ru-RU" sz="6000" spc="-1" strike="noStrike">
                <a:solidFill>
                  <a:srgbClr val="800000"/>
                </a:solidFill>
                <a:latin typeface="Arial"/>
              </a:rPr>
              <a:t>да сами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660720" y="609300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Г. Лесс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26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2" name="Рисунок 85" descr="http://upload.wikimedia.org/wikipedia/commons/thumb/3/31/Chess_piece_-_White_knight.JPG/100px-Chess_piece_-_White_knight.JPG"/>
          <p:cNvPicPr/>
          <p:nvPr/>
        </p:nvPicPr>
        <p:blipFill>
          <a:blip r:embed="rId2"/>
          <a:stretch/>
        </p:blipFill>
        <p:spPr>
          <a:xfrm>
            <a:off x="2933640" y="1170000"/>
            <a:ext cx="2738520" cy="482436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1332000" y="117360"/>
            <a:ext cx="53290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0000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Impact"/>
              </a:rPr>
              <a:t>Конь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0000"/>
                  </a:gs>
                  <a:gs pos="100000">
                    <a:srgbClr val="ffff00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692360" y="5987880"/>
            <a:ext cx="56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«Сделать ход конё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118160" y="40464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Битое поле -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354560" y="18900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Поле или поля, котор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контролируются пеш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или любой другой фигу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332360" y="1773360"/>
            <a:ext cx="293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Иг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«вслепую»</a:t>
            </a: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717080" y="1628640"/>
            <a:ext cx="402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Игра не глядя на дос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одна из разновид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показа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ыступ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042920" y="3573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Легкая парт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215320" y="3284640"/>
            <a:ext cx="392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Партия, сыгра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не соревн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без часов и без запис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118520" y="5157720"/>
            <a:ext cx="35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Ложный след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5078520" y="5084640"/>
            <a:ext cx="354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Кажущийся наи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легким пу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к решению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250920" y="-531720"/>
            <a:ext cx="842472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3200" spc="1" strike="noStrike">
              <a:ln w="12600">
                <a:solidFill>
                  <a:srgbClr val="ff99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85840" y="2928960"/>
            <a:ext cx="84978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cc0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Impact"/>
              </a:rPr>
              <a:t>Л о ж н ы й   с л е д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cc00"/>
                  </a:gs>
                  <a:gs pos="100000">
                    <a:srgbClr val="ff66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38420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7" descr="32.jpg"/>
          <p:cNvPicPr/>
          <p:nvPr/>
        </p:nvPicPr>
        <p:blipFill>
          <a:blip r:embed="rId2"/>
          <a:stretch/>
        </p:blipFill>
        <p:spPr>
          <a:xfrm>
            <a:off x="179280" y="189000"/>
            <a:ext cx="2743200" cy="303048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684360" y="260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Лад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9" descr="40.jpg"/>
          <p:cNvPicPr/>
          <p:nvPr/>
        </p:nvPicPr>
        <p:blipFill>
          <a:blip r:embed="rId3"/>
          <a:stretch/>
        </p:blipFill>
        <p:spPr>
          <a:xfrm>
            <a:off x="6877080" y="189000"/>
            <a:ext cx="2103480" cy="32432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18.jpg"/>
          <p:cNvPicPr/>
          <p:nvPr/>
        </p:nvPicPr>
        <p:blipFill>
          <a:blip r:embed="rId4"/>
          <a:stretch/>
        </p:blipFill>
        <p:spPr>
          <a:xfrm>
            <a:off x="2220840" y="2781360"/>
            <a:ext cx="1212840" cy="38876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28.jpg"/>
          <p:cNvPicPr/>
          <p:nvPr/>
        </p:nvPicPr>
        <p:blipFill>
          <a:blip r:embed="rId5"/>
          <a:stretch/>
        </p:blipFill>
        <p:spPr>
          <a:xfrm>
            <a:off x="6084720" y="2781360"/>
            <a:ext cx="1248120" cy="3816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24.jpg"/>
          <p:cNvPicPr/>
          <p:nvPr/>
        </p:nvPicPr>
        <p:blipFill>
          <a:blip r:embed="rId6"/>
          <a:stretch/>
        </p:blipFill>
        <p:spPr>
          <a:xfrm>
            <a:off x="324000" y="3357720"/>
            <a:ext cx="1612800" cy="32446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4" descr="36.jpg"/>
          <p:cNvPicPr/>
          <p:nvPr/>
        </p:nvPicPr>
        <p:blipFill>
          <a:blip r:embed="rId7"/>
          <a:stretch/>
        </p:blipFill>
        <p:spPr>
          <a:xfrm>
            <a:off x="3492360" y="1989000"/>
            <a:ext cx="2517840" cy="3876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37.jpg"/>
          <p:cNvPicPr/>
          <p:nvPr/>
        </p:nvPicPr>
        <p:blipFill>
          <a:blip r:embed="rId8"/>
          <a:stretch/>
        </p:blipFill>
        <p:spPr>
          <a:xfrm>
            <a:off x="7740720" y="3554280"/>
            <a:ext cx="1114200" cy="3043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6"/>
          <p:cNvSpPr/>
          <p:nvPr/>
        </p:nvSpPr>
        <p:spPr>
          <a:xfrm>
            <a:off x="397080" y="595008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ер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6229800" y="64911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Фер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8"/>
          <p:cNvSpPr/>
          <p:nvPr/>
        </p:nvSpPr>
        <p:spPr>
          <a:xfrm>
            <a:off x="2196360" y="623736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9"/>
          <p:cNvSpPr/>
          <p:nvPr/>
        </p:nvSpPr>
        <p:spPr>
          <a:xfrm>
            <a:off x="6948360" y="189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л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7812000" y="6488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о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3635280" y="59500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2916360" y="0"/>
            <a:ext cx="417672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00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Шахматные </a:t>
            </a:r>
            <a:endParaRPr b="0" lang="en-US" sz="2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00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00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фигуры</a:t>
            </a:r>
            <a:endParaRPr b="0" lang="en-US" sz="2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00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ransition spd="med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5"/>
          <p:cNvSpPr txBox="1"/>
          <p:nvPr/>
        </p:nvSpPr>
        <p:spPr>
          <a:xfrm>
            <a:off x="395280" y="0"/>
            <a:ext cx="8424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0000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Impact"/>
              </a:rPr>
              <a:t>Современные шахматы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0000"/>
                  </a:gs>
                  <a:gs pos="100000">
                    <a:srgbClr val="ffff00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pic>
        <p:nvPicPr>
          <p:cNvPr id="62" name="Picture 6" descr="44"/>
          <p:cNvPicPr/>
          <p:nvPr/>
        </p:nvPicPr>
        <p:blipFill>
          <a:blip r:embed="rId2"/>
          <a:stretch/>
        </p:blipFill>
        <p:spPr>
          <a:xfrm>
            <a:off x="1476360" y="1628640"/>
            <a:ext cx="7199280" cy="4888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476000" y="-360"/>
            <a:ext cx="4537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КРЕСЛОНОТЫ -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БАЛКОНДЕНЬ -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БАЛБАДЬЯ -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ФЕРМАКНЯЗЬ -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ЛИНКОРОЛЬХА</a:t>
            </a: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  -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942880" y="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Сл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942160" y="1357200"/>
            <a:ext cx="14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Ко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508720" y="292428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Лад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014160" y="423720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Ферз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518880" y="5749920"/>
            <a:ext cx="20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Кор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00280" y="1341360"/>
            <a:ext cx="2656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0" name="Picture 3" descr="100px-Chess_piece_-_White_k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1268280"/>
            <a:ext cx="3187800" cy="545652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1116000" y="0"/>
            <a:ext cx="6840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00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Король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00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ransition spd="med"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505" descr="http://upload.wikimedia.org/wikipedia/commons/thumb/a/af/Chess_piece_-_White_queen.jpg/100px-Chess_piece_-_White_quee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01880" y="1233360"/>
            <a:ext cx="3052800" cy="52293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3492360" y="121428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1890720" y="0"/>
            <a:ext cx="532908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0000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Impact"/>
              </a:rPr>
              <a:t>Ферзь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0000"/>
                  </a:gs>
                  <a:gs pos="100000">
                    <a:srgbClr val="ffff00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</p:spTree>
  </p:cSld>
  <p:transition spd="med">
    <p:wipe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14840" y="1267920"/>
            <a:ext cx="517824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25" descr="http://upload.wikimedia.org/wikipedia/commons/thumb/f/fe/Chess_piece_-_White_rook.JPG/100px-Chess_piece_-_White_rook.JPG"/>
          <p:cNvPicPr/>
          <p:nvPr/>
        </p:nvPicPr>
        <p:blipFill>
          <a:blip r:embed="rId2"/>
          <a:stretch/>
        </p:blipFill>
        <p:spPr>
          <a:xfrm>
            <a:off x="2627280" y="1413000"/>
            <a:ext cx="3059280" cy="518472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1979640" y="115920"/>
            <a:ext cx="5257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0000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Impact"/>
              </a:rPr>
              <a:t>Ладья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0000"/>
                  </a:gs>
                  <a:gs pos="100000">
                    <a:srgbClr val="ffff00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35280" y="1197000"/>
            <a:ext cx="550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9" name="Рисунок 366" descr="http://upload.wikimedia.org/wikipedia/commons/thumb/b/ba/Chess_piece_-_Black_bishop.JPG/100px-Chess_piece_-_Black_bishop.JPG"/>
          <p:cNvPicPr/>
          <p:nvPr/>
        </p:nvPicPr>
        <p:blipFill>
          <a:blip r:embed="rId2"/>
          <a:stretch/>
        </p:blipFill>
        <p:spPr>
          <a:xfrm>
            <a:off x="2989440" y="1312920"/>
            <a:ext cx="3024000" cy="526572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1979640" y="115920"/>
            <a:ext cx="50418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0000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Impact"/>
              </a:rPr>
              <a:t>Слон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0000"/>
                  </a:gs>
                  <a:gs pos="100000">
                    <a:srgbClr val="ffff00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</p:spTree>
  </p:cSld>
  <p:transition spd="med">
    <p:wheel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07:51:48Z</dcterms:created>
  <dc:creator>Соколова</dc:creator>
  <dc:description/>
  <dc:language>en-US</dc:language>
  <cp:lastModifiedBy>Nagejda</cp:lastModifiedBy>
  <dcterms:modified xsi:type="dcterms:W3CDTF">2016-12-03T11:03:10Z</dcterms:modified>
  <cp:revision>61</cp:revision>
  <dc:subject/>
  <dc:title>Слайд 1</dc:title>
</cp:coreProperties>
</file>