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C648-467F-4416-B66A-3DF07B342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75A4-A632-4746-B7E7-DFFE68C2F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464-1E18-4A03-840D-7F1CC722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6D5-D539-4213-B96B-28DF464B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8CF-5FE4-482E-AC78-34FB5218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76F-5877-44D1-B22E-EEEA6867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72D-6D2D-40DB-89CD-78118275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E34-2463-4060-A9CB-C633DF6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368-C586-4F5F-AFA1-5568A5FA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121-0F78-4FE2-AB6D-9B1336A7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735-415F-4CFD-9495-3BE286E5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9DF-B314-4A51-A752-16E07DD1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638-8C89-454B-B2FE-274EDBF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F5D-1E11-499D-B2A5-68AB4A5B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F610-6A9D-4A07-AD31-86C9F7753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рок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4 «В» клас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 теме: «Фразеологизм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61960" y="47242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ловьева Олеся Василье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0" descr="C:\Users\user56\AppData\Local\Microsoft\Windows\Temporary Internet Files\Content.IE5\TM62ATK5\MC900440424[1].wmf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940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 rot="1502400">
            <a:off x="1462680" y="4141800"/>
            <a:ext cx="31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49cdc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749cdc"/>
                </a:solidFill>
                <a:latin typeface="Calibri"/>
              </a:rPr>
              <a:t>Как рождаются фразеологизмы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742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13200" indent="-26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жды в мастерской  жили две дужки и стержень, которые использовали  и вместе и по отдельности.  Но однажды рабочий взял их, включил аппарат и сварил в одну необходимую новую деталь в виде буквы Ф. Живут себе поживают слова-детали, ими пользуются по отдельности, но, когда возникает необходимость, слова сливаются в неделимые сочетания - фразеологизмы.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т сло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кнуть, за, пояс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фразеологизм 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заткнуть за поя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200" indent="-26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r>
              <a:rPr b="1" i="1" lang="ru-RU" sz="2400" spc="-1" strike="noStrike">
                <a:solidFill>
                  <a:srgbClr val="ffc000"/>
                </a:solidFill>
                <a:latin typeface="Calibri"/>
              </a:rPr>
              <a:t>                    легко справи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200" indent="-26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alibri"/>
              </a:rPr>
              <a:t>                                   </a:t>
            </a:r>
            <a:r>
              <a:rPr b="1" i="1" lang="ru-RU" sz="2400" spc="-1" strike="noStrike">
                <a:solidFill>
                  <a:srgbClr val="ffc000"/>
                </a:solidFill>
                <a:latin typeface="Calibri"/>
              </a:rPr>
              <a:t>с кем-либ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rudocs.exdat.com/pars_docs/tw_refs/126/125184/125184_html_504d58d.jpg"/>
          <p:cNvPicPr/>
          <p:nvPr/>
        </p:nvPicPr>
        <p:blipFill>
          <a:blip r:embed="rId1"/>
          <a:stretch/>
        </p:blipFill>
        <p:spPr>
          <a:xfrm>
            <a:off x="285840" y="685800"/>
            <a:ext cx="857232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rudocs.exdat.com/pars_docs/tw_refs/126/125184/125184_html_41df8870.jpg"/>
          <p:cNvPicPr/>
          <p:nvPr/>
        </p:nvPicPr>
        <p:blipFill>
          <a:blip r:embed="rId2"/>
          <a:stretch/>
        </p:blipFill>
        <p:spPr>
          <a:xfrm>
            <a:off x="6470640" y="4952880"/>
            <a:ext cx="267336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762120" y="121932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бы вырасти  в глазах другого человека, вовсе не нужно строить глазки и есть его глазами. Иначе вы можете намозолить глаза. И тогда человек, у которого глаз намётан, сверкнёт глазами и скажет: с глаз до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знай фразеолог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1335240" y="1066680"/>
            <a:ext cx="6400800" cy="39196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"/>
          <p:cNvSpPr/>
          <p:nvPr/>
        </p:nvSpPr>
        <p:spPr>
          <a:xfrm>
            <a:off x="914400" y="48769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мотрит как баран на новые вор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2209680" y="55627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чен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дивлё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знай фразеолог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7" descr=""/>
          <p:cNvPicPr/>
          <p:nvPr/>
        </p:nvPicPr>
        <p:blipFill>
          <a:blip r:embed="rId1"/>
          <a:stretch/>
        </p:blipFill>
        <p:spPr>
          <a:xfrm>
            <a:off x="1828800" y="1176480"/>
            <a:ext cx="4919760" cy="3603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619280" y="5084640"/>
            <a:ext cx="5761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981080" y="4572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есть в луж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85800" y="53341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казаться в неловком, смешном поло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Игра «Отгадай фразеологиз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img1"/>
          <p:cNvPicPr/>
          <p:nvPr/>
        </p:nvPicPr>
        <p:blipFill>
          <a:blip r:embed="rId1"/>
          <a:stretch/>
        </p:blipFill>
        <p:spPr>
          <a:xfrm>
            <a:off x="395280" y="1916280"/>
            <a:ext cx="4608360" cy="3938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671800" y="299736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Arial"/>
              </a:rPr>
              <a:t>Белая 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5562360" cy="1066680"/>
          </a:xfrm>
          <a:prstGeom prst="rect">
            <a:avLst/>
          </a:prstGeom>
          <a:gradFill rotWithShape="0">
            <a:gsLst>
              <a:gs pos="0">
                <a:srgbClr val="979774"/>
              </a:gs>
              <a:gs pos="100000">
                <a:srgbClr val="ffffc8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ведём итоги.Рефлекс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752120"/>
            <a:ext cx="824400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фразеологиз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ую роль выполняют фразеологизмы в нашей ре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977867-364be28fe42f6b80"/>
          <p:cNvPicPr/>
          <p:nvPr/>
        </p:nvPicPr>
        <p:blipFill>
          <a:blip r:embed="rId1"/>
          <a:stretch/>
        </p:blipFill>
        <p:spPr>
          <a:xfrm>
            <a:off x="6572160" y="4389480"/>
            <a:ext cx="2143080" cy="24685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1447920" y="426708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идеть сложа руки, бить баклуши, работать не покладая рук, лодыря гонять, засучив рук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1" descr=""/>
          <p:cNvPicPr/>
          <p:nvPr/>
        </p:nvPicPr>
        <p:blipFill>
          <a:blip r:embed="rId1"/>
          <a:stretch/>
        </p:blipFill>
        <p:spPr>
          <a:xfrm>
            <a:off x="590400" y="1090440"/>
            <a:ext cx="8115480" cy="9036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762120" y="190512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 выб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выписать из словаря Ожегова фразеологизмы со словом глаза, не звучавшие на урок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выписать из словаря фразеологизмов учебника  (с.157) пять понравившихся устойчивых сочетаний с толкованием их зна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делать иллюстрацию к понравившемуся фразеологиз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2" descr=""/>
          <p:cNvPicPr/>
          <p:nvPr/>
        </p:nvPicPr>
        <p:blipFill>
          <a:blip r:embed="rId1"/>
          <a:stretch/>
        </p:blipFill>
        <p:spPr>
          <a:xfrm>
            <a:off x="719280" y="585720"/>
            <a:ext cx="76435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K:\ProPowerPoint\Шаблоны\ОБРАЗОВАНИЕ\Школьная доска\ShkolDoska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376920"/>
            <a:ext cx="8362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sto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ф  фа  Фо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ть засучив рука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>
            <a:off x="250920" y="4076640"/>
            <a:ext cx="8642160" cy="0"/>
          </a:xfrm>
          <a:prstGeom prst="line">
            <a:avLst/>
          </a:prstGeom>
          <a:ln cap="rnd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0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cap="rnd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1"/>
          <p:cNvSpPr/>
          <p:nvPr/>
        </p:nvSpPr>
        <p:spPr>
          <a:xfrm>
            <a:off x="285840" y="1643040"/>
            <a:ext cx="8642160" cy="0"/>
          </a:xfrm>
          <a:prstGeom prst="line">
            <a:avLst/>
          </a:prstGeom>
          <a:ln cap="rnd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250920" y="1989000"/>
            <a:ext cx="8642160" cy="0"/>
          </a:xfrm>
          <a:prstGeom prst="line">
            <a:avLst/>
          </a:prstGeom>
          <a:ln cap="rnd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4"/>
          <p:cNvSpPr/>
          <p:nvPr/>
        </p:nvSpPr>
        <p:spPr>
          <a:xfrm>
            <a:off x="142920" y="2786040"/>
            <a:ext cx="8642160" cy="0"/>
          </a:xfrm>
          <a:prstGeom prst="line">
            <a:avLst/>
          </a:prstGeom>
          <a:ln cap="rnd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5"/>
          <p:cNvSpPr/>
          <p:nvPr/>
        </p:nvSpPr>
        <p:spPr>
          <a:xfrm>
            <a:off x="214200" y="3071880"/>
            <a:ext cx="8642520" cy="0"/>
          </a:xfrm>
          <a:prstGeom prst="line">
            <a:avLst/>
          </a:prstGeom>
          <a:ln cap="rnd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возврат 17">
            <a:hlinkClick r:id="rId2" action="ppaction://hlinksldjump"/>
          </p:cNvPr>
          <p:cNvSpPr/>
          <p:nvPr/>
        </p:nvSpPr>
        <p:spPr>
          <a:xfrm>
            <a:off x="7740720" y="573264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7493"/>
                </a:moveTo>
                <a:lnTo>
                  <a:pt x="18063" y="7493"/>
                </a:lnTo>
                <a:lnTo>
                  <a:pt x="18063" y="12828"/>
                </a:lnTo>
                <a:cubicBezTo>
                  <a:pt x="18063" y="13751"/>
                  <a:pt x="18863" y="14482"/>
                  <a:pt x="19899" y="14482"/>
                </a:cubicBezTo>
                <a:lnTo>
                  <a:pt x="21562" y="14482"/>
                </a:lnTo>
                <a:cubicBezTo>
                  <a:pt x="22597" y="14482"/>
                  <a:pt x="23398" y="13751"/>
                  <a:pt x="23398" y="12828"/>
                </a:cubicBezTo>
                <a:lnTo>
                  <a:pt x="23398" y="7493"/>
                </a:lnTo>
                <a:lnTo>
                  <a:pt x="21562" y="7493"/>
                </a:lnTo>
                <a:lnTo>
                  <a:pt x="25069" y="3985"/>
                </a:lnTo>
                <a:lnTo>
                  <a:pt x="28742" y="7493"/>
                </a:lnTo>
                <a:lnTo>
                  <a:pt x="26906" y="7493"/>
                </a:lnTo>
                <a:lnTo>
                  <a:pt x="26906" y="12828"/>
                </a:lnTo>
                <a:cubicBezTo>
                  <a:pt x="26906" y="15596"/>
                  <a:pt x="24329" y="18155"/>
                  <a:pt x="21562" y="18155"/>
                </a:cubicBezTo>
                <a:lnTo>
                  <a:pt x="19899" y="18155"/>
                </a:lnTo>
                <a:cubicBezTo>
                  <a:pt x="17131" y="18155"/>
                  <a:pt x="14555" y="15596"/>
                  <a:pt x="14555" y="12828"/>
                </a:cubicBez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>
            <a:off x="250920" y="5084640"/>
            <a:ext cx="8642160" cy="0"/>
          </a:xfrm>
          <a:prstGeom prst="line">
            <a:avLst/>
          </a:prstGeom>
          <a:ln cap="rnd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6"/>
          <p:cNvSpPr/>
          <p:nvPr/>
        </p:nvSpPr>
        <p:spPr>
          <a:xfrm>
            <a:off x="324000" y="5445000"/>
            <a:ext cx="8640720" cy="0"/>
          </a:xfrm>
          <a:prstGeom prst="line">
            <a:avLst/>
          </a:prstGeom>
          <a:ln cap="rnd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838080" y="114300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ы очень устойчи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просим настойчиво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слова нас не меня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ямо так употребля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9320" y="114300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dobe Hebrew"/>
              </a:rPr>
              <a:t>Бить баклу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dobe Hebrew"/>
              </a:rPr>
              <a:t>Сидеть сложа р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752480" y="48006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ngsana New"/>
              </a:rPr>
              <a:t>бездельнич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838080" y="11430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 весь ду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мя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 всех н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981080" y="4876920"/>
            <a:ext cx="518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ngsana New"/>
              </a:rPr>
              <a:t>быстр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838080" y="1143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дить за н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981080" y="4876920"/>
            <a:ext cx="518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ngsana New"/>
              </a:rPr>
              <a:t>обманы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838080" y="1143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оить гл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981080" y="4876920"/>
            <a:ext cx="518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ngsana New"/>
              </a:rPr>
              <a:t>привлекать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Учат в школе.mp3" descr=""/>
          <p:cNvPicPr/>
          <p:nvPr/>
        </p:nvPicPr>
        <p:blipFill>
          <a:blip r:embed="rId1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0"/>
          <p:cNvSpPr/>
          <p:nvPr/>
        </p:nvSpPr>
        <p:spPr>
          <a:xfrm>
            <a:off x="838080" y="1371600"/>
            <a:ext cx="7467840" cy="3733920"/>
          </a:xfrm>
          <a:custGeom>
            <a:avLst/>
            <a:gdLst>
              <a:gd name="textAreaLeft" fmla="*/ 1886400 w 7467840"/>
              <a:gd name="textAreaRight" fmla="*/ 5581440 w 7467840"/>
              <a:gd name="textAreaTop" fmla="*/ 0 h 3733920"/>
              <a:gd name="textAreaBottom" fmla="*/ 36169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21600" hR="21795" stAng="7186638" swAng="-934573"/>
                <a:lnTo>
                  <a:pt x="5456" y="20922"/>
                </a:lnTo>
                <a:arcTo wR="21600" hR="21795" stAng="6252064" swAng="-1704128"/>
                <a:lnTo>
                  <a:pt x="16144" y="23842"/>
                </a:lnTo>
                <a:arcTo wR="21600" hR="21795" stAng="4547936" swAng="-934573"/>
                <a:lnTo>
                  <a:pt x="18900" y="12130"/>
                </a:lnTo>
                <a:lnTo>
                  <a:pt x="21600" y="0"/>
                </a:lnTo>
                <a:lnTo>
                  <a:pt x="21600" y="0"/>
                </a:lnTo>
                <a:arcTo wR="21600" hR="21795" stAng="3613362" swAng="1368515"/>
                <a:lnTo>
                  <a:pt x="13444" y="-164"/>
                </a:lnTo>
                <a:arcTo wR="21600" hR="21795" stAng="4981877" swAng="836245"/>
                <a:lnTo>
                  <a:pt x="8156" y="2756"/>
                </a:lnTo>
                <a:arcTo wR="21600" hR="21795" stAng="5818123" swAng="1368515"/>
                <a:lnTo>
                  <a:pt x="2700" y="12130"/>
                </a:lnTo>
                <a:close/>
              </a:path>
              <a:path fill="none" w="21600" h="21600">
                <a:moveTo>
                  <a:pt x="8156" y="-164"/>
                </a:moveTo>
                <a:arcTo wR="21600" hR="21795" stAng="5818123" swAng="433941"/>
                <a:lnTo>
                  <a:pt x="8156" y="2756"/>
                </a:lnTo>
              </a:path>
              <a:path fill="none" w="21600" h="21600">
                <a:moveTo>
                  <a:pt x="13444" y="-164"/>
                </a:moveTo>
                <a:arcTo wR="21600" hR="21795" stAng="4981877" swAng="-433941"/>
                <a:lnTo>
                  <a:pt x="13444" y="2756"/>
                </a:lnTo>
              </a:path>
              <a:path fill="none" w="21600" h="21600">
                <a:moveTo>
                  <a:pt x="5456" y="23842"/>
                </a:moveTo>
                <a:lnTo>
                  <a:pt x="5456" y="-678"/>
                </a:lnTo>
              </a:path>
              <a:path fill="none" w="21600" h="21600">
                <a:moveTo>
                  <a:pt x="16144" y="23842"/>
                </a:moveTo>
                <a:lnTo>
                  <a:pt x="16144" y="-678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cc00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1219320" y="609480"/>
            <a:ext cx="6858000" cy="325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714240" y="857160"/>
            <a:ext cx="7715520" cy="2288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Фразеологизмы – это устойчивые сочетания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7" descr="C:\Users\user56\AppData\Local\Microsoft\Windows\Temporary Internet Files\Content.IE5\H6XUQPC6\MC900440452[1].wmf"/>
          <p:cNvPicPr/>
          <p:nvPr/>
        </p:nvPicPr>
        <p:blipFill>
          <a:blip r:embed="rId1"/>
          <a:stretch/>
        </p:blipFill>
        <p:spPr>
          <a:xfrm>
            <a:off x="2362320" y="2467080"/>
            <a:ext cx="3286080" cy="439092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в начало 3">
            <a:hlinkClick r:id="rId2" action="ppaction://hlinksldjump"/>
          </p:cNvPr>
          <p:cNvSpPr/>
          <p:nvPr/>
        </p:nvSpPr>
        <p:spPr>
          <a:xfrm>
            <a:off x="6934320" y="54100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59" h="21600">
                <a:moveTo>
                  <a:pt x="20231" y="10800"/>
                </a:moveTo>
                <a:lnTo>
                  <a:pt x="30736" y="3794"/>
                </a:lnTo>
                <a:lnTo>
                  <a:pt x="30736" y="17806"/>
                </a:lnTo>
                <a:close/>
              </a:path>
              <a:path fill="darken" w="47459" h="21600">
                <a:moveTo>
                  <a:pt x="16723" y="3794"/>
                </a:moveTo>
                <a:lnTo>
                  <a:pt x="18385" y="3794"/>
                </a:lnTo>
                <a:lnTo>
                  <a:pt x="18385" y="17806"/>
                </a:lnTo>
                <a:lnTo>
                  <a:pt x="16723" y="17806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аня</cp:lastModifiedBy>
  <dcterms:modified xsi:type="dcterms:W3CDTF">2016-12-04T08:04:33Z</dcterms:modified>
  <cp:revision>91</cp:revision>
  <dc:subject/>
  <dc:title>Название презентации</dc:title>
</cp:coreProperties>
</file>