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png" ContentType="image/png"/>
  <Override PartName="/ppt/media/image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FF8-F2FA-42E7-8A2C-70B242C7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37B-A16B-40A6-884D-D1D931E2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E80A-D10A-45AF-B712-E1CAF0B3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404B-CB3E-443C-AA27-A1ABB62E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E485-56A5-4145-B517-0C25273F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DE6-8242-4F22-A9D1-8BE43745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ADC9-BA60-4848-99F2-F796F03E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83E5-874F-461A-BC45-3C4977E5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726-03DC-4AA7-B3C5-6B5CC1F2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2DC-521D-4AB3-A6CB-6DD110BD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FF6-2265-4AF9-8F10-429E777E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426-DF35-4F15-BD75-C25C039E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4730-FDBF-4B6D-B1B1-A5EB466025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image" Target="../media/image33.jpe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343400" cy="2897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724280" y="380880"/>
            <a:ext cx="4114800" cy="2859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28600" y="365760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4724280" y="3657600"/>
            <a:ext cx="41054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Кто прилетел на нашу планету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Кто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потревожил нас?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81024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7920"/>
            <a:ext cx="8534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9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А мы Марсиане, мы здесь живем. Как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хорошо, что вы прилетели к нам, а то мы здесь уже заскуча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ы теперь вас не отпусти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81024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- Но если вы согласитесь выполнить наши задания, то мы подума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81024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У нас для вас есть несколько заданий, сможете выполнить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их, отпустим, а если нет, будете с нами жить! Садитесь все за столы, задание уже готово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81024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324480" y="304920"/>
            <a:ext cx="236232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5715000" cy="5753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3600" y="-52920"/>
            <a:ext cx="30481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 вас на столе лежат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еометрические фигуры. Используя схемы - образцы и наборы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еометрических фиг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 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ыложите изображени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емного животного у себя на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оле.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й, какие молодцы,  справились с заданием, но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слушайте второе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81024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29952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8120" y="152280"/>
            <a:ext cx="3657600" cy="2683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48320" y="3048120"/>
            <a:ext cx="403848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Это наш знакомый  Лунтик.  Он часто прилетает к нам в гости со своими друзьями. А зовут их как дни недели. Назовите имена Лунтико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403848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6600" y="228600"/>
            <a:ext cx="2117520" cy="2209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895480" y="2316240"/>
            <a:ext cx="3397320" cy="4541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162920" y="2362320"/>
            <a:ext cx="1730160" cy="2209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28600" y="2362320"/>
            <a:ext cx="1876320" cy="2133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6095880" y="152280"/>
            <a:ext cx="2016360" cy="2133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352680" y="-76320"/>
            <a:ext cx="2359080" cy="2522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609480" y="4724280"/>
            <a:ext cx="2470320" cy="1890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6629400" y="4724280"/>
            <a:ext cx="1565280" cy="1981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438280" y="6324480"/>
            <a:ext cx="30492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800" y="3962520"/>
            <a:ext cx="304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438280" y="1905120"/>
            <a:ext cx="3049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629400" y="6248520"/>
            <a:ext cx="304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257800" y="167652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553080" y="1828800"/>
            <a:ext cx="228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238880" y="4038480"/>
            <a:ext cx="2286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71800" y="304920"/>
            <a:ext cx="2989440" cy="2192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914400" y="259092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48320" y="27428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осмотрите на этот домик, любят отдыхать планеты солнечной системы? А вы уже знаете, что их число равно 9?  Вам нужно заселить жильцов по этажам так, чтобы два числа вместе составили число 9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13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72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13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295280" y="3962520"/>
          <a:ext cx="2514600" cy="2587680"/>
        </p:xfrm>
        <a:graphic>
          <a:graphicData uri="http://schemas.openxmlformats.org/drawingml/2006/table">
            <a:tbl>
              <a:tblPr/>
              <a:tblGrid>
                <a:gridCol w="1255680"/>
                <a:gridCol w="1258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0" y="472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295280" y="2895480"/>
            <a:ext cx="129564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2895480"/>
            <a:ext cx="12189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438280" y="327672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ы очень рады, что Вы справились и с этим заданием и предлагаем Вам составить своё созвездие, соединив цифры от 1 до 10 по порядку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81024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9080"/>
            <a:ext cx="88394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Молодцы, и с этим заданием вы справились! Нам очень не хочется с вами расставаться, но придется отпустить вас домой. 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До свидания! Ждите нас к себе в гости!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81024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83908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9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320" y="-36360"/>
            <a:ext cx="89154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11-21T04:41:0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