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405-D608-4209-A943-96CB2D11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2F3-9AB1-4EA7-9E58-87D75A00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911-3802-41D2-A9A7-2CA7F732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3E1-6A4B-43BC-9B8F-C4247B1E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572-8A3C-4CAA-BAC4-FFEEE689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6B6-0908-4652-90E7-CCD59BC8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94D-6C16-4DAF-9194-13DCE2C4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316-D4E5-45EC-BEBE-909559B1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199-4AC0-4612-AC30-2B1E07C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4F4-37F3-4648-A249-1CB46A7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5E0-6C31-4C91-9C1B-BEFE3A9D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6B4-CD8D-47D6-BF68-9C39703E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054-82F6-4D9F-BB3D-8779A781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2b50"/>
                </a:solidFill>
                <a:latin typeface="Arial Black"/>
              </a:rPr>
              <a:t>READ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21160" y="2066760"/>
            <a:ext cx="26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clo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34240" y="4651200"/>
            <a:ext cx="1937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lo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30320" y="388800"/>
            <a:ext cx="2146320" cy="2776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09920" y="747720"/>
            <a:ext cx="30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  <a:ea typeface="Arial Black"/>
              </a:rPr>
              <a:t>/kləʊz/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0960" y="3816360"/>
            <a:ext cx="4380120" cy="2627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12840" y="3554280"/>
            <a:ext cx="227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  <a:ea typeface="Arial Black"/>
              </a:rPr>
              <a:t>/lɒŋ/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.00000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.00000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363720" y="1882800"/>
            <a:ext cx="160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fis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34200" y="4889520"/>
            <a:ext cx="161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th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8440" y="612720"/>
            <a:ext cx="17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  <a:ea typeface="Arial Black"/>
              </a:rPr>
              <a:t>/fɪʃ/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8960" y="235080"/>
            <a:ext cx="4745160" cy="3162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209640" y="3397320"/>
            <a:ext cx="198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  <a:ea typeface="Arial Black"/>
              </a:rPr>
              <a:t>/ðɪs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92080" y="3718080"/>
            <a:ext cx="41720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617440" y="1962000"/>
            <a:ext cx="272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twel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2160" y="5013360"/>
            <a:ext cx="25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penc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25640" y="595440"/>
            <a:ext cx="309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</a:rPr>
              <a:t>/twelv/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4440" y="452520"/>
            <a:ext cx="3013200" cy="301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43440" y="3914640"/>
            <a:ext cx="375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  <a:ea typeface="Arial Black"/>
              </a:rPr>
              <a:t>/ˈpensəl/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4360" y="3727440"/>
            <a:ext cx="3743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676840" y="1447920"/>
            <a:ext cx="268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eras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00520" y="4842000"/>
            <a:ext cx="242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na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65400" y="349200"/>
            <a:ext cx="350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  <a:ea typeface="Arial Black"/>
              </a:rPr>
              <a:t>/ɪˈreɪzər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49200"/>
            <a:ext cx="35496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4245120"/>
            <a:ext cx="4514760" cy="1693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54360" y="3471840"/>
            <a:ext cx="3065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  <a:ea typeface="Arial Black"/>
              </a:rPr>
              <a:t>/neɪm/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40120" y="554040"/>
            <a:ext cx="18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Arial Black"/>
              </a:rPr>
              <a:t>A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5588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Times New Roman"/>
              </a:rPr>
              <a:t>[ei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80200" y="1558800"/>
            <a:ext cx="150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[æ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440" y="274320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nam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eras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calcu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16480" y="2473200"/>
            <a:ext cx="35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c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ha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bl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cam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rabb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0120" y="554040"/>
            <a:ext cx="18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Arial Black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15588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Times New Roman"/>
              </a:rPr>
              <a:t>[i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80200" y="1558800"/>
            <a:ext cx="150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[e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8440" y="2743200"/>
            <a:ext cx="383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Pe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s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gr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b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16480" y="2473200"/>
            <a:ext cx="35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penc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de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twel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40120" y="554040"/>
            <a:ext cx="18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Arial Black"/>
              </a:rPr>
              <a:t>I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15588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Times New Roman"/>
              </a:rPr>
              <a:t>[ai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80200" y="1558800"/>
            <a:ext cx="150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[i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8440" y="2743200"/>
            <a:ext cx="383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n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b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crocod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16480" y="2473200"/>
            <a:ext cx="35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p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swi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40120" y="554040"/>
            <a:ext cx="18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Arial Black"/>
              </a:rPr>
              <a:t>O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5588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Times New Roman"/>
              </a:rPr>
              <a:t>[</a:t>
            </a:r>
            <a:r>
              <a:rPr b="1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əu</a:t>
            </a: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Times New Roman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80200" y="1558800"/>
            <a:ext cx="150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[</a:t>
            </a:r>
            <a:r>
              <a:rPr b="1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ɒ</a:t>
            </a: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8440" y="2743200"/>
            <a:ext cx="383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h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t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c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16480" y="2473200"/>
            <a:ext cx="35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f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cl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40120" y="554040"/>
            <a:ext cx="18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Arial Black"/>
              </a:rPr>
              <a:t>U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38240" y="155880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Times New Roman"/>
              </a:rPr>
              <a:t>[ ju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5800" y="1558800"/>
            <a:ext cx="150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[u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8960" y="2755800"/>
            <a:ext cx="284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pup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mus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stup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62760" y="2755800"/>
            <a:ext cx="280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r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jum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b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du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1558800"/>
            <a:ext cx="194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[</a:t>
            </a:r>
            <a:r>
              <a:rPr b="0" lang="ru-RU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 </a:t>
            </a:r>
            <a:r>
              <a:rPr b="1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ʌ</a:t>
            </a:r>
            <a:r>
              <a:rPr b="1" lang="ru-RU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 </a:t>
            </a: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32240" y="2755800"/>
            <a:ext cx="2841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b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40120" y="554040"/>
            <a:ext cx="18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Arial Black"/>
              </a:rPr>
              <a:t>Y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15588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Times New Roman"/>
              </a:rPr>
              <a:t>[ai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80200" y="1558800"/>
            <a:ext cx="150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504d"/>
                </a:solidFill>
                <a:latin typeface="Arial Black"/>
                <a:ea typeface="Arial Black"/>
              </a:rPr>
              <a:t>[i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8440" y="274320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f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w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s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16480" y="2473200"/>
            <a:ext cx="354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fami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mum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fif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b50"/>
                </a:solidFill>
                <a:latin typeface="Arial Black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127480" y="2049480"/>
            <a:ext cx="297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fami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25080" y="687240"/>
            <a:ext cx="352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504d"/>
                </a:solidFill>
                <a:latin typeface="Arial Black"/>
                <a:ea typeface="Arial Black"/>
              </a:rPr>
              <a:t>/ˈfæməli/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87520" y="687240"/>
            <a:ext cx="3092400" cy="2265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53360" y="5153040"/>
            <a:ext cx="275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b50"/>
                </a:solidFill>
                <a:latin typeface="Arial Black"/>
              </a:rPr>
              <a:t>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8600" y="3760920"/>
            <a:ext cx="336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504d"/>
                </a:solidFill>
                <a:latin typeface="Arial Black"/>
                <a:ea typeface="Arial Black"/>
              </a:rPr>
              <a:t>/ˈhɪstəri/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76280" y="3389400"/>
            <a:ext cx="23036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00000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.00000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.00000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.00000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00000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.00000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.00000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.00000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.000000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c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40520" y="1770120"/>
            <a:ext cx="250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musi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85960" y="4481640"/>
            <a:ext cx="221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b50"/>
                </a:solidFill>
                <a:latin typeface="Arial Black"/>
              </a:rPr>
              <a:t>jum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920" y="673200"/>
            <a:ext cx="405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  <a:ea typeface="Arial Black"/>
              </a:rPr>
              <a:t>/ˈmjuːzɪk/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7760" y="3641760"/>
            <a:ext cx="2916360" cy="2749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18720" y="3384720"/>
            <a:ext cx="367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Arial Black"/>
                <a:ea typeface="Arial Black"/>
              </a:rPr>
              <a:t>/dʒʌmp/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5040" y="341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1:52:10Z</dcterms:created>
  <dc:creator>User</dc:creator>
  <dc:description/>
  <dc:language>en-US</dc:language>
  <cp:lastModifiedBy/>
  <dcterms:modified xsi:type="dcterms:W3CDTF">2016-12-04T10:36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47</vt:lpwstr>
  </property>
</Properties>
</file>