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951-4D24-4B66-B035-35E58F80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D1F-19DE-4E7D-A52C-FDF9886D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16D-3FB6-43C6-8219-08632832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9B6-933F-48D5-A411-E2A016D9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E12-BFFA-411C-9467-8D015A6F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019-0FEC-4309-A9D3-D1AC0ACF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460-5AB9-4A11-B32B-8BDA7F2E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FC3-9EF2-47CC-B852-7D2B5ABA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DFB-FEED-4573-ABDF-A9380B90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B82-B036-49B3-BD10-834B8FF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55E-49E6-4328-8828-56F2AD2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1F6-AE08-4480-8C56-83ED243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1E00-68BB-4FCF-BDAC-C3BED60BA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«Русские сезоны» в Пари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узы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Еткуль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ушина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«Русские сезоны» – </a:t>
            </a:r>
            <a:br>
              <a:rPr sz="4000"/>
            </a:b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это гастроли русской оперы и балета  в 1908- 1929 год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"/>
          <p:cNvPicPr/>
          <p:nvPr/>
        </p:nvPicPr>
        <p:blipFill>
          <a:blip r:embed="rId1"/>
          <a:stretch/>
        </p:blipFill>
        <p:spPr>
          <a:xfrm>
            <a:off x="360360" y="2816280"/>
            <a:ext cx="3930480" cy="652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Афиша ру"/>
          <p:cNvPicPr/>
          <p:nvPr/>
        </p:nvPicPr>
        <p:blipFill>
          <a:blip r:embed="rId2"/>
          <a:stretch/>
        </p:blipFill>
        <p:spPr>
          <a:xfrm>
            <a:off x="4495680" y="2728800"/>
            <a:ext cx="403884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ea9c9e2d078b"/>
          <p:cNvPicPr/>
          <p:nvPr/>
        </p:nvPicPr>
        <p:blipFill>
          <a:blip r:embed="rId1"/>
          <a:stretch/>
        </p:blipFill>
        <p:spPr>
          <a:xfrm>
            <a:off x="1060560" y="603360"/>
            <a:ext cx="3060720" cy="4432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572000" y="685800"/>
            <a:ext cx="388944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гей Дягилев родился 19  марта 1872 года в Новгородской губернии, в семье  военного, потомственного двор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Учился музыке у Н. А. Римского-Корсакова в Петербургской консерва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Редактор журнала «Мир искусства»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рганизовал ежегодные зарубежные выступления русских артистов, получившие название «Русские сезон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Композито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2670120" cy="337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2544480" cy="323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2449800" cy="3500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5562720"/>
            <a:ext cx="27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.Страв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200400" y="5181480"/>
            <a:ext cx="25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.Рахман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6248520" y="4495680"/>
            <a:ext cx="224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Н. Римский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орс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2895480" cy="464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1836849_costume44"/>
          <p:cNvPicPr/>
          <p:nvPr/>
        </p:nvPicPr>
        <p:blipFill>
          <a:blip r:embed="rId2"/>
          <a:stretch/>
        </p:blipFill>
        <p:spPr>
          <a:xfrm>
            <a:off x="120600" y="990720"/>
            <a:ext cx="277488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21836776_ballerina43"/>
          <p:cNvPicPr/>
          <p:nvPr/>
        </p:nvPicPr>
        <p:blipFill>
          <a:blip r:embed="rId3"/>
          <a:stretch/>
        </p:blipFill>
        <p:spPr>
          <a:xfrm>
            <a:off x="2819520" y="587520"/>
            <a:ext cx="2971800" cy="4641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5335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етр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312408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л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32448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р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219320" y="1219320"/>
            <a:ext cx="678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Петрушка – это сама жизнь. Вся музыка его полна такой бодрости, свежести, доступности, такого здорового и не подкупного веселья, такой несдержанной удали.., словно вы сами в снежно – солнечный масленый  суетливый день… попали в праздничную, хохочущую толпу и «слились с ней в неразрывное ликующее цело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.Я. Мяс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Admin</cp:lastModifiedBy>
  <dcterms:modified xsi:type="dcterms:W3CDTF">2016-12-04T07:55:59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