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AF8BA-00A4-49EF-87B7-36E5EA86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1D21D-AAC9-4F21-81AD-5A1B77C6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A3B95-51C4-4D0E-BD80-059AD11B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BA95B-513E-4354-A891-0628F1F0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8441-55CF-4904-B6F3-E65E286B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3725-B5AF-40E3-887D-90D29F77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6560-6895-469F-BFB9-7EA21482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CE8B-4212-48C1-8685-468FF4B3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922F-5715-43C6-8289-5896EAD9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EA83-A901-4F14-8B9E-48B86A80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C256-5C13-48C5-B804-24437C88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227F2-41C6-41AC-8F1B-4DFCA132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7D4D-1BD1-438F-B819-17A6C293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9FCB-CD67-4D9F-89E1-70910772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630F-5C10-48B6-8B67-722CD662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D8CA-1BFC-4E12-BB66-5A401A01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3E63-44B7-4FF9-AD97-B6E6D309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CD28B-1752-4C66-924A-FF962D54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1EABA-13E4-40C2-8EBD-CD6D2C53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E8917-86CC-4256-9D5A-F2B30EAA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8276E-8185-452E-A784-8BF6BF9E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6B0C0-0A96-4154-A8E5-017BD796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BFCD8-36C2-496F-9863-0B8045F3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FE926-472D-4DAA-9C9D-B872914A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11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1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Calibri"/>
              </a:endParaRPr>
            </a:p>
          </p:txBody>
        </p:sp>
      </p:grpSp>
      <p:grpSp>
        <p:nvGrpSpPr>
          <p:cNvPr id="3" name="Rectangle 12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4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Calibri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d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53EE-8CAD-4A35-BD73-5B133F7B1D2F}" type="slidenum">
              <a:rPr b="0" lang="en-US" sz="1200" spc="-1" strike="noStrike">
                <a:solidFill>
                  <a:srgbClr val="a79d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Freeform 5"/>
          <p:cNvSpPr/>
          <p:nvPr/>
        </p:nvSpPr>
        <p:spPr>
          <a:xfrm>
            <a:off x="8453520" y="5715000"/>
            <a:ext cx="242640" cy="431640"/>
          </a:xfrm>
          <a:custGeom>
            <a:avLst/>
            <a:gdLst/>
            <a:ahLst/>
            <a:rect l="l" t="t" r="r" b="b"/>
            <a:pathLst>
              <a:path w="153" h="272">
                <a:moveTo>
                  <a:pt x="62" y="0"/>
                </a:moveTo>
                <a:lnTo>
                  <a:pt x="0" y="0"/>
                </a:lnTo>
                <a:lnTo>
                  <a:pt x="89" y="136"/>
                </a:lnTo>
                <a:lnTo>
                  <a:pt x="89" y="136"/>
                </a:lnTo>
                <a:lnTo>
                  <a:pt x="0" y="272"/>
                </a:lnTo>
                <a:lnTo>
                  <a:pt x="62" y="272"/>
                </a:lnTo>
                <a:lnTo>
                  <a:pt x="153" y="136"/>
                </a:lnTo>
                <a:lnTo>
                  <a:pt x="62" y="0"/>
                </a:lnTo>
                <a:close/>
              </a:path>
            </a:pathLst>
          </a:custGeom>
          <a:solidFill>
            <a:srgbClr val="a79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ctangle 10"/>
          <p:cNvGrpSpPr/>
          <p:nvPr/>
        </p:nvGrpSpPr>
        <p:grpSpPr>
          <a:xfrm>
            <a:off x="0" y="0"/>
            <a:ext cx="749160" cy="6858000"/>
            <a:chOff x="0" y="0"/>
            <a:chExt cx="749160" cy="6858000"/>
          </a:xfrm>
        </p:grpSpPr>
        <p:pic>
          <p:nvPicPr>
            <p:cNvPr id="49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7459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0"/>
              <a:ext cx="7491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5b6b"/>
                </a:solidFill>
                <a:latin typeface="Calibri"/>
              </a:endParaRPr>
            </a:p>
          </p:txBody>
        </p:sp>
      </p:grpSp>
      <p:pic>
        <p:nvPicPr>
          <p:cNvPr id="51" name="Group 6" descr=""/>
          <p:cNvPicPr/>
          <p:nvPr/>
        </p:nvPicPr>
        <p:blipFill>
          <a:blip r:embed="rId4"/>
          <a:stretch/>
        </p:blipFill>
        <p:spPr>
          <a:xfrm>
            <a:off x="7467480" y="208080"/>
            <a:ext cx="658800" cy="431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150400" y="236520"/>
            <a:ext cx="78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79d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6276-AD28-46F5-9EC2-824B073A2310}" type="slidenum">
              <a:rPr b="0" lang="en-US" sz="1400" spc="-1" strike="noStrike">
                <a:solidFill>
                  <a:srgbClr val="a79d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15720" y="201240"/>
            <a:ext cx="6189480" cy="31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5d59"/>
              </a:solidFill>
              <a:latin typeface="Calibri"/>
            </a:endParaRPr>
          </a:p>
        </p:txBody>
      </p:sp>
      <p:pic>
        <p:nvPicPr>
          <p:cNvPr id="94" name="Picture 2" descr="http://images.fineartamerica.com/images-medium-large/3-herbert-spencer-english-polymath-science-source.jpg"/>
          <p:cNvPicPr/>
          <p:nvPr/>
        </p:nvPicPr>
        <p:blipFill>
          <a:blip r:embed="rId2"/>
          <a:stretch/>
        </p:blipFill>
        <p:spPr>
          <a:xfrm>
            <a:off x="3203640" y="189000"/>
            <a:ext cx="3214800" cy="424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"/>
          <p:cNvSpPr/>
          <p:nvPr/>
        </p:nvSpPr>
        <p:spPr>
          <a:xfrm>
            <a:off x="539640" y="537372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5b6b"/>
                </a:solidFill>
                <a:latin typeface="Arial"/>
              </a:rPr>
              <a:t>Выполнил: ученик 9 класса 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5b6b"/>
                </a:solidFill>
                <a:latin typeface="Arial"/>
              </a:rPr>
              <a:t>МБОУ «Вяткинская СОШ» 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5b6b"/>
                </a:solidFill>
                <a:latin typeface="Arial"/>
              </a:rPr>
              <a:t>Минаев Георгий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  <p:sp>
        <p:nvSpPr>
          <p:cNvPr id="96" name="Прямоугольник 1"/>
          <p:cNvSpPr/>
          <p:nvPr/>
        </p:nvSpPr>
        <p:spPr>
          <a:xfrm>
            <a:off x="826920" y="47242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5b6b"/>
                </a:solidFill>
                <a:latin typeface="Arial"/>
              </a:rPr>
              <a:t>Герберт Спенсер (1820-1903 гг.)</a:t>
            </a: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1412640"/>
            <a:ext cx="723888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7605"/>
                </a:solidFill>
                <a:latin typeface="Arial"/>
              </a:rPr>
              <a:t>Военный тип общества</a:t>
            </a:r>
            <a:r>
              <a:rPr b="1" lang="en-US" sz="1800" spc="-1" strike="noStrike">
                <a:solidFill>
                  <a:srgbClr val="4d5b6b"/>
                </a:solidFill>
                <a:latin typeface="Arial"/>
              </a:rPr>
              <a:t> — военные конфликты и истребление или порабощение побеждённого победителем; централизованный контроль. Государство вмешивается в промышленность, торговлю и духовную жизнь, насаждает однообразие, пассивное повиновение, безынициативность, мешает естественному приспособлению к требованиям окружающей среды. Правительственное вмешательство не только не приносит никакой пользы, но даже прямо вредно.</a:t>
            </a:r>
            <a:br>
              <a:rPr sz="1800"/>
            </a:br>
            <a:r>
              <a:rPr b="1" i="1" lang="en-US" sz="1800" spc="-1" strike="noStrike">
                <a:solidFill>
                  <a:srgbClr val="ff7605"/>
                </a:solidFill>
                <a:latin typeface="Arial"/>
              </a:rPr>
              <a:t>Промышленный тип</a:t>
            </a:r>
            <a:r>
              <a:rPr b="1" lang="en-US" sz="1800" spc="-1" strike="noStrike">
                <a:solidFill>
                  <a:srgbClr val="4d5b6b"/>
                </a:solidFill>
                <a:latin typeface="Arial"/>
              </a:rPr>
              <a:t> — промышленная конкуренция, где побеждает самый сильный в области интеллектуальных и моральных качеств. Борьба в таком обществе — благо для всего общества, так как в результате растёт интеллектуальный и моральный уровень общества в целом; политическая свобода, мирная деятельность.</a:t>
            </a:r>
            <a:br>
              <a:rPr sz="1800"/>
            </a:br>
            <a:r>
              <a:rPr b="1" lang="en-US" sz="1800" spc="-1" strike="noStrike">
                <a:solidFill>
                  <a:srgbClr val="ff7605"/>
                </a:solidFill>
                <a:latin typeface="Arial"/>
              </a:rPr>
              <a:t>Наихудший тип — </a:t>
            </a:r>
            <a:r>
              <a:rPr b="1" i="1" lang="en-US" sz="1800" spc="-1" strike="noStrike">
                <a:solidFill>
                  <a:srgbClr val="ff7605"/>
                </a:solidFill>
                <a:latin typeface="Arial"/>
              </a:rPr>
              <a:t>выживание и процветание слабейших</a:t>
            </a:r>
            <a:r>
              <a:rPr b="1" lang="en-US" sz="1800" spc="-1" strike="noStrike">
                <a:solidFill>
                  <a:srgbClr val="4d5b6b"/>
                </a:solidFill>
                <a:latin typeface="Arial"/>
              </a:rPr>
              <a:t>, то есть людей с низшими интеллектуально-моральными качествами, что приведёт к деградации всего общества.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836640"/>
            <a:ext cx="74678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Arial"/>
              </a:rPr>
              <a:t>Типы обществ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136000" cy="53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5b6b"/>
                </a:solidFill>
                <a:latin typeface="Arial"/>
              </a:rPr>
              <a:t>Три формулы объяснения социальной эволюции: </a:t>
            </a:r>
            <a:r>
              <a:rPr b="1" lang="ru-RU" sz="1600" spc="-1" strike="noStrike">
                <a:solidFill>
                  <a:srgbClr val="ff7605"/>
                </a:solidFill>
                <a:latin typeface="Arial"/>
              </a:rPr>
              <a:t>«естественный отбор», «борьба за существование», «выживание сильнейшего».</a:t>
            </a:r>
            <a:br>
              <a:rPr sz="1600"/>
            </a:br>
            <a:r>
              <a:rPr b="1" lang="ru-RU" sz="1600" spc="-1" strike="noStrike">
                <a:solidFill>
                  <a:srgbClr val="4d5b6b"/>
                </a:solidFill>
                <a:latin typeface="Arial"/>
              </a:rPr>
              <a:t>Правительство не должно вмешиваться в естественные процессы, протекающие в обществе. Только в таких условиях люди «приспособленные» будут выживать, а «неприспособленные» — вымирать; только сильные смогут адаптироваться и достигать всё более высоких уровней исторического развития.</a:t>
            </a:r>
            <a:br>
              <a:rPr sz="1600"/>
            </a:br>
            <a:r>
              <a:rPr b="1" lang="ru-RU" sz="1600" spc="-1" strike="noStrike">
                <a:solidFill>
                  <a:srgbClr val="4d5b6b"/>
                </a:solidFill>
                <a:latin typeface="Arial"/>
              </a:rPr>
              <a:t>Государственное принудительное перераспределение социальных благ должно стать частным делом, задача которого — «смягчать несправедливости природы».</a:t>
            </a:r>
            <a:br>
              <a:rPr sz="1600"/>
            </a:br>
            <a:r>
              <a:rPr b="1" lang="ru-RU" sz="1600" spc="-1" strike="noStrike">
                <a:solidFill>
                  <a:srgbClr val="ff7605"/>
                </a:solidFill>
                <a:latin typeface="Arial"/>
              </a:rPr>
              <a:t>Социализм и коммунизм — невозможны</a:t>
            </a:r>
            <a:r>
              <a:rPr b="1" lang="ru-RU" sz="1600" spc="-1" strike="noStrike">
                <a:solidFill>
                  <a:srgbClr val="4d5b6b"/>
                </a:solidFill>
                <a:latin typeface="Arial"/>
              </a:rPr>
              <a:t>. Людям свойственны любовь к власти, честолюбие, несправедливость и нечестность. «Все попытки ускорить прогресс человечества с помощью административных мер ведут лишь к возрождению учреждений, свойственных низшему (то есть военному) типу общества — пятятся назад, желая идти вперед».</a:t>
            </a:r>
            <a:br>
              <a:rPr sz="1600"/>
            </a:br>
            <a:r>
              <a:rPr b="1" lang="ru-RU" sz="1600" spc="-1" strike="noStrike">
                <a:solidFill>
                  <a:srgbClr val="4d5b6b"/>
                </a:solidFill>
                <a:latin typeface="Arial"/>
              </a:rPr>
              <a:t>Такая постановка вопроса допускает признание объективного развития общественных явлений, но она ведёт к их биологизации, к защите эксплуатации и угнетения как якобы естественных явлений. Распространение на общества принципа «борьбы за существование» создаёт основу для одного из одиозных течений социологии, так называемого социального дарвинизма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7280" y="404280"/>
            <a:ext cx="74678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Arial"/>
              </a:rPr>
              <a:t>Социальная эволюция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539640" y="189000"/>
            <a:ext cx="799308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5b6b"/>
                </a:solidFill>
                <a:latin typeface="Calibri"/>
              </a:rPr>
              <a:t> </a:t>
            </a:r>
            <a:r>
              <a:rPr b="0" lang="en-US" sz="28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Среди других работ Спенсера — 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«Человек и государство», 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«Философия и религия», 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«Природа и реальность религии»,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«Надлежащие границы государственной власти», «Образование умственное, моральное и физическое», «Факты и комментарии», 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«Эссе: научные, политические и философские»,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«Данные этики»,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«Справедливость».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755640" y="404640"/>
            <a:ext cx="7272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В «Автобиографии» перед нами предстает ультраиндивидуалист по характеру и происхождению, человек, отличающийся необычайной самодисциплиной и трудолюбием,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однако почти лишенный чувства юмора и романтических устремлений.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Умер Спенсер в Брайтоне 8 декабря 1903 г.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</p:txBody>
      </p:sp>
      <p:pic>
        <p:nvPicPr>
          <p:cNvPr id="119" name="Picture 4" descr="http://ichef.bbci.co.uk/images/ic/1200x675/p01s65l8.jpg"/>
          <p:cNvPicPr/>
          <p:nvPr/>
        </p:nvPicPr>
        <p:blipFill>
          <a:blip r:embed="rId2"/>
          <a:stretch/>
        </p:blipFill>
        <p:spPr>
          <a:xfrm>
            <a:off x="1835280" y="2708280"/>
            <a:ext cx="51847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149640" y="333000"/>
            <a:ext cx="5976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c15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511"/>
                </a:solidFill>
                <a:latin typeface="Times New Roman"/>
                <a:ea typeface="Times New Roman"/>
              </a:rPr>
              <a:t>Герберт Спенсер - английский философ, один из самых выдающихся социологов, создатель органической школы социологии, один из основателей позитивизма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c15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c15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511"/>
                </a:solidFill>
                <a:latin typeface="Times New Roman"/>
                <a:ea typeface="Times New Roman"/>
              </a:rPr>
              <a:t>Родился 27 апреля 1820 г. в Дерби (графство Дербишир) в семье учителя.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c15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c15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511"/>
                </a:solidFill>
                <a:latin typeface="Times New Roman"/>
                <a:ea typeface="Times New Roman"/>
              </a:rPr>
              <a:t>Отказался от предложения получить образование в Кембридже (впоследствии отказался от должности профессора в лондонском Юниверсити-колледже и от членства в Королевском обществе).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c15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c15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511"/>
                </a:solidFill>
                <a:latin typeface="Times New Roman"/>
                <a:ea typeface="Times New Roman"/>
              </a:rPr>
              <a:t>Был учителем, железнодорожным служащим, журналистом (помощником редактора в журнале «Экономист»).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675d59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</p:txBody>
      </p:sp>
      <p:pic>
        <p:nvPicPr>
          <p:cNvPr id="98" name="" descr="&amp;Kcy;&amp;acy;&amp;rcy;&amp;tcy;&amp;icy;&amp;ncy;&amp;kcy;&amp;icy; &amp;pcy;&amp;ocy; &amp;zcy;&amp;acy;&amp;pcy;&amp;rcy;&amp;ocy;&amp;scy;&amp;ucy; &amp;fcy;&amp;icy;&amp;lcy;&amp;ocy;&amp;scy;&amp;ocy;&amp;fcy; &amp;gcy;&amp;iecy;&amp;rcy;&amp;bcy;&amp;iecy;&amp;rcy;&amp;tcy; &amp;scy;&amp;pcy;&amp;iecy;&amp;ncy;&amp;scy;&amp;iecy;&amp;rcy;"/>
          <p:cNvPicPr/>
          <p:nvPr/>
        </p:nvPicPr>
        <p:blipFill>
          <a:blip r:embed="rId2"/>
          <a:stretch/>
        </p:blipFill>
        <p:spPr>
          <a:xfrm>
            <a:off x="395280" y="1700280"/>
            <a:ext cx="2698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611280" y="260280"/>
            <a:ext cx="7416720" cy="64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d5b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1841 г. Герберт оставил работу, осознав, что на ней он не станет материально обеспеченным человеком.</a:t>
            </a:r>
            <a:endParaRPr b="0" lang="en-US" sz="20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d5b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d5b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На протяжении двух лет он, повышая уровень образования, изучает классическую философию.</a:t>
            </a:r>
            <a:endParaRPr b="0" lang="en-US" sz="20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d5b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d5b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На этом же этапе биографии появляются в печати его первые работы. </a:t>
            </a:r>
            <a:endParaRPr b="0" lang="en-US" sz="20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d5b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d5b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В течение 1843-1846 гг. он вновь работает инженером, но при этом его все больше увлекает политика.</a:t>
            </a:r>
            <a:endParaRPr b="0" lang="en-US" sz="20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d5b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d5b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Получив в 1846 г. несколько патентов на изобретения, Спенсер прекращает карьеру инженера и направляет силы на журналистику.</a:t>
            </a:r>
            <a:endParaRPr b="0" lang="en-US" sz="20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d5b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4d5b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В 1848 г. становится помощником редактора журнала «Экономист», в котором на протяжении в 1848-1853 гг. выходят его статьи, освещающие экономические проблемы.</a:t>
            </a:r>
            <a:endParaRPr b="0" lang="en-US" sz="2000" spc="-1" strike="noStrike">
              <a:solidFill>
                <a:srgbClr val="4d5b6b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2"/>
          <p:cNvSpPr/>
          <p:nvPr/>
        </p:nvSpPr>
        <p:spPr>
          <a:xfrm>
            <a:off x="539640" y="333360"/>
            <a:ext cx="543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d5b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В 1853 г. получил наследство и смог полностью посвятить себя занятиям философией и наукой.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d5b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В 1858 г. Спенсер составил план сочинения, ставшего главным трудом его жизни, - </a:t>
            </a:r>
            <a:r>
              <a:rPr b="1" lang="en-US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«Системы синтетической философии», </a:t>
            </a:r>
            <a:r>
              <a:rPr b="0" lang="en-US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которое должно было включать 10 томов.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d5b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В серию также вошли: «Принципы биологии», «Принципы психологии», «Принципы социологии», «Принципы этики».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</p:txBody>
      </p:sp>
      <p:pic>
        <p:nvPicPr>
          <p:cNvPr id="101" name="" descr="&amp;Kcy;&amp;acy;&amp;rcy;&amp;tcy;&amp;icy;&amp;ncy;&amp;kcy;&amp;icy; &amp;pcy;&amp;ocy; &amp;zcy;&amp;acy;&amp;pcy;&amp;rcy;&amp;ocy;&amp;scy;&amp;ucy; &amp;fcy;&amp;icy;&amp;lcy;&amp;ocy;&amp;scy;&amp;ocy;&amp;fcy; &amp;gcy;&amp;iecy;&amp;rcy;&amp;bcy;&amp;iecy;&amp;rcy;&amp;tcy; &amp;scy;&amp;pcy;&amp;iecy;&amp;ncy;&amp;scy;&amp;iecy;&amp;rcy;"/>
          <p:cNvPicPr/>
          <p:nvPr/>
        </p:nvPicPr>
        <p:blipFill>
          <a:blip r:embed="rId2"/>
          <a:stretch/>
        </p:blipFill>
        <p:spPr>
          <a:xfrm>
            <a:off x="6227640" y="18900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&amp;Kcy;&amp;acy;&amp;rcy;&amp;tcy;&amp;icy;&amp;ncy;&amp;kcy;&amp;icy; &amp;pcy;&amp;ocy; &amp;zcy;&amp;acy;&amp;pcy;&amp;rcy;&amp;ocy;&amp;scy;&amp;ucy; &amp;fcy;&amp;icy;&amp;lcy;&amp;ocy;&amp;scy;&amp;ocy;&amp;fcy; &amp;gcy;&amp;iecy;&amp;rcy;&amp;bcy;&amp;iecy;&amp;rcy;&amp;tcy; &amp;scy;&amp;pcy;&amp;iecy;&amp;ncy;&amp;scy;&amp;iecy;&amp;rcy;"/>
          <p:cNvPicPr/>
          <p:nvPr/>
        </p:nvPicPr>
        <p:blipFill>
          <a:blip r:embed="rId3"/>
          <a:stretch/>
        </p:blipFill>
        <p:spPr>
          <a:xfrm>
            <a:off x="6084720" y="2852640"/>
            <a:ext cx="2665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684360" y="189000"/>
            <a:ext cx="7920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Целое десятилетие (1848-1858 гг.) у него уходит на разработку плана, который объединил бы всю философию в единое целое с главенствующей идеей развития.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В 1850 г. публикуется книга Спенсера «Социальная статистика», которая имела немалый успех и вдохновила автора на новые работы. 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В 1852 г. он продолжает формулировать свою систему в статье «Гипотеза развития», предвосхищая 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рвинскую</a:t>
            </a:r>
            <a:r>
              <a:rPr b="0" lang="en-US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  теорию эволюции животного мира. В конце 50-х гг. Спенсером были сделаны наброски главного труда его жизни - «Синтетической философии», который в общей сложности займет у него 36 лет жизни. Благодаря этой работе он заслужит репутацию гениальнейшего философа своего времени.</a:t>
            </a:r>
            <a:br>
              <a:rPr sz="2400"/>
            </a:b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s://wcbook.ru/data/book/39/395160.jpg"/>
          <p:cNvPicPr/>
          <p:nvPr/>
        </p:nvPicPr>
        <p:blipFill>
          <a:blip r:embed="rId2"/>
          <a:stretch/>
        </p:blipFill>
        <p:spPr>
          <a:xfrm>
            <a:off x="6948360" y="404640"/>
            <a:ext cx="1785960" cy="2694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://www.rudata.ru/w/images/6/61/%D0%9E%D0%BF%D1%8B%D1%82%D1%8B_%D0%BD%D0%B0%D1%83%D1%87%D0%BD%D1%8B%D0%B5%2C_%D0%BF%D0%BE%D0%BB%D0%B8%D1%82%D0%B8%D1%87%D0%B5%D1%81%D0%BA%D0%B8%D0%B5_%D0%B8_%D1%84%D0%B8%D0%BB%D0%BE%D1%81%D0%BE%D1%84%D1%81%D0%BA%D0%B8%D0%B5_%D0%BA%D0%BD%D0%B8%D0%B3%D0%B0.jpg"/>
          <p:cNvPicPr/>
          <p:nvPr/>
        </p:nvPicPr>
        <p:blipFill>
          <a:blip r:embed="rId3"/>
          <a:stretch/>
        </p:blipFill>
        <p:spPr>
          <a:xfrm>
            <a:off x="7597800" y="3305160"/>
            <a:ext cx="1343160" cy="2228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://knigirossii.ru/pictures/18/235/2822128_sbig1.jpg"/>
          <p:cNvPicPr/>
          <p:nvPr/>
        </p:nvPicPr>
        <p:blipFill>
          <a:blip r:embed="rId4"/>
          <a:stretch/>
        </p:blipFill>
        <p:spPr>
          <a:xfrm>
            <a:off x="5003640" y="4148280"/>
            <a:ext cx="2347920" cy="234792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1"/>
          <p:cNvSpPr/>
          <p:nvPr/>
        </p:nvSpPr>
        <p:spPr>
          <a:xfrm>
            <a:off x="539640" y="549360"/>
            <a:ext cx="63183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Наибольшую научную ценность представляют его исследования по социологии: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«Социальная статика» </a:t>
            </a:r>
            <a:r>
              <a:rPr b="0" lang="en-US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«Социологические исследования», </a:t>
            </a:r>
            <a:endParaRPr b="0" lang="en-US" sz="28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а также восемь томов содержащие систематизированные социологические данные - «Описательная социология».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5640" y="836640"/>
            <a:ext cx="734220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605"/>
                </a:solidFill>
                <a:latin typeface="Arial"/>
              </a:rPr>
              <a:t>Социальные институты</a:t>
            </a:r>
            <a:r>
              <a:rPr b="1" lang="en-US" sz="1400" spc="-1" strike="noStrike">
                <a:solidFill>
                  <a:srgbClr val="4d5b6b"/>
                </a:solidFill>
                <a:latin typeface="Arial"/>
              </a:rPr>
              <a:t> — это механизмы самоорганизации совместной жизни людей. Они обеспечивают превращение асоциального по природе человека в социальное существо, способное к совместным действиям.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ff7605"/>
                </a:solidFill>
                <a:latin typeface="Arial"/>
              </a:rPr>
              <a:t>Домашние институты</a:t>
            </a:r>
            <a:r>
              <a:rPr b="1" lang="en-US" sz="1400" spc="-1" strike="noStrike">
                <a:solidFill>
                  <a:srgbClr val="4d5b6b"/>
                </a:solidFill>
                <a:latin typeface="Arial"/>
              </a:rPr>
              <a:t> — семья, брак, проблемы воспитания. </a:t>
            </a:r>
            <a:br>
              <a:rPr sz="1400"/>
            </a:br>
            <a:r>
              <a:rPr b="1" i="1" lang="en-US" sz="1400" spc="-1" strike="noStrike">
                <a:solidFill>
                  <a:srgbClr val="ff7605"/>
                </a:solidFill>
                <a:latin typeface="Arial"/>
              </a:rPr>
              <a:t>Обрядовые</a:t>
            </a:r>
            <a:r>
              <a:rPr b="1" lang="en-US" sz="1400" spc="-1" strike="noStrike">
                <a:solidFill>
                  <a:srgbClr val="ff7605"/>
                </a:solidFill>
                <a:latin typeface="Arial"/>
              </a:rPr>
              <a:t> (</a:t>
            </a:r>
            <a:r>
              <a:rPr b="1" i="1" lang="en-US" sz="1400" spc="-1" strike="noStrike">
                <a:solidFill>
                  <a:srgbClr val="ff7605"/>
                </a:solidFill>
                <a:latin typeface="Arial"/>
              </a:rPr>
              <a:t>церемониальные</a:t>
            </a:r>
            <a:r>
              <a:rPr b="1" lang="en-US" sz="1400" spc="-1" strike="noStrike">
                <a:solidFill>
                  <a:srgbClr val="ff7605"/>
                </a:solidFill>
                <a:latin typeface="Arial"/>
              </a:rPr>
              <a:t>)</a:t>
            </a:r>
            <a:r>
              <a:rPr b="1" lang="en-US" sz="1400" spc="-1" strike="noStrike">
                <a:solidFill>
                  <a:srgbClr val="4d5b6b"/>
                </a:solidFill>
                <a:latin typeface="Arial"/>
              </a:rPr>
              <a:t> — призваны регулировать повседневное поведение людей, устанавливая обычаи, обряды, этикет и т. д. </a:t>
            </a:r>
            <a:br>
              <a:rPr sz="1400"/>
            </a:br>
            <a:r>
              <a:rPr b="1" i="1" lang="en-US" sz="1400" spc="-1" strike="noStrike">
                <a:solidFill>
                  <a:srgbClr val="ff7605"/>
                </a:solidFill>
                <a:latin typeface="Arial"/>
              </a:rPr>
              <a:t>Политические</a:t>
            </a:r>
            <a:r>
              <a:rPr b="1" lang="en-US" sz="1400" spc="-1" strike="noStrike">
                <a:solidFill>
                  <a:srgbClr val="4d5b6b"/>
                </a:solidFill>
                <a:latin typeface="Arial"/>
              </a:rPr>
              <a:t> — появление связано с переносом внутригрупповых конфликтов на сферу конфликтов между группами; в становлении политической и классовой структуры общества решающую роль играли конфликты и войны (потребность обороны или завоевания больше всего сплачивают общество). </a:t>
            </a:r>
            <a:br>
              <a:rPr sz="1400"/>
            </a:br>
            <a:r>
              <a:rPr b="1" i="1" lang="en-US" sz="1400" spc="-1" strike="noStrike">
                <a:solidFill>
                  <a:srgbClr val="ff7605"/>
                </a:solidFill>
                <a:latin typeface="Arial"/>
              </a:rPr>
              <a:t>Церковные</a:t>
            </a:r>
            <a:r>
              <a:rPr b="1" lang="en-US" sz="1400" spc="-1" strike="noStrike">
                <a:solidFill>
                  <a:srgbClr val="4d5b6b"/>
                </a:solidFill>
                <a:latin typeface="Arial"/>
              </a:rPr>
              <a:t> — храмы, церкви, приходские школы, религиозные традиции. </a:t>
            </a:r>
            <a:br>
              <a:rPr sz="1400"/>
            </a:br>
            <a:r>
              <a:rPr b="1" i="1" lang="en-US" sz="1400" spc="-1" strike="noStrike">
                <a:solidFill>
                  <a:srgbClr val="ff7605"/>
                </a:solidFill>
                <a:latin typeface="Arial"/>
              </a:rPr>
              <a:t>Профессиональные и промышленные институты</a:t>
            </a:r>
            <a:r>
              <a:rPr b="1" lang="en-US" sz="1400" spc="-1" strike="noStrike">
                <a:solidFill>
                  <a:srgbClr val="4d5b6b"/>
                </a:solidFill>
                <a:latin typeface="Arial"/>
              </a:rPr>
              <a:t> — возникают на основе разделения труда; профессиональные (гильдии, цеха, профессиональные союзы) — консолидируют группы людей по профессиональным занятиям; промышленные — поддерживают производственную структуру общества. Значение общественного производства возрастает по мере перехода от военизированных обществ к индустриальным: сопровождается повышением роли трудовых отношений, а прямое насилие уступает место внутреннему самоограничению.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7280" y="83628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d59"/>
                </a:solidFill>
                <a:latin typeface="Arial"/>
              </a:rPr>
              <a:t>Концепция социальных институтов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755640" y="404640"/>
            <a:ext cx="727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Спенсер — основатель «органической школы» в социологии.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5b6b"/>
                </a:solidFill>
                <a:latin typeface="Times New Roman"/>
                <a:ea typeface="Times New Roman"/>
              </a:rPr>
              <a:t>Общество, с его точки зрения, — это эволюционирующий организм, подобный живому организму.</a:t>
            </a: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5b6b"/>
              </a:solidFill>
              <a:latin typeface="Calibri"/>
            </a:endParaRPr>
          </a:p>
        </p:txBody>
      </p:sp>
      <p:pic>
        <p:nvPicPr>
          <p:cNvPr id="111" name="" descr="&amp;Kcy;&amp;acy;&amp;rcy;&amp;tcy;&amp;icy;&amp;ncy;&amp;kcy;&amp;icy; &amp;pcy;&amp;ocy; &amp;zcy;&amp;acy;&amp;pcy;&amp;rcy;&amp;ocy;&amp;scy;&amp;ucy; &amp;fcy;&amp;icy;&amp;lcy;&amp;ocy;&amp;scy;&amp;ocy;&amp;fcy; &amp;gcy;&amp;iecy;&amp;rcy;&amp;bcy;&amp;iecy;&amp;rcy;&amp;tcy; &amp;scy;&amp;pcy;&amp;iecy;&amp;ncy;&amp;scy;&amp;iecy;&amp;rcy;"/>
          <p:cNvPicPr/>
          <p:nvPr/>
        </p:nvPicPr>
        <p:blipFill>
          <a:blip r:embed="rId2"/>
          <a:stretch/>
        </p:blipFill>
        <p:spPr>
          <a:xfrm>
            <a:off x="1692360" y="2781360"/>
            <a:ext cx="579600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218960" y="838080"/>
            <a:ext cx="74674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5d5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7605"/>
                </a:solidFill>
                <a:latin typeface="Arial"/>
              </a:rPr>
              <a:t>Общество</a:t>
            </a:r>
            <a:r>
              <a:rPr b="0" lang="en-US" sz="2000" spc="-1" strike="noStrike">
                <a:solidFill>
                  <a:srgbClr val="675d59"/>
                </a:solidFill>
                <a:latin typeface="Arial"/>
              </a:rPr>
              <a:t> — агрегат (совокупность) индивидов (индивиды — клетки, физиологические единицы), характеризующийся определённым сходством и постоянством их жизни. Оно подобно биологическому организму — растёт (а не строится, поэтому Спенсер выступал противником всяких реформ) и увеличивается в своём объёме, одновременно усложняя структуру и разделяя функции.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5d5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675d59"/>
                </a:solidFill>
                <a:latin typeface="Arial"/>
              </a:rPr>
              <a:t>Общество состоит из 3-х относительно автономных частей (систем «органов»):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760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7605"/>
                </a:solidFill>
                <a:latin typeface="Arial"/>
              </a:rPr>
              <a:t>поддерживающая</a:t>
            </a:r>
            <a:r>
              <a:rPr b="0" lang="en-US" sz="2000" spc="-1" strike="noStrike">
                <a:solidFill>
                  <a:srgbClr val="675d59"/>
                </a:solidFill>
                <a:latin typeface="Arial"/>
              </a:rPr>
              <a:t> — производство необходимых продуктов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760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7605"/>
                </a:solidFill>
                <a:latin typeface="Arial"/>
              </a:rPr>
              <a:t>дистрибутивная</a:t>
            </a:r>
            <a:r>
              <a:rPr b="0" lang="en-US" sz="2000" spc="-1" strike="noStrike">
                <a:solidFill>
                  <a:srgbClr val="ff7605"/>
                </a:solidFill>
                <a:latin typeface="Arial"/>
              </a:rPr>
              <a:t> (распределительная)</a:t>
            </a:r>
            <a:r>
              <a:rPr b="0" lang="en-US" sz="2000" spc="-1" strike="noStrike">
                <a:solidFill>
                  <a:srgbClr val="675d59"/>
                </a:solidFill>
                <a:latin typeface="Arial"/>
              </a:rPr>
              <a:t> — разделение благ на основе разделения труда (обеспечивает связь частей социального организма) </a:t>
            </a:r>
            <a:endParaRPr b="0" lang="en-US" sz="2000" spc="-1" strike="noStrike">
              <a:solidFill>
                <a:srgbClr val="675d5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760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7605"/>
                </a:solidFill>
                <a:latin typeface="Arial"/>
              </a:rPr>
              <a:t>регулятивная</a:t>
            </a:r>
            <a:r>
              <a:rPr b="0" lang="en-US" sz="2000" spc="-1" strike="noStrike">
                <a:solidFill>
                  <a:srgbClr val="ff7605"/>
                </a:solidFill>
                <a:latin typeface="Arial"/>
              </a:rPr>
              <a:t> (государство)</a:t>
            </a:r>
            <a:r>
              <a:rPr b="0" lang="en-US" sz="2000" spc="-1" strike="noStrike">
                <a:solidFill>
                  <a:srgbClr val="675d59"/>
                </a:solidFill>
                <a:latin typeface="Arial"/>
              </a:rPr>
              <a:t> — организация частей на основе их подчинения целому.</a:t>
            </a:r>
            <a:r>
              <a:rPr b="0" lang="en-US" sz="1800" spc="-1" strike="noStrike">
                <a:solidFill>
                  <a:srgbClr val="675d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5d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7T16:20:12Z</dcterms:created>
  <dc:creator>Босс</dc:creator>
  <dc:description/>
  <dc:language>en-US</dc:language>
  <cp:lastModifiedBy>DNS</cp:lastModifiedBy>
  <dcterms:modified xsi:type="dcterms:W3CDTF">2016-12-04T17:03:26Z</dcterms:modified>
  <cp:revision>13</cp:revision>
  <dc:subject/>
  <dc:title>Спенсер Герберт  (1820-1903 гг)</dc:title>
</cp:coreProperties>
</file>