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7CC-C936-4389-B42E-6A1C6AD3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811-F869-419E-8B86-36E03C0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E5F-DBE8-43EA-97F5-ED111AAA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186-634E-4EFC-A748-C63A2AAE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C08-6A0F-40BF-B5BB-01D724B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9C1-E23B-4722-9CF3-372067D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6D4-B43C-4959-B8F5-1356101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145-421C-42CE-9F39-4747FF12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057-41E1-4F1E-B0D3-CAAF845C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810-D088-4CB0-8A63-573582A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00A-2B32-41A8-B140-DD48F930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334-3406-48F3-BF5A-75ECBDA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110-5DD1-4E8C-A710-12D1AB1E739A}" type="slidenum"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русским народным сказкам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925360" y="478944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полнила Погожева С.И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т в русских народных сказках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Баюн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Picture 6" descr="4"/>
          <p:cNvPicPr/>
          <p:nvPr/>
        </p:nvPicPr>
        <p:blipFill>
          <a:blip r:embed="rId1"/>
          <a:stretch/>
        </p:blipFill>
        <p:spPr>
          <a:xfrm>
            <a:off x="2819520" y="1676520"/>
            <a:ext cx="3763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Животное, в которое была заколдована Кащеем Бессмертным прекрасная девуш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0" name="Picture 6" descr="carevna-lyagushka"/>
          <p:cNvPicPr/>
          <p:nvPr/>
        </p:nvPicPr>
        <p:blipFill>
          <a:blip r:embed="rId1"/>
          <a:stretch/>
        </p:blipFill>
        <p:spPr>
          <a:xfrm>
            <a:off x="1600200" y="1828800"/>
            <a:ext cx="60958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азочная героиня, владелица первого в мире летательного аппарат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Баба Яг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3" name="Picture 6" descr="2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зовут сестру Бабы Яги, хозяйку болот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икимор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6" name="Picture 6" descr="786948"/>
          <p:cNvPicPr/>
          <p:nvPr/>
        </p:nvPicPr>
        <p:blipFill>
          <a:blip r:embed="rId1"/>
          <a:stretch/>
        </p:blipFill>
        <p:spPr>
          <a:xfrm>
            <a:off x="2666880" y="1752480"/>
            <a:ext cx="3892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 какой сказке содержится рецепт приготовления диковинного, неповторимого по своим вкусовым качествам блюда из столярного инструмента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ша из топор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9" name="Picture 6" descr="000zr5eb"/>
          <p:cNvPicPr/>
          <p:nvPr/>
        </p:nvPicPr>
        <p:blipFill>
          <a:blip r:embed="rId1"/>
          <a:stretch/>
        </p:blipFill>
        <p:spPr>
          <a:xfrm>
            <a:off x="1676520" y="1676520"/>
            <a:ext cx="63244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дно из имен Василисы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какой сказке говорится  про уникальное в своем роде спортивное состязание по прыжкам в высоту среди лиц мужского пола, победителя которого ожидал ценный приз –поцелуй царевны и женитьба на ней?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ивка-Бур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2" name="Picture 6" descr="1296577561_sivka-burka"/>
          <p:cNvPicPr/>
          <p:nvPr/>
        </p:nvPicPr>
        <p:blipFill>
          <a:blip r:embed="rId1"/>
          <a:stretch/>
        </p:blipFill>
        <p:spPr>
          <a:xfrm>
            <a:off x="1600200" y="1676520"/>
            <a:ext cx="66294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азовите сказочный персонаж, лезущий из кожи вон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ягуш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5" name="Picture 6" descr="zarevna-kva2"/>
          <p:cNvPicPr/>
          <p:nvPr/>
        </p:nvPicPr>
        <p:blipFill>
          <a:blip r:embed="rId1"/>
          <a:stretch/>
        </p:blipFill>
        <p:spPr>
          <a:xfrm>
            <a:off x="1371600" y="1905120"/>
            <a:ext cx="66294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называется русская народная сказка, в которой  рассказывается история о долгом пути хлебобулочного изделия к потребителю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лобок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8" name="Picture 6" descr="05"/>
          <p:cNvPicPr/>
          <p:nvPr/>
        </p:nvPicPr>
        <p:blipFill>
          <a:blip r:embed="rId1"/>
          <a:stretch/>
        </p:blipFill>
        <p:spPr>
          <a:xfrm>
            <a:off x="18288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называется деталь женского платья, в которой  помещаются реки, озера, лебеди и другие элементы окружающей среды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Рукав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1" name="Picture 6" descr="carevna-lyagushka_2"/>
          <p:cNvPicPr/>
          <p:nvPr/>
        </p:nvPicPr>
        <p:blipFill>
          <a:blip r:embed="rId1"/>
          <a:stretch/>
        </p:blipFill>
        <p:spPr>
          <a:xfrm>
            <a:off x="1676520" y="1600200"/>
            <a:ext cx="6400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ак называется швейная принадлежность, в которой таится смертельная опасность для сказочная долгожителей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гл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4" name="Picture 6" descr="naehnadel"/>
          <p:cNvPicPr/>
          <p:nvPr/>
        </p:nvPicPr>
        <p:blipFill>
          <a:blip r:embed="rId1"/>
          <a:stretch/>
        </p:blipFill>
        <p:spPr>
          <a:xfrm>
            <a:off x="1295280" y="1676520"/>
            <a:ext cx="69343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ремудрая или Прекрасная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5" name="Picture 5" descr="74737992_7b63bee11607"/>
          <p:cNvPicPr/>
          <p:nvPr/>
        </p:nvPicPr>
        <p:blipFill>
          <a:blip r:embed="rId1"/>
          <a:stretch/>
        </p:blipFill>
        <p:spPr>
          <a:xfrm>
            <a:off x="2666880" y="1447920"/>
            <a:ext cx="3892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азовите  имя  высокопоставленной особы, чья улыбка стоила сказочно дорого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есмеян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7" name="Picture 6" descr="%D0%A6%D0%B0%D1%80%D0%B5%D0%B2%D0%BD%D0%B0+%D0%9D%D0%B5%D1%81%D0%BC%D0%B5%D1%8F%D0%BD%D0%B0+2"/>
          <p:cNvPicPr/>
          <p:nvPr/>
        </p:nvPicPr>
        <p:blipFill>
          <a:blip r:embed="rId1"/>
          <a:stretch/>
        </p:blipFill>
        <p:spPr>
          <a:xfrm>
            <a:off x="2895480" y="1752480"/>
            <a:ext cx="3495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о каким надобностям отправляли цари в путь своих сыновей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За невестой, за молодильными яблоками, за жар-птицей.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0" name="Picture 6" descr="firebird_big"/>
          <p:cNvPicPr/>
          <p:nvPr/>
        </p:nvPicPr>
        <p:blipFill>
          <a:blip r:embed="rId1"/>
          <a:stretch/>
        </p:blipFill>
        <p:spPr>
          <a:xfrm>
            <a:off x="1676520" y="2057400"/>
            <a:ext cx="62481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тела стрела  и попала в болот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 в этом болоте поймал её кто-то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то, распростившись с зеленою коже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делался милой, красивой, пригожей.</a:t>
            </a: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асилиса Прекрасная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3" name="Picture 6" descr="russkie-narodnye-skazki--vasilisa-prekrasnaja"/>
          <p:cNvPicPr/>
          <p:nvPr/>
        </p:nvPicPr>
        <p:blipFill>
          <a:blip r:embed="rId1"/>
          <a:stretch/>
        </p:blipFill>
        <p:spPr>
          <a:xfrm>
            <a:off x="243828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Эта скатерть знамени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ем, что  кормит нас досыт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Что сама собой он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кусных кушаний полна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атерть-самобранка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6" descr="11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рокатился по деревне-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 женился на царевне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Емеля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9" name="Picture 6" descr="1354869438_161389_original"/>
          <p:cNvPicPr/>
          <p:nvPr/>
        </p:nvPicPr>
        <p:blipFill>
          <a:blip r:embed="rId1"/>
          <a:stretch/>
        </p:blipFill>
        <p:spPr>
          <a:xfrm>
            <a:off x="3048120" y="1600200"/>
            <a:ext cx="34020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7524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Яблоки, дающие молодость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колько человек тянуло репку?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и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2" name="Picture 6" descr="2888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то, из какой сказки сказал такие слова: «Как выскочу, как выпрыгну- пойдут клочки по закоулочкам!»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иса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«Заюшкина избушка»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5" name="Picture 6" descr="zayushkina-izbushka_2"/>
          <p:cNvPicPr/>
          <p:nvPr/>
        </p:nvPicPr>
        <p:blipFill>
          <a:blip r:embed="rId1"/>
          <a:stretch/>
        </p:blipFill>
        <p:spPr>
          <a:xfrm>
            <a:off x="2895480" y="1752480"/>
            <a:ext cx="36147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«Не откроем мы тебе дверь, -закричали они. -Ты не матушка наша, у той голос добрый и тонкий, а твой толстый»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олк и семеро козлят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8" name="Picture 6" descr="volk-i-semero-kozlyat1"/>
          <p:cNvPicPr/>
          <p:nvPr/>
        </p:nvPicPr>
        <p:blipFill>
          <a:blip r:embed="rId1"/>
          <a:stretch/>
        </p:blipFill>
        <p:spPr>
          <a:xfrm>
            <a:off x="1600200" y="1752480"/>
            <a:ext cx="64008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лотил да колотил по тарелке носом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Ничего не проглотил и остался с носом.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Лиса и журавль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1" name="Picture 6" descr="861b6605bf6b666a6edd0cc14c2bb9b6"/>
          <p:cNvPicPr/>
          <p:nvPr/>
        </p:nvPicPr>
        <p:blipFill>
          <a:blip r:embed="rId1"/>
          <a:stretch/>
        </p:blipFill>
        <p:spPr>
          <a:xfrm>
            <a:off x="1447920" y="1676520"/>
            <a:ext cx="66294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сточники информа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kladraz.ru/viktoriny/viktoriny-dlja-shkolnikov/viktoriny-dlja-shkolnikov-viktoriny-pro-skazki-i-skazochnyh-geroev.ht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kladraz.ru/viktoriny/viktoriny-dlja-shkolnikov/viktoriny-dlja-shkolnikov-viktoriny-pro-skazki-i-skazochnyh-geroev.ht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www.liveinternet.ru/users/4304412/post159315730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istochnik-m.ucoz.ru/publ/interesnoe/geroi_skazok_povestvovanie_o_gerojakh_russkikh_narodnykh_skazok/2-1-0-498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Молодильны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8" name="Picture 6" descr="&amp;Mcy;&amp;ocy;&amp;lcy;&amp;ocy;&amp;dcy;&amp;icy;&amp;lcy;&amp;softcy;&amp;ncy;&amp;ycy;&amp;iecy; &amp;yacy;&amp;bcy;&amp;lcy;&amp;ocy;&amp;kcy;&amp;icy; - &amp;kcy;&amp;acy;&amp;dcy;&amp;rcy; &amp;icy;&amp;zcy; &amp;mcy;&amp;ucy;&amp;lcy;&amp;softcy;&amp;tcy;&amp;fcy;&amp;icy;&amp;lcy;&amp;softcy;&amp;mcy;&amp;acy;.jpg"/>
          <p:cNvPicPr/>
          <p:nvPr/>
        </p:nvPicPr>
        <p:blipFill>
          <a:blip r:embed="rId1"/>
          <a:stretch/>
        </p:blipFill>
        <p:spPr>
          <a:xfrm>
            <a:off x="2895480" y="1828800"/>
            <a:ext cx="38880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Дерево, чаще всего встречающееся в сказках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" name="Picture 6" descr="post-101562-1304788703"/>
          <p:cNvPicPr/>
          <p:nvPr/>
        </p:nvPicPr>
        <p:blipFill>
          <a:blip r:embed="rId1"/>
          <a:stretch/>
        </p:blipFill>
        <p:spPr>
          <a:xfrm>
            <a:off x="1905120" y="1828800"/>
            <a:ext cx="55623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Оружие, которым пользовались сказочные богатыри?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Меч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4" name="Picture 6" descr="jiang15"/>
          <p:cNvPicPr/>
          <p:nvPr/>
        </p:nvPicPr>
        <p:blipFill>
          <a:blip r:embed="rId1"/>
          <a:stretch/>
        </p:blipFill>
        <p:spPr>
          <a:xfrm>
            <a:off x="2743200" y="2286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5:15:36Z</dcterms:created>
  <dc:creator>Наталья</dc:creator>
  <dc:description/>
  <dc:language>en-US</dc:language>
  <cp:lastModifiedBy>Pogogev</cp:lastModifiedBy>
  <dcterms:modified xsi:type="dcterms:W3CDTF">2016-12-04T15:30:4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